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7.png" ContentType="image/pn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EBF-BD22-4089-BA1E-F9B846936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743-8F70-4FFA-9BBA-6E1EB60BA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868-A2BF-4886-941F-45E4FD08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9DF8-E5DB-4838-800F-36C82481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F948-0D4A-4F87-963F-D67799C4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2FD52-A592-4143-8CAD-30403365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72D5-770B-493B-9A54-54B3EAF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0FF7-7727-413A-BA5C-63482BD0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B4D9-B480-49EF-A89E-DCB5BEDA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93227-48DB-42B2-A23A-3EA38B5F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74AD-F2BD-4D38-A37C-8C7BB8A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5AFC-28B3-4B56-8E28-81FA511F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849B-61A7-4332-B6EE-B60FA5B7B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AD8F-8BED-4DD1-8B51-DE73CBF7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5BC7-8CF0-48DC-8948-CCD07DB28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91C8-6D98-4283-A91D-9057823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611-AC21-48BF-8E9B-E6B7F47D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708D0-7F30-4CB3-938E-58068877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CA93C-A114-41FC-AEA6-E5D9013B8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9FE0B-5063-47B4-91DE-F0B92EE2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9D0E3-9F36-4C57-9FF4-618FD95D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CFF28-13EF-44AB-903B-D921A33A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2704-1CE0-4E84-A5CB-710110CBA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6FE1F-A7E3-4B2E-AF27-D9BDD412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E9CF4-27A6-4187-8A7B-A313BAD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E8F37-68DA-4C24-98CE-D165DD7B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BDAE6-FEF4-4DB4-A868-EEDE7623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6BDA0-A3C7-4C38-9D72-FBCE88EF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9193-78BC-44AD-9588-45A5E1BF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9C019-5B52-4BF0-8DB8-96A12A1CF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57866-8EDF-4A5A-9625-876812EC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C6187-016A-41B7-BFC8-5F5D3628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94AB-5433-4697-8C05-C936DFD0F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8D75-2718-4276-A38D-146DFAF2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4F6A9-12D2-479A-A84E-BFB450D4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60AD0-0425-4D29-8BA1-A1878B8A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EF286-79DB-4C24-ABC2-8C966078A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1CC993-1BF3-46E2-944B-791C8745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CE301-85DF-49EB-950C-26784F4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C9A7E-12B9-4FB9-A236-507E4795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6DC6C-A82D-4AD6-A760-A9FC09930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BF33C-8348-41BB-833A-DB62401AC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F7457-DAB5-4E14-B811-53BB2E2F8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C02F-E874-4C87-90E0-198B774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0E13-2F30-424E-BC4F-544FA733F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2C5B-1B7C-4925-A3C3-87C2B22B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873-D514-49E4-8487-E3CE660A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4D10-3106-47B2-8014-F3D15ACC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78C2-8520-4B21-8012-2686B237492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60620-B49D-47B0-ACC0-31A4F2F3EAE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89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91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95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F04ED-EEA2-416B-A2AC-957EC5B274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4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50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37379-4301-45C2-8112-3114DFE417A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2" descr="C:\Users\Таша\Desktop\Спешите делать добро\88819e80de40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1619280" y="2708280"/>
            <a:ext cx="5977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Arial"/>
              </a:rPr>
              <a:t>Основы религиозных культур и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  <a:ea typeface="Arial"/>
              </a:rPr>
              <a:t>светской этик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660033"/>
                </a:solidFill>
                <a:latin typeface="Times New Roman"/>
              </a:rPr>
              <a:t>Защита проектов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826920" y="1483920"/>
            <a:ext cx="777240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Рисунок 1" descr=""/>
          <p:cNvPicPr/>
          <p:nvPr/>
        </p:nvPicPr>
        <p:blipFill>
          <a:blip r:embed="rId1"/>
          <a:stretch/>
        </p:blipFill>
        <p:spPr>
          <a:xfrm>
            <a:off x="746280" y="1844640"/>
            <a:ext cx="1741320" cy="302436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" descr=""/>
          <p:cNvPicPr/>
          <p:nvPr/>
        </p:nvPicPr>
        <p:blipFill>
          <a:blip r:embed="rId2"/>
          <a:stretch/>
        </p:blipFill>
        <p:spPr>
          <a:xfrm>
            <a:off x="5622840" y="1844640"/>
            <a:ext cx="3208320" cy="45529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2" descr=""/>
          <p:cNvPicPr/>
          <p:nvPr/>
        </p:nvPicPr>
        <p:blipFill>
          <a:blip r:embed="rId3"/>
          <a:stretch/>
        </p:blipFill>
        <p:spPr>
          <a:xfrm>
            <a:off x="2719440" y="1893960"/>
            <a:ext cx="2765520" cy="386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Box 2"/>
          <p:cNvSpPr/>
          <p:nvPr/>
        </p:nvSpPr>
        <p:spPr>
          <a:xfrm>
            <a:off x="2433600" y="476280"/>
            <a:ext cx="460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90000"/>
                </a:solidFill>
                <a:latin typeface="Times New Roman"/>
                <a:ea typeface="Arial"/>
              </a:rPr>
              <a:t>Защита проект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Рисунок 3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6120000" cy="3527640"/>
          </a:xfrm>
          <a:prstGeom prst="rect">
            <a:avLst/>
          </a:prstGeom>
          <a:ln w="0">
            <a:noFill/>
          </a:ln>
        </p:spPr>
      </p:pic>
      <p:pic>
        <p:nvPicPr>
          <p:cNvPr id="235" name="Рисунок 4" descr=""/>
          <p:cNvPicPr/>
          <p:nvPr/>
        </p:nvPicPr>
        <p:blipFill>
          <a:blip r:embed="rId2"/>
          <a:stretch/>
        </p:blipFill>
        <p:spPr>
          <a:xfrm>
            <a:off x="6443640" y="3068640"/>
            <a:ext cx="2521080" cy="354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Прямоугольник 1"/>
          <p:cNvSpPr/>
          <p:nvPr/>
        </p:nvSpPr>
        <p:spPr>
          <a:xfrm>
            <a:off x="1554480" y="620640"/>
            <a:ext cx="598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Calibri"/>
                <a:ea typeface="Arial"/>
              </a:rPr>
              <a:t>Тема:    Защита Отечеств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Рисунок 2" descr=""/>
          <p:cNvPicPr/>
          <p:nvPr/>
        </p:nvPicPr>
        <p:blipFill>
          <a:blip r:embed="rId1"/>
          <a:stretch/>
        </p:blipFill>
        <p:spPr>
          <a:xfrm>
            <a:off x="82440" y="132876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3" descr=""/>
          <p:cNvPicPr/>
          <p:nvPr/>
        </p:nvPicPr>
        <p:blipFill>
          <a:blip r:embed="rId2"/>
          <a:stretch/>
        </p:blipFill>
        <p:spPr>
          <a:xfrm>
            <a:off x="2232000" y="4005360"/>
            <a:ext cx="3672000" cy="2754360"/>
          </a:xfrm>
          <a:prstGeom prst="rect">
            <a:avLst/>
          </a:prstGeom>
          <a:ln w="0">
            <a:noFill/>
          </a:ln>
        </p:spPr>
      </p:pic>
      <p:pic>
        <p:nvPicPr>
          <p:cNvPr id="239" name="Рисунок 4" descr=""/>
          <p:cNvPicPr/>
          <p:nvPr/>
        </p:nvPicPr>
        <p:blipFill>
          <a:blip r:embed="rId3"/>
          <a:stretch/>
        </p:blipFill>
        <p:spPr>
          <a:xfrm>
            <a:off x="6008760" y="1773360"/>
            <a:ext cx="2989080" cy="398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Рисунок 1" descr=""/>
          <p:cNvPicPr/>
          <p:nvPr/>
        </p:nvPicPr>
        <p:blipFill>
          <a:blip r:embed="rId1"/>
          <a:stretch/>
        </p:blipFill>
        <p:spPr>
          <a:xfrm>
            <a:off x="5435640" y="189000"/>
            <a:ext cx="3544920" cy="472428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2" descr=""/>
          <p:cNvPicPr/>
          <p:nvPr/>
        </p:nvPicPr>
        <p:blipFill>
          <a:blip r:embed="rId2"/>
          <a:stretch/>
        </p:blipFill>
        <p:spPr>
          <a:xfrm>
            <a:off x="114480" y="3098880"/>
            <a:ext cx="5321160" cy="36306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1012320" y="581040"/>
            <a:ext cx="35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Открытый ур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4140360" y="3068640"/>
            <a:ext cx="4859280" cy="36450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3"/>
          <p:cNvSpPr/>
          <p:nvPr/>
        </p:nvSpPr>
        <p:spPr>
          <a:xfrm>
            <a:off x="5094000" y="212760"/>
            <a:ext cx="4048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Православное учение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Calibri"/>
                <a:ea typeface="Arial"/>
              </a:rPr>
              <a:t> о челове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Рисунок 1" descr=""/>
          <p:cNvPicPr/>
          <p:nvPr/>
        </p:nvPicPr>
        <p:blipFill>
          <a:blip r:embed="rId1"/>
          <a:stretch/>
        </p:blipFill>
        <p:spPr>
          <a:xfrm>
            <a:off x="1187280" y="1844640"/>
            <a:ext cx="6444000" cy="48340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2"/>
          <p:cNvSpPr/>
          <p:nvPr/>
        </p:nvSpPr>
        <p:spPr>
          <a:xfrm>
            <a:off x="684360" y="4762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Тема:  Любовь и уважение к</a:t>
            </a:r>
            <a:r>
              <a:rPr b="0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   </a:t>
            </a:r>
            <a:r>
              <a:rPr b="1" lang="ru-RU" sz="3200" spc="-1" strike="noStrike">
                <a:solidFill>
                  <a:srgbClr val="990000"/>
                </a:solidFill>
                <a:latin typeface="Calibri"/>
                <a:ea typeface="Arial"/>
              </a:rPr>
              <a:t>Отечес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Рисунок 1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860720" cy="3645000"/>
          </a:xfrm>
          <a:prstGeom prst="rect">
            <a:avLst/>
          </a:prstGeom>
          <a:ln w="0">
            <a:noFill/>
          </a:ln>
        </p:spPr>
      </p:pic>
      <p:pic>
        <p:nvPicPr>
          <p:cNvPr id="249" name="Рисунок 2" descr=""/>
          <p:cNvPicPr/>
          <p:nvPr/>
        </p:nvPicPr>
        <p:blipFill>
          <a:blip r:embed="rId2"/>
          <a:stretch/>
        </p:blipFill>
        <p:spPr>
          <a:xfrm>
            <a:off x="5483160" y="3933720"/>
            <a:ext cx="3516480" cy="26370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1600920" y="404640"/>
            <a:ext cx="68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Тема: Золотое правило этик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Рисунок 1" descr=""/>
          <p:cNvPicPr/>
          <p:nvPr/>
        </p:nvPicPr>
        <p:blipFill>
          <a:blip r:embed="rId3"/>
          <a:stretch/>
        </p:blipFill>
        <p:spPr>
          <a:xfrm>
            <a:off x="5483160" y="1628640"/>
            <a:ext cx="3516480" cy="26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Рисунок 1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572000" cy="2571840"/>
          </a:xfrm>
          <a:prstGeom prst="rect">
            <a:avLst/>
          </a:prstGeom>
          <a:ln w="0">
            <a:noFill/>
          </a:ln>
        </p:spPr>
      </p:pic>
      <p:pic>
        <p:nvPicPr>
          <p:cNvPr id="253" name="Рисунок 2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72000" cy="2571480"/>
          </a:xfrm>
          <a:prstGeom prst="rect">
            <a:avLst/>
          </a:prstGeom>
          <a:ln w="0">
            <a:noFill/>
          </a:ln>
        </p:spPr>
      </p:pic>
      <p:sp>
        <p:nvSpPr>
          <p:cNvPr id="254" name="TextBox 1"/>
          <p:cNvSpPr/>
          <p:nvPr/>
        </p:nvSpPr>
        <p:spPr>
          <a:xfrm>
            <a:off x="1840320" y="404640"/>
            <a:ext cx="6490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Тема: Зачем творить добро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56" name="Picture 8" descr=""/>
          <p:cNvPicPr/>
          <p:nvPr/>
        </p:nvPicPr>
        <p:blipFill>
          <a:blip r:embed="rId1"/>
          <a:stretch/>
        </p:blipFill>
        <p:spPr>
          <a:xfrm>
            <a:off x="909720" y="277920"/>
            <a:ext cx="7777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660033"/>
              </a:solidFill>
              <a:latin typeface="Arial Unicode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71640" y="1699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Выступление на родительском собрании для учеников 3-х классов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и их родителей,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                            11 апреля  2018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Учитель начальных классов: </a:t>
            </a:r>
            <a:br>
              <a:rPr sz="3200"/>
            </a:br>
            <a:r>
              <a:rPr b="0" lang="ru-RU" sz="3200" spc="-1" strike="noStrike">
                <a:solidFill>
                  <a:srgbClr val="990000"/>
                </a:solidFill>
                <a:latin typeface="Arial"/>
              </a:rPr>
              <a:t>Долгушева Анна Юрьев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Изучение модуля 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«Основы религиозных культур и светской этики».</a:t>
            </a:r>
            <a:br>
              <a:rPr sz="36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09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4716360" y="1773360"/>
            <a:ext cx="3495600" cy="459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Программа разработана на основе  Концепции духовно-нравственного развития и воспитания личности гражданина России, автор:  Кураев А.В.</a:t>
            </a:r>
            <a:endParaRPr b="0" lang="en-US" sz="2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равственном становлении личности немаловажное место принадлежит культуре. Изучение русской культуры невозможно без основ православия, составившего его основу и стержень. Все богатейшее наследие православной культуры пронизано духом красоты и несет в себе огромное воспитательное содерж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064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5400" spc="-1" strike="noStrike">
                <a:solidFill>
                  <a:srgbClr val="990000"/>
                </a:solidFill>
                <a:latin typeface="Times New Roman"/>
              </a:rPr>
              <a:t>Задачи:</a:t>
            </a:r>
            <a:endParaRPr b="0" lang="en-US" sz="5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539640" y="162864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900000" y="1773360"/>
            <a:ext cx="777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1"/>
          <p:cNvSpPr/>
          <p:nvPr/>
        </p:nvSpPr>
        <p:spPr>
          <a:xfrm>
            <a:off x="252360" y="1957320"/>
            <a:ext cx="856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учащихся с основами православной культуры; Развитие представлений младшего школьни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бщение знаний, понятий и представлений о духовной культуре и морали, полученных уча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85720" y="259920"/>
            <a:ext cx="80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Основы православной 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культуры</a:t>
            </a: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Times New Roman"/>
              </a:rPr>
              <a:t>4 класс:</a:t>
            </a:r>
            <a:br>
              <a:rPr sz="4000"/>
            </a:br>
            <a:br>
              <a:rPr sz="3800"/>
            </a:br>
            <a:endParaRPr b="0" lang="en-US" sz="36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17" name="Рисунок 3" descr=""/>
          <p:cNvPicPr/>
          <p:nvPr/>
        </p:nvPicPr>
        <p:blipFill>
          <a:blip r:embed="rId1"/>
          <a:stretch/>
        </p:blipFill>
        <p:spPr>
          <a:xfrm>
            <a:off x="774720" y="4581360"/>
            <a:ext cx="4446720" cy="165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8" name=""/>
          <p:cNvGraphicFramePr/>
          <p:nvPr/>
        </p:nvGraphicFramePr>
        <p:xfrm>
          <a:off x="5410080" y="-57240"/>
          <a:ext cx="3600720" cy="6913800"/>
        </p:xfrm>
        <a:graphic>
          <a:graphicData uri="http://schemas.openxmlformats.org/drawingml/2006/table">
            <a:tbl>
              <a:tblPr/>
              <a:tblGrid>
                <a:gridCol w="493920"/>
                <a:gridCol w="3106800"/>
              </a:tblGrid>
              <a:tr h="32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Times New Roman"/>
                          <a:ea typeface="Times New Roman"/>
                        </a:rPr>
                        <a:t>ТЕ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1872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оссия – наша  Род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1872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 и религ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еловек и Бог в православ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ная моли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блия и  Евангел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поведь Христ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истос и Его крест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асх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ное учение о человек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сть и раская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вед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лосердие и сострадани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олотое правило эти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ам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ко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е работы 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едение итог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христианство пришло на Рус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ви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поведи блаженст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чем творить добро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удо в жизни христианин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весть и раскаяние.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славие о Божием су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инство причасти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настырь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ношение христианина к природе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183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истианская семь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182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щита Отечеств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юбовь и уважение 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ечеств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  <a:tr h="36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дготовка творчески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ектов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eff0f7"/>
                    </a:solidFill>
                  </a:tcPr>
                </a:tc>
              </a:tr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cffcc"/>
                          </a:solidFill>
                          <a:latin typeface="Calibri"/>
                        </a:rPr>
                        <a:t>31    -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95a3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оговая презен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ворческих проек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ащихс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ccffcc"/>
                      </a:solidFill>
                    </a:lnL>
                    <a:lnR w="5760">
                      <a:solidFill>
                        <a:srgbClr val="ccffcc"/>
                      </a:solidFill>
                    </a:lnR>
                    <a:lnT w="5760">
                      <a:solidFill>
                        <a:srgbClr val="ccffcc"/>
                      </a:solidFill>
                    </a:lnT>
                    <a:lnB w="5760">
                      <a:solidFill>
                        <a:srgbClr val="ccffcc"/>
                      </a:solidFill>
                    </a:lnB>
                    <a:solidFill>
                      <a:srgbClr val="dde0e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660033"/>
                </a:solidFill>
                <a:latin typeface="Times New Roman"/>
              </a:rPr>
              <a:t>Формы обучения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14400" y="1600200"/>
            <a:ext cx="77724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лассно-урочные зан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упповая форма обу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классные занятия – классные семейные праздники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ходе изучения курса предусмотрена презентация творческих работ учащихся на  основе изученного материала и освоение материала в деятельностной,  творческой форм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1"/>
          <p:cNvSpPr/>
          <p:nvPr/>
        </p:nvSpPr>
        <p:spPr>
          <a:xfrm>
            <a:off x="1419480" y="476280"/>
            <a:ext cx="613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imes New Roman"/>
                <a:ea typeface="Arial"/>
              </a:rPr>
              <a:t>Тема: </a:t>
            </a:r>
            <a:r>
              <a:rPr b="1" lang="ru-RU" sz="4000" spc="-1" strike="noStrike">
                <a:solidFill>
                  <a:srgbClr val="800000"/>
                </a:solidFill>
                <a:latin typeface="Calibri"/>
                <a:ea typeface="Arial"/>
              </a:rPr>
              <a:t>Христианская семь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Рисунок 1" descr=""/>
          <p:cNvPicPr/>
          <p:nvPr/>
        </p:nvPicPr>
        <p:blipFill>
          <a:blip r:embed="rId1"/>
          <a:stretch/>
        </p:blipFill>
        <p:spPr>
          <a:xfrm>
            <a:off x="108000" y="4076640"/>
            <a:ext cx="4643280" cy="270216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" descr=""/>
          <p:cNvPicPr/>
          <p:nvPr/>
        </p:nvPicPr>
        <p:blipFill>
          <a:blip r:embed="rId2"/>
          <a:stretch/>
        </p:blipFill>
        <p:spPr>
          <a:xfrm>
            <a:off x="4140360" y="1125360"/>
            <a:ext cx="47242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0755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9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Calibri"/>
              </a:rPr>
              <a:t>Тема:  Пасх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4140360" y="115920"/>
            <a:ext cx="4797360" cy="35989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2" descr=""/>
          <p:cNvPicPr/>
          <p:nvPr/>
        </p:nvPicPr>
        <p:blipFill>
          <a:blip r:embed="rId2"/>
          <a:stretch/>
        </p:blipFill>
        <p:spPr>
          <a:xfrm>
            <a:off x="324000" y="1932120"/>
            <a:ext cx="3598560" cy="479736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3" descr=""/>
          <p:cNvPicPr/>
          <p:nvPr/>
        </p:nvPicPr>
        <p:blipFill>
          <a:blip r:embed="rId3"/>
          <a:stretch/>
        </p:blipFill>
        <p:spPr>
          <a:xfrm>
            <a:off x="4119480" y="3446640"/>
            <a:ext cx="4548240" cy="341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оля</dc:creator>
  <dc:description/>
  <dc:language>en-US</dc:language>
  <cp:lastModifiedBy>Anna</cp:lastModifiedBy>
  <dcterms:modified xsi:type="dcterms:W3CDTF">2018-07-07T13:08:54Z</dcterms:modified>
  <cp:revision>73</cp:revision>
  <dc:subject/>
  <dc:title>С чего начинается Родина?</dc:title>
</cp:coreProperties>
</file>