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EC1-B398-4F23-9A1F-7CC635B6E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738B-A0CD-4ABA-9D71-79E3F552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EC7D-E271-4979-A98C-1FA7B322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BD63-19E6-426F-AA7F-E204D3DED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9DED-A0F0-4A79-B701-24BB3984A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96E7-D9B8-44BD-85F0-6D29B22E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B1EF-B3E2-4EF5-85C9-EDBEF9C6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12A19-54E5-4238-8D13-919BDFB6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680-526F-4DD6-8DDC-65B7CB55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CAD0-EB77-4DF6-A360-6F09537F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6F1C-C94C-4508-94BB-D85A772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3B9-D1F2-4054-AB73-5E71747FB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A4238-0FDD-4E74-91E2-6ADA15C7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0F89-0F42-4656-A31A-EC1CEBED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61B6-6B22-474D-907A-A0972D3E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860D-D952-427A-AC0A-CCF99E00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3EDE5-69D6-499E-84C1-F610C9BD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8F0F1-98F0-4D0A-A54A-6A83A1B1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0913A-8EAD-47BE-A931-3F10DD23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37A47-8E43-441E-8608-227A3531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EB677-1153-4F11-BA53-4A12200A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7A01F-7571-4F0E-AC99-AE23ED1F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C5A4-4264-4711-8610-D8535E5E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6147E-837C-43E9-B087-4ED18F8E6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B9823-4448-40A4-A5D9-7ECD1F497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4350-83C8-41E9-84FE-3E711060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36F5D-2C13-4EB6-B20D-FF20AB5FD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461DC-6731-4EDF-98F0-E8E84EABC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6F48-95F3-4AC4-BAEE-C697ED33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CB6E-E3A7-4982-8C38-4AFA81277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8622B-5529-49A0-B7B0-846E3F16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DA6DB-B426-4EF4-81AB-62AB5B36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32964-E9D5-4B26-A318-C226B897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A0E-716A-4364-ADC8-68DD294E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729E-1382-4D08-A096-D3B8A13A7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8EF58-5FD7-4467-9C0B-3856A2242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52B2-5B90-4246-AD32-BF7191D1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60C5E-FF7A-42B9-B7D6-C47F3E1C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527C5-BE09-4DD6-AB5E-5F34BB45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605EA-AFD8-4BDC-988C-1E11012A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F89A3-60E0-42BC-B776-F4F33AA1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2DEC-54FB-4BB9-90F4-511FF597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FAAC-5AB7-412F-AA20-F559D5EB9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9E5-D471-4565-9B97-4CC065B8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C10F-0DD3-4C49-B14F-D0A447A18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2C7A-C791-4386-9421-06C299F2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284-C140-4464-9874-487C0FEE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9AE3-1D1A-421E-8AC5-485F0AAE1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E4C0C-3CFD-42CD-ADB5-F17D24A79B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8AD-CC5C-4701-99F3-BAB5EE66499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3522-56B9-44AE-BB7E-8E8177F9DB6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D093-0AEF-4D87-8127-FC79B3CC0C0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Таша\Desktop\Спешите делать добро\88819e80de40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619280" y="270828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Arial"/>
              </a:rPr>
              <a:t>Основы религиозных культур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Arial"/>
              </a:rPr>
              <a:t>светской эт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Защита проектов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6920" y="1483920"/>
            <a:ext cx="77724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746280" y="1844640"/>
            <a:ext cx="1741320" cy="3024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" descr=""/>
          <p:cNvPicPr/>
          <p:nvPr/>
        </p:nvPicPr>
        <p:blipFill>
          <a:blip r:embed="rId2"/>
          <a:stretch/>
        </p:blipFill>
        <p:spPr>
          <a:xfrm>
            <a:off x="5622840" y="1844640"/>
            <a:ext cx="3208320" cy="4552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"/>
          <p:cNvPicPr/>
          <p:nvPr/>
        </p:nvPicPr>
        <p:blipFill>
          <a:blip r:embed="rId3"/>
          <a:stretch/>
        </p:blipFill>
        <p:spPr>
          <a:xfrm>
            <a:off x="2719440" y="1893960"/>
            <a:ext cx="27655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2433600" y="476280"/>
            <a:ext cx="46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Times New Roman"/>
                <a:ea typeface="Arial"/>
              </a:rPr>
              <a:t>Защита проек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120000" cy="3527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521080" cy="35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554480" y="620640"/>
            <a:ext cx="59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  <a:ea typeface="Arial"/>
              </a:rPr>
              <a:t>Тема:    Защита Отечест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1"/>
          <a:stretch/>
        </p:blipFill>
        <p:spPr>
          <a:xfrm>
            <a:off x="82440" y="13287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"/>
          <p:cNvPicPr/>
          <p:nvPr/>
        </p:nvPicPr>
        <p:blipFill>
          <a:blip r:embed="rId2"/>
          <a:stretch/>
        </p:blipFill>
        <p:spPr>
          <a:xfrm>
            <a:off x="2232000" y="4005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3"/>
          <a:stretch/>
        </p:blipFill>
        <p:spPr>
          <a:xfrm>
            <a:off x="6008760" y="1773360"/>
            <a:ext cx="298908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44920" cy="4724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114480" y="3098880"/>
            <a:ext cx="5321160" cy="36306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1012320" y="581040"/>
            <a:ext cx="35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Открытый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"/>
          <p:cNvSpPr/>
          <p:nvPr/>
        </p:nvSpPr>
        <p:spPr>
          <a:xfrm>
            <a:off x="5094000" y="212760"/>
            <a:ext cx="404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Православное учени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 о чело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444000" cy="48340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68436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Тема:  Любовь и уважение к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Отечес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860720" cy="3645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5483160" y="3933720"/>
            <a:ext cx="3516480" cy="2637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1600920" y="404640"/>
            <a:ext cx="68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Тема: Золотое правило эти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3"/>
          <a:stretch/>
        </p:blipFill>
        <p:spPr>
          <a:xfrm>
            <a:off x="5483160" y="1628640"/>
            <a:ext cx="35164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7200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1840320" y="404640"/>
            <a:ext cx="649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Тема: Зачем творить добр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909720" y="277920"/>
            <a:ext cx="7777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33"/>
              </a:solidFill>
              <a:latin typeface="Arial Unicode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7164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ыступление на родительском собрании для учеников 3-х классов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и их родителей,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                         11 апреля  2018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Учитель начальных классов: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Долгушева Анна Юрье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Изучение модуля 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«Основы религиозных культур и светской этики».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09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4716360" y="1773360"/>
            <a:ext cx="3495600" cy="45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Программа разработана на основе  Концепции духовно-нравственного развития и воспитания личности гражданина России, автор:  Кураев А.В.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равственном становлении личности немаловажное место принадлежит культуре. Изучение русской культуры невозможно без основ православия, составившего его основу и стержень. Все богатейшее наследие православной культуры пронизано духом красоты и несет в себе огромное воспитательное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5400" spc="-1" strike="noStrike">
                <a:solidFill>
                  <a:srgbClr val="990000"/>
                </a:solidFill>
                <a:latin typeface="Times New Roman"/>
              </a:rPr>
              <a:t>Задачи: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39640" y="1628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900000" y="1773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252360" y="1957320"/>
            <a:ext cx="856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учащихся с основами православной культуры; Развитие представлений младшего школьни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уча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57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Основы православной 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культуры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4 класс:</a:t>
            </a:r>
            <a:br>
              <a:rPr sz="4000"/>
            </a:br>
            <a:br>
              <a:rPr sz="38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774720" y="4581360"/>
            <a:ext cx="444672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5410080" y="-57240"/>
          <a:ext cx="3600720" cy="6913800"/>
        </p:xfrm>
        <a:graphic>
          <a:graphicData uri="http://schemas.openxmlformats.org/drawingml/2006/table">
            <a:tbl>
              <a:tblPr/>
              <a:tblGrid>
                <a:gridCol w="493920"/>
                <a:gridCol w="3106800"/>
              </a:tblGrid>
              <a:tr h="32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– наша  Род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 и религ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и Бог в православ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ная моли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блия и  Евангел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оведь Хр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истос и Его кре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х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ное учение о челове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сть и раская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ве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осердие и сострад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ое правило э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е работы 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христианство пришло на Ру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и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веди блаженс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ем творить добр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 в жизни христиан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сть и раскаяние.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ие о Божием су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инство причас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астырь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христианина к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истианская сем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Отеч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и уважение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ечеств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твор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1    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вая през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Формы обучения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о-урочные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 форма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классные занятия – классные семейные праздни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учения курса предусмотрена презентация творческих работ учащихся на  основе изученного материала и освоение материала в деятельностной,  творческой ф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419480" y="476280"/>
            <a:ext cx="613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Тема: 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Христианская семь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643280" cy="27021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24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Тема:  Пас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797360" cy="3598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" descr=""/>
          <p:cNvPicPr/>
          <p:nvPr/>
        </p:nvPicPr>
        <p:blipFill>
          <a:blip r:embed="rId2"/>
          <a:stretch/>
        </p:blipFill>
        <p:spPr>
          <a:xfrm>
            <a:off x="324000" y="1932120"/>
            <a:ext cx="3598560" cy="4797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"/>
          <p:cNvPicPr/>
          <p:nvPr/>
        </p:nvPicPr>
        <p:blipFill>
          <a:blip r:embed="rId3"/>
          <a:stretch/>
        </p:blipFill>
        <p:spPr>
          <a:xfrm>
            <a:off x="4119480" y="3446640"/>
            <a:ext cx="4548240" cy="341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Anna</cp:lastModifiedBy>
  <dcterms:modified xsi:type="dcterms:W3CDTF">2018-07-07T13:08:54Z</dcterms:modified>
  <cp:revision>73</cp:revision>
  <dc:subject/>
  <dc:title>С чего начинается Родина?</dc:title>
</cp:coreProperties>
</file>