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DF1A-173F-483D-A8F2-F35AB180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7ACB-B08F-4235-A515-56FBE82D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F622-0BFF-4D56-943C-B8F30BD3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2E59-035D-4CC1-8D91-68DEE7B8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4C2F-10E6-4ABB-8FB8-B7258CE5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9797-C7B6-4306-AC71-8B78EE78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149D-E552-48C6-98F4-9BE257E8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27F9-65F6-42B6-82DB-F01A3248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E0EA-619E-480B-90B4-AE4A5C00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4264-5907-4056-99AE-5F832DA6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2ED8-812E-4AFE-A647-A560D18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F67B-B331-488F-9FF9-CAE78FF1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6DC4-130C-4F0C-9077-2AC17FD5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1C77-2D4D-4B2E-9ACA-F4AA46C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0C85-46E2-4C6E-9DF1-D1D6E0BA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C4DB-04C6-4903-A482-CED45AD8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BB55-2A13-4583-B080-225A6B61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6209-E1AB-445B-83D7-2117C609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27D1-F8A6-4355-BB6A-68A637CB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F61C-F194-49BD-8642-37FB7935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2405-A2F5-4ADF-9DE4-66BEEAEB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B6C3-8DCD-4E25-8C7B-7AE0AE9D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F142-B213-427C-8FCA-11343D4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BB19-B06C-4C1D-9E12-DDFC4DEF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B908-BE64-4C9E-A3AF-8DE3F6F282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EB47-3897-4595-B8B9-2C1E93DF6F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47640" y="1828800"/>
            <a:ext cx="5977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Среднее арифметическое, размах и мод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лгебра 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Размах ряда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192640" y="1413000"/>
            <a:ext cx="32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работная плата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 март меся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721400" y="2190600"/>
          <a:ext cx="3897000" cy="4480200"/>
        </p:xfrm>
        <a:graphic>
          <a:graphicData uri="http://schemas.openxmlformats.org/drawingml/2006/table">
            <a:tbl>
              <a:tblPr/>
              <a:tblGrid>
                <a:gridCol w="515880"/>
                <a:gridCol w="2166840"/>
                <a:gridCol w="121428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 И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ов И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ов И.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ов Т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ова Т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макова Ю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сов С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онов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ов Н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аков Ф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рков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а И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</a:tr>
            </a:tbl>
          </a:graphicData>
        </a:graphic>
      </p:graphicFrame>
      <p:sp>
        <p:nvSpPr>
          <p:cNvPr id="159" name="Text Box 66"/>
          <p:cNvSpPr/>
          <p:nvPr/>
        </p:nvSpPr>
        <p:spPr>
          <a:xfrm>
            <a:off x="1094400" y="416880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именьшая заработная пла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7"/>
          <p:cNvSpPr/>
          <p:nvPr/>
        </p:nvSpPr>
        <p:spPr>
          <a:xfrm>
            <a:off x="4862520" y="4194000"/>
            <a:ext cx="3875040" cy="319320"/>
          </a:xfrm>
          <a:prstGeom prst="rect">
            <a:avLst/>
          </a:prstGeom>
          <a:solidFill>
            <a:srgbClr val="b9b9ed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8"/>
          <p:cNvSpPr/>
          <p:nvPr/>
        </p:nvSpPr>
        <p:spPr>
          <a:xfrm>
            <a:off x="1111680" y="446580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Наибольшая заработная пл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9"/>
          <p:cNvSpPr/>
          <p:nvPr/>
        </p:nvSpPr>
        <p:spPr>
          <a:xfrm>
            <a:off x="4870440" y="4491000"/>
            <a:ext cx="3875040" cy="318960"/>
          </a:xfrm>
          <a:prstGeom prst="rect">
            <a:avLst/>
          </a:prstGeom>
          <a:solidFill>
            <a:srgbClr val="ffcc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0"/>
          <p:cNvSpPr/>
          <p:nvPr/>
        </p:nvSpPr>
        <p:spPr>
          <a:xfrm>
            <a:off x="397080" y="257004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4110 - 8960 = 1515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1"/>
          <p:cNvSpPr/>
          <p:nvPr/>
        </p:nvSpPr>
        <p:spPr>
          <a:xfrm>
            <a:off x="248760" y="3098880"/>
            <a:ext cx="430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5150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мах данного ряда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2"/>
          <p:cNvSpPr/>
          <p:nvPr/>
        </p:nvSpPr>
        <p:spPr>
          <a:xfrm>
            <a:off x="246240" y="4005360"/>
            <a:ext cx="4413240" cy="0"/>
          </a:xfrm>
          <a:prstGeom prst="line">
            <a:avLst/>
          </a:prstGeom>
          <a:ln w="57240">
            <a:solidFill>
              <a:srgbClr val="b9b9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3"/>
          <p:cNvSpPr/>
          <p:nvPr/>
        </p:nvSpPr>
        <p:spPr>
          <a:xfrm>
            <a:off x="201960" y="5256360"/>
            <a:ext cx="4262040" cy="916920"/>
          </a:xfrm>
          <a:prstGeom prst="rect">
            <a:avLst/>
          </a:prstGeom>
          <a:solidFill>
            <a:srgbClr val="ffe8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азмахом ряда чисел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азность между наибольшим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аименьшим из эти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график"/>
          <p:cNvPicPr/>
          <p:nvPr/>
        </p:nvPicPr>
        <p:blipFill>
          <a:blip r:embed="rId1"/>
          <a:stretch/>
        </p:blipFill>
        <p:spPr>
          <a:xfrm>
            <a:off x="2976480" y="1974960"/>
            <a:ext cx="5992920" cy="4505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змах ряда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 flipH="1">
            <a:off x="2293920" y="5921280"/>
            <a:ext cx="68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H="1">
            <a:off x="2301480" y="3054240"/>
            <a:ext cx="75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2509920" y="3062160"/>
            <a:ext cx="4680" cy="2845080"/>
            <a:chOff x="2509920" y="3062160"/>
            <a:chExt cx="4680" cy="2845080"/>
          </a:xfrm>
        </p:grpSpPr>
        <p:sp>
          <p:nvSpPr>
            <p:cNvPr id="172" name="Line 7"/>
            <p:cNvSpPr/>
            <p:nvPr/>
          </p:nvSpPr>
          <p:spPr>
            <a:xfrm flipV="1">
              <a:off x="2509920" y="3062160"/>
              <a:ext cx="4680" cy="126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2509920" y="4309920"/>
              <a:ext cx="0" cy="159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Object 9"/>
          <p:cNvGraphicFramePr/>
          <p:nvPr/>
        </p:nvGraphicFramePr>
        <p:xfrm>
          <a:off x="954000" y="3678120"/>
          <a:ext cx="86220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0" y="3678120"/>
                    <a:ext cx="8622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10"/>
          <p:cNvSpPr/>
          <p:nvPr/>
        </p:nvSpPr>
        <p:spPr>
          <a:xfrm>
            <a:off x="208440" y="4632480"/>
            <a:ext cx="19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олеб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мп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течение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ода ряда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259280" y="1909800"/>
            <a:ext cx="696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ой ряда чисел называется число, наиболее час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тречающееся в данном ря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35720" y="2878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99800" y="2890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6360" y="2886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399400" y="2865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1723320" y="2889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780720" y="2890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5147280" y="2892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45860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5819040" y="2890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203240" y="2879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870120" y="3894120"/>
            <a:ext cx="771984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855360" y="34416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а: число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1120320" y="4156200"/>
            <a:ext cx="69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4,  18,  22,  26,  30,  28,  26,  24,  22,  2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49320" y="5207040"/>
            <a:ext cx="771984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839880" y="47545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ы: числа 22 и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67080" y="4179960"/>
            <a:ext cx="463320" cy="493560"/>
          </a:xfrm>
          <a:prstGeom prst="rect">
            <a:avLst/>
          </a:prstGeom>
          <a:solidFill>
            <a:srgbClr val="ffcc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6756480" y="4143240"/>
            <a:ext cx="463320" cy="493920"/>
          </a:xfrm>
          <a:prstGeom prst="rect">
            <a:avLst/>
          </a:prstGeom>
          <a:solidFill>
            <a:srgbClr val="ffcc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170160" y="4187880"/>
            <a:ext cx="463680" cy="493560"/>
          </a:xfrm>
          <a:prstGeom prst="rect">
            <a:avLst/>
          </a:prstGeom>
          <a:solidFill>
            <a:srgbClr val="cc66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5319720" y="4173480"/>
            <a:ext cx="463680" cy="493920"/>
          </a:xfrm>
          <a:prstGeom prst="rect">
            <a:avLst/>
          </a:prstGeom>
          <a:solidFill>
            <a:srgbClr val="cc66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1157040" y="5456160"/>
            <a:ext cx="69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4,  18,  22,  26,  30,  32,  34,  36,  38,  4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985680" y="6507000"/>
            <a:ext cx="772020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883080" y="605484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ы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64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65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69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7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50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74" dur="50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7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50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79" dur="50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80" dur="50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ода ряда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850320" y="1909800"/>
            <a:ext cx="63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а зарплаты сотрудников нефтяной ком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134640" y="2708280"/>
            <a:ext cx="91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 000 т.р.,  1 000 т.р.,  500 т.р.,  250 т.р,  250 т.р,  20 т.р., 20 т.р., … ,  20 т.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85680" y="6507000"/>
            <a:ext cx="772020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889560" y="33066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а  20 0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705240" y="414972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мах зарплаты сотрудников нефтяно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85320" y="498168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000 000 – 20 000 = 1 980 0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405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0001-001-Sinonimy"/>
          <p:cNvPicPr/>
          <p:nvPr/>
        </p:nvPicPr>
        <p:blipFill>
          <a:blip r:embed="rId1"/>
          <a:stretch/>
        </p:blipFill>
        <p:spPr>
          <a:xfrm>
            <a:off x="5076720" y="3141720"/>
            <a:ext cx="40672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"/>
          <p:cNvSpPr/>
          <p:nvPr/>
        </p:nvSpPr>
        <p:spPr>
          <a:xfrm flipV="1">
            <a:off x="2741760" y="3795840"/>
            <a:ext cx="2023920" cy="6048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2774880" y="2919240"/>
            <a:ext cx="1981440" cy="659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среднее арифметическое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 rot="21172200">
            <a:off x="4735080" y="3033360"/>
            <a:ext cx="1067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6"/>
          <p:cNvSpPr/>
          <p:nvPr/>
        </p:nvSpPr>
        <p:spPr>
          <a:xfrm rot="21172200">
            <a:off x="4757400" y="3015720"/>
            <a:ext cx="106668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 rot="21172200">
            <a:off x="1766520" y="2187360"/>
            <a:ext cx="106668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 rot="539400">
            <a:off x="1690200" y="3940200"/>
            <a:ext cx="1067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741760" y="3795840"/>
            <a:ext cx="2023920" cy="6048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2774880" y="2919240"/>
            <a:ext cx="1981440" cy="659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среднее арифметическое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 rot="21172200">
            <a:off x="4735080" y="3033360"/>
            <a:ext cx="1067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 rot="21172200">
            <a:off x="4757400" y="3015720"/>
            <a:ext cx="106668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5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7"/>
          <p:cNvSpPr/>
          <p:nvPr/>
        </p:nvSpPr>
        <p:spPr>
          <a:xfrm rot="21172200">
            <a:off x="1766520" y="2187360"/>
            <a:ext cx="106668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8"/>
          <p:cNvSpPr/>
          <p:nvPr/>
        </p:nvSpPr>
        <p:spPr>
          <a:xfrm rot="539400">
            <a:off x="1690200" y="3940200"/>
            <a:ext cx="1067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дите для данного ряда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14600" y="3222720"/>
          <a:ext cx="6099120" cy="1755720"/>
        </p:xfrm>
        <a:graphic>
          <a:graphicData uri="http://schemas.openxmlformats.org/drawingml/2006/table">
            <a:tbl>
              <a:tblPr/>
              <a:tblGrid>
                <a:gridCol w="4105080"/>
                <a:gridCol w="199404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ее арифмет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зм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3"/>
          <p:cNvSpPr/>
          <p:nvPr/>
        </p:nvSpPr>
        <p:spPr>
          <a:xfrm>
            <a:off x="2758320" y="21160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3,   24,  6,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6299280" y="3279600"/>
            <a:ext cx="82872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6319800" y="3852720"/>
            <a:ext cx="82872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27720" y="4425840"/>
            <a:ext cx="82872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6516720" y="321300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515280" y="3933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6516720" y="450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дите для данного ряда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14600" y="3222720"/>
          <a:ext cx="6099120" cy="1755720"/>
        </p:xfrm>
        <a:graphic>
          <a:graphicData uri="http://schemas.openxmlformats.org/drawingml/2006/table">
            <a:tbl>
              <a:tblPr/>
              <a:tblGrid>
                <a:gridCol w="4105080"/>
                <a:gridCol w="199404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ее арифмет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зм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и 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3"/>
          <p:cNvSpPr/>
          <p:nvPr/>
        </p:nvSpPr>
        <p:spPr>
          <a:xfrm>
            <a:off x="2722680" y="211608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,   35,  3,   35,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6269040" y="3265560"/>
            <a:ext cx="8287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6289560" y="3838680"/>
            <a:ext cx="8287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6224760" y="4411800"/>
            <a:ext cx="9745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516720" y="3284640"/>
            <a:ext cx="5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516720" y="386064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516720" y="44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 п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172,195,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1"/>
          <a:stretch/>
        </p:blipFill>
        <p:spPr>
          <a:xfrm>
            <a:off x="390600" y="993600"/>
            <a:ext cx="8235720" cy="5791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2270520" y="19162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extBox 7" descr=""/>
          <p:cNvPicPr/>
          <p:nvPr/>
        </p:nvPicPr>
        <p:blipFill>
          <a:blip r:embed="rId2"/>
          <a:stretch/>
        </p:blipFill>
        <p:spPr>
          <a:xfrm>
            <a:off x="2176560" y="2925720"/>
            <a:ext cx="738000" cy="89712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8" descr=""/>
          <p:cNvPicPr/>
          <p:nvPr/>
        </p:nvPicPr>
        <p:blipFill>
          <a:blip r:embed="rId3"/>
          <a:stretch/>
        </p:blipFill>
        <p:spPr>
          <a:xfrm>
            <a:off x="2378160" y="4870440"/>
            <a:ext cx="736560" cy="8971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2489040" y="4076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extBox 10" descr=""/>
          <p:cNvPicPr/>
          <p:nvPr/>
        </p:nvPicPr>
        <p:blipFill>
          <a:blip r:embed="rId4"/>
          <a:stretch/>
        </p:blipFill>
        <p:spPr>
          <a:xfrm>
            <a:off x="2193840" y="5840280"/>
            <a:ext cx="744480" cy="901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1"/>
          <p:cNvSpPr/>
          <p:nvPr/>
        </p:nvSpPr>
        <p:spPr>
          <a:xfrm>
            <a:off x="6448320" y="17002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,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6592680" y="27813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6796440" y="3825720"/>
            <a:ext cx="92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,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6947640" y="504180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6809400" y="6013440"/>
            <a:ext cx="113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,08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Наука  - «Статист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8000" y="1989000"/>
          <a:ext cx="4038480" cy="39625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еренду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22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ологические опрос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224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овые полис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овские начисления…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 txBox="1"/>
          <p:nvPr/>
        </p:nvSpPr>
        <p:spPr>
          <a:xfrm>
            <a:off x="4284720" y="1915920"/>
            <a:ext cx="47512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ка – занимается сбором информации о явлениях и процессах общественной жиз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ка отражает количественные стороны общественн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ка является «глазами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6840" y="1557360"/>
            <a:ext cx="82184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СТАТИСТИК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- </a:t>
            </a:r>
            <a:r>
              <a:rPr b="0" i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наука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, которая занимается получением, обработкой и анализом количественных  данных о разнообразных массовых явлениях, происходящих в природе и обществе. Слово «статистика» происходит от латинского слова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tatus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, которое означает «состояние, положение вещей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48392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СТАТИСТИКА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изучает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численность отдельных групп населения страны и её регионов, производство и потребление разнообразных видов продукции, перевозку грузов и пассажиров различными видами транспорта, природные ресурсы и т.д. Результаты статистических исследований широко используются для практических и научных выв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476280"/>
            <a:ext cx="8181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Среднее арифметическое ряда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53880" y="2108160"/>
            <a:ext cx="880020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блице записаны результаты ежедневного измерения в полд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пературы воздуха (в градусах Цельсия) в течение 10 дн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3048120"/>
          <a:ext cx="7772400" cy="990360"/>
        </p:xfrm>
        <a:graphic>
          <a:graphicData uri="http://schemas.openxmlformats.org/drawingml/2006/table">
            <a:tbl>
              <a:tblPr/>
              <a:tblGrid>
                <a:gridCol w="1295280"/>
                <a:gridCol w="648000"/>
                <a:gridCol w="647640"/>
                <a:gridCol w="647640"/>
                <a:gridCol w="647640"/>
                <a:gridCol w="647640"/>
                <a:gridCol w="647640"/>
                <a:gridCol w="648000"/>
                <a:gridCol w="647640"/>
                <a:gridCol w="647640"/>
                <a:gridCol w="6476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меся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42"/>
          <p:cNvSpPr/>
          <p:nvPr/>
        </p:nvSpPr>
        <p:spPr>
          <a:xfrm>
            <a:off x="307080" y="426708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яя температура воздуха в полдень в первую декаду меся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3"/>
          <p:cNvGrpSpPr/>
          <p:nvPr/>
        </p:nvGrpSpPr>
        <p:grpSpPr>
          <a:xfrm>
            <a:off x="920160" y="4876920"/>
            <a:ext cx="559440" cy="532440"/>
            <a:chOff x="920160" y="4876920"/>
            <a:chExt cx="559440" cy="532440"/>
          </a:xfrm>
        </p:grpSpPr>
        <p:sp>
          <p:nvSpPr>
            <p:cNvPr id="131" name="Text Box 44"/>
            <p:cNvSpPr/>
            <p:nvPr/>
          </p:nvSpPr>
          <p:spPr>
            <a:xfrm>
              <a:off x="92016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5"/>
            <p:cNvSpPr/>
            <p:nvPr/>
          </p:nvSpPr>
          <p:spPr>
            <a:xfrm>
              <a:off x="1076400" y="507204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с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46"/>
          <p:cNvSpPr/>
          <p:nvPr/>
        </p:nvSpPr>
        <p:spPr>
          <a:xfrm>
            <a:off x="1468440" y="4952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7"/>
          <p:cNvSpPr/>
          <p:nvPr/>
        </p:nvSpPr>
        <p:spPr>
          <a:xfrm>
            <a:off x="2057400" y="5181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2369880" y="472428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+ 5 + 5 + 7 + 6 + 4 + 6 + 9 + 10 +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9"/>
          <p:cNvSpPr/>
          <p:nvPr/>
        </p:nvSpPr>
        <p:spPr>
          <a:xfrm>
            <a:off x="4110840" y="5257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0"/>
          <p:cNvSpPr/>
          <p:nvPr/>
        </p:nvSpPr>
        <p:spPr>
          <a:xfrm>
            <a:off x="6802200" y="4952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1"/>
          <p:cNvSpPr/>
          <p:nvPr/>
        </p:nvSpPr>
        <p:spPr>
          <a:xfrm>
            <a:off x="71618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2"/>
          <p:cNvGrpSpPr/>
          <p:nvPr/>
        </p:nvGrpSpPr>
        <p:grpSpPr>
          <a:xfrm>
            <a:off x="7330680" y="4915080"/>
            <a:ext cx="418320" cy="425160"/>
            <a:chOff x="7330680" y="4915080"/>
            <a:chExt cx="418320" cy="425160"/>
          </a:xfrm>
        </p:grpSpPr>
        <p:sp>
          <p:nvSpPr>
            <p:cNvPr id="140" name="Text Box 53"/>
            <p:cNvSpPr/>
            <p:nvPr/>
          </p:nvSpPr>
          <p:spPr>
            <a:xfrm>
              <a:off x="7423560" y="4971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4"/>
            <p:cNvSpPr/>
            <p:nvPr/>
          </p:nvSpPr>
          <p:spPr>
            <a:xfrm>
              <a:off x="7330680" y="4915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55"/>
          <p:cNvSpPr/>
          <p:nvPr/>
        </p:nvSpPr>
        <p:spPr>
          <a:xfrm>
            <a:off x="468360" y="5729400"/>
            <a:ext cx="7848720" cy="10087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м арифметическим ряда чисел называется частное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ения суммы этих чисел на число слагае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Среднее арифметическое ряда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163840" y="1433520"/>
            <a:ext cx="32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работная плата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 март меся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69000" y="2176560"/>
          <a:ext cx="3897000" cy="4479840"/>
        </p:xfrm>
        <a:graphic>
          <a:graphicData uri="http://schemas.openxmlformats.org/drawingml/2006/table">
            <a:tbl>
              <a:tblPr/>
              <a:tblGrid>
                <a:gridCol w="515880"/>
                <a:gridCol w="2166840"/>
                <a:gridCol w="121428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 И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ов И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ов И.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ов Т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ова Т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макова Ю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сов С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онов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ов Н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аков Ф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рков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а И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66"/>
          <p:cNvSpPr/>
          <p:nvPr/>
        </p:nvSpPr>
        <p:spPr>
          <a:xfrm>
            <a:off x="275760" y="274644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заработная пл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ников за март месяц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7"/>
          <p:cNvSpPr/>
          <p:nvPr/>
        </p:nvSpPr>
        <p:spPr>
          <a:xfrm>
            <a:off x="421200" y="399240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5740 : 12 = 17145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318960" y="3903840"/>
            <a:ext cx="3818160" cy="6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14716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реднее арифметическое представляет собой то значение величины, которое получается, когда сумма всех наблюдаемых значений распределяется поровну между единицами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урожайность пшеницы с 1 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ий удой от 1 коровы в су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выработка рабочего бригады за смену,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Среднее арифметическое ряда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37200" y="1433520"/>
            <a:ext cx="32637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работная плата рабо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фтяной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 меся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0" y="2511360"/>
          <a:ext cx="4194000" cy="3078360"/>
        </p:xfrm>
        <a:graphic>
          <a:graphicData uri="http://schemas.openxmlformats.org/drawingml/2006/table">
            <a:tbl>
              <a:tblPr/>
              <a:tblGrid>
                <a:gridCol w="863640"/>
                <a:gridCol w="2089080"/>
                <a:gridCol w="124128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ральный дир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ительный дир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ор по маркетин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ор по продаж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</a:tr>
            </a:tbl>
          </a:graphicData>
        </a:graphic>
      </p:graphicFrame>
      <p:sp>
        <p:nvSpPr>
          <p:cNvPr id="154" name="Text Box 66"/>
          <p:cNvSpPr/>
          <p:nvPr/>
        </p:nvSpPr>
        <p:spPr>
          <a:xfrm>
            <a:off x="275760" y="274644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заработная пл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ников за март месяц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7"/>
          <p:cNvSpPr/>
          <p:nvPr/>
        </p:nvSpPr>
        <p:spPr>
          <a:xfrm>
            <a:off x="277560" y="399240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 900 000 : 100 = 59 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ерешкова_М_В</cp:lastModifiedBy>
  <dcterms:modified xsi:type="dcterms:W3CDTF">2017-10-16T09:26:10Z</dcterms:modified>
  <cp:revision>37</cp:revision>
  <dc:subject/>
  <dc:title>Среднее арифметическое, размах и мода</dc:title>
</cp:coreProperties>
</file>