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8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3B8-0B7A-41B4-AA10-0BD28799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5BF-F981-427A-8240-AC81C542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3C74-D7ED-4309-A396-BB31A3B0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BC0E-092C-4954-BCA4-34FAA50D2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364-5EAA-4080-B75A-4321FAAB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B221-9A52-4976-A116-B04F69AF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08BF-7102-452B-8780-C9A62D1F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39C-2044-4E0A-AA72-226E84BF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DFF2-CBC9-4CE7-AB4F-1D7A853B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2082-360C-477B-8D4F-4575F0F4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ADE0-1ABA-4807-8002-2FDE1E7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F45B-0A29-49C9-B9B4-78840E75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C888-1AD9-4A05-9695-B1A671093AB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зких А.Н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700000" y="1267920"/>
            <a:ext cx="6119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Стимулирование               творческой  деятельности   учащих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на уроках литератур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160360" cy="277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908000" y="2205000"/>
            <a:ext cx="1727280" cy="1008000"/>
          </a:xfrm>
          <a:prstGeom prst="line">
            <a:avLst/>
          </a:prstGeom>
          <a:ln w="93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работаем корректоро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884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Исправьте оши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95280" y="2060640"/>
            <a:ext cx="8568720" cy="4536000"/>
            <a:chOff x="395280" y="2060640"/>
            <a:chExt cx="8568720" cy="4536000"/>
          </a:xfrm>
        </p:grpSpPr>
        <p:cxnSp>
          <p:nvCxnSpPr>
            <p:cNvPr id="80" name="_s18444"/>
            <p:cNvCxnSpPr>
              <a:stCxn id="81" idx="0"/>
              <a:endCxn id="82" idx="2"/>
            </p:cNvCxnSpPr>
            <p:nvPr/>
          </p:nvCxnSpPr>
          <p:spPr>
            <a:xfrm flipV="1" rot="16200000">
              <a:off x="5725080" y="2828520"/>
              <a:ext cx="907920" cy="2999880"/>
            </a:xfrm>
            <a:prstGeom prst="bentConnector3">
              <a:avLst>
                <a:gd name="adj1" fmla="val 20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" name="_s18443"/>
            <p:cNvCxnSpPr>
              <a:stCxn id="84" idx="0"/>
              <a:endCxn id="82" idx="2"/>
            </p:cNvCxnSpPr>
            <p:nvPr/>
          </p:nvCxnSpPr>
          <p:spPr>
            <a:xfrm flipV="1">
              <a:off x="4679280" y="3874680"/>
              <a:ext cx="3240" cy="90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8442"/>
            <p:cNvCxnSpPr>
              <a:stCxn id="86" idx="0"/>
              <a:endCxn id="82" idx="2"/>
            </p:cNvCxnSpPr>
            <p:nvPr/>
          </p:nvCxnSpPr>
          <p:spPr>
            <a:xfrm flipH="1" flipV="1" rot="5400000">
              <a:off x="2725920" y="2828520"/>
              <a:ext cx="907920" cy="2999880"/>
            </a:xfrm>
            <a:prstGeom prst="bentConnector3">
              <a:avLst>
                <a:gd name="adj1" fmla="val 20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2" name="_s18438"/>
            <p:cNvSpPr/>
            <p:nvPr/>
          </p:nvSpPr>
          <p:spPr>
            <a:xfrm>
              <a:off x="3394440" y="2060640"/>
              <a:ext cx="2570400" cy="1814400"/>
            </a:xfrm>
            <a:prstGeom prst="roundRect">
              <a:avLst>
                <a:gd name="adj" fmla="val 16667"/>
              </a:avLst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Сейчас завуч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подтвердил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о том,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366"/>
                  </a:solidFill>
                  <a:latin typeface="Arial"/>
                </a:rPr>
                <a:t>что уроков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366"/>
                  </a:solidFill>
                  <a:latin typeface="Arial"/>
                </a:rPr>
                <a:t>не буде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_s18439"/>
            <p:cNvSpPr/>
            <p:nvPr/>
          </p:nvSpPr>
          <p:spPr>
            <a:xfrm>
              <a:off x="395280" y="4782240"/>
              <a:ext cx="2570400" cy="1814400"/>
            </a:xfrm>
            <a:prstGeom prst="roundRect">
              <a:avLst>
                <a:gd name="adj" fmla="val 16667"/>
              </a:avLst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Мцыри, увидев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монастырь,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упал без памят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8440"/>
            <p:cNvSpPr/>
            <p:nvPr/>
          </p:nvSpPr>
          <p:spPr>
            <a:xfrm>
              <a:off x="3394440" y="4782240"/>
              <a:ext cx="2570400" cy="1814400"/>
            </a:xfrm>
            <a:prstGeom prst="roundRect">
              <a:avLst>
                <a:gd name="adj" fmla="val 16667"/>
              </a:avLst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Из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объяв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Arial"/>
                </a:rPr>
                <a:t>Продаётся навоз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Arial"/>
                </a:rPr>
                <a:t>говяж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18441"/>
            <p:cNvSpPr/>
            <p:nvPr/>
          </p:nvSpPr>
          <p:spPr>
            <a:xfrm>
              <a:off x="6393600" y="4782240"/>
              <a:ext cx="2570400" cy="1814400"/>
            </a:xfrm>
            <a:prstGeom prst="roundRect">
              <a:avLst>
                <a:gd name="adj" fmla="val 16667"/>
              </a:avLst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У нас в столовой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Самообслу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живание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покушал – убирайс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сам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становка проблемы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дин из приёмов, стимулирующих развитие творческих способностей, - постановка проблемы. В ходе решения проблемных зада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ожу учащихся к противоречию и предлагаю найти способ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лагаю сделать сравнения, обобщения, вы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влю конкретные вопросы на обоснование, логику рассу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ю исследовательские задания по текс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буждаю детей думать, творить, искать пути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каким же выводам я пришла в ходе поиска приёмов стимулирования творческих способностей учащих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Чтобы научить детей думать, открывать, учитель сам должен многое придумывать, апробировать, изобретать, быть человеком увлечён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олько в результате систематической работы у учеников появится интерес  к творчеству, только тогда они будут стремиться открывать нов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00"/>
                </a:solidFill>
                <a:latin typeface="Arial"/>
              </a:rPr>
              <a:t>          </a:t>
            </a:r>
            <a:r>
              <a:rPr b="1" i="1" lang="en-US" sz="3600" spc="-1" strike="noStrike">
                <a:solidFill>
                  <a:srgbClr val="ccffff"/>
                </a:solidFill>
                <a:latin typeface="Arial"/>
              </a:rPr>
              <a:t>Русский язык и литература дают большие возможности для развития творческой личности. Результатом работы в этой области является участие моих детей в городских, Всероссийских и Международных конкурсах, их побе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805360"/>
            <a:ext cx="575928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оказываю пап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 наградным материалом учащихся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569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ворческую деятельность своих учеников  реализую с помощью следующих видов деятельност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ланирую и осуществляю деятельный подход при организации  познавательного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здаю ситуации конкретных видов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ую собственное мнение, учу его высказывать, аргументиро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здаю условия для проявления индивиду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скуплюсь на похвалу, отмечаю наиболее яркие и интересные работы и отв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ёмы, развивающие творческое мышление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системе развивать и активизировать творческое мышление мне помогают основные приёмы, развивающие воображение и внимание к слову. Среди ни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блемное изложение  теоретическ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мостоятельные наблю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ходе работы с текс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цензирование выполненных раб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общения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тные высказывания различного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од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«мозговой атаки»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hello_html_67fce796.png"/>
          <p:cNvPicPr/>
          <p:nvPr/>
        </p:nvPicPr>
        <p:blipFill>
          <a:blip r:embed="rId1"/>
          <a:stretch/>
        </p:blipFill>
        <p:spPr>
          <a:xfrm>
            <a:off x="7236000" y="2924280"/>
            <a:ext cx="15238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иды письменных работ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Стимулируют творчество учащихся и виды письменных работ, выполнение разноуровневых заданий по русскому языку и литературе. Среди ни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твет на проблемный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ставление пл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иск в тексте цитат, подтверждающ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ую – либо мыс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ставление викторины, плана ответа, стать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Творческие работы( сочинение п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ному началу, по опорным слова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поставление разных редакций текс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20000" y="2637000"/>
            <a:ext cx="18428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меры с уроков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73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программных произведениях я пытаюсь найти ключевые выражения, которые могут подтолкнуть учеников  к рассуждению, вызвать работу мысли и чувств. Например, при изучении «Мцыри» обращаю внимание на стро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«…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а душу можно ль рассказать?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 прошу ребят написать миниатюру на эту тему. Результаты разные, но интерес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ли ещё одна те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«…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для воли иль тюрь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на этот свет родимся мы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4360" y="5013360"/>
            <a:ext cx="144000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меры с уроков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ходе изучения повести Пушкина «Капитанская дочка» апробировала следующие задания, связанные с проблемными вопрос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 Если бы Пугачёв не помог Гринёв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свободить Машу Миронову из заточения Швабрина, смог ли сам герой освободить свою возлюбленну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 Как сложилась бы дальнейшая судьба героев? Додумайте за ав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346720"/>
            <a:ext cx="8064720" cy="11066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Демонстрация материалов из папк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« Индивидуальные  задан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для учащихся  на уроках литерату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j0232104"/>
          <p:cNvPicPr/>
          <p:nvPr/>
        </p:nvPicPr>
        <p:blipFill>
          <a:blip r:embed="rId1"/>
          <a:stretch/>
        </p:blipFill>
        <p:spPr>
          <a:xfrm>
            <a:off x="7885080" y="1700280"/>
            <a:ext cx="9349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меры с уроков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802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изучении комед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голя «Ревизор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ила  восьмиклассникам написать творческую работу на одну из т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Чем может быть интересна современному читателю комедия «Ревизор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Что произойдёт в городе после приезда настоящего ревизор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j0232104"/>
          <p:cNvPicPr/>
          <p:nvPr/>
        </p:nvPicPr>
        <p:blipFill>
          <a:blip r:embed="rId1"/>
          <a:stretch/>
        </p:blipFill>
        <p:spPr>
          <a:xfrm>
            <a:off x="7380360" y="907920"/>
            <a:ext cx="12938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оздание мотивации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6533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процессе развития творческих способностей  стараюсь создать мотивацию самостоятельной деятельности: устные выступления комментирую: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«Молодец!», «Умница!», «Замечательно!», «Достойно похвалы!»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а в письменных работах делаю пометки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!!!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удачные приёмы речевого оформления не просто подчёркиваю, а исправляю и показываю, как должно звучать пред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4382530000[1]"/>
          <p:cNvPicPr/>
          <p:nvPr/>
        </p:nvPicPr>
        <p:blipFill>
          <a:blip r:embed="rId1"/>
          <a:stretch/>
        </p:blipFill>
        <p:spPr>
          <a:xfrm>
            <a:off x="7570800" y="5300640"/>
            <a:ext cx="1243080" cy="129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704000" y="1351080"/>
            <a:ext cx="1260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работаем корректоро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781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правильно выражать свои мысли в устной и письменной форме помогают задания</a:t>
            </a:r>
            <a:r>
              <a:rPr b="1" lang="ru-RU" sz="32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Поработаем корректоро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859280" y="1484280"/>
            <a:ext cx="4033440" cy="4822920"/>
            <a:chOff x="4859280" y="1484280"/>
            <a:chExt cx="4033440" cy="4822920"/>
          </a:xfrm>
        </p:grpSpPr>
        <p:cxnSp>
          <p:nvCxnSpPr>
            <p:cNvPr id="70" name="_s16396"/>
            <p:cNvCxnSpPr>
              <a:stCxn id="71" idx="0"/>
              <a:endCxn id="72" idx="2"/>
            </p:cNvCxnSpPr>
            <p:nvPr/>
          </p:nvCxnSpPr>
          <p:spPr>
            <a:xfrm flipV="1" rot="16200000">
              <a:off x="7098840" y="3189240"/>
              <a:ext cx="965160" cy="1412280"/>
            </a:xfrm>
            <a:prstGeom prst="bentConnector3">
              <a:avLst>
                <a:gd name="adj1" fmla="val 208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" name="_s16395"/>
            <p:cNvCxnSpPr>
              <a:stCxn id="74" idx="0"/>
              <a:endCxn id="72" idx="2"/>
            </p:cNvCxnSpPr>
            <p:nvPr/>
          </p:nvCxnSpPr>
          <p:spPr>
            <a:xfrm flipV="1">
              <a:off x="6875640" y="3412800"/>
              <a:ext cx="1800" cy="96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" name="_s16394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5687280" y="3189240"/>
              <a:ext cx="965160" cy="1412280"/>
            </a:xfrm>
            <a:prstGeom prst="bentConnector3">
              <a:avLst>
                <a:gd name="adj1" fmla="val 208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" name="_s16390"/>
            <p:cNvSpPr/>
            <p:nvPr/>
          </p:nvSpPr>
          <p:spPr>
            <a:xfrm>
              <a:off x="6270840" y="1484280"/>
              <a:ext cx="1209960" cy="1929240"/>
            </a:xfrm>
            <a:custGeom>
              <a:avLst/>
              <a:gdLst>
                <a:gd name="textAreaLeft" fmla="*/ 59040 w 1209960"/>
                <a:gd name="textAreaRight" fmla="*/ 1150920 w 1209960"/>
                <a:gd name="textAreaTop" fmla="*/ 59040 h 1929240"/>
                <a:gd name="textAreaBottom" fmla="*/ 1870200 h 1929240"/>
              </a:gdLst>
              <a:ahLst/>
              <a:rect l="textAreaLeft" t="textAreaTop" r="textAreaRight" b="textAreaBottom"/>
              <a:pathLst>
                <a:path w="21600" h="34437">
                  <a:moveTo>
                    <a:pt x="3600" y="0"/>
                  </a:moveTo>
                  <a:arcTo wR="3600" hR="3600" stAng="16200000" swAng="-5400000"/>
                  <a:lnTo>
                    <a:pt x="0" y="30837"/>
                  </a:lnTo>
                  <a:arcTo wR="3600" hR="3600" stAng="10800000" swAng="-5400000"/>
                  <a:lnTo>
                    <a:pt x="18000" y="344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Исправь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ошибки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_s16391"/>
            <p:cNvSpPr/>
            <p:nvPr/>
          </p:nvSpPr>
          <p:spPr>
            <a:xfrm>
              <a:off x="4859280" y="4377960"/>
              <a:ext cx="1209960" cy="1929240"/>
            </a:xfrm>
            <a:custGeom>
              <a:avLst/>
              <a:gdLst>
                <a:gd name="textAreaLeft" fmla="*/ 59040 w 1209960"/>
                <a:gd name="textAreaRight" fmla="*/ 1150920 w 1209960"/>
                <a:gd name="textAreaTop" fmla="*/ 59040 h 1929240"/>
                <a:gd name="textAreaBottom" fmla="*/ 1870200 h 1929240"/>
              </a:gdLst>
              <a:ahLst/>
              <a:rect l="textAreaLeft" t="textAreaTop" r="textAreaRight" b="textAreaBottom"/>
              <a:pathLst>
                <a:path w="21600" h="34437">
                  <a:moveTo>
                    <a:pt x="3600" y="0"/>
                  </a:moveTo>
                  <a:arcTo wR="3600" hR="3600" stAng="16200000" swAng="-5400000"/>
                  <a:lnTo>
                    <a:pt x="0" y="30837"/>
                  </a:lnTo>
                  <a:arcTo wR="3600" hR="3600" stAng="10800000" swAng="-5400000"/>
                  <a:lnTo>
                    <a:pt x="18000" y="344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Э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дач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боле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легч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_s16392"/>
            <p:cNvSpPr/>
            <p:nvPr/>
          </p:nvSpPr>
          <p:spPr>
            <a:xfrm>
              <a:off x="6270840" y="4377960"/>
              <a:ext cx="1209960" cy="1929240"/>
            </a:xfrm>
            <a:custGeom>
              <a:avLst/>
              <a:gdLst>
                <a:gd name="textAreaLeft" fmla="*/ 59040 w 1209960"/>
                <a:gd name="textAreaRight" fmla="*/ 1150920 w 1209960"/>
                <a:gd name="textAreaTop" fmla="*/ 59040 h 1929240"/>
                <a:gd name="textAreaBottom" fmla="*/ 1870200 h 1929240"/>
              </a:gdLst>
              <a:ahLst/>
              <a:rect l="textAreaLeft" t="textAreaTop" r="textAreaRight" b="textAreaBottom"/>
              <a:pathLst>
                <a:path w="21600" h="34437">
                  <a:moveTo>
                    <a:pt x="3600" y="0"/>
                  </a:moveTo>
                  <a:arcTo wR="3600" hR="3600" stAng="16200000" swAng="-5400000"/>
                  <a:lnTo>
                    <a:pt x="0" y="30837"/>
                  </a:lnTo>
                  <a:arcTo wR="3600" hR="3600" stAng="10800000" swAng="-5400000"/>
                  <a:lnTo>
                    <a:pt x="18000" y="344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огласн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иказ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16393"/>
            <p:cNvSpPr/>
            <p:nvPr/>
          </p:nvSpPr>
          <p:spPr>
            <a:xfrm>
              <a:off x="7682760" y="4377960"/>
              <a:ext cx="1209960" cy="1929240"/>
            </a:xfrm>
            <a:custGeom>
              <a:avLst/>
              <a:gdLst>
                <a:gd name="textAreaLeft" fmla="*/ 59040 w 1209960"/>
                <a:gd name="textAreaRight" fmla="*/ 1150920 w 1209960"/>
                <a:gd name="textAreaTop" fmla="*/ 59040 h 1929240"/>
                <a:gd name="textAreaBottom" fmla="*/ 1870200 h 1929240"/>
              </a:gdLst>
              <a:ahLst/>
              <a:rect l="textAreaLeft" t="textAreaTop" r="textAreaRight" b="textAreaBottom"/>
              <a:pathLst>
                <a:path w="21600" h="34437">
                  <a:moveTo>
                    <a:pt x="3600" y="0"/>
                  </a:moveTo>
                  <a:arcTo wR="3600" hR="3600" stAng="16200000" swAng="-5400000"/>
                  <a:lnTo>
                    <a:pt x="0" y="30837"/>
                  </a:lnTo>
                  <a:arcTo wR="3600" hR="3600" stAng="10800000" swAng="-5400000"/>
                  <a:lnTo>
                    <a:pt x="18000" y="344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Я личн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 проти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8:55:29Z</dcterms:created>
  <dc:creator>User</dc:creator>
  <dc:description/>
  <dc:language>en-US</dc:language>
  <cp:lastModifiedBy>админ</cp:lastModifiedBy>
  <dcterms:modified xsi:type="dcterms:W3CDTF">2018-07-01T17:08:55Z</dcterms:modified>
  <cp:revision>17</cp:revision>
  <dc:subject/>
  <dc:title>Стимулирование творческой деятельности учащихся на уроках русского языка и литературы</dc:title>
</cp:coreProperties>
</file>