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6.wmf" ContentType="image/x-wmf"/>
  <Override PartName="/ppt/media/image7.png" ContentType="image/png"/>
  <Override PartName="/ppt/media/image4.png" ContentType="image/png"/>
  <Override PartName="/ppt/media/image8.jpeg" ContentType="image/jpeg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440B-B18B-40D9-B46F-AEC36EF6A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D655-ACBE-4D86-9D9F-2ED1C23BB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F3D0-07A5-4FA5-BFEE-A5878AADD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8CC5-F6CC-48CB-9731-223CB0311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910B-A318-42BD-B82D-345A85D8E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BB02-4545-4E29-961F-510256F96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26A0-972B-44D9-BB5F-C161EDD95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8B60-32E4-4E28-BA4A-5D1566EB2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C00E-4958-4736-9837-7492A64D3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CA2D-6A84-489B-B285-FDC8D5923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653F-B7E4-4046-8B29-031E7EA13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8426-309F-473D-A788-469712AC2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6006F-B912-44DB-879B-16B1156FD7D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5763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Узких А.Н.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700000" y="1267920"/>
            <a:ext cx="611964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Стимулирование               творческой  деятельности   учащихся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1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на уроках литературы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0920" y="2205000"/>
            <a:ext cx="2160360" cy="2776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 flipV="1">
            <a:off x="1908000" y="2205000"/>
            <a:ext cx="1727280" cy="1008000"/>
          </a:xfrm>
          <a:prstGeom prst="line">
            <a:avLst/>
          </a:prstGeom>
          <a:ln w="9360">
            <a:solidFill>
              <a:srgbClr val="ffe7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Поработаем корректором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!</a:t>
            </a: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4884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Исправьте ошиб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395280" y="2060640"/>
            <a:ext cx="8568720" cy="4536000"/>
            <a:chOff x="395280" y="2060640"/>
            <a:chExt cx="8568720" cy="4536000"/>
          </a:xfrm>
        </p:grpSpPr>
        <p:cxnSp>
          <p:nvCxnSpPr>
            <p:cNvPr id="80" name="_s18444"/>
            <p:cNvCxnSpPr>
              <a:stCxn id="81" idx="0"/>
              <a:endCxn id="82" idx="2"/>
            </p:cNvCxnSpPr>
            <p:nvPr/>
          </p:nvCxnSpPr>
          <p:spPr>
            <a:xfrm flipV="1" rot="16200000">
              <a:off x="5725080" y="2828520"/>
              <a:ext cx="907920" cy="2999880"/>
            </a:xfrm>
            <a:prstGeom prst="bentConnector3">
              <a:avLst>
                <a:gd name="adj1" fmla="val 20904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3" name="_s18443"/>
            <p:cNvCxnSpPr>
              <a:stCxn id="84" idx="0"/>
              <a:endCxn id="82" idx="2"/>
            </p:cNvCxnSpPr>
            <p:nvPr/>
          </p:nvCxnSpPr>
          <p:spPr>
            <a:xfrm flipV="1">
              <a:off x="4679280" y="3874680"/>
              <a:ext cx="3240" cy="9079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85" name="_s18442"/>
            <p:cNvCxnSpPr>
              <a:stCxn id="86" idx="0"/>
              <a:endCxn id="82" idx="2"/>
            </p:cNvCxnSpPr>
            <p:nvPr/>
          </p:nvCxnSpPr>
          <p:spPr>
            <a:xfrm flipH="1" flipV="1" rot="5400000">
              <a:off x="2725920" y="2828520"/>
              <a:ext cx="907920" cy="2999880"/>
            </a:xfrm>
            <a:prstGeom prst="bentConnector3">
              <a:avLst>
                <a:gd name="adj1" fmla="val 20904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82" name="_s18438"/>
            <p:cNvSpPr/>
            <p:nvPr/>
          </p:nvSpPr>
          <p:spPr>
            <a:xfrm>
              <a:off x="3394440" y="2060640"/>
              <a:ext cx="2570400" cy="1814400"/>
            </a:xfrm>
            <a:prstGeom prst="roundRect">
              <a:avLst>
                <a:gd name="adj" fmla="val 16667"/>
              </a:avLst>
            </a:prstGeom>
            <a:solidFill>
              <a:srgbClr val="ffe70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3366"/>
                  </a:solidFill>
                  <a:latin typeface="Arial"/>
                </a:rPr>
                <a:t>Сейчас завуч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900" spc="-1" strike="noStrike">
                  <a:solidFill>
                    <a:srgbClr val="003366"/>
                  </a:solidFill>
                  <a:latin typeface="Arial"/>
                </a:rPr>
                <a:t>подтвердил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en-US" sz="1900" spc="-1" strike="noStrike">
                  <a:solidFill>
                    <a:srgbClr val="003366"/>
                  </a:solidFill>
                  <a:latin typeface="Arial"/>
                </a:rPr>
                <a:t>о том,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3366"/>
                  </a:solidFill>
                  <a:latin typeface="Arial"/>
                </a:rPr>
                <a:t>что уроков 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3366"/>
                  </a:solidFill>
                  <a:latin typeface="Arial"/>
                </a:rPr>
                <a:t>не будет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_s18439"/>
            <p:cNvSpPr/>
            <p:nvPr/>
          </p:nvSpPr>
          <p:spPr>
            <a:xfrm>
              <a:off x="395280" y="4782240"/>
              <a:ext cx="2570400" cy="1814400"/>
            </a:xfrm>
            <a:prstGeom prst="roundRect">
              <a:avLst>
                <a:gd name="adj" fmla="val 16667"/>
              </a:avLst>
            </a:prstGeom>
            <a:solidFill>
              <a:srgbClr val="ffe70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3366"/>
                  </a:solidFill>
                  <a:latin typeface="Arial"/>
                </a:rPr>
                <a:t>Мцыри, увидев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3366"/>
                  </a:solidFill>
                  <a:latin typeface="Arial"/>
                </a:rPr>
                <a:t>монастырь,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3366"/>
                  </a:solidFill>
                  <a:latin typeface="Arial"/>
                </a:rPr>
                <a:t>упал без памяти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_s18440"/>
            <p:cNvSpPr/>
            <p:nvPr/>
          </p:nvSpPr>
          <p:spPr>
            <a:xfrm>
              <a:off x="3394440" y="4782240"/>
              <a:ext cx="2570400" cy="1814400"/>
            </a:xfrm>
            <a:prstGeom prst="roundRect">
              <a:avLst>
                <a:gd name="adj" fmla="val 16667"/>
              </a:avLst>
            </a:prstGeom>
            <a:solidFill>
              <a:srgbClr val="ffe70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3366"/>
                  </a:solidFill>
                  <a:latin typeface="Arial"/>
                </a:rPr>
                <a:t>Из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66"/>
                  </a:solidFill>
                  <a:latin typeface="Arial"/>
                </a:rPr>
                <a:t>объявлен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003366"/>
                  </a:solidFill>
                  <a:latin typeface="Arial"/>
                </a:rPr>
                <a:t>Продаётся навоз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900" spc="-1" strike="noStrike">
                  <a:solidFill>
                    <a:srgbClr val="003366"/>
                  </a:solidFill>
                  <a:latin typeface="Arial"/>
                </a:rPr>
                <a:t>говяжий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_s18441"/>
            <p:cNvSpPr/>
            <p:nvPr/>
          </p:nvSpPr>
          <p:spPr>
            <a:xfrm>
              <a:off x="6393600" y="4782240"/>
              <a:ext cx="2570400" cy="1814400"/>
            </a:xfrm>
            <a:prstGeom prst="roundRect">
              <a:avLst>
                <a:gd name="adj" fmla="val 16667"/>
              </a:avLst>
            </a:prstGeom>
            <a:solidFill>
              <a:srgbClr val="ffe701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3366"/>
                  </a:solidFill>
                  <a:latin typeface="Arial"/>
                </a:rPr>
                <a:t>У нас в столовой 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3366"/>
                  </a:solidFill>
                  <a:latin typeface="Arial"/>
                </a:rPr>
                <a:t>Самообслу-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3366"/>
                  </a:solidFill>
                  <a:latin typeface="Arial"/>
                </a:rPr>
                <a:t>живание: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3366"/>
                  </a:solidFill>
                  <a:latin typeface="Arial"/>
                </a:rPr>
                <a:t>покушал – убирайся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900" spc="-1" strike="noStrike">
                  <a:solidFill>
                    <a:srgbClr val="003366"/>
                  </a:solidFill>
                  <a:latin typeface="Arial"/>
                </a:rPr>
                <a:t> </a:t>
              </a:r>
              <a:r>
                <a:rPr b="1" lang="ru-RU" sz="1900" spc="-1" strike="noStrike">
                  <a:solidFill>
                    <a:srgbClr val="003366"/>
                  </a:solidFill>
                  <a:latin typeface="Arial"/>
                </a:rPr>
                <a:t>сам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Постановка проблемы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дин из приёмов, стимулирующих развитие творческих способностей, - постановка проблемы. В ходе решения проблемных заданий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одвожу учащихся к противоречию и предлагаю найти способ реш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редлагаю сделать сравнения, обобщения, вывод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тавлю конкретные вопросы на обоснование, логику рассужд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даю исследовательские задания по текст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обуждаю детей думать, творить, искать пути реш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Выводы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713800" cy="5400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 каким же выводам я пришла в ходе поиска приёмов стимулирования творческих способностей учащихс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Чтобы научить детей думать, открывать, учитель сам должен многое придумывать, апробировать, изобретать, быть человеком увлечённы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Только в результате систематической работы у учеников появится интерес  к творчеству, только тогда они будут стремиться открывать ново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Выводы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b000"/>
                </a:solidFill>
                <a:latin typeface="Arial"/>
              </a:rPr>
              <a:t>          </a:t>
            </a:r>
            <a:r>
              <a:rPr b="1" i="1" lang="en-US" sz="3600" spc="-1" strike="noStrike">
                <a:solidFill>
                  <a:srgbClr val="ccffff"/>
                </a:solidFill>
                <a:latin typeface="Arial"/>
              </a:rPr>
              <a:t>Русский язык и литература дают большие возможности для развития творческой личности. Результатом работы в этой области является участие моих детей в городских, Всероссийских и Международных конкурсах, их побед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16360" y="5805360"/>
            <a:ext cx="5759280" cy="719280"/>
          </a:xfrm>
          <a:prstGeom prst="rect">
            <a:avLst/>
          </a:prstGeom>
          <a:solidFill>
            <a:srgbClr val="cc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Показываю папк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с наградным материалом учащихся)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8569440" cy="59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31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71380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Творческую деятельность своих учеников  реализую с помощью следующих видов деятельности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ланирую и осуществляю деятельный подход при организации  познавательного процесс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оздаю ситуации конкретных видов деятель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Формирую собственное мнение, учу его высказывать, аргументирова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оздаю условия для проявления индивидуально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Не скуплюсь на похвалу, отмечаю наиболее яркие и интересные работы и отве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Приёмы, развивающие творческое мышление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4358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 системе развивать и активизировать творческое мышление мне помогают основные приёмы, развивающие воображение и внимание к слову. Среди них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облемное изложение  теоретического материал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амостоятельные наблюд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 ходе работы с текст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ецензирование выполненных рабо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ообщения учащих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стные высказывания различного характе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етод </a:t>
            </a: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«мозговой атаки».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hello_html_67fce796.png"/>
          <p:cNvPicPr/>
          <p:nvPr/>
        </p:nvPicPr>
        <p:blipFill>
          <a:blip r:embed="rId1"/>
          <a:stretch/>
        </p:blipFill>
        <p:spPr>
          <a:xfrm>
            <a:off x="7236000" y="2924280"/>
            <a:ext cx="152388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Виды письменных работ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5690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ffe701"/>
                </a:solidFill>
                <a:latin typeface="Arial"/>
              </a:rPr>
              <a:t>Стимулируют творчество учащихся и виды письменных работ, выполнение разноуровневых заданий по русскому языку и литературе. Среди них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Ответ на проблемный вопро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Составление пла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Поиск в тексте цитат, подтверждающи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акую – либо мысл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Составление викторины, плана ответа, стать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Творческие работы( сочинение п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анному началу, по опорным словам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- Сопоставление разных редакций текст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020000" y="2637000"/>
            <a:ext cx="184284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648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Примеры с уроков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3640" y="1197000"/>
            <a:ext cx="8373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 программных произведениях я пытаюсь найти ключевые выражения, которые могут подтолкнуть учеников  к рассуждению, вызвать работу мысли и чувств. Например, при изучении «Мцыри» обращаю внимание на строк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«…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а душу можно ль рассказать?»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 прошу ребят написать миниатюру на эту тему. Результаты разные, но интересны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ли ещё одна тем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e701"/>
                </a:solidFill>
                <a:latin typeface="Arial"/>
              </a:rPr>
              <a:t>«…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для воли иль тюрьм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на этот свет родимся мы?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164360" y="5013360"/>
            <a:ext cx="1440000" cy="116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189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Примеры с уроков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4000" y="1052280"/>
            <a:ext cx="864072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В ходе изучения повести Пушкина «Капитанская дочка» апробировала следующие задания, связанные с проблемными вопросам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- Если бы Пугачёв не помог Гринёв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освободить Машу Миронову из заточения Швабрина, смог ли сам герой освободить свою возлюбленную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- Как сложилась бы дальнейшая судьба героев? Додумайте за автор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5346720"/>
            <a:ext cx="8064720" cy="1106640"/>
          </a:xfrm>
          <a:prstGeom prst="rect">
            <a:avLst/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Демонстрация материалов из папки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a50021"/>
                </a:solidFill>
                <a:uFillTx/>
                <a:latin typeface="Arial"/>
              </a:rPr>
              <a:t>« Индивидуальные  задания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a50021"/>
                </a:solidFill>
                <a:uFillTx/>
                <a:latin typeface="Arial"/>
              </a:rPr>
              <a:t>для учащихся  на уроках литературы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4" descr="j0232104"/>
          <p:cNvPicPr/>
          <p:nvPr/>
        </p:nvPicPr>
        <p:blipFill>
          <a:blip r:embed="rId1"/>
          <a:stretch/>
        </p:blipFill>
        <p:spPr>
          <a:xfrm>
            <a:off x="7885080" y="1700280"/>
            <a:ext cx="93492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Примеры с уроков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4000" y="1268280"/>
            <a:ext cx="8580240" cy="53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ри изучении комеди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Гоголя «Ревизор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редложила  восьмиклассникам написать творческую работу на одну из тем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- Чем может быть интересна современному читателю комедия «Ревизор»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- Что произойдёт в городе после приезда настоящего ревизора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4" descr="j0232104"/>
          <p:cNvPicPr/>
          <p:nvPr/>
        </p:nvPicPr>
        <p:blipFill>
          <a:blip r:embed="rId1"/>
          <a:stretch/>
        </p:blipFill>
        <p:spPr>
          <a:xfrm>
            <a:off x="7380360" y="907920"/>
            <a:ext cx="129384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Создание мотивации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653320" cy="54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 процессе развития творческих способностей  стараюсь создать мотивацию самостоятельной деятельности: устные выступления комментирую: </a:t>
            </a:r>
            <a:r>
              <a:rPr b="1" i="1" lang="en-US" sz="3200" spc="-1" strike="noStrike">
                <a:solidFill>
                  <a:srgbClr val="ffff00"/>
                </a:solidFill>
                <a:latin typeface="Arial"/>
              </a:rPr>
              <a:t>«Молодец!», «Умница!», «Замечательно!», «Достойно похвалы!»,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а в письменных работах делаю пометки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!!!.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Неудачные приёмы речевого оформления не просто подчёркиваю, а исправляю и показываю, как должно звучать предложе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5" descr="MCj04382530000[1]"/>
          <p:cNvPicPr/>
          <p:nvPr/>
        </p:nvPicPr>
        <p:blipFill>
          <a:blip r:embed="rId1"/>
          <a:stretch/>
        </p:blipFill>
        <p:spPr>
          <a:xfrm>
            <a:off x="7570800" y="5300640"/>
            <a:ext cx="1243080" cy="1297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7704000" y="1351080"/>
            <a:ext cx="126072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000" spc="-1" strike="noStrike">
                <a:solidFill>
                  <a:srgbClr val="ff0000"/>
                </a:solidFill>
                <a:latin typeface="Arial"/>
              </a:rPr>
              <a:t>Поработаем корректором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!</a:t>
            </a: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4244760" cy="4781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учить правильно выражать свои мысли в устной и письменной форме помогают задания</a:t>
            </a:r>
            <a:r>
              <a:rPr b="1" lang="ru-RU" sz="3200" spc="-1" strike="noStrike">
                <a:solidFill>
                  <a:srgbClr val="00b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«Поработаем корректором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!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4859280" y="1484280"/>
            <a:ext cx="4033440" cy="4822920"/>
            <a:chOff x="4859280" y="1484280"/>
            <a:chExt cx="4033440" cy="4822920"/>
          </a:xfrm>
        </p:grpSpPr>
        <p:cxnSp>
          <p:nvCxnSpPr>
            <p:cNvPr id="70" name="_s16396"/>
            <p:cNvCxnSpPr>
              <a:stCxn id="71" idx="0"/>
              <a:endCxn id="72" idx="2"/>
            </p:cNvCxnSpPr>
            <p:nvPr/>
          </p:nvCxnSpPr>
          <p:spPr>
            <a:xfrm flipV="1" rot="16200000">
              <a:off x="7098840" y="3189240"/>
              <a:ext cx="965160" cy="1412280"/>
            </a:xfrm>
            <a:prstGeom prst="bentConnector3">
              <a:avLst>
                <a:gd name="adj1" fmla="val 20895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3" name="_s16395"/>
            <p:cNvCxnSpPr>
              <a:stCxn id="74" idx="0"/>
              <a:endCxn id="72" idx="2"/>
            </p:cNvCxnSpPr>
            <p:nvPr/>
          </p:nvCxnSpPr>
          <p:spPr>
            <a:xfrm flipV="1">
              <a:off x="6875640" y="3412800"/>
              <a:ext cx="1800" cy="965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5" name="_s16394"/>
            <p:cNvCxnSpPr>
              <a:stCxn id="76" idx="0"/>
              <a:endCxn id="72" idx="2"/>
            </p:cNvCxnSpPr>
            <p:nvPr/>
          </p:nvCxnSpPr>
          <p:spPr>
            <a:xfrm flipH="1" flipV="1" rot="5400000">
              <a:off x="5687280" y="3189240"/>
              <a:ext cx="965160" cy="1412280"/>
            </a:xfrm>
            <a:prstGeom prst="bentConnector3">
              <a:avLst>
                <a:gd name="adj1" fmla="val 20895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72" name="_s16390"/>
            <p:cNvSpPr/>
            <p:nvPr/>
          </p:nvSpPr>
          <p:spPr>
            <a:xfrm>
              <a:off x="6270840" y="1484280"/>
              <a:ext cx="1209960" cy="1929240"/>
            </a:xfrm>
            <a:custGeom>
              <a:avLst/>
              <a:gdLst>
                <a:gd name="textAreaLeft" fmla="*/ 59040 w 1209960"/>
                <a:gd name="textAreaRight" fmla="*/ 1150920 w 1209960"/>
                <a:gd name="textAreaTop" fmla="*/ 59040 h 1929240"/>
                <a:gd name="textAreaBottom" fmla="*/ 1870200 h 1929240"/>
              </a:gdLst>
              <a:ahLst/>
              <a:rect l="textAreaLeft" t="textAreaTop" r="textAreaRight" b="textAreaBottom"/>
              <a:pathLst>
                <a:path w="21600" h="34437">
                  <a:moveTo>
                    <a:pt x="3600" y="0"/>
                  </a:moveTo>
                  <a:arcTo wR="3600" hR="3600" stAng="16200000" swAng="-5400000"/>
                  <a:lnTo>
                    <a:pt x="0" y="30837"/>
                  </a:lnTo>
                  <a:arcTo wR="3600" hR="3600" stAng="10800000" swAng="-5400000"/>
                  <a:lnTo>
                    <a:pt x="18000" y="344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Исправьт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ошибки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!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_s16391"/>
            <p:cNvSpPr/>
            <p:nvPr/>
          </p:nvSpPr>
          <p:spPr>
            <a:xfrm>
              <a:off x="4859280" y="4377960"/>
              <a:ext cx="1209960" cy="1929240"/>
            </a:xfrm>
            <a:custGeom>
              <a:avLst/>
              <a:gdLst>
                <a:gd name="textAreaLeft" fmla="*/ 59040 w 1209960"/>
                <a:gd name="textAreaRight" fmla="*/ 1150920 w 1209960"/>
                <a:gd name="textAreaTop" fmla="*/ 59040 h 1929240"/>
                <a:gd name="textAreaBottom" fmla="*/ 1870200 h 1929240"/>
              </a:gdLst>
              <a:ahLst/>
              <a:rect l="textAreaLeft" t="textAreaTop" r="textAreaRight" b="textAreaBottom"/>
              <a:pathLst>
                <a:path w="21600" h="34437">
                  <a:moveTo>
                    <a:pt x="3600" y="0"/>
                  </a:moveTo>
                  <a:arcTo wR="3600" hR="3600" stAng="16200000" swAng="-5400000"/>
                  <a:lnTo>
                    <a:pt x="0" y="30837"/>
                  </a:lnTo>
                  <a:arcTo wR="3600" hR="3600" stAng="10800000" swAng="-5400000"/>
                  <a:lnTo>
                    <a:pt x="18000" y="344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Эт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задач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боле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легч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_s16392"/>
            <p:cNvSpPr/>
            <p:nvPr/>
          </p:nvSpPr>
          <p:spPr>
            <a:xfrm>
              <a:off x="6270840" y="4377960"/>
              <a:ext cx="1209960" cy="1929240"/>
            </a:xfrm>
            <a:custGeom>
              <a:avLst/>
              <a:gdLst>
                <a:gd name="textAreaLeft" fmla="*/ 59040 w 1209960"/>
                <a:gd name="textAreaRight" fmla="*/ 1150920 w 1209960"/>
                <a:gd name="textAreaTop" fmla="*/ 59040 h 1929240"/>
                <a:gd name="textAreaBottom" fmla="*/ 1870200 h 1929240"/>
              </a:gdLst>
              <a:ahLst/>
              <a:rect l="textAreaLeft" t="textAreaTop" r="textAreaRight" b="textAreaBottom"/>
              <a:pathLst>
                <a:path w="21600" h="34437">
                  <a:moveTo>
                    <a:pt x="3600" y="0"/>
                  </a:moveTo>
                  <a:arcTo wR="3600" hR="3600" stAng="16200000" swAng="-5400000"/>
                  <a:lnTo>
                    <a:pt x="0" y="30837"/>
                  </a:lnTo>
                  <a:arcTo wR="3600" hR="3600" stAng="10800000" swAng="-5400000"/>
                  <a:lnTo>
                    <a:pt x="18000" y="344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Согласно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приказ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_s16393"/>
            <p:cNvSpPr/>
            <p:nvPr/>
          </p:nvSpPr>
          <p:spPr>
            <a:xfrm>
              <a:off x="7682760" y="4377960"/>
              <a:ext cx="1209960" cy="1929240"/>
            </a:xfrm>
            <a:custGeom>
              <a:avLst/>
              <a:gdLst>
                <a:gd name="textAreaLeft" fmla="*/ 59040 w 1209960"/>
                <a:gd name="textAreaRight" fmla="*/ 1150920 w 1209960"/>
                <a:gd name="textAreaTop" fmla="*/ 59040 h 1929240"/>
                <a:gd name="textAreaBottom" fmla="*/ 1870200 h 1929240"/>
              </a:gdLst>
              <a:ahLst/>
              <a:rect l="textAreaLeft" t="textAreaTop" r="textAreaRight" b="textAreaBottom"/>
              <a:pathLst>
                <a:path w="21600" h="34437">
                  <a:moveTo>
                    <a:pt x="3600" y="0"/>
                  </a:moveTo>
                  <a:arcTo wR="3600" hR="3600" stAng="16200000" swAng="-5400000"/>
                  <a:lnTo>
                    <a:pt x="0" y="30837"/>
                  </a:lnTo>
                  <a:arcTo wR="3600" hR="3600" stAng="10800000" swAng="-5400000"/>
                  <a:lnTo>
                    <a:pt x="18000" y="344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Я лично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не проти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3T08:55:29Z</dcterms:created>
  <dc:creator>User</dc:creator>
  <dc:description/>
  <dc:language>en-US</dc:language>
  <cp:lastModifiedBy>админ</cp:lastModifiedBy>
  <dcterms:modified xsi:type="dcterms:W3CDTF">2018-07-01T17:08:55Z</dcterms:modified>
  <cp:revision>17</cp:revision>
  <dc:subject/>
  <dc:title>Стимулирование творческой деятельности учащихся на уроках русского языка и литературы</dc:title>
</cp:coreProperties>
</file>