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3606-5185-40D0-B0CE-0D47043C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4CF-AF16-4203-A562-C007C165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6E7-351B-4711-96ED-2B0EAE96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2D9-F7F9-4A32-B074-B94A35FA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8B68-E22D-490E-A964-49A6E634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068D-7212-44F0-9296-3E8C533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BC92-CE66-4628-AF92-2D95D29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4EA-8FB7-4795-842A-9491D6E0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7FD3-C327-4724-9E41-5C2D247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115C-F123-46CF-9A05-07E42153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C85D-861D-40B6-8C73-814F06A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799-B3F7-4902-8792-63F7013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FA1-04A8-47F5-88BE-8A5EE06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6229-F60D-41D6-8025-248EA7BB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065F-663E-4674-BB96-C30F7762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F242-3E19-42CD-86FE-CFC7757C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0857-4B35-43E1-B5F5-D3A2E1ED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39DB-54B2-406E-AF0E-A8018E64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3CA-0E06-4B06-B1BA-BFEDB3D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3EF-4BEE-40A6-B28F-3F7E1221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FEC-404D-4EAE-969C-BB6492F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692-8FBB-4D6A-90A8-C7BA190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6E5-1754-4D8A-91F0-6C5B754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97E-B30F-482D-8EE5-5813988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784-F7E5-42DC-AFAE-929F845A32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2CF-7928-4696-8F2D-883FB87AC0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54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Технология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проблемно – диалогического обучения   на уроках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литературы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Фрагменты с уро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79280" y="248040"/>
            <a:ext cx="8856720" cy="763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Я ПРОБЛЕМНО- ДИАЛОГИЧЕСКОГО ОБУЧЕНИЯ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«</a:t>
            </a:r>
            <a:r>
              <a:rPr b="1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981000"/>
          <a:ext cx="9144000" cy="8142480"/>
        </p:xfrm>
        <a:graphic>
          <a:graphicData uri="http://schemas.openxmlformats.org/drawingml/2006/table">
            <a:tbl>
              <a:tblPr/>
              <a:tblGrid>
                <a:gridCol w="1979640"/>
                <a:gridCol w="4824360"/>
                <a:gridCol w="234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аз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Результа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72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остановка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иск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ыражение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новение проблем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етоды постановки учебной проблем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побуждающий от проблемной ситуации диалог; подводящий к теме диалог; сообщение темы с мотивирующими приемами «яркое пятно» и «актуальность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знание противореч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пробл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ы поиска решения: побуждающий к выдвижению и проверке гипотез диалог, подводящий к знанию диал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ивные задания на воспроизведение зн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нового знания научным языком в принят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 – новое знание и формирование ключевых компетент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16112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Технология постановки учебной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ебная проблема существу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двух основных формах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1) как тема урок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2) как не совпадающий с темой урока вопрос, ответом на который является новое зн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едовательно, поставить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ебную  проблему – значи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мочь   ученикам сам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формулировать тему ур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7416720" cy="1600200"/>
          </a:xfrm>
          <a:prstGeom prst="rect">
            <a:avLst/>
          </a:prstGeom>
          <a:solidFill>
            <a:srgbClr val="bff3f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Три основных метода постановки учебной пробл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Побуждающий от проблемной ситуации диало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Подводящий к теме диа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Сообщение тем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 мотивирующим приё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06320" y="165240"/>
            <a:ext cx="6810480" cy="1514160"/>
          </a:xfrm>
          <a:prstGeom prst="rect">
            <a:avLst/>
          </a:prstGeom>
          <a:solidFill>
            <a:srgbClr val="bff3f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равнение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 традиционны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блемно-диалогическое обучение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ип обучения, обеспечивающий творческое усвоение знаний учащимися посредством диалога  с учителем.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Традиционное обучени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– это тип обучения, обеспечивающий репродуктивное усвоение знаний, умений и навы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51920"/>
            <a:ext cx="7705800" cy="1189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П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ри</a:t>
            </a: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ё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мы создания </a:t>
            </a:r>
            <a:br>
              <a:rPr sz="3800"/>
            </a:b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проблемной</a:t>
            </a:r>
            <a:r>
              <a:rPr b="1" lang="ru-RU" sz="3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3399"/>
                </a:solidFill>
                <a:latin typeface="Times New Roman"/>
              </a:rPr>
              <a:t>ситуации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ое излож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ая демонстр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слительный проблемный эксперимен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ровая проблемная ситуац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ктическое задание на «ошибку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38"/>
              </a:spcBef>
              <a:buClr>
                <a:srgbClr val="000099"/>
              </a:buClr>
              <a:buSzPct val="1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облемный вопрос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2133720"/>
            <a:ext cx="2592360" cy="129528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ёткая форму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/>
          <p:nvPr/>
        </p:nvCxnSpPr>
        <p:spPr>
          <a:xfrm flipH="1" flipV="1">
            <a:off x="1751760" y="2991600"/>
            <a:ext cx="616680" cy="12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2410920" y="3357360"/>
            <a:ext cx="984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>
            <a:off x="3576240" y="3088800"/>
            <a:ext cx="670680" cy="13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86" idx="0"/>
          </p:cNvCxnSpPr>
          <p:nvPr/>
        </p:nvCxnSpPr>
        <p:spPr>
          <a:xfrm flipH="1">
            <a:off x="4571640" y="1699920"/>
            <a:ext cx="110160" cy="281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5651640" y="3284640"/>
            <a:ext cx="807120" cy="104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250920" y="1773360"/>
            <a:ext cx="3025800" cy="1800000"/>
          </a:xfrm>
          <a:prstGeom prst="ellipse">
            <a:avLst/>
          </a:prstGeom>
          <a:gradFill rotWithShape="0">
            <a:gsLst>
              <a:gs pos="0">
                <a:srgbClr val="64673d"/>
              </a:gs>
              <a:gs pos="50000">
                <a:srgbClr val="dae185"/>
              </a:gs>
              <a:gs pos="100000">
                <a:srgbClr val="6467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уп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005360"/>
            <a:ext cx="3095640" cy="1728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ильно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700280"/>
            <a:ext cx="3097440" cy="1800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508640"/>
            <a:ext cx="2590560" cy="136836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интересова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4292640"/>
            <a:ext cx="3276720" cy="1512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е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2472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84360" y="278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27813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115920"/>
            <a:ext cx="8424720" cy="1252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авила,  которые  необходимо соблюд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 проблемно- диалогическом  обучени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161120" cy="12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Формы организации учебной дея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Фронтальн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водитс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 актуализации знаний,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торые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являю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ся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опор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для изучения нового материа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Группов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пособн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ыработать продуктивное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решение,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необходимое для понимания темы; высказать точку зрения на языковое явление, обосновать её; обеспечить долевое участие в решении вопроса, требующе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ольшого количества времени уро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Индивидуальная рабо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рганизу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 учётом уровня обученности детей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3399"/>
              </a:buClr>
              <a:buSzPct val="1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озможностей, интерес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Примеры заданий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052640"/>
            <a:ext cx="8856720" cy="544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Проверяю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умение отбирать источники информации, необходимые для решения задач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предели значение сло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тчиз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Воспользуйся  книгами на выбор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рфографический словарь.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Этимологически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Л. Успенски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о о слов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ковы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стория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ообразовательный словар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ловарь синоним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М. Лермонт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од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 каких из них ты можешь найти нужные сведения?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Заполни таблицу, расставив номера кни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4832280"/>
          <a:ext cx="8569080" cy="1887480"/>
        </p:xfrm>
        <a:graphic>
          <a:graphicData uri="http://schemas.openxmlformats.org/drawingml/2006/table">
            <a:tbl>
              <a:tblPr/>
              <a:tblGrid>
                <a:gridCol w="3024000"/>
                <a:gridCol w="2303640"/>
                <a:gridCol w="3241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ниги, в которых 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йду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ужно посмотреть 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ниги, в которых, возможно,  не найду нужные свед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4360" y="1197000"/>
            <a:ext cx="7777080" cy="2668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Загадки А.С. Пушкина в пове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«Капитанская до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602136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 Unicode MS"/>
              </a:rPr>
              <a:t>Урок литературы. 8 кла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96012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акие сцены, эпизоды повести запомнились вам больше всего, представляются особенно ярки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) Изменилось ли ваше отношение к героям повести после разбора произведения или осталось тем же? Если изменилось, то в ч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) Сформулируйте основную тему произведения. Какие проблемы затрагивает                                             Пушкин в пове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овременное образование в России перешло на Федеральный государственный образовательный стандарт второго поколения (ФГОС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еняются цели и содержание образования, появляются новые средства и технологии обучения, но при всём многообразии – урок остаётся   главной формой организации учебного процесса. И для того чтобы реализовать требования, предъявляемые Стандартами, урок должен стать новым, современным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818280"/>
            <a:ext cx="4608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4) Почему Пушкин именно Гринёва делает повествовател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) Как вы понимаете эпиграф к повести? Что имел в виду поэт, когда говорил о чести? Только ли верность воинской присяге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9375" t="0" r="20997" b="20375"/>
          <a:stretch/>
        </p:blipFill>
        <p:spPr>
          <a:xfrm>
            <a:off x="4994280" y="1700280"/>
            <a:ext cx="3416400" cy="353376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Сопостав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8640" y="18651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Шваб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4680" y="306864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д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5480" y="131616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46440" y="239544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6920" y="340344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столюб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3080" y="21798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лабость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71120" y="275580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рус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45640" y="40514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хит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1603440"/>
            <a:ext cx="27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зворот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52080" y="33559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981000"/>
            <a:ext cx="14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Гри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96000" y="10270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печатл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440" y="314172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Пугач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8360" y="450864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549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храб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ш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12320" y="4689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69640" y="587700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58165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к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0600" y="390852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особность люб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692280"/>
            <a:ext cx="167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ямоду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45813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жесто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5084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еликоду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880" y="421956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е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94640" y="623736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добр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44200" y="642636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вспыль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61657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дино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14760" y="5276880"/>
            <a:ext cx="17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35320" y="3979800"/>
            <a:ext cx="20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благода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563580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лас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08000" y="836640"/>
          <a:ext cx="8856720" cy="6203880"/>
        </p:xfrm>
        <a:graphic>
          <a:graphicData uri="http://schemas.openxmlformats.org/drawingml/2006/table">
            <a:tbl>
              <a:tblPr/>
              <a:tblGrid>
                <a:gridCol w="2881080"/>
                <a:gridCol w="3130200"/>
                <a:gridCol w="2845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Шваб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Грин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Comic Sans MS"/>
                          <a:ea typeface="Times New Roman"/>
                        </a:rPr>
                        <a:t>Пугач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д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печатлитель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есто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атель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ме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ликодуш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жесто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рабр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мел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ластолюб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решитель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обро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лабость д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едан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спыльчив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рус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ер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ч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тр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скрен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ласт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зворотлив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пособность люб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милосерд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диночест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ямодуш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лагодарн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826920" y="189000"/>
            <a:ext cx="77774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Проверь 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788000" y="1127160"/>
            <a:ext cx="381636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31720"/>
            <a:ext cx="9144000" cy="38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6) Почему Швабрин вызывает наше презрение? Есть 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в его характере хотя бы одно «светлое пятнышко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7) Каких душевных качеств, в отличие от Грине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лишен Швабр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8) Жаль вам Швабрина или н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9) В литературоведении высказана мысль о том, что причиной измены Швабрина стала его страстная любовь к Маше Мироновой, нежелание «уступить» её Гриневу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Согласны ли вы с этой мыслью? Свой ответ обоснуйте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083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9280" y="200232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2) Что увлекает нас в истории любви Маши и Грин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33336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rcRect l="2717" t="6057" r="2717" b="1817"/>
          <a:stretch/>
        </p:blipFill>
        <p:spPr>
          <a:xfrm>
            <a:off x="5076720" y="981000"/>
            <a:ext cx="3784680" cy="5521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43280" y="522720"/>
            <a:ext cx="4500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3) Некоторые литературоведы видят в образе Маши Мироновой сходство с женами декабристов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Есть ли между ними что–то общее, на ваш взгля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4) Почему повесть, главными героями которой являются Гринев и Пугачев, названа “Капитанская дочка”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(В чем Маша Миронова проявила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 Unicode MS"/>
              </a:rPr>
              <a:t>как подлинная дочь своего отца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189000"/>
            <a:ext cx="7777440" cy="550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 Unicode MS"/>
              </a:rPr>
              <a:t>Подумай и ответ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rcRect l="0" t="0" r="26247" b="20375"/>
          <a:stretch/>
        </p:blipFill>
        <p:spPr>
          <a:xfrm>
            <a:off x="250920" y="785880"/>
            <a:ext cx="4249800" cy="236376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rcRect l="10499" t="0" r="26247" b="20375"/>
          <a:stretch/>
        </p:blipFill>
        <p:spPr>
          <a:xfrm>
            <a:off x="250920" y="3716280"/>
            <a:ext cx="3960720" cy="24703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0920" y="16272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Arial"/>
                <a:ea typeface="Arial Unicode MS"/>
              </a:rPr>
              <a:t>Загадки романа – это загадки жизни, которую А.С. Пушкин учит нас видеть и понимать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404640"/>
            <a:ext cx="7920000" cy="825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 Unicode MS"/>
              </a:rPr>
              <a:t>Выв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218440" cy="1655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ак вы думаете, что главн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в повести «Ася» ?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Сформулируйте её тему.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7" descr="16446044_DSC00703"/>
          <p:cNvPicPr/>
          <p:nvPr/>
        </p:nvPicPr>
        <p:blipFill>
          <a:blip r:embed="rId1"/>
          <a:stretch/>
        </p:blipFill>
        <p:spPr>
          <a:xfrm>
            <a:off x="250920" y="2179800"/>
            <a:ext cx="2749320" cy="4678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1220385528"/>
          <p:cNvPicPr/>
          <p:nvPr/>
        </p:nvPicPr>
        <p:blipFill>
          <a:blip r:embed="rId2"/>
          <a:stretch/>
        </p:blipFill>
        <p:spPr>
          <a:xfrm>
            <a:off x="4572000" y="1841400"/>
            <a:ext cx="3708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1611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сё в этом произведении о ЛЮБВИ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сячи страниц мировой литературы посвящены этой теме. Почему? Да потому, чт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ЛЮБОВЬ – самое загадочное чувств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икто не сможет дать полного исчерпывающего ответа на вопрос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Что такое ЛЮБОВЬ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еханизм любви ещё до конца не изучен. Каждый из писателей, поэтов по – своему раскрывает эту те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 – своему раскрывает её и Тургене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акое первая любовь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справиться с сердечной болезнью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пережить страдания отвергнутой любв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23240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ПСИХОЛОГИЧЕСКАЯ ЗАГАД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09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ин из исследователей творчества Тургенева  П. Анненков утверждает, что все повести и рассказы Тургенева объединяет одна черта –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ПСИХОЛОГИЧЕСКАЯ ЗАГАД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ходе изучения повести нам и предстоит разгадать эту загадку, выяснить, как автор раскрывает душевные переживания героев: НН и Ас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Любовь – тайн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И чтобы разгадать эту тайну, нужно проследить за поведением героев и их переживаниям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8804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с учётом современных требова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 подготовить и провести урок, учитывая новые требования ФГОС и современные инновации? Перед современным учителем в условиях внедрения новых образовательных стандартов стоит задача использовать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роблемно-диалогическое обучение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еализация этого подхода на уроке заставляет учителя перестроить свою деятельность, уйти от привычного объяснения и предоставить обучающимся самостоятельно, в определенной последовательности открыть для себя новые знания. Именно ученики являются главными “действующими героями” на урок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549360"/>
            <a:ext cx="6102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расива ли Ас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tur"/>
          <p:cNvPicPr/>
          <p:nvPr/>
        </p:nvPicPr>
        <p:blipFill>
          <a:blip r:embed="rId1"/>
          <a:stretch/>
        </p:blipFill>
        <p:spPr>
          <a:xfrm>
            <a:off x="7093080" y="2133720"/>
            <a:ext cx="1582560" cy="3300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1147997970"/>
          <p:cNvPicPr/>
          <p:nvPr/>
        </p:nvPicPr>
        <p:blipFill>
          <a:blip r:embed="rId2"/>
          <a:stretch/>
        </p:blipFill>
        <p:spPr>
          <a:xfrm>
            <a:off x="755640" y="2133720"/>
            <a:ext cx="1530360" cy="1830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650411089"/>
          <p:cNvPicPr/>
          <p:nvPr/>
        </p:nvPicPr>
        <p:blipFill>
          <a:blip r:embed="rId3"/>
          <a:stretch/>
        </p:blipFill>
        <p:spPr>
          <a:xfrm rot="21135000">
            <a:off x="3708000" y="2781000"/>
            <a:ext cx="2087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7561440" cy="1116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Красота не является главной чертой «тургеневской дев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0578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шняя красота не является главной чертой «тургеневской девушки» ни в одном из произведений писателя. В облике своих героинь автору важны личностное обаяние, грация, человеческая неповторимость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Именно такова А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10" descr="1147997970"/>
          <p:cNvPicPr/>
          <p:nvPr/>
        </p:nvPicPr>
        <p:blipFill>
          <a:blip r:embed="rId1"/>
          <a:stretch/>
        </p:blipFill>
        <p:spPr>
          <a:xfrm>
            <a:off x="6300720" y="4797360"/>
            <a:ext cx="153036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1" lang="ru-RU" sz="2700" spc="-1" strike="noStrike">
                <a:solidFill>
                  <a:srgbClr val="000099"/>
                </a:solidFill>
                <a:latin typeface="Comic Sans MS"/>
              </a:rPr>
              <a:t>глава.</a:t>
            </a:r>
            <a:r>
              <a:rPr b="0" lang="ru-RU" sz="19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19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очему герой повести назвал лицо Аси изменчивы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713800" cy="484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…Я тут в первый раз хорошенько  рассмотрел её лицо, самое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зменчивое</a:t>
            </a: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лицо, какое я только видел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…бросила на меня быстрый и пронзительный взгля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…вдруг как будто застыдилась, опустила свои длинные ресницы и скромно подсела к нам, как виновата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«…она пуще хохотала и шалила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93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Найдите в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VI</a:t>
            </a:r>
            <a:r>
              <a:rPr b="1" lang="ru-RU" sz="3000" spc="-1" strike="noStrike">
                <a:solidFill>
                  <a:srgbClr val="ff0000"/>
                </a:solidFill>
                <a:latin typeface="Comic Sans MS"/>
              </a:rPr>
              <a:t> главе ответ на вопрос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03280" y="1828800"/>
            <a:ext cx="554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чему Ася «не походила на барышню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к это помогает приоткрыть занавес тайны    её происхождения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8083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03640" y="1267920"/>
            <a:ext cx="51782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яснить,  какими чертами характера обладает героиня повесть И.С.Тургенева «Ася» ,  почему она относится к образам «тургеневских девушек»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9" descr="650411089"/>
          <p:cNvPicPr/>
          <p:nvPr/>
        </p:nvPicPr>
        <p:blipFill>
          <a:blip r:embed="rId1"/>
          <a:stretch/>
        </p:blipFill>
        <p:spPr>
          <a:xfrm rot="21135000">
            <a:off x="610920" y="1844640"/>
            <a:ext cx="23749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2040" cy="3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Задание для работы в группа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427280" y="838080"/>
            <a:ext cx="453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оследить за  поведением, поступками Ас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делать выводы о её характер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Определить, ч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даёт ей оригинальность и загадочност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оказать,  что Ася ведёт себя не так, как девушка из дворянской семь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6" descr="1061832242"/>
          <p:cNvPicPr/>
          <p:nvPr/>
        </p:nvPicPr>
        <p:blipFill>
          <a:blip r:embed="rId1"/>
          <a:stretch/>
        </p:blipFill>
        <p:spPr>
          <a:xfrm>
            <a:off x="179280" y="549360"/>
            <a:ext cx="1901880" cy="2146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650411089"/>
          <p:cNvPicPr/>
          <p:nvPr/>
        </p:nvPicPr>
        <p:blipFill>
          <a:blip r:embed="rId2"/>
          <a:stretch/>
        </p:blipFill>
        <p:spPr>
          <a:xfrm rot="21135000">
            <a:off x="1692000" y="2923920"/>
            <a:ext cx="2819160" cy="3581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1147997970"/>
          <p:cNvPicPr/>
          <p:nvPr/>
        </p:nvPicPr>
        <p:blipFill>
          <a:blip r:embed="rId3"/>
          <a:stretch/>
        </p:blipFill>
        <p:spPr>
          <a:xfrm>
            <a:off x="2340000" y="620640"/>
            <a:ext cx="2322360" cy="2478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2040" cy="863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жает чувства только Ася, только  она открывает душ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лючевым является образ испуганной птички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(мысли писателя – не судьб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ле этой сцены Аси нет на страницах повести, родилась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новая Анна Николаев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которая не будет смотреть на мир «светлыми, черными глазами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лавная черта Аси – окрылённость, она – птица, она хотела воспарить над обыденностью, она способна любить. Она поэтична и мечтательна. Повесть о любви становится повестью о выборе жизненной позиции. Господин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предал свою любовь, предал самого себя, свои «крылатые устремл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« У счастья нет завтрашнег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дня, нет и вчерашнего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1f34"/>
                </a:solidFill>
                <a:latin typeface="Times New Roman"/>
              </a:rPr>
              <a:t>У него есть настоящее и то не день, а мгновение»</a:t>
            </a:r>
            <a:r>
              <a:rPr b="1" lang="en-US" sz="4000" spc="-1" strike="noStrike">
                <a:solidFill>
                  <a:srgbClr val="5c1f34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 algn="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5c1f34"/>
                </a:solidFill>
                <a:latin typeface="Comic Sans MS"/>
              </a:rPr>
              <a:t>И.С.Тургенев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C:\Users\Екатерина\Pictures\39let.jpg"/>
          <p:cNvPicPr/>
          <p:nvPr/>
        </p:nvPicPr>
        <p:blipFill>
          <a:blip r:embed="rId1"/>
          <a:stretch/>
        </p:blipFill>
        <p:spPr>
          <a:xfrm>
            <a:off x="1332000" y="3573360"/>
            <a:ext cx="2573280" cy="3095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539640" y="404640"/>
            <a:ext cx="7201080" cy="720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Идея пов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694512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исок  литерату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. Бабанский Ю.К. Проблемное обучение как средство повышения эффективности учения школьников.- Ростов – на Дону, 2008. - С.45- 74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. Горшкова В.В. Диалог в деятельности современного учителя // Педагогика.- 2011.- №2. – С.68- 7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. Ильницкая И.А. Проблемные ситуации в обучении.  «Психология в школе». -   2008. - №1. - С.120 -126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4.Казанцева И.А. Роль проблемного обучения в реализации деятельностной направленности современного гуманитарного образования // Новое в психолого- педагогических исследованиях.- 2011.- №1.-  С.19-24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. Лакоценина Т.П., Алимова Е.Е. Современный урок. Альтернативные уро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Ростов-на-Дону, 200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6. Мельникова Е.Л. Технология проблемного диалога: методы, формы, средства обучения // Образовательные технологии.  – М.: Баласс,  2008. - С.5 – 55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7. Мельникова Е.Л. Типология и методические схемы проблемно – диалогических уроков в начальной, основной и старшей школе // Образовательная система «Школа 2100». Сборник материалов. – М.:  Баласс, 2009. - С.164 – 28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8. Мельникова Е.Л. Проблемно-диалогическое обучение: понятие, технология, предметная специфика. // Сб. программ/ Под науч. ред. Д.И. Фельдштейна. - М: Баласс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9. Омарова А.А.  Современная технология проблемного обучения // Современны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04360" cy="628560"/>
          </a:xfrm>
          <a:prstGeom prst="rect">
            <a:avLst/>
          </a:prstGeom>
          <a:solidFill>
            <a:srgbClr val="12e9e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акой урок называется современным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вый подход к образованию соответствует современному представлению об уроке. Именно такой урок называется современным, где учитель вместе с учащимися на равных ведет работу по поиску и отбору научного содержания знания, подлежащего усвоению; только тогда знание становится личностно значимым, а ученик воспринимается учителем как творец своего знания. А значит, именно такие уроки позволяют сегодня реализовывать новые образовательные стандарт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Проблемно-диалогическое обучение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ежит</a:t>
            </a: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основе современного урока, так как это урок развивающий, он направлен на создание условий, в которых ребенок может себя реализовать. Учитель на таком уроке является организатором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0076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Новая задач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вой задачей  урока является   решение проблем самими школьниками в его  процессе через самостоятельную  познавательную деятельность. Проблемный характер урока  с уверенностью можно рассматривать как уход от репродуктивного подхода на занятии. Чем больше самостоятельной деятельности на уроке, тем лучше, т.к. учащиеся приобретают умения  решения проблем, информационную компетентность при работе с текс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12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« ДЛЯ ТОГО, ЧТОБЫ УСОВЕРШЕНСТВОВАТЬ УМ, НАДО БОЛЬШЕ РАЗМЫШЛЯТЬ, ЧЕМ ЗАУЧИВАТЬ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Р.ДЕКАР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65240"/>
            <a:ext cx="7634160" cy="1514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66"/>
                </a:solidFill>
                <a:latin typeface="Comic Sans MS"/>
              </a:rPr>
              <a:t>Проблемно-диалогическое обучение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 – это тип обучения, обеспечивающий творческое усвоение знаний учащимися в ходе  диалога с учителем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определени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проблемно-диалогическое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ервая часть означает, что на уроке изучения нового материала должны быть проработаны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ва звен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тановка учебной проблемы и поиск её решения. Слово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«диалогическое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значает, что постановку учебной проблемы и поиск решения ученики осуществляют в ходе специально выстроенного диалог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Цель -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обучить самостоятельном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           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решению проблем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Средств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открытие знаний вмес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с деть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4880" y="259920"/>
            <a:ext cx="6810480" cy="647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иды диалог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125360"/>
          <a:ext cx="8785440" cy="52498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бужда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c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дводя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c6a"/>
                    </a:solidFill>
                  </a:tcPr>
                </a:tc>
              </a:tr>
              <a:tr h="13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a01bf"/>
                          </a:solidFill>
                          <a:latin typeface="Comic Sans MS"/>
                        </a:rPr>
                        <a:t>Вопросы учителя, побуждающие детей высказывать различные версии решения пробл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почка вопросов, последовательно приводящих к правильному ответу, запланированному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Развивает творческое мышл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Развивает логическое мыш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ксимально близок к жизненным ситуация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Просчитывается п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и могут увести в сторону от т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Ведет к нужному результату коротким пут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 рассчитать     время на уро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меньшей степени развивает творчество и инициати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Объяснение нового материала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Актуализация знаний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empus Sans ITC"/>
              </a:rPr>
              <a:t>Закрепление материала</a:t>
            </a:r>
            <a:r>
              <a:rPr b="0" lang="ru-RU" sz="4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ff"/>
                </a:solidFill>
                <a:latin typeface="Comic Sans MS"/>
              </a:rPr>
              <a:t>Главный принцип</a:t>
            </a: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6600ff"/>
                </a:solidFill>
                <a:latin typeface="Comic Sans MS"/>
              </a:rPr>
              <a:t>взаимоотношений учителя и ученика, - сотрудничество</a:t>
            </a: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04640"/>
            <a:ext cx="7777440" cy="94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а каких этапах урока можно использовать проблемный диало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04:03:50Z</dcterms:created>
  <dc:creator>админ</dc:creator>
  <dc:description/>
  <dc:language>en-US</dc:language>
  <cp:lastModifiedBy>админ</cp:lastModifiedBy>
  <dcterms:modified xsi:type="dcterms:W3CDTF">2018-07-07T14:41:50Z</dcterms:modified>
  <cp:revision>26</cp:revision>
  <dc:subject/>
  <dc:title>        Технология проблемно – диалогического обучения   на уроках  русского языка и литературы </dc:title>
</cp:coreProperties>
</file>