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64A-C87F-4C98-A88A-3F39DB13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39F-EC50-4C94-9417-ACC21F7A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3B6-EE8A-4103-B64F-4304AC05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9EB-1E45-46D6-B4EB-D01115ED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AD75-24BE-4263-98C7-C3AD2AFE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F5FA-7EC7-4F02-8601-655C420C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52B1-82D7-49DB-B8BC-112A426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1BA4-7EEE-457E-87B9-56567325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92EC-C20A-4AED-9E56-32CAF565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FA6C-C64D-401F-B881-7DA7C2FC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3F48-2875-45CE-BB0F-65CFAFC1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A14-7BA4-4C34-A61F-101ABBAC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5761-7730-451B-A209-811F44C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2FB2-931C-480F-AF78-D7C90D8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CCE2-363D-4E12-8CD1-A79825C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0C72-E602-4011-983C-C2C129D2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2215-7F98-42CF-9955-5709AFB8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CF3-093D-4514-8A7C-919CCB3A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E2C-79A6-479E-8A48-CA939749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24B-8E0F-4864-9BCE-71B67E3D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EA4-6107-4FE5-9D3F-DA9C396F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58E-0DF9-4188-9C9C-653D0BB1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037-0B91-4440-86F2-48D27B0A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582-97F3-45D3-B28A-8880B357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F18B-F93B-4A68-8C72-DC7F52A215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3697-8E0E-42CE-A938-C1395B8860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547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Технология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проблемно – диалогического обучения   на уроках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литературы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Фрагменты с уро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179280" y="248040"/>
            <a:ext cx="8856720" cy="763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ПРОБЛЕМНО- ДИАЛОГИЧЕСКОГО ОБУЧЕНИЯ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«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981000"/>
          <a:ext cx="9144000" cy="8142480"/>
        </p:xfrm>
        <a:graphic>
          <a:graphicData uri="http://schemas.openxmlformats.org/drawingml/2006/table">
            <a:tbl>
              <a:tblPr/>
              <a:tblGrid>
                <a:gridCol w="1979640"/>
                <a:gridCol w="4824360"/>
                <a:gridCol w="234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аз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Результа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22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остановка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оиск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ыражение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никновение проблемной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етоды постановки учебной проблем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побуждающий от проблемной ситуации диалог; подводящий к теме диалог; сообщение темы с мотивирующими приемами «яркое пятно» и «актуальность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знание противоре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ние пробле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поиска решения: побуждающий к выдвижению и проверке гипотез диалог, подводящий к знанию диало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ивные задания на воспроизведение зна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жение нового знания научным языком в принятой фор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коммуникативной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коммуникативной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 – новое знание и формирование ключевых компетент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161120" cy="792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Технология постановки учебной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чебная проблема существу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 двух основных формах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1) как тема урок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2) как не совпадающий с темой урока вопрос, ответом на который является новое зн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едовательно, поставить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ебную  проблему – значи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мочь   ученикам сам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формулировать тему ур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7416720" cy="1600200"/>
          </a:xfrm>
          <a:prstGeom prst="rect">
            <a:avLst/>
          </a:prstGeom>
          <a:solidFill>
            <a:srgbClr val="bff3f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Три основных метода постановки учебной проблем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Побуждающий от проблемной ситуации диало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Подводящий к теме диало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Сообщение тем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 мотивирующим приём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6320" y="165240"/>
            <a:ext cx="6810480" cy="1514160"/>
          </a:xfrm>
          <a:prstGeom prst="rect">
            <a:avLst/>
          </a:prstGeom>
          <a:solidFill>
            <a:srgbClr val="bff3f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равнение 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 традиционны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облемно-диалогическое обучение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ип обучения, обеспечивающий творческое усвоение знаний учащимися посредством диалога  с учителем.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Традиционное обучение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 это тип обучения, обеспечивающий репродуктивное усвоение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7705800" cy="1189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ff3399"/>
                </a:solidFill>
                <a:latin typeface="Times New Roman"/>
              </a:rPr>
              <a:t>П</a:t>
            </a:r>
            <a:r>
              <a:rPr b="1" lang="en-US" sz="3800" spc="-1" strike="noStrike">
                <a:solidFill>
                  <a:srgbClr val="ff3399"/>
                </a:solidFill>
                <a:latin typeface="Times New Roman"/>
              </a:rPr>
              <a:t>ри</a:t>
            </a:r>
            <a:r>
              <a:rPr b="1" lang="ru-RU" sz="3800" spc="-1" strike="noStrike">
                <a:solidFill>
                  <a:srgbClr val="ff3399"/>
                </a:solidFill>
                <a:latin typeface="Times New Roman"/>
              </a:rPr>
              <a:t>ё</a:t>
            </a:r>
            <a:r>
              <a:rPr b="1" lang="en-US" sz="3800" spc="-1" strike="noStrike">
                <a:solidFill>
                  <a:srgbClr val="ff3399"/>
                </a:solidFill>
                <a:latin typeface="Times New Roman"/>
              </a:rPr>
              <a:t>мы создания </a:t>
            </a:r>
            <a:br>
              <a:rPr sz="3800"/>
            </a:br>
            <a:r>
              <a:rPr b="1" lang="en-US" sz="3800" spc="-1" strike="noStrike">
                <a:solidFill>
                  <a:srgbClr val="ff3399"/>
                </a:solidFill>
                <a:latin typeface="Times New Roman"/>
              </a:rPr>
              <a:t>проблемной</a:t>
            </a:r>
            <a:r>
              <a:rPr b="1" lang="ru-RU" sz="3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3399"/>
                </a:solidFill>
                <a:latin typeface="Times New Roman"/>
              </a:rPr>
              <a:t>ситуации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облемное излож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облемная демонстр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ыслительный проблемный эксперим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ровая проблемная ситуац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ктическое задание на «ошибку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облемный вопрос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6300720" y="2133720"/>
            <a:ext cx="2592360" cy="129528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ёткая форму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/>
          <p:nvPr/>
        </p:nvCxnSpPr>
        <p:spPr>
          <a:xfrm flipH="1" flipV="1">
            <a:off x="1751760" y="2991600"/>
            <a:ext cx="6166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>
            <a:off x="2410920" y="3357360"/>
            <a:ext cx="984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V="1">
            <a:off x="3576240" y="3088800"/>
            <a:ext cx="67068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6" idx="0"/>
          </p:cNvCxnSpPr>
          <p:nvPr/>
        </p:nvCxnSpPr>
        <p:spPr>
          <a:xfrm flipH="1">
            <a:off x="4571640" y="1699920"/>
            <a:ext cx="110160" cy="281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5651640" y="3284640"/>
            <a:ext cx="807120" cy="10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250920" y="1773360"/>
            <a:ext cx="3025800" cy="1800000"/>
          </a:xfrm>
          <a:prstGeom prst="ellipse">
            <a:avLst/>
          </a:prstGeom>
          <a:gradFill rotWithShape="0">
            <a:gsLst>
              <a:gs pos="0">
                <a:srgbClr val="64673d"/>
              </a:gs>
              <a:gs pos="50000">
                <a:srgbClr val="dae185"/>
              </a:gs>
              <a:gs pos="100000">
                <a:srgbClr val="6467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уп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4005360"/>
            <a:ext cx="3095640" cy="17287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ильно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700280"/>
            <a:ext cx="3097440" cy="18000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508640"/>
            <a:ext cx="2590560" cy="136836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интересова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4292640"/>
            <a:ext cx="3276720" cy="15127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е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324720"/>
            <a:ext cx="84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38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84360" y="278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278136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115920"/>
            <a:ext cx="8424720" cy="1252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авила,  которые  необходимо соблюд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 проблемно- диалогическом  обучении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161120" cy="12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Формы организации учебной дея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51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Фронтальная рабо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водитс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 актуализации знаний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торы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явля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с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опоро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для изучения нового материал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Групповая рабо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пособн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работать продуктивно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решение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необходимое для понимания темы; высказать точку зрения на языковое явление, обосновать её; обеспечить долевое участие в решении вопроса, требующе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ольшого количества времени уро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Индивидуальная рабо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у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 учётом уровня обученности детей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озможностей, интерес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64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Примеры заданий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000" y="1052640"/>
            <a:ext cx="8856720" cy="544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Проверяю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умение отбирать источники информации, необходимые для решения задач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предели значение слов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тчиз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Воспользуйся  книгами на выбор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рфографический словарь.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Этимологический словар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Л. Успенск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лово о слов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Толковый словар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стория Росс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ловообразовательный словар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ловарь синоним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. Лермонт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од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каких из них ты можешь найти нужные сведения?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Заполни таблицу, расставив номера кни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4832280"/>
          <a:ext cx="8569080" cy="1887480"/>
        </p:xfrm>
        <a:graphic>
          <a:graphicData uri="http://schemas.openxmlformats.org/drawingml/2006/table">
            <a:tbl>
              <a:tblPr/>
              <a:tblGrid>
                <a:gridCol w="3024000"/>
                <a:gridCol w="2303640"/>
                <a:gridCol w="3241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ниги, в которых 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йду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ужно посмотреть 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ниги, в которых, возможно,  не найду нужные свед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4360" y="1197000"/>
            <a:ext cx="7777080" cy="2668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Загадки А.С. Пушкина в пове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«Капитанская доч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602136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Урок литературы. 8 кла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96012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сцены, эпизоды повести запомнились вам больше всего, представляются особенно ярки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Изменилось ли ваше отношение к героям повести после разбора произведения или осталось тем же? Если изменилось, то в че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) Сформулируйте основную тему произведения. Какие проблемы затрагивает                                             Пушкин в пове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8900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овременное образование в России перешло на Федеральный государственный образовательный стандарт второго поколения (ФГОС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еняются цели и содержание образования, появляются новые средства и технологии обучения, но при всём многообразии – урок остаётся   главной формой организации учебного процесса. И для того чтобы реализовать требования, предъявляемые Стандартами, урок должен стать новым, современным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18900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818280"/>
            <a:ext cx="4608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4) Почему Пушкин именно Гринёва делает повествователе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5) Как вы понимаете эпиграф к повести? Что имел в виду поэт, когда говорил о чести? Только ли верность воинской присяге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39375" t="0" r="20997" b="20375"/>
          <a:stretch/>
        </p:blipFill>
        <p:spPr>
          <a:xfrm>
            <a:off x="4994280" y="1700280"/>
            <a:ext cx="3416400" cy="353376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11592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Сопостав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8640" y="186516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Шваб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24680" y="3068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д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5480" y="131616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46440" y="239544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жесто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86920" y="3403440"/>
            <a:ext cx="18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ластолюб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21798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лабость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71120" y="275580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рус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45640" y="405144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хит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1603440"/>
            <a:ext cx="27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зворот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52080" y="33559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981000"/>
            <a:ext cx="14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Гри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96000" y="10270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печатл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440" y="3141720"/>
            <a:ext cx="16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Пугач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48360" y="4508640"/>
            <a:ext cx="15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е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549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храб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587700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еш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12320" y="468936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69640" y="587700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80000" y="58165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к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0600" y="3908520"/>
            <a:ext cx="28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особность люб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692280"/>
            <a:ext cx="167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ямоду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60520" y="45813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жесто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5084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великоду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880" y="421956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е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94640" y="6237360"/>
            <a:ext cx="14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доб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44200" y="642636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вспыль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616572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дино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14760" y="527688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милосер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35320" y="3979800"/>
            <a:ext cx="20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благода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563580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лас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08000" y="836640"/>
          <a:ext cx="8856720" cy="6203880"/>
        </p:xfrm>
        <a:graphic>
          <a:graphicData uri="http://schemas.openxmlformats.org/drawingml/2006/table">
            <a:tbl>
              <a:tblPr/>
              <a:tblGrid>
                <a:gridCol w="2881080"/>
                <a:gridCol w="3130200"/>
                <a:gridCol w="2845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Comic Sans MS"/>
                          <a:ea typeface="Times New Roman"/>
                        </a:rPr>
                        <a:t>Шваб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Comic Sans MS"/>
                          <a:ea typeface="Times New Roman"/>
                        </a:rPr>
                        <a:t>Грин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Comic Sans MS"/>
                          <a:ea typeface="Times New Roman"/>
                        </a:rPr>
                        <a:t>Пугач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л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печатлитель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жесто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датель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мел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еликодуш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жесто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рабр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мел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ластолюб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ешитель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обро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лабость д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дан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спыльчив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рус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ер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диноче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итр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скрен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ласт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зворотлив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пособность люб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илосерд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диноче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ямодуш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лагодар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826920" y="189000"/>
            <a:ext cx="77774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Проверь 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788000" y="1127160"/>
            <a:ext cx="381636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31720"/>
            <a:ext cx="9144000" cy="38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6) Почему Швабрин вызывает наше презрение? Есть 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в его характере хотя бы одно «светлое пятнышко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7) Каких душевных качеств, в отличие от Грине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лишен Швабр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8) Жаль вам Швабрина или н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9) В литературоведении высказана мысль о том, что причиной измены Швабрина стала его страстная любовь к Маше Мироновой, нежелание «уступить» её Гриневу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Согласны ли вы с этой мыслью? Свой ответ обоснуйте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083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9280" y="200232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12) Что увлекает нас в истории любви Маши и Грине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33336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rcRect l="2717" t="6057" r="2717" b="1817"/>
          <a:stretch/>
        </p:blipFill>
        <p:spPr>
          <a:xfrm>
            <a:off x="5076720" y="981000"/>
            <a:ext cx="3784680" cy="5521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43280" y="522720"/>
            <a:ext cx="45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3) Некоторые литературоведы видят в образе Маши Мироновой сходство с женами декабристов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Есть ли между ними что–то общее, на ваш взгля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4) Почему повесть, главными героями которой являются Гринев и Пугачев, названа “Капитанская дочка”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(В чем Маша Миронова проявила с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как подлинная дочь своего отца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8900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0" r="26247" b="20375"/>
          <a:stretch/>
        </p:blipFill>
        <p:spPr>
          <a:xfrm>
            <a:off x="250920" y="785880"/>
            <a:ext cx="4249800" cy="236376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2"/>
          <a:srcRect l="10499" t="0" r="26247" b="20375"/>
          <a:stretch/>
        </p:blipFill>
        <p:spPr>
          <a:xfrm>
            <a:off x="250920" y="3716280"/>
            <a:ext cx="3960720" cy="247032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0920" y="162720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Arial"/>
                <a:ea typeface="Arial Unicode MS"/>
              </a:rPr>
              <a:t>Загадки романа – это загадки жизни, которую А.С. Пушкин учит нас видеть и понимать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404640"/>
            <a:ext cx="7920000" cy="825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 Unicode MS"/>
              </a:rPr>
              <a:t>Выв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218440" cy="1655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Как вы думаете, что главное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в повести «Ася» ?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Сформулируйте её тему.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7" descr="16446044_DSC00703"/>
          <p:cNvPicPr/>
          <p:nvPr/>
        </p:nvPicPr>
        <p:blipFill>
          <a:blip r:embed="rId1"/>
          <a:stretch/>
        </p:blipFill>
        <p:spPr>
          <a:xfrm>
            <a:off x="250920" y="2179800"/>
            <a:ext cx="2749320" cy="4678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1220385528"/>
          <p:cNvPicPr/>
          <p:nvPr/>
        </p:nvPicPr>
        <p:blipFill>
          <a:blip r:embed="rId2"/>
          <a:stretch/>
        </p:blipFill>
        <p:spPr>
          <a:xfrm>
            <a:off x="4572000" y="1841400"/>
            <a:ext cx="37083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1611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сё в этом произведении о ЛЮБВИ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ысячи страниц мировой литературы посвящены этой теме. Почему? Да потому, чт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ЛЮБОВЬ – самое загадочное чувств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икто не сможет дать полного исчерпывающего ответа на вопрос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Что такое ЛЮБОВЬ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еханизм любви ещё до конца не изучен. Каждый из писателей, поэтов по – своему раскрывает эту те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 – своему раскрывает её и Тургене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такое первая любовь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справиться с сердечной болезнью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пережить страдания отвергнутой любв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232400" cy="10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ПСИХОЛОГИЧЕСКАЯ ЗАГАД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1309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дин из исследователей творчества Тургенева  П. Анненков утверждает, что все повести и рассказы Тургенева объединяет одна черта –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ПСИХОЛОГИЧЕСКАЯ ЗАГАД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ходе изучения повести нам и предстоит разгадать эту загадку, выяснить, как автор раскрывает душевные переживания героев: НН и Ас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Любовь – тайн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И чтобы разгадать эту тайну, нужно проследить за поведением героев и их переживания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088040" cy="10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Урок с учётом современных требов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к подготовить и провести урок, учитывая новые требования ФГОС и современные инновации? Перед современным учителем в условиях внедрения новых образовательных стандартов стоит задача использовать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роблемно-диалогическое обучение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школь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еализация этого подхода на уроке заставляет учителя перестроить свою деятельность, уйти от привычного объяснения и предоставить обучающимся самостоятельно, в определенной последовательности открыть для себя новые знания. Именно ученики являются главными “действующими героями” на урок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755640" y="549360"/>
            <a:ext cx="6102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расива ли Ас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tur"/>
          <p:cNvPicPr/>
          <p:nvPr/>
        </p:nvPicPr>
        <p:blipFill>
          <a:blip r:embed="rId1"/>
          <a:stretch/>
        </p:blipFill>
        <p:spPr>
          <a:xfrm>
            <a:off x="7093080" y="2133720"/>
            <a:ext cx="1582560" cy="3300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1147997970"/>
          <p:cNvPicPr/>
          <p:nvPr/>
        </p:nvPicPr>
        <p:blipFill>
          <a:blip r:embed="rId2"/>
          <a:stretch/>
        </p:blipFill>
        <p:spPr>
          <a:xfrm>
            <a:off x="755640" y="2133720"/>
            <a:ext cx="1530360" cy="1830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650411089"/>
          <p:cNvPicPr/>
          <p:nvPr/>
        </p:nvPicPr>
        <p:blipFill>
          <a:blip r:embed="rId3"/>
          <a:stretch/>
        </p:blipFill>
        <p:spPr>
          <a:xfrm rot="21135000">
            <a:off x="3708000" y="2781000"/>
            <a:ext cx="2087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7561440" cy="1116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Красота не является главной чертой «тургеневской девуш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0578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шняя красота не является главной чертой «тургеневской девушки» ни в одном из произведений писателя. В облике своих героинь автору важны личностное обаяние, грация, человеческая неповторимость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Именно такова А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10" descr="1147997970"/>
          <p:cNvPicPr/>
          <p:nvPr/>
        </p:nvPicPr>
        <p:blipFill>
          <a:blip r:embed="rId1"/>
          <a:stretch/>
        </p:blipFill>
        <p:spPr>
          <a:xfrm>
            <a:off x="6300720" y="4797360"/>
            <a:ext cx="1530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omic Sans MS"/>
              </a:rPr>
              <a:t>IV</a:t>
            </a:r>
            <a:r>
              <a:rPr b="1" lang="ru-RU" sz="2700" spc="-1" strike="noStrike">
                <a:solidFill>
                  <a:srgbClr val="000099"/>
                </a:solidFill>
                <a:latin typeface="Comic Sans MS"/>
              </a:rPr>
              <a:t>глава.</a:t>
            </a:r>
            <a:r>
              <a:rPr b="0" lang="ru-RU" sz="19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19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чему герой повести назвал лицо Аси изменчивы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8713800" cy="484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…Я тут в первый раз хорошенько  рассмотрел её лицо, самое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изменчивое</a:t>
            </a: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лицо, какое я только видел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…бросила на меня быстрый и пронзительный взгля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…вдруг как будто застыдилась, опустила свои длинные ресницы и скромно подсела к нам, как виновата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…она пуще хохотала и шалил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93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omic Sans MS"/>
              </a:rPr>
              <a:t>Найдите в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VI</a:t>
            </a:r>
            <a:r>
              <a:rPr b="1" lang="ru-RU" sz="3000" spc="-1" strike="noStrike">
                <a:solidFill>
                  <a:srgbClr val="ff0000"/>
                </a:solidFill>
                <a:latin typeface="Comic Sans MS"/>
              </a:rPr>
              <a:t> главе ответ на вопрос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03280" y="1828800"/>
            <a:ext cx="554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очему Ася «не походила на барышню»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ак это помогает приоткрыть занавес тайны    её происхождения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8083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72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03640" y="1267920"/>
            <a:ext cx="51782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яснить,  какими чертами характера обладает героиня повесть И.С.Тургенева «Ася» ,  почему она относится к образам «тургеневских девушек»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9" descr="650411089"/>
          <p:cNvPicPr/>
          <p:nvPr/>
        </p:nvPicPr>
        <p:blipFill>
          <a:blip r:embed="rId1"/>
          <a:stretch/>
        </p:blipFill>
        <p:spPr>
          <a:xfrm rot="21135000">
            <a:off x="610920" y="1844640"/>
            <a:ext cx="23749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2040" cy="39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Задание для работы в группа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427280" y="838080"/>
            <a:ext cx="4537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роследить за  поведением, поступками Ас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делать выводы о её характер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пределить, ч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даёт ей оригинальность и загадочность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Доказать,  что Ася ведёт себя не так, как девушка из дворянской семь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6" descr="1061832242"/>
          <p:cNvPicPr/>
          <p:nvPr/>
        </p:nvPicPr>
        <p:blipFill>
          <a:blip r:embed="rId1"/>
          <a:stretch/>
        </p:blipFill>
        <p:spPr>
          <a:xfrm>
            <a:off x="179280" y="549360"/>
            <a:ext cx="1901880" cy="2146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650411089"/>
          <p:cNvPicPr/>
          <p:nvPr/>
        </p:nvPicPr>
        <p:blipFill>
          <a:blip r:embed="rId2"/>
          <a:stretch/>
        </p:blipFill>
        <p:spPr>
          <a:xfrm rot="21135000">
            <a:off x="1692000" y="2923920"/>
            <a:ext cx="2819160" cy="3581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1147997970"/>
          <p:cNvPicPr/>
          <p:nvPr/>
        </p:nvPicPr>
        <p:blipFill>
          <a:blip r:embed="rId3"/>
          <a:stretch/>
        </p:blipFill>
        <p:spPr>
          <a:xfrm>
            <a:off x="2340000" y="620640"/>
            <a:ext cx="2322360" cy="2478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2040" cy="863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ражает чувства только Ася, только  она открывает душ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лючевым является образ испуганной птички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(мысли писателя – не судьб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ле этой сцены Аси нет на страницах повести, родилась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овая Анна Николаев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которая не будет смотреть на мир «светлыми, черными глазами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лавная черта Аси – окрылённость, она – птица, она хотела воспарить над обыденностью, она способна любить. Она поэтична и мечтательна. Повесть о любви становится повестью о выборе жизненной позиции. Господин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предал свою любовь, предал самого себя, свои «крылатые устремл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1f34"/>
                </a:solidFill>
                <a:latin typeface="Times New Roman"/>
              </a:rPr>
              <a:t>« У счастья нет завтрашнего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1f34"/>
                </a:solidFill>
                <a:latin typeface="Times New Roman"/>
              </a:rPr>
              <a:t>дня, нет и вчерашнего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1f34"/>
                </a:solidFill>
                <a:latin typeface="Times New Roman"/>
              </a:rPr>
              <a:t>У него есть настоящее и то не день, а мгновение»</a:t>
            </a:r>
            <a:r>
              <a:rPr b="1" lang="en-US" sz="4000" spc="-1" strike="noStrike">
                <a:solidFill>
                  <a:srgbClr val="5c1f34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 algn="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5c1f34"/>
                </a:solidFill>
                <a:latin typeface="Comic Sans MS"/>
              </a:rPr>
              <a:t>И.С.Тургенев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2" descr="C:\Users\Екатерина\Pictures\39let.jpg"/>
          <p:cNvPicPr/>
          <p:nvPr/>
        </p:nvPicPr>
        <p:blipFill>
          <a:blip r:embed="rId1"/>
          <a:stretch/>
        </p:blipFill>
        <p:spPr>
          <a:xfrm>
            <a:off x="1332000" y="3573360"/>
            <a:ext cx="2573280" cy="3095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39640" y="404640"/>
            <a:ext cx="7201080" cy="72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Идея пов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6945120" cy="100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писок  литерат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. Бабанский Ю.К. Проблемное обучение как средство повышения эффективности учения школьников.- Ростов – на Дону, 2008. - С.45- 74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. Горшкова В.В. Диалог в деятельности современного учителя // Педагогика.- 2011.- №2. – С.68- 7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. Ильницкая И.А. Проблемные ситуации в обучении.  «Психология в школе». -   2008. - №1. - С.120 -126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4.Казанцева И.А. Роль проблемного обучения в реализации деятельностной направленности современного гуманитарного образования // Новое в психолого- педагогических исследованиях.- 2011.- №1.-  С.19-24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5. Лакоценина Т.П., Алимова Е.Е. Современный урок. Альтернативные уро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Ростов-на-Дону, 2007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6. Мельникова Е.Л. Технология проблемного диалога: методы, формы, средства обучения // Образовательные технологии.  – М.: Баласс,  2008. - С.5 – 55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7. Мельникова Е.Л. Типология и методические схемы проблемно – диалогических уроков в начальной, основной и старшей школе // Образовательная система «Школа 2100». Сборник материалов. – М.:  Баласс, 2009. - С.164 – 283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8. Мельникова Е.Л. Проблемно-диалогическое обучение: понятие, технология, предметная специфика. // Сб. программ/ Под науч. ред. Д.И. Фельдштейна. - М: Баласс, 2008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9. Омарова А.А.  Современная технология проблемного обучения // Современные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704360" cy="628560"/>
          </a:xfrm>
          <a:prstGeom prst="rect">
            <a:avLst/>
          </a:prstGeom>
          <a:solidFill>
            <a:srgbClr val="12e9e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Какой урок называется современны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овый подход к образованию соответствует современному представлению об уроке. Именно такой урок называется современным, где учитель вместе с учащимися на равных ведет работу по поиску и отбору научного содержания знания, подлежащего усвоению; только тогда знание становится личностно значимым, а ученик воспринимается учителем как творец своего знания. А значит, именно такие уроки позволяют сегодня реализовывать новые образовательные стандарт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Проблемно-диалогическое обучение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ежит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основе современного урока, так как это урок развивающий, он направлен на создание условий, в которых ребенок может себя реализовать. Учитель на таком уроке является организатором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00760" cy="72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овая задача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овой задачей  урока является   решение проблем самими школьниками в его  процессе через самостоятельную  познавательную деятельность. Проблемный характер урока  с уверенностью можно рассматривать как уход от репродуктивного подхода на занятии. Чем больше самостоятельной деятельности на уроке, тем лучше, т.к. учащиеся приобретают умения  решения проблем, информационную компетентность при работе с текс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120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« ДЛЯ ТОГО, ЧТОБЫ УСОВЕРШЕНСТВОВАТЬ УМ, НАДО БОЛЬШЕ РАЗМЫШЛЯТЬ, ЧЕМ ЗАУЧИВАТЬ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Р.ДЕКАР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65240"/>
            <a:ext cx="7634160" cy="1514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Comic Sans MS"/>
              </a:rPr>
              <a:t>Проблемно-диалогическое обучение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– это тип обучения, обеспечивающий творческое усвоение знаний учащимися в ходе  диалога с учителем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определении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проблемно-диалогическое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ервая часть означает, что на уроке изучения нового материала должны быть проработаны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два звена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становка учебной проблемы и поиск её решения. Слово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диалогическое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значает, что постановку учебной проблемы и поиск решения ученики осуществляют в ходе специально выстроенного диалог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Цель -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обучить самостоятельном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            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решению проблем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Средств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открытие знаний вмес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с деть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4880" y="259920"/>
            <a:ext cx="6810480" cy="64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иды диалог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125360"/>
          <a:ext cx="8785440" cy="524988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обуждаю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c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одводя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c6a"/>
                    </a:solidFill>
                  </a:tcPr>
                </a:tc>
              </a:tr>
              <a:tr h="13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a01bf"/>
                          </a:solidFill>
                          <a:latin typeface="Comic Sans MS"/>
                        </a:rPr>
                        <a:t>Вопросы учителя, побуждающие детей высказывать различные версии решения пробл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почка вопросов, последовательно приводящих к правильному ответу, запланированному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Развивает творческое мышл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Развивает логическое мыш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ксимально близок к жизненным ситуация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Просчитывается п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ники могут увести в сторону от т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Ведет к нужному результату коротким пут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возможно рассчитать     время на урок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меньшей степени развивает творчество и инициати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empus Sans ITC"/>
              </a:rPr>
              <a:t>Объяснение нового материала.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empus Sans ITC"/>
              </a:rPr>
              <a:t>Актуализация знаний.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empus Sans ITC"/>
              </a:rPr>
              <a:t>Закрепление материала</a:t>
            </a:r>
            <a:r>
              <a:rPr b="0" lang="ru-RU" sz="4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Comic Sans MS"/>
              </a:rPr>
              <a:t>Главный принцип</a:t>
            </a: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6600ff"/>
                </a:solidFill>
                <a:latin typeface="Comic Sans MS"/>
              </a:rPr>
              <a:t>взаимоотношений учителя и ученика, - сотрудничество</a:t>
            </a: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404640"/>
            <a:ext cx="7777440" cy="947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На каких этапах урока можно использовать проблемный диало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04:03:50Z</dcterms:created>
  <dc:creator>админ</dc:creator>
  <dc:description/>
  <dc:language>en-US</dc:language>
  <cp:lastModifiedBy>админ</cp:lastModifiedBy>
  <dcterms:modified xsi:type="dcterms:W3CDTF">2018-07-07T14:41:50Z</dcterms:modified>
  <cp:revision>26</cp:revision>
  <dc:subject/>
  <dc:title>        Технология проблемно – диалогического обучения   на уроках  русского языка и литературы </dc:title>
</cp:coreProperties>
</file>