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BFC50-E38B-4196-8E62-677C98353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366A9-7CE4-4B6F-A87E-1107CC64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74F21-DF2E-4B0F-BD8C-C5867B3ED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9E3E8-6F96-497A-BF4A-6B2C3637A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9898-25A8-4836-9231-EAC68A6AE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22373-AC00-478D-991F-F9A4CEAC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97B14-1DBB-4E38-B696-083FFCE65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EDEB-C6DF-440A-8670-72754ECA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C69D-E6EF-4B3A-8FB0-B9B7F5D3A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18D01-0CCE-4EFA-925D-D367A458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82E4D-8FFA-4E70-81DE-1657DC9D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14778-F8FF-4C37-8765-F4E5CC1F4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ED1A-D383-4424-A0DA-58B38207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3DF0-823B-4F0A-9EA8-01B49FC84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5E47-6305-48C2-B1CF-960AD11DE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B5C8-55AD-4A5E-8B51-98308D987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6AB3-E452-4AF9-9973-BA7EC1648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E9E6E-2D52-4F54-AEDB-CE13D206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F76A7-D20E-4777-B97F-B5B8F8B5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3BB58-D341-469C-8CC7-E0A1BC6F3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C0E55-5355-4C7C-9425-8A6E22E59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3FCFF-B6DE-411E-B0D0-88AD1275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4917E-B51D-41DB-AE73-081DD5CB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6C8C5-A8B8-4A8B-BA1A-BEBE1E49F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845EE-5091-487D-B3F4-407997F2DC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779B2-BF8F-4743-871B-8DD10BAF629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843280" y="1828800"/>
            <a:ext cx="66247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Сложение и вычитание дробей с разными знаменателя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547280" y="4941360"/>
            <a:ext cx="4464360" cy="10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Математика 6 клас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0001-001-Sinonimy"/>
          <p:cNvPicPr/>
          <p:nvPr/>
        </p:nvPicPr>
        <p:blipFill>
          <a:blip r:embed="rId1"/>
          <a:stretch/>
        </p:blipFill>
        <p:spPr>
          <a:xfrm>
            <a:off x="6012000" y="4221000"/>
            <a:ext cx="313200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§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59(и-п), 364, 373(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41"/>
          <p:cNvPicPr/>
          <p:nvPr/>
        </p:nvPicPr>
        <p:blipFill>
          <a:blip r:embed="rId1"/>
          <a:stretch/>
        </p:blipFill>
        <p:spPr>
          <a:xfrm>
            <a:off x="5364000" y="2997360"/>
            <a:ext cx="3125880" cy="29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6"/>
          <p:cNvSpPr/>
          <p:nvPr/>
        </p:nvSpPr>
        <p:spPr>
          <a:xfrm>
            <a:off x="539640" y="1330200"/>
            <a:ext cx="77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полните действ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20"/>
          <p:cNvSpPr/>
          <p:nvPr/>
        </p:nvSpPr>
        <p:spPr>
          <a:xfrm>
            <a:off x="539640" y="3564000"/>
            <a:ext cx="81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авните дроб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http://compendium.su/mathematics/mathematics6/mathematics6.files/image231.jpg"/>
          <p:cNvPicPr/>
          <p:nvPr/>
        </p:nvPicPr>
        <p:blipFill>
          <a:blip r:embed="rId1"/>
          <a:stretch/>
        </p:blipFill>
        <p:spPr>
          <a:xfrm>
            <a:off x="523800" y="2082960"/>
            <a:ext cx="7432920" cy="914400"/>
          </a:xfrm>
          <a:prstGeom prst="rect">
            <a:avLst/>
          </a:prstGeom>
          <a:ln w="0">
            <a:noFill/>
          </a:ln>
        </p:spPr>
      </p:pic>
      <p:pic>
        <p:nvPicPr>
          <p:cNvPr id="113" name="Рисунок 2" descr=""/>
          <p:cNvPicPr/>
          <p:nvPr/>
        </p:nvPicPr>
        <p:blipFill>
          <a:blip r:embed="rId2"/>
          <a:stretch/>
        </p:blipFill>
        <p:spPr>
          <a:xfrm>
            <a:off x="108000" y="4133880"/>
            <a:ext cx="627228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1"/>
          <p:cNvSpPr/>
          <p:nvPr/>
        </p:nvSpPr>
        <p:spPr>
          <a:xfrm>
            <a:off x="395280" y="1052640"/>
            <a:ext cx="842472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) Трактор вспахал поле за 7 дн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ую часть поля он вспахал за один ден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ую часть поля он вспахал за три дн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"/>
          <p:cNvSpPr/>
          <p:nvPr/>
        </p:nvSpPr>
        <p:spPr>
          <a:xfrm>
            <a:off x="395280" y="3284640"/>
            <a:ext cx="822960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) Рабочий может выполнить задание за 12 дн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0" i="1" lang="ru-RU" sz="2800" spc="-1" strike="noStrike">
                <a:solidFill>
                  <a:srgbClr val="000000"/>
                </a:solidFill>
                <a:latin typeface="Verdana"/>
              </a:rPr>
              <a:t>Какую часть задания выполнит рабочий за 5 дне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тна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2"/>
          <p:cNvSpPr/>
          <p:nvPr/>
        </p:nvSpPr>
        <p:spPr>
          <a:xfrm>
            <a:off x="468360" y="1341360"/>
            <a:ext cx="8064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рач прописал 5 уколов. Через полчаса - по уколу. Через сколько часов после первого укола будет сделан последний укол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Работа в тетр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281880" y="1268280"/>
            <a:ext cx="761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в виде десятичной дроб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9" descr="http://compendium.su/mathematics/mathematics6/mathematics6.files/image237.jpg"/>
          <p:cNvPicPr/>
          <p:nvPr/>
        </p:nvPicPr>
        <p:blipFill>
          <a:blip r:embed="rId1"/>
          <a:stretch/>
        </p:blipFill>
        <p:spPr>
          <a:xfrm>
            <a:off x="250920" y="1989000"/>
            <a:ext cx="3744720" cy="932040"/>
          </a:xfrm>
          <a:prstGeom prst="rect">
            <a:avLst/>
          </a:prstGeom>
          <a:ln w="0">
            <a:noFill/>
          </a:ln>
        </p:spPr>
      </p:pic>
      <p:sp>
        <p:nvSpPr>
          <p:cNvPr id="122" name="Прямоугольник 5"/>
          <p:cNvSpPr/>
          <p:nvPr/>
        </p:nvSpPr>
        <p:spPr>
          <a:xfrm>
            <a:off x="250920" y="3587760"/>
            <a:ext cx="8447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пишите в виде обыкновенной дроб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0,2; 0,7; 0,25; 0,5; 0,2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Работа в тетр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1"/>
          <p:cNvSpPr/>
          <p:nvPr/>
        </p:nvSpPr>
        <p:spPr>
          <a:xfrm>
            <a:off x="250920" y="1341360"/>
            <a:ext cx="90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Рисунок 2" descr=""/>
          <p:cNvPicPr/>
          <p:nvPr/>
        </p:nvPicPr>
        <p:blipFill>
          <a:blip r:embed="rId1"/>
          <a:stretch/>
        </p:blipFill>
        <p:spPr>
          <a:xfrm>
            <a:off x="468360" y="1998720"/>
            <a:ext cx="2087640" cy="87156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6" descr=""/>
          <p:cNvPicPr/>
          <p:nvPr/>
        </p:nvPicPr>
        <p:blipFill>
          <a:blip r:embed="rId2"/>
          <a:stretch/>
        </p:blipFill>
        <p:spPr>
          <a:xfrm>
            <a:off x="395280" y="3409920"/>
            <a:ext cx="1870200" cy="9558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7" descr=""/>
          <p:cNvPicPr/>
          <p:nvPr/>
        </p:nvPicPr>
        <p:blipFill>
          <a:blip r:embed="rId3"/>
          <a:stretch/>
        </p:blipFill>
        <p:spPr>
          <a:xfrm>
            <a:off x="395280" y="4992840"/>
            <a:ext cx="223200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Физкультмину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Усвоение новых знан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26920" y="1628640"/>
            <a:ext cx="7653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28(а,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44 работа над зад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56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амостоятельная рабо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19(ж-и), 321 (к,м), 323(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Итоги урока</a:t>
            </a: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к сложить или вычесть дроби с разными знаменателям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6T15:13:31Z</dcterms:created>
  <dc:creator>Zver</dc:creator>
  <dc:description/>
  <dc:language>en-US</dc:language>
  <cp:lastModifiedBy>Татьяна</cp:lastModifiedBy>
  <dcterms:modified xsi:type="dcterms:W3CDTF">2017-10-23T17:54:12Z</dcterms:modified>
  <cp:revision>59</cp:revision>
  <dc:subject/>
  <dc:title>Среднее арифметическое, размах и мода</dc:title>
</cp:coreProperties>
</file>