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BD357-BC56-4AE9-AAD1-A302E2BB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EB5D-3030-42F4-ACB0-E4B4FC73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5D1D8-5AE6-4254-8207-B4C4AC694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89DF-F635-4303-B425-686BE2E4C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EB7F-E23D-4EEC-BB7F-E6C2D0A43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50B2-428E-4966-9A53-BB60C044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BBE5-4667-4C63-8A5C-BA190C0F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26D6A-DFB8-4B76-9277-89DB4C4C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01611-EABB-4D1D-A1FB-3B98CE00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7C88-2850-45A0-8083-38B98A91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91816-EADB-41B5-BE88-29F183975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58824-B529-4628-9221-26F1E653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51E3-4AB0-4988-8CF6-A7091FE22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8ED9F-EE64-43F8-B570-DE55C302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58C7-16C4-440D-AEFB-6DD12AB1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449C-B458-411D-BD74-115A2A23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CF21-45DF-48C5-B4B0-CC588126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B1DB2-BA34-4F8E-A971-3F438C4F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C7B7D-2E33-4F92-AD3C-67C384D1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666D0-DF60-4D90-8F4D-241CBE1A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67ED-496D-4E72-B3CC-5641C860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1E6BA-F9FF-4DD3-B036-090FB75A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8A08C-8877-4E96-AADF-C9E9EA85D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64E52-5923-4DCE-B93D-16B6071D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22C8-A8E3-4C21-956F-38F67430EC5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76A9-88D9-4EC8-A53B-59499CC87A8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828800"/>
            <a:ext cx="6624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жение и вычитание дробей с разными знамена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464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матика 6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9(и-п), 364, 373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41"/>
          <p:cNvPicPr/>
          <p:nvPr/>
        </p:nvPicPr>
        <p:blipFill>
          <a:blip r:embed="rId1"/>
          <a:stretch/>
        </p:blipFill>
        <p:spPr>
          <a:xfrm>
            <a:off x="5364000" y="2997360"/>
            <a:ext cx="31258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39640" y="13302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е действ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0"/>
          <p:cNvSpPr/>
          <p:nvPr/>
        </p:nvSpPr>
        <p:spPr>
          <a:xfrm>
            <a:off x="539640" y="3564000"/>
            <a:ext cx="81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 дроб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http://compendium.su/mathematics/mathematics6/mathematics6.files/image231.jpg"/>
          <p:cNvPicPr/>
          <p:nvPr/>
        </p:nvPicPr>
        <p:blipFill>
          <a:blip r:embed="rId1"/>
          <a:stretch/>
        </p:blipFill>
        <p:spPr>
          <a:xfrm>
            <a:off x="523800" y="2082960"/>
            <a:ext cx="743292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108000" y="4133880"/>
            <a:ext cx="62722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395280" y="1052640"/>
            <a:ext cx="8424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актор вспахал поле за 7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ую часть поля он вспахал за один д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ую часть поля он вспахал за три д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395280" y="3284640"/>
            <a:ext cx="822960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Рабочий может выполнить задание за 12 дн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Какую часть задания выполнит рабочий за 5 д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468360" y="1341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ач прописал 5 уколов. Через полчаса - по уколу. Через сколько часов после первого укола будет сделан последний уко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281880" y="1268280"/>
            <a:ext cx="76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в виде десятичной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http://compendium.su/mathematics/mathematics6/mathematics6.files/image237.jpg"/>
          <p:cNvPicPr/>
          <p:nvPr/>
        </p:nvPicPr>
        <p:blipFill>
          <a:blip r:embed="rId1"/>
          <a:stretch/>
        </p:blipFill>
        <p:spPr>
          <a:xfrm>
            <a:off x="250920" y="1989000"/>
            <a:ext cx="3744720" cy="9320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250920" y="3587760"/>
            <a:ext cx="844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в виде обыкновенной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2; 0,7; 0,25; 0,5; 0,2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250920" y="1341360"/>
            <a:ext cx="90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"/>
          <p:cNvPicPr/>
          <p:nvPr/>
        </p:nvPicPr>
        <p:blipFill>
          <a:blip r:embed="rId1"/>
          <a:stretch/>
        </p:blipFill>
        <p:spPr>
          <a:xfrm>
            <a:off x="468360" y="1998720"/>
            <a:ext cx="2087640" cy="8715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"/>
          <p:cNvPicPr/>
          <p:nvPr/>
        </p:nvPicPr>
        <p:blipFill>
          <a:blip r:embed="rId2"/>
          <a:stretch/>
        </p:blipFill>
        <p:spPr>
          <a:xfrm>
            <a:off x="395280" y="3409920"/>
            <a:ext cx="1870200" cy="955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3"/>
          <a:stretch/>
        </p:blipFill>
        <p:spPr>
          <a:xfrm>
            <a:off x="395280" y="4992840"/>
            <a:ext cx="22320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воение новых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653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28(а,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4 работа над зад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6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9(ж-и), 321 (к,м), 323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тоги урок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ложить или вычесть дроби с разными знаменател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атьяна</cp:lastModifiedBy>
  <dcterms:modified xsi:type="dcterms:W3CDTF">2017-10-23T17:54:12Z</dcterms:modified>
  <cp:revision>59</cp:revision>
  <dc:subject/>
  <dc:title>Среднее арифметическое, размах и мода</dc:title>
</cp:coreProperties>
</file>