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AEB75-C8F1-449B-9BA3-5D3BAD60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14580-5244-4F31-83ED-91397EB6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B6774-9373-4E62-A453-7A98E813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296DB-FB03-48E9-BFE5-CBFE7B24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8B40-C381-492B-9455-AE27AE02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51F2-3599-469A-B155-4461E1B3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B44D-360B-4E56-A691-934BFF80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5B29-0795-41A1-A681-992C73B7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917A-587B-4C58-9175-43AA75AE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51E6-7AB6-4B18-B732-C9BCCA38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2024-82F1-4E32-A3D1-F87C345C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71F30-BB25-45BC-A728-4FD3F6BF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3A04-2B31-49CF-AEB9-343C7B2A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2E43-8A15-4A48-8F3E-32F1058E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5F87-3704-47E5-B405-AA1AAF28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E60D-E7B9-4F39-8584-4907B02E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AA73-2C3C-4962-BF91-F9054B5E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1D6C8-62F1-432C-88CB-6095B024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E9601-2A99-4810-B3F5-E7B2B4F1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8BB96-5D73-44C2-B01E-30BDE3C0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644CF-BE1D-4312-BF2D-591DD248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E6CBC-3BB2-4B4E-A5A5-62B34647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4AA7D-F061-4E51-A2B4-9604EA73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3ED75-8AC2-4558-B60E-B7B5E60E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2718-3A77-4E2D-99DB-9ED1C3BBBD9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B124-7531-45CE-9469-387315BC3BC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3280" y="1828800"/>
            <a:ext cx="6624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ложение и вычитание дробей с разными знамена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47280" y="4941360"/>
            <a:ext cx="4464360" cy="10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атематика 6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0001-001-Sinonimy"/>
          <p:cNvPicPr/>
          <p:nvPr/>
        </p:nvPicPr>
        <p:blipFill>
          <a:blip r:embed="rId1"/>
          <a:stretch/>
        </p:blipFill>
        <p:spPr>
          <a:xfrm>
            <a:off x="6012000" y="4221000"/>
            <a:ext cx="313200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Итоги урока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сложить или вычесть дроби с разными знаменател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66, 368, 373(б), 374(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41"/>
          <p:cNvPicPr/>
          <p:nvPr/>
        </p:nvPicPr>
        <p:blipFill>
          <a:blip r:embed="rId1"/>
          <a:stretch/>
        </p:blipFill>
        <p:spPr>
          <a:xfrm>
            <a:off x="5364000" y="2997360"/>
            <a:ext cx="31258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539640" y="13302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те действ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" descr=""/>
          <p:cNvPicPr/>
          <p:nvPr/>
        </p:nvPicPr>
        <p:blipFill>
          <a:blip r:embed="rId1"/>
          <a:stretch/>
        </p:blipFill>
        <p:spPr>
          <a:xfrm>
            <a:off x="542880" y="1916280"/>
            <a:ext cx="6085080" cy="9331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3" descr=""/>
          <p:cNvPicPr/>
          <p:nvPr/>
        </p:nvPicPr>
        <p:blipFill>
          <a:blip r:embed="rId2"/>
          <a:stretch/>
        </p:blipFill>
        <p:spPr>
          <a:xfrm>
            <a:off x="539640" y="4724280"/>
            <a:ext cx="3095640" cy="89244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4"/>
          <p:cNvSpPr/>
          <p:nvPr/>
        </p:nvSpPr>
        <p:spPr>
          <a:xfrm>
            <a:off x="539640" y="3429000"/>
            <a:ext cx="815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ьте числа так, чтобы их дробная часть была правильной дробь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6372000" cy="97164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324000" y="134136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те дроби к наименьшему общему знаменател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266040" y="1484280"/>
            <a:ext cx="55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овите порядок действ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5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5316480" cy="5047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324000" y="3282840"/>
            <a:ext cx="53877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Работа по теме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1" descr=""/>
          <p:cNvPicPr/>
          <p:nvPr/>
        </p:nvPicPr>
        <p:blipFill>
          <a:blip r:embed="rId1"/>
          <a:stretch/>
        </p:blipFill>
        <p:spPr>
          <a:xfrm>
            <a:off x="108000" y="3527280"/>
            <a:ext cx="6056280" cy="69372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2"/>
          <p:cNvSpPr/>
          <p:nvPr/>
        </p:nvSpPr>
        <p:spPr>
          <a:xfrm>
            <a:off x="179280" y="1341360"/>
            <a:ext cx="86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мотрим пример 5 на стр.49 учеб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179280" y="2217600"/>
            <a:ext cx="867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шите свойства вычитания суммы из числа в буквенном ви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179280" y="451008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шите в буквенном виде свойство вычитания числа из су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4" descr=""/>
          <p:cNvPicPr/>
          <p:nvPr/>
        </p:nvPicPr>
        <p:blipFill>
          <a:blip r:embed="rId2"/>
          <a:stretch/>
        </p:blipFill>
        <p:spPr>
          <a:xfrm>
            <a:off x="179280" y="5872320"/>
            <a:ext cx="583272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Работа над задач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6"/>
          <p:cNvSpPr/>
          <p:nvPr/>
        </p:nvSpPr>
        <p:spPr>
          <a:xfrm>
            <a:off x="324000" y="119700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а наборщица может выполнить всю работу за 15 мин, вторая - за 30 м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7"/>
          <p:cNvSpPr/>
          <p:nvPr/>
        </p:nvSpPr>
        <p:spPr>
          <a:xfrm>
            <a:off x="324000" y="249228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)    Какую часть работы выполняет за 1 мин первая наборщи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9"/>
          <p:cNvSpPr/>
          <p:nvPr/>
        </p:nvSpPr>
        <p:spPr>
          <a:xfrm>
            <a:off x="324000" y="330840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)    Какую часть работы выполняет за 1 мин вторая наборщи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8"/>
          <p:cNvSpPr/>
          <p:nvPr/>
        </p:nvSpPr>
        <p:spPr>
          <a:xfrm>
            <a:off x="331920" y="4757760"/>
            <a:ext cx="668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)    Какую часть работы выполнят они за 1 мин при совместной рабо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0"/>
          <p:cNvSpPr/>
          <p:nvPr/>
        </p:nvSpPr>
        <p:spPr>
          <a:xfrm>
            <a:off x="298440" y="5765760"/>
            <a:ext cx="672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)    За сколько минут две наборщицы вместе выполнят всю работ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4" descr="http://bigslide.ru/images/23/22931/831/img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Усвоение новых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653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28(в,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45 работа над зад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стоятельная раб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Самостоятельная работа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( 10 м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Группа 8"/>
          <p:cNvGrpSpPr/>
          <p:nvPr/>
        </p:nvGrpSpPr>
        <p:grpSpPr>
          <a:xfrm>
            <a:off x="0" y="1268280"/>
            <a:ext cx="4606920" cy="5148360"/>
            <a:chOff x="0" y="1268280"/>
            <a:chExt cx="4606920" cy="5148360"/>
          </a:xfrm>
        </p:grpSpPr>
        <p:sp>
          <p:nvSpPr>
            <p:cNvPr id="139" name="Прямоугольник 3"/>
            <p:cNvSpPr/>
            <p:nvPr/>
          </p:nvSpPr>
          <p:spPr>
            <a:xfrm>
              <a:off x="0" y="1268280"/>
              <a:ext cx="421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Вариант 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1. Выполните действие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Рисунок 4" descr=""/>
            <p:cNvPicPr/>
            <p:nvPr/>
          </p:nvPicPr>
          <p:blipFill>
            <a:blip r:embed="rId1"/>
            <a:stretch/>
          </p:blipFill>
          <p:spPr>
            <a:xfrm>
              <a:off x="179280" y="2039400"/>
              <a:ext cx="3096360" cy="8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Прямоугольник 5"/>
            <p:cNvSpPr/>
            <p:nvPr/>
          </p:nvSpPr>
          <p:spPr>
            <a:xfrm>
              <a:off x="34920" y="2856600"/>
              <a:ext cx="45720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. Купленную муку высыпали в 2 пакета. В первый       пакет высыпали 3/4 кг, а во второй — на 1/8 кг меньше. Какова масса всей купленной мук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Прямоугольник 6"/>
            <p:cNvSpPr/>
            <p:nvPr/>
          </p:nvSpPr>
          <p:spPr>
            <a:xfrm>
              <a:off x="49680" y="5177880"/>
              <a:ext cx="379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3. Выполните действие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Рисунок 7" descr=""/>
            <p:cNvPicPr/>
            <p:nvPr/>
          </p:nvPicPr>
          <p:blipFill>
            <a:blip r:embed="rId2"/>
            <a:stretch/>
          </p:blipFill>
          <p:spPr>
            <a:xfrm>
              <a:off x="179280" y="5640840"/>
              <a:ext cx="3384360" cy="77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Группа 14"/>
          <p:cNvGrpSpPr/>
          <p:nvPr/>
        </p:nvGrpSpPr>
        <p:grpSpPr>
          <a:xfrm>
            <a:off x="4857840" y="1268280"/>
            <a:ext cx="4070160" cy="5211720"/>
            <a:chOff x="4857840" y="1268280"/>
            <a:chExt cx="4070160" cy="5211720"/>
          </a:xfrm>
        </p:grpSpPr>
        <p:sp>
          <p:nvSpPr>
            <p:cNvPr id="145" name="Прямоугольник 9"/>
            <p:cNvSpPr/>
            <p:nvPr/>
          </p:nvSpPr>
          <p:spPr>
            <a:xfrm>
              <a:off x="4859280" y="1268280"/>
              <a:ext cx="406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Вариант 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1.Выполните действие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Рисунок 10" descr=""/>
            <p:cNvPicPr/>
            <p:nvPr/>
          </p:nvPicPr>
          <p:blipFill>
            <a:blip r:embed="rId3"/>
            <a:stretch/>
          </p:blipFill>
          <p:spPr>
            <a:xfrm>
              <a:off x="4857840" y="2126520"/>
              <a:ext cx="2882520" cy="70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Прямоугольник 11"/>
            <p:cNvSpPr/>
            <p:nvPr/>
          </p:nvSpPr>
          <p:spPr>
            <a:xfrm>
              <a:off x="4857840" y="2872800"/>
              <a:ext cx="40701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. Купили молотый кофе и кофе в зернах. В зернах купили 3/8 кг, а молотого - на 1/8 кг меньше. Сколько килограммов всего купили кофе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Прямоугольник 12"/>
            <p:cNvSpPr/>
            <p:nvPr/>
          </p:nvSpPr>
          <p:spPr>
            <a:xfrm>
              <a:off x="4874040" y="5181480"/>
              <a:ext cx="388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3. Выполните действие: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Рисунок 13" descr=""/>
            <p:cNvPicPr/>
            <p:nvPr/>
          </p:nvPicPr>
          <p:blipFill>
            <a:blip r:embed="rId4"/>
            <a:stretch/>
          </p:blipFill>
          <p:spPr>
            <a:xfrm>
              <a:off x="4857840" y="5691240"/>
              <a:ext cx="3458520" cy="78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5:13:31Z</dcterms:created>
  <dc:creator>Zver</dc:creator>
  <dc:description/>
  <dc:language>en-US</dc:language>
  <cp:lastModifiedBy>Татьяна</cp:lastModifiedBy>
  <dcterms:modified xsi:type="dcterms:W3CDTF">2017-10-23T19:01:05Z</dcterms:modified>
  <cp:revision>65</cp:revision>
  <dc:subject/>
  <dc:title>Среднее арифметическое, размах и мода</dc:title>
</cp:coreProperties>
</file>