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CBBF-3DCE-4AB9-8204-7739C570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F245-C19C-490F-AF35-701536A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0EC7-43BE-4B81-B91C-8BFA50D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07A4-A4B6-4169-9A36-19DB0222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8D1-659C-49E6-A391-103EFB5C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4BAD-E373-4935-962A-1D7CAAD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F865-97BC-45AD-B3AE-455CC4FE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43E0-A70B-43CC-8B0C-4C5F340E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D7D4-522A-46B9-86CB-B97C6EE7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6BAF-72FA-44BE-BBE5-632D79DA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0C4B-0E7F-4FFF-9F20-270530D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7D04-B023-47F9-AD3A-72CE7859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D83B-46E9-4073-B255-DF0ADC4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A41-7622-4391-99D9-D2D5C03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3F32-AEA1-4088-9699-3AFDC644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56AD-1EB6-40E2-AAE5-A08715B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E54B-E2BC-482F-8C76-04467C1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A5BE-168F-4294-8F0E-883A156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7368-869A-470E-A8A6-21D5C00B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3EF0-9EEF-4BDE-8C10-9A5198E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9931-59A1-48B5-98CB-F344989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1D93-BC89-4566-A9E1-07D466C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D6CF-A0A8-4EA2-BB9A-AF51B34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DD89-225D-44A6-8D91-6D4BBFE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B652-2399-4CB4-8813-6E20F79999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BA4-C680-46A9-A6CD-84F739673B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6, 368, 373(б), 374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39640" y="13302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дей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542880" y="1916280"/>
            <a:ext cx="6085080" cy="933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095640" cy="892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39640" y="3429000"/>
            <a:ext cx="81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числа так, чтобы их дробная часть была правильной дроб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6372000" cy="971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324000" y="1341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дроби к наименьшему общему знаменате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266040" y="1484280"/>
            <a:ext cx="55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орядок действ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3164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324000" y="3282840"/>
            <a:ext cx="5387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08000" y="3527280"/>
            <a:ext cx="6056280" cy="6937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179280" y="134136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им пример 5 на стр.49 учеб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79280" y="221760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шите свойства вычитания суммы из числа в буквенн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179280" y="45100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 буквенном виде свойство вычитания числа из су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179280" y="5872320"/>
            <a:ext cx="5832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над зад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324000" y="1197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 наборщица может выполнить всю работу за 15 мин, вторая - за 30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324000" y="2492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    Какую часть работы выполняет за 1 мин первая наборщ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324000" y="33084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    Какую часть работы выполняет за 1 мин вторая наборщ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331920" y="4757760"/>
            <a:ext cx="66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    Какую часть работы выполнят они за 1 мин при совместной раб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98440" y="5765760"/>
            <a:ext cx="67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    За сколько минут две наборщицы вместе выполнят вс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http://bigslide.ru/images/23/22931/831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воение новых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5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8(в,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 работа над зад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амостоятельная работа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( 10 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8"/>
          <p:cNvGrpSpPr/>
          <p:nvPr/>
        </p:nvGrpSpPr>
        <p:grpSpPr>
          <a:xfrm>
            <a:off x="0" y="1268280"/>
            <a:ext cx="4606920" cy="5148360"/>
            <a:chOff x="0" y="1268280"/>
            <a:chExt cx="4606920" cy="5148360"/>
          </a:xfrm>
        </p:grpSpPr>
        <p:sp>
          <p:nvSpPr>
            <p:cNvPr id="139" name="Прямоугольник 3"/>
            <p:cNvSpPr/>
            <p:nvPr/>
          </p:nvSpPr>
          <p:spPr>
            <a:xfrm>
              <a:off x="0" y="1268280"/>
              <a:ext cx="42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ариант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1. 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179280" y="2039400"/>
              <a:ext cx="3096360" cy="8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Прямоугольник 5"/>
            <p:cNvSpPr/>
            <p:nvPr/>
          </p:nvSpPr>
          <p:spPr>
            <a:xfrm>
              <a:off x="34920" y="2856600"/>
              <a:ext cx="4572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Купленную муку высыпали в 2 пакета. В первый       пакет высыпали 3/4 кг, а во второй — на 1/8 кг меньше. Какова масса всей купленной мук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оугольник 6"/>
            <p:cNvSpPr/>
            <p:nvPr/>
          </p:nvSpPr>
          <p:spPr>
            <a:xfrm>
              <a:off x="49680" y="5177880"/>
              <a:ext cx="37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3. 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179280" y="5640840"/>
              <a:ext cx="338436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Группа 14"/>
          <p:cNvGrpSpPr/>
          <p:nvPr/>
        </p:nvGrpSpPr>
        <p:grpSpPr>
          <a:xfrm>
            <a:off x="4857840" y="1268280"/>
            <a:ext cx="4070160" cy="5211720"/>
            <a:chOff x="4857840" y="1268280"/>
            <a:chExt cx="4070160" cy="5211720"/>
          </a:xfrm>
        </p:grpSpPr>
        <p:sp>
          <p:nvSpPr>
            <p:cNvPr id="145" name="Прямоугольник 9"/>
            <p:cNvSpPr/>
            <p:nvPr/>
          </p:nvSpPr>
          <p:spPr>
            <a:xfrm>
              <a:off x="4859280" y="1268280"/>
              <a:ext cx="40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ариант 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1.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"/>
            <p:cNvPicPr/>
            <p:nvPr/>
          </p:nvPicPr>
          <p:blipFill>
            <a:blip r:embed="rId3"/>
            <a:stretch/>
          </p:blipFill>
          <p:spPr>
            <a:xfrm>
              <a:off x="4857840" y="2126520"/>
              <a:ext cx="2882520" cy="7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Прямоугольник 11"/>
            <p:cNvSpPr/>
            <p:nvPr/>
          </p:nvSpPr>
          <p:spPr>
            <a:xfrm>
              <a:off x="4857840" y="2872800"/>
              <a:ext cx="4070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Купили молотый кофе и кофе в зернах. В зернах купили 3/8 кг, а молотого - на 1/8 кг меньше. Сколько килограммов всего купили коф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12"/>
            <p:cNvSpPr/>
            <p:nvPr/>
          </p:nvSpPr>
          <p:spPr>
            <a:xfrm>
              <a:off x="4874040" y="5181480"/>
              <a:ext cx="38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3. Выполните действие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Рисунок 13" descr=""/>
            <p:cNvPicPr/>
            <p:nvPr/>
          </p:nvPicPr>
          <p:blipFill>
            <a:blip r:embed="rId4"/>
            <a:stretch/>
          </p:blipFill>
          <p:spPr>
            <a:xfrm>
              <a:off x="4857840" y="5691240"/>
              <a:ext cx="3458520" cy="78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9:01:05Z</dcterms:modified>
  <cp:revision>65</cp:revision>
  <dc:subject/>
  <dc:title>Среднее арифметическое, размах и мода</dc:title>
</cp:coreProperties>
</file>