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AF053-13D4-43C8-9EC5-45060ADB1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47B32-73FB-4BF9-8F17-7C963F8C1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6316-8A23-4EA1-911F-C272AED95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261C1-D0D8-4CB4-A291-709EE84AE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4BD4-46E5-4787-B8A4-DAF58A39C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4251A-53F0-49DB-9A8F-2FD19C8F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AD93-9420-49B0-8CDC-67D3C281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4E9B-2274-4A3B-BABC-8389D3925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763F5-F2BA-471F-8286-83E32C63F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02FB3-1202-488C-A15E-3F729E08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F379-58FA-4DD3-B071-3EEAB357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AA1E-2A7B-464E-9A84-3379F5B9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364B-F841-4B1E-9D47-4CE026AF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9B44-80CC-470E-9320-D3712D43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E48E-88D2-46D8-9E0D-B4DDE574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3E49A-251D-48CD-8EBD-7C2243FE1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7315-C8E1-4D74-A3C2-698CB38C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94A9C-D561-4154-B18D-E31CA0C3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A8E6-7087-470E-AECB-95BFEAB3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55B87-3895-4963-8F89-D65DC1DB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B883D-0291-47F7-A0C8-4147AE0A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FF26D-D09E-412F-9ABD-CBDE3967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E9770-0560-426A-9C26-7AC473D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676F6-AB8F-451A-B994-AFCBDFFA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5209-AA92-4AFA-B75A-C3C9344EA4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219BE-DA1A-44CC-AFAB-0739F877B8D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828800"/>
            <a:ext cx="6624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жение и вычитание дробей с разными знамена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464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матика 6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67, 369, 373 (в), 3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ся к контроль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41"/>
          <p:cNvPicPr/>
          <p:nvPr/>
        </p:nvPicPr>
        <p:blipFill>
          <a:blip r:embed="rId1"/>
          <a:stretch/>
        </p:blipFill>
        <p:spPr>
          <a:xfrm>
            <a:off x="5364000" y="345132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471600" y="125892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единицу в виде дроби, числитель и знаменатель которой равн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http://compendium.su/mathematics/mathematics6/mathematics6.files/image279.jpg"/>
          <p:cNvPicPr/>
          <p:nvPr/>
        </p:nvPicPr>
        <p:blipFill>
          <a:blip r:embed="rId1"/>
          <a:stretch/>
        </p:blipFill>
        <p:spPr>
          <a:xfrm>
            <a:off x="469800" y="2349360"/>
            <a:ext cx="4678560" cy="979560"/>
          </a:xfrm>
          <a:prstGeom prst="rect">
            <a:avLst/>
          </a:prstGeom>
          <a:ln w="0">
            <a:noFill/>
          </a:ln>
        </p:spPr>
      </p:pic>
      <p:sp>
        <p:nvSpPr>
          <p:cNvPr id="112" name="Прямоугольник 1"/>
          <p:cNvSpPr/>
          <p:nvPr/>
        </p:nvSpPr>
        <p:spPr>
          <a:xfrm>
            <a:off x="609480" y="3971880"/>
            <a:ext cx="808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дставьте числа в виде натурального числ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0" descr="http://compendium.su/mathematics/mathematics6/mathematics6.files/image280.jpg"/>
          <p:cNvPicPr/>
          <p:nvPr/>
        </p:nvPicPr>
        <p:blipFill>
          <a:blip r:embed="rId2"/>
          <a:stretch/>
        </p:blipFill>
        <p:spPr>
          <a:xfrm>
            <a:off x="615960" y="4697280"/>
            <a:ext cx="453240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475560" y="1341360"/>
            <a:ext cx="350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е уравнения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4" descr=""/>
          <p:cNvPicPr/>
          <p:nvPr/>
        </p:nvPicPr>
        <p:blipFill>
          <a:blip r:embed="rId1"/>
          <a:stretch/>
        </p:blipFill>
        <p:spPr>
          <a:xfrm>
            <a:off x="468360" y="1873080"/>
            <a:ext cx="3481200" cy="979560"/>
          </a:xfrm>
          <a:prstGeom prst="rect">
            <a:avLst/>
          </a:prstGeom>
          <a:ln w="0">
            <a:noFill/>
          </a:ln>
        </p:spPr>
      </p:pic>
      <p:sp>
        <p:nvSpPr>
          <p:cNvPr id="117" name="Прямоугольник 5"/>
          <p:cNvSpPr/>
          <p:nvPr/>
        </p:nvSpPr>
        <p:spPr>
          <a:xfrm>
            <a:off x="611280" y="3770280"/>
            <a:ext cx="808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Сегодня мы будем готовиться к контрольной рабо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в тетра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"/>
          <p:cNvSpPr/>
          <p:nvPr/>
        </p:nvSpPr>
        <p:spPr>
          <a:xfrm>
            <a:off x="454320" y="1163520"/>
            <a:ext cx="32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тите дроби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http://compendium.su/mathematics/mathematics6/mathematics6.files/image287.jpg"/>
          <p:cNvPicPr/>
          <p:nvPr/>
        </p:nvPicPr>
        <p:blipFill>
          <a:blip r:embed="rId1"/>
          <a:stretch/>
        </p:blipFill>
        <p:spPr>
          <a:xfrm>
            <a:off x="439560" y="1844640"/>
            <a:ext cx="2403720" cy="863640"/>
          </a:xfrm>
          <a:prstGeom prst="rect">
            <a:avLst/>
          </a:prstGeom>
          <a:ln w="0">
            <a:noFill/>
          </a:ln>
        </p:spPr>
      </p:pic>
      <p:sp>
        <p:nvSpPr>
          <p:cNvPr id="121" name="Прямоугольник 2"/>
          <p:cNvSpPr/>
          <p:nvPr/>
        </p:nvSpPr>
        <p:spPr>
          <a:xfrm>
            <a:off x="324000" y="400536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положите дроби в порядке возраст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9" descr="http://compendium.su/mathematics/mathematics6/mathematics6.files/image288.jpg"/>
          <p:cNvPicPr/>
          <p:nvPr/>
        </p:nvPicPr>
        <p:blipFill>
          <a:blip r:embed="rId2"/>
          <a:stretch/>
        </p:blipFill>
        <p:spPr>
          <a:xfrm>
            <a:off x="384120" y="4672080"/>
            <a:ext cx="3202200" cy="8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в тетра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284040" y="1197000"/>
            <a:ext cx="646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дроби в порядке убыва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compendium.su/mathematics/mathematics6/mathematics6.files/image289.jpg"/>
          <p:cNvPicPr/>
          <p:nvPr/>
        </p:nvPicPr>
        <p:blipFill>
          <a:blip r:embed="rId1"/>
          <a:stretch/>
        </p:blipFill>
        <p:spPr>
          <a:xfrm>
            <a:off x="250920" y="1989000"/>
            <a:ext cx="3236760" cy="87336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266400" y="3132000"/>
            <a:ext cx="298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авните дроб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5" descr=""/>
          <p:cNvPicPr/>
          <p:nvPr/>
        </p:nvPicPr>
        <p:blipFill>
          <a:blip r:embed="rId2"/>
          <a:stretch/>
        </p:blipFill>
        <p:spPr>
          <a:xfrm>
            <a:off x="461880" y="3662280"/>
            <a:ext cx="1111320" cy="89388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6" descr=""/>
          <p:cNvPicPr/>
          <p:nvPr/>
        </p:nvPicPr>
        <p:blipFill>
          <a:blip r:embed="rId3"/>
          <a:stretch/>
        </p:blipFill>
        <p:spPr>
          <a:xfrm>
            <a:off x="366840" y="4941720"/>
            <a:ext cx="1252440" cy="9352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7" descr=""/>
          <p:cNvPicPr/>
          <p:nvPr/>
        </p:nvPicPr>
        <p:blipFill>
          <a:blip r:embed="rId4"/>
          <a:stretch/>
        </p:blipFill>
        <p:spPr>
          <a:xfrm>
            <a:off x="3995640" y="3573360"/>
            <a:ext cx="1081080" cy="94788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8" descr=""/>
          <p:cNvPicPr/>
          <p:nvPr/>
        </p:nvPicPr>
        <p:blipFill>
          <a:blip r:embed="rId5"/>
          <a:stretch/>
        </p:blipFill>
        <p:spPr>
          <a:xfrm>
            <a:off x="4025880" y="4933800"/>
            <a:ext cx="1482840" cy="8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в тетрад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1"/>
          <p:cNvSpPr/>
          <p:nvPr/>
        </p:nvSpPr>
        <p:spPr>
          <a:xfrm>
            <a:off x="468360" y="1413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все дроби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2/5, но меньше 3/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10"/>
          <p:cNvSpPr/>
          <p:nvPr/>
        </p:nvSpPr>
        <p:spPr>
          <a:xfrm>
            <a:off x="468360" y="371628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шите все дроби, которы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ьше 7/15, но меньше 8/1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" descr="http://bigslide.ru/images/23/22931/831/img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над задач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2"/>
          <p:cNvSpPr/>
          <p:nvPr/>
        </p:nvSpPr>
        <p:spPr>
          <a:xfrm>
            <a:off x="619200" y="162864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5"/>
          <p:cNvSpPr/>
          <p:nvPr/>
        </p:nvSpPr>
        <p:spPr>
          <a:xfrm>
            <a:off x="637560" y="2268360"/>
            <a:ext cx="140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тоги урок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ложить или вычесть дроби с разными знаменател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Зверева Татьяна Анатольевна</cp:lastModifiedBy>
  <dcterms:modified xsi:type="dcterms:W3CDTF">2018-07-07T15:53:28Z</dcterms:modified>
  <cp:revision>71</cp:revision>
  <dc:subject/>
  <dc:title>Среднее арифметическое, размах и мода</dc:title>
</cp:coreProperties>
</file>