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32825-D91B-4C48-A603-34D3B87E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D9A7F-C372-4FBF-ABED-AD06C43E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079B-14B9-49F0-8F50-A9E1E8C6D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58A4D-70A1-4DD4-9172-501B250F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07D2-A5CE-4C11-8ECC-6036C135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EDD9-68AE-470A-A725-4D5A13A0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5C3A-F992-4399-8CBB-BAABC4AE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22C3-D2C0-4952-89C2-20E43DE2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86DB-3A0C-451F-8B7A-62D6E7CC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18DCF-E697-4E9D-88A9-ADA8784B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EB6E-CA21-434F-8454-3CF23EEC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AFF38-2315-4D8F-8965-DA1F23DD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26E4-4605-45E8-A239-B1EC65BD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CADA6-FC0F-4CBE-95A9-8DAB3831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3AB2-E90F-4EED-89E0-46527F382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8E21-4422-489C-9F4A-CA669398A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1462E-5980-440A-89CF-21374CCAC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A321-17CD-4700-83CB-1C6C246F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BB912-FB64-4200-9699-B7C286BA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FE7DC-D21D-4112-8454-7552A28C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B23F-4500-4AC3-AECA-162115B5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327B2-25E7-4FDD-8268-1108D8AB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853AE-6A17-4F75-9CD8-F24B8367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DFF64-2C17-4317-97B7-74B10A65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9AB6-F446-42CD-A3AF-6159011017F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3830-DF50-4EB4-BA34-CEC5E1289AC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828800"/>
            <a:ext cx="6624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жение и вычитание дробей с разными знамена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464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матика 6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7, 369, 373 (в), 3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ся к контроль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41"/>
          <p:cNvPicPr/>
          <p:nvPr/>
        </p:nvPicPr>
        <p:blipFill>
          <a:blip r:embed="rId1"/>
          <a:stretch/>
        </p:blipFill>
        <p:spPr>
          <a:xfrm>
            <a:off x="5364000" y="3451320"/>
            <a:ext cx="31258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1600" y="125892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единицу в виде дроби, числитель и знаменатель которой рав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http://compendium.su/mathematics/mathematics6/mathematics6.files/image279.jpg"/>
          <p:cNvPicPr/>
          <p:nvPr/>
        </p:nvPicPr>
        <p:blipFill>
          <a:blip r:embed="rId1"/>
          <a:stretch/>
        </p:blipFill>
        <p:spPr>
          <a:xfrm>
            <a:off x="469800" y="2349360"/>
            <a:ext cx="4678560" cy="9795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609480" y="3971880"/>
            <a:ext cx="80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числа в виде натурального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http://compendium.su/mathematics/mathematics6/mathematics6.files/image280.jpg"/>
          <p:cNvPicPr/>
          <p:nvPr/>
        </p:nvPicPr>
        <p:blipFill>
          <a:blip r:embed="rId2"/>
          <a:stretch/>
        </p:blipFill>
        <p:spPr>
          <a:xfrm>
            <a:off x="615960" y="4697280"/>
            <a:ext cx="45324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475560" y="134136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е уравнения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468360" y="1873080"/>
            <a:ext cx="3481200" cy="9795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611280" y="3770280"/>
            <a:ext cx="80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егодня мы будем готовиться к контрольн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в тетра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454320" y="116352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ите дроби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http://compendium.su/mathematics/mathematics6/mathematics6.files/image287.jpg"/>
          <p:cNvPicPr/>
          <p:nvPr/>
        </p:nvPicPr>
        <p:blipFill>
          <a:blip r:embed="rId1"/>
          <a:stretch/>
        </p:blipFill>
        <p:spPr>
          <a:xfrm>
            <a:off x="439560" y="1844640"/>
            <a:ext cx="2403720" cy="8636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324000" y="4005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оложите дроби в порядке возраст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ttp://compendium.su/mathematics/mathematics6/mathematics6.files/image288.jpg"/>
          <p:cNvPicPr/>
          <p:nvPr/>
        </p:nvPicPr>
        <p:blipFill>
          <a:blip r:embed="rId2"/>
          <a:stretch/>
        </p:blipFill>
        <p:spPr>
          <a:xfrm>
            <a:off x="384120" y="4672080"/>
            <a:ext cx="320220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в тетра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284040" y="1197000"/>
            <a:ext cx="64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дроби в порядке убы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compendium.su/mathematics/mathematics6/mathematics6.files/image289.jpg"/>
          <p:cNvPicPr/>
          <p:nvPr/>
        </p:nvPicPr>
        <p:blipFill>
          <a:blip r:embed="rId1"/>
          <a:stretch/>
        </p:blipFill>
        <p:spPr>
          <a:xfrm>
            <a:off x="250920" y="1989000"/>
            <a:ext cx="3236760" cy="8733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266400" y="313200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дро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"/>
          <p:cNvPicPr/>
          <p:nvPr/>
        </p:nvPicPr>
        <p:blipFill>
          <a:blip r:embed="rId2"/>
          <a:stretch/>
        </p:blipFill>
        <p:spPr>
          <a:xfrm>
            <a:off x="461880" y="3662280"/>
            <a:ext cx="1111320" cy="893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"/>
          <p:cNvPicPr/>
          <p:nvPr/>
        </p:nvPicPr>
        <p:blipFill>
          <a:blip r:embed="rId3"/>
          <a:stretch/>
        </p:blipFill>
        <p:spPr>
          <a:xfrm>
            <a:off x="366840" y="4941720"/>
            <a:ext cx="1252440" cy="935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"/>
          <p:cNvPicPr/>
          <p:nvPr/>
        </p:nvPicPr>
        <p:blipFill>
          <a:blip r:embed="rId4"/>
          <a:stretch/>
        </p:blipFill>
        <p:spPr>
          <a:xfrm>
            <a:off x="3995640" y="3573360"/>
            <a:ext cx="1081080" cy="9478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"/>
          <p:cNvPicPr/>
          <p:nvPr/>
        </p:nvPicPr>
        <p:blipFill>
          <a:blip r:embed="rId5"/>
          <a:stretch/>
        </p:blipFill>
        <p:spPr>
          <a:xfrm>
            <a:off x="4025880" y="4933800"/>
            <a:ext cx="1482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в тетра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468360" y="1413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все дроби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2/5, но меньше 3/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468360" y="371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все дроби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7/15, но меньше 8/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4" descr="http://bigslide.ru/images/23/22931/831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над задач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619200" y="162864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637560" y="226836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тоги урок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ложить или вычесть дроби с разными знаменател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Зверева Татьяна Анатольевна</cp:lastModifiedBy>
  <dcterms:modified xsi:type="dcterms:W3CDTF">2018-07-07T15:53:28Z</dcterms:modified>
  <cp:revision>71</cp:revision>
  <dc:subject/>
  <dc:title>Среднее арифметическое, размах и мода</dc:title>
</cp:coreProperties>
</file>