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8363-E7F4-4ADA-94C6-7D7E91E8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12F-4B09-4CF5-912E-37D514AE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7C2-99C7-470B-B2D1-046FD615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A497-A1EB-4BC6-B3E5-3142D5DD5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4D1C9-1721-41E7-ADB3-57127D66C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7D9F-A4D4-4149-9BA1-3B1629850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EB43-F3BA-452C-A6A7-B09D5AF6E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4CF8-E54E-412E-8FFB-18F17D2E0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0BF0-ECD3-4134-8DAA-ED347CD8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D71A-1609-4414-B54A-D6941D7A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DC21-D0FD-45F1-93C7-F76409CA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12B7-D462-409E-947C-A25BE2FF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F79D1-933D-4AC4-8BFA-59DC85B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7A4D-329C-4795-BCE0-AD80DF3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5EA17-5577-4625-9A70-8F91DF5A9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09F9-C8E4-42BA-9485-49BA7D25A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EC837-76A7-4E69-AED2-9C22B3B79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0279-1D47-4373-A558-ACAD743DD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8CA2-26D4-45C7-839E-14D8674F7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A585-46E4-4E39-81C1-C5E4B5471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AD0-F5C0-4DCA-8A40-00AAE217D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F63-4996-40EA-90D2-9A0FF594C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2A9-6DD3-4562-8C41-F85821CF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3861-2630-41D6-A254-4DADF52E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3692-5897-4FB2-B09C-6B88E2EDEC5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9B4C-41D9-409C-88E9-C72C0FE727E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Times New Roman"/>
              </a:rPr>
              <a:t>Особенности мониторинга готовности к ЕГЭ.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3772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ниторинг качества должен быть системным и комплексным. По нашему мнению, он должен включать следующие параметры: контроль текущих оценок по предметам, выбираемым учащимися в форме ЕГЭ, оценок по контрольным работам, оценок по самостоятельным работам, результаты пробного внутришкольного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кую работу проводит заместитель директора, ответственный за вопросы ЕГЭ, анализирует их, выносит на обсуждение на административные и производственные совещания, доводит до сведения родителей. Мониторинг обеспечивает возможность прогнозирования оценок на выпускном ЕГЭ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1100"/>
                            </p:stCondLst>
                            <p:childTnLst>
                              <p:par>
                                <p:cTn id="12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сихологическая подготовка к ЕГЭ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ая подготовка учащихся может осуществляться в форме спецкурса (или элективного курса). Цели такого курса: отработка стратегии и тактики поведения в период подготовки к экзамену; обучение навыкам саморегуляции, самоконтроля, повышение уверенности в себе, в своих сил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905600" cy="490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Цель мониторинга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Целостное прогностическое отслеживание качества образовательной подготовки выпускников. </a:t>
            </a:r>
            <a:br>
              <a:rPr sz="2400"/>
            </a:b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Задачи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1. Создание системы мониторинга качества подготовки к государственной итоговой аттестации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2. Создание банка тестовых заданий в формате ЕГЭ по всем образовательным предметам </a:t>
            </a: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Ответственные за мониторинг: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дминистрация ОУ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едагог-психолог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чителя предметник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543800" cy="53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Инструментарий мониторинга: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равовая база ЕГЭ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Контрольно-измерительные материалы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Тесты в формате ЕГЭ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Бланки ЕГЭ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нкеты для учеников, родителей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Психологический инструментарий: тесты, анкеты, рекомендации и др. </a:t>
            </a: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Уровни мониторинга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дминистративный 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администрация – учителя - учащиеся)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чительский 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учителя - учащиеся)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Ученический </a:t>
            </a:r>
            <a:br>
              <a:rPr sz="2400"/>
            </a:br>
            <a:r>
              <a:rPr b="0" i="1" lang="ru-RU" sz="2400" spc="-1" strike="noStrike">
                <a:solidFill>
                  <a:srgbClr val="330033"/>
                </a:solidFill>
                <a:latin typeface="Times New Roman"/>
              </a:rPr>
              <a:t>(самооценка учащихся)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990033"/>
                </a:solidFill>
                <a:uFillTx/>
                <a:latin typeface="Times New Roman"/>
              </a:rPr>
              <a:t>Сроки проведения мониторинга: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 течении учебного год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609480"/>
            <a:ext cx="7543800" cy="598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9900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33"/>
                </a:solidFill>
                <a:uFillTx/>
                <a:latin typeface="Times New Roman"/>
              </a:rPr>
              <a:t>Принципы проведения мониторинга:</a:t>
            </a:r>
            <a:r>
              <a:rPr b="1" lang="ru-RU" sz="28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системность (ведется последовательно, функционирует команда специалистов, подготавливающая учащихся по различным направлениям – информационно, предметно, психологически); </a:t>
            </a:r>
            <a:br>
              <a:rPr sz="2800"/>
            </a:br>
            <a:r>
              <a:rPr b="0" lang="ru-RU" sz="2800" spc="-1" strike="noStrike">
                <a:solidFill>
                  <a:srgbClr val="330033"/>
                </a:solidFill>
                <a:latin typeface="Times New Roman"/>
              </a:rPr>
              <a:t>гибкость (отслеживание изменений нормативно-правовой базы, накопление научно-методических материалов по вопросам ЕГЭ, индивидуальный подход к каждому учащемуся).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584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 u="sng">
                <a:solidFill>
                  <a:srgbClr val="990033"/>
                </a:solidFill>
                <a:uFillTx/>
                <a:latin typeface="Times New Roman"/>
              </a:rPr>
              <a:t>Анализ результатов мониторинга, определение путей решения возникших проблем:</a:t>
            </a:r>
            <a:r>
              <a:rPr b="1" lang="ru-RU" sz="4200" spc="-1" strike="noStrike" u="sng">
                <a:solidFill>
                  <a:srgbClr val="330033"/>
                </a:solidFill>
                <a:uFillTx/>
                <a:latin typeface="Times New Roman"/>
              </a:rPr>
              <a:t>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Методический совет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Школьные методические объединения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Управляющий совет школы </a:t>
            </a:r>
            <a:br>
              <a:rPr sz="4200"/>
            </a:b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одительские собрания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900"/>
            </a:br>
            <a:endParaRPr b="0" lang="en-US" sz="3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1483920"/>
            <a:ext cx="7894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 информационная готовность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информированность о правилах поведения на экзамене, информированность о правилах заполнения бланков и т.д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 психологическая готов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(состояние готовности – "настрой", внутренняя настроенность на определенное поведение, ориентированность на целесообразные действия, актуализация и приспособление возможностей личности для успешных действий в ситуации сдачи экзаме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 предметная готовнос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или содержательная (готовность по определенному предмету, умение решать тестовые задания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4"/>
          <p:cNvSpPr txBox="1"/>
          <p:nvPr/>
        </p:nvSpPr>
        <p:spPr>
          <a:xfrm>
            <a:off x="2771640" y="692280"/>
            <a:ext cx="42102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отовности к ЕГЭ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700" spc="-1" strike="noStrike">
                <a:solidFill>
                  <a:srgbClr val="b2b2b2"/>
                </a:solidFill>
                <a:latin typeface="Times New Roman"/>
              </a:rPr>
              <a:t>Цель мониторинга: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6360" y="2276640"/>
            <a:ext cx="7715160" cy="38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ЗДАНИЕ ЦЕЛОСТНОЙ, ЕДИНОЙ СИСТЕМЫ КАЧЕСТВЕННОЙ ПОДГОТОВКИ ВЫПУСКНИКОВ  К ГОСУДАРСТВЕННОЙ (ИТОГОВОЙ) АТТЕСТ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333000"/>
            <a:ext cx="6840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АКТУАЛЬНЫЕ  ЗАДАЧИ</a:t>
            </a: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ПОДГОТОВКИ К ЕГЭ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информационной работы по подготовке учащихся к ЕГЭ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иторинг качеств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сихологическая подготовка к ЕГ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31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38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ru-RU" sz="3800" spc="-1" strike="noStrike" u="sng">
                <a:solidFill>
                  <a:srgbClr val="0070c0"/>
                </a:solidFill>
                <a:uFillTx/>
                <a:latin typeface="Times New Roman"/>
              </a:rPr>
              <a:t>КОМПЛЕКСНЫЙ ПОДХОД:</a:t>
            </a:r>
            <a:r>
              <a:rPr b="1" lang="ru-RU" sz="3800" spc="-1" strike="noStrike">
                <a:solidFill>
                  <a:srgbClr val="0070c0"/>
                </a:solidFill>
                <a:latin typeface="Times New Roman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000066"/>
                </a:solidFill>
                <a:latin typeface="Times New Roman"/>
              </a:rPr>
              <a:t>ЦЕЛЕНАПРАВЛЕННОЕ СОТРУДНИЧЕСТВ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6920" y="1915920"/>
            <a:ext cx="780444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427120" y="3778200"/>
            <a:ext cx="401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ЧИТЕЛЕЙ-ПРЕДМЕТНИКО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042920" y="263700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ДМИНИСТР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59480" y="277020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СИХОЛОГ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8"/>
          <p:cNvSpPr/>
          <p:nvPr/>
        </p:nvSpPr>
        <p:spPr>
          <a:xfrm flipH="1">
            <a:off x="1835280" y="1916280"/>
            <a:ext cx="129672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9"/>
          <p:cNvSpPr/>
          <p:nvPr/>
        </p:nvSpPr>
        <p:spPr>
          <a:xfrm>
            <a:off x="5003640" y="1989000"/>
            <a:ext cx="194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 flipH="1">
            <a:off x="4066920" y="1916280"/>
            <a:ext cx="144360" cy="19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84360" y="4581360"/>
            <a:ext cx="82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ЖНА СОВМЕСТНАЯ РАБОТА ВСЕХ УЧАСТНИКОВ ОБРАЗОВАТЕЛЬНОГО УЧРЕЖД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ФОРМАЦИОННАЯ РАБОТА С ПЕДАГОГАМИ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4920" y="1628280"/>
            <a:ext cx="845028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НА ПРОИЗВОДСТВЕННЫХ СОВЕЩАНИЯ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ИЗУЧЕНИЕ НОРМАТИВНО-ПРАВОВЫХ ДОКУМЕНТОВ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О  ХОДЕ ПОДГОТОВКИ К ЕГЭ в школе , в районе,  в крае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на МО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роведение пробных ЕГЭ, обсуждение результатов пробных 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ворческая презентация опыта по подготовке уч-ся к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овместных рекомендаций учителю-предметнику по стратегиям  подготовки уч-ся к ЕГЭ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374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сихологические особенности 11 кл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На педагогическом совете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«ЕГЭ- методические подходы к подготовке уч-ся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990033"/>
                </a:solidFill>
                <a:latin typeface="Arial"/>
              </a:rPr>
              <a:t>Работа учителей на районных и краевых семинарах  и курсах по вопросам ЕГЭ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99128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Информационная работа с учащимися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3640" y="1773360"/>
            <a:ext cx="845028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Организация информационной работы в форме инструктажа уч-с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авила поведения на экзамен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авила заполнения блан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Расписание работы кабинета информати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Информационный стенд для уч-с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оведение занятий по заполнению бланков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Пробные  школьные ЕГЭ по различным предметам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1900" spc="-1" strike="noStrike">
                <a:solidFill>
                  <a:srgbClr val="990033"/>
                </a:solidFill>
                <a:latin typeface="Arial"/>
              </a:rPr>
              <a:t>Работа в библиотек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35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330033"/>
                </a:solidFill>
                <a:latin typeface="Times New Roman"/>
              </a:rPr>
              <a:t>Информационная работа с родителям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55640" y="1844640"/>
            <a:ext cx="7702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одительские собрания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ндивидуальное консультирование родителей  (кл. рук, педагог –психолог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460"/>
                            </p:stCondLst>
                            <p:childTnLst>
                              <p:par>
                                <p:cTn id="9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6920" y="609120"/>
            <a:ext cx="7631280" cy="418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Мониторинг качества образования – что это?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Система мероприятий  по повышению качества подготовки уч-ся к ЕГЭ: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посещение администрацией уроков учителей-предметников, методическая помощь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включение в планы работы деятельности школьных методических объединений вопросов подготовки к ЕГЭ, дополнительные семинары, курсы повышения квалификации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индивидуальные консультации учителей-предметников для учащихся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привлечение ресурсов дистанционного обучения и ресурсов Интернет для подготовки к ЕГЭ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широкий спектр элективных курсов, расширяющих программу базового обучения; </a:t>
            </a:r>
            <a:br>
              <a:rPr sz="1800"/>
            </a:br>
            <a:r>
              <a:rPr b="0" lang="ru-RU" sz="1800" spc="-1" strike="noStrike">
                <a:solidFill>
                  <a:srgbClr val="330033"/>
                </a:solidFill>
                <a:latin typeface="Times New Roman"/>
              </a:rPr>
              <a:t>- психологическая поддержка учащихся, консультирование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025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3462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6:55:43Z</dcterms:created>
  <dc:creator/>
  <dc:description/>
  <dc:language>en-US</dc:language>
  <cp:lastModifiedBy>user</cp:lastModifiedBy>
  <dcterms:modified xsi:type="dcterms:W3CDTF">2018-06-11T23:34:31Z</dcterms:modified>
  <cp:revision>30</cp:revision>
  <dc:subject/>
  <dc:title>ПЕДАГОГИЧЕСКОЕ  ВЗАИМОДЕЙСТВИЕ</dc:title>
</cp:coreProperties>
</file>