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C2AE-93AD-4629-BDB4-AD771E04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673-0198-4F7C-83B3-7020E6D2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56D-E1BE-424C-B1EF-7F3308007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0056-6B23-4217-9781-FDC8B3B38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B5D09-FFD4-4FE0-A204-8C112454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18835-334E-4B3E-A8FD-D89F744BE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E2F26-A105-4F39-842F-42F788E2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FE11A-7937-4B63-9B64-74E8B0B1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DDAF-ED10-44D2-95C8-A6D518A9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5860-7AD7-475D-B261-D5CFC80FE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9F9B-2106-4966-A8BF-6FC00BED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DB47-3DEB-4E9D-AD05-F076EECB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25CB-D924-44DB-B65E-F91FDDCAA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6922-FFD8-4199-93E7-B5A30DE3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03112-EFC2-4BB3-A575-75DD987F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E43F3-1D13-4795-B9CF-37A8B3943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28E12-7C4E-4140-9D36-2186CCD3C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90CD-DE56-4B88-8891-30DE838B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0EE3-86A0-4B16-AE20-5895E5D1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BD22-D3D8-4B5D-ADD7-C54BF93FB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5ED1-10CF-4587-AE2A-F239D1C9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E61E-22E6-4378-BD29-D0873631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F22B-4EFA-4A8D-A3BC-A36ED60A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70F9-54F7-4057-ABF3-6B5815C7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AECA-A8CC-4A9F-9EBD-C3971D8424E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0291-5CA2-48F5-9041-EEF90189737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Times New Roman"/>
              </a:rPr>
              <a:t>Особенности мониторинга готовности к ЕГЭ.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3772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иторинг качества должен быть системным и комплексным. По нашему мнению, он должен включать следующие параметры: контроль текущих оценок по предметам, выбираемым учащимися в форме ЕГЭ, оценок по контрольным работам, оценок по самостоятельным работам, результаты пробного внутришкольного ЕГЭ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ую работу проводит заместитель директора, ответственный за вопросы ЕГЭ, анализирует их, выносит на обсуждение на административные и производственные совещания, доводит до сведения родителей. Мониторинг обеспечивает возможность прогнозирования оценок на выпускном ЕГЭ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сихологическая подготовка к ЕГЭ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логическая подготовка учащихся может осуществляться в форме спецкурса (или элективного курса). Цели такого курса: отработка стратегии и тактики поведения в период подготовки к экзамену; обучение навыкам саморегуляции, самоконтроля, повышение уверенности в себе, в своих си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905600" cy="49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Times New Roman"/>
              </a:rPr>
              <a:t>Цель мониторинга: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Целостное прогностическое отслеживание качества образовательной подготовки выпускников. </a:t>
            </a: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990033"/>
                </a:solidFill>
                <a:uFillTx/>
                <a:latin typeface="Times New Roman"/>
              </a:rPr>
              <a:t>Задачи: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1. Создание системы мониторинга качества подготовки к государственной итоговой аттестации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2. Создание банка тестовых заданий в формате ЕГЭ по всем образовательным предметам </a:t>
            </a:r>
            <a:br>
              <a:rPr sz="2400"/>
            </a:br>
            <a:r>
              <a:rPr b="1" lang="ru-RU" sz="2400" spc="-1" strike="noStrike" u="sng">
                <a:solidFill>
                  <a:srgbClr val="990033"/>
                </a:solidFill>
                <a:uFillTx/>
                <a:latin typeface="Times New Roman"/>
              </a:rPr>
              <a:t>Ответственные за мониторинг: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дминистрация ОУ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едагог-психолог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Учителя предметник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754380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Times New Roman"/>
              </a:rPr>
              <a:t>Инструментарий мониторинга: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равовая база ЕГЭ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Контрольно-измерительные материалы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Тесты в формате ЕГЭ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Бланки ЕГЭ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нкеты для учеников, родителей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сихологический инструментарий: тесты, анкеты, рекомендации и др. </a:t>
            </a:r>
            <a:br>
              <a:rPr sz="2400"/>
            </a:br>
            <a:r>
              <a:rPr b="1" lang="ru-RU" sz="2400" spc="-1" strike="noStrike" u="sng">
                <a:solidFill>
                  <a:srgbClr val="990033"/>
                </a:solidFill>
                <a:uFillTx/>
                <a:latin typeface="Times New Roman"/>
              </a:rPr>
              <a:t>Уровни мониторинга: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дминистративный </a:t>
            </a:r>
            <a:br>
              <a:rPr sz="2400"/>
            </a:b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(администрация – учителя - учащиеся)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Учительский </a:t>
            </a:r>
            <a:br>
              <a:rPr sz="2400"/>
            </a:b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(учителя - учащиеся)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Ученический </a:t>
            </a:r>
            <a:br>
              <a:rPr sz="2400"/>
            </a:b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(самооценка учащихся)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 u="sng">
                <a:solidFill>
                  <a:srgbClr val="990033"/>
                </a:solidFill>
                <a:uFillTx/>
                <a:latin typeface="Times New Roman"/>
              </a:rPr>
              <a:t>Сроки проведения мониторинга: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В течении учебного год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543800" cy="598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99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33"/>
                </a:solidFill>
                <a:uFillTx/>
                <a:latin typeface="Times New Roman"/>
              </a:rPr>
              <a:t>Принципы проведения мониторинга:</a:t>
            </a:r>
            <a:r>
              <a:rPr b="1" lang="ru-RU" sz="2800" spc="-1" strike="noStrike" u="sng">
                <a:solidFill>
                  <a:srgbClr val="330033"/>
                </a:solidFill>
                <a:uFillTx/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системность (ведется последовательно, функционирует команда специалистов, подготавливающая учащихся по различным направлениям – информационно, предметно, психологически);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гибкость (отслеживание изменений нормативно-правовой базы, накопление научно-методических материалов по вопросам ЕГЭ, индивидуальный подход к каждому учащемуся)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584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990033"/>
                </a:solidFill>
                <a:uFillTx/>
                <a:latin typeface="Times New Roman"/>
              </a:rPr>
              <a:t>Анализ результатов мониторинга, определение путей решения возникших проблем:</a:t>
            </a:r>
            <a:r>
              <a:rPr b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 </a:t>
            </a: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етодический совет </a:t>
            </a: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Школьные методические объединения </a:t>
            </a: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правляющий совет школы </a:t>
            </a: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одительские собран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894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 информационная готовнос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информированность о правилах поведения на экзамене, информированность о правилах заполнения бланков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 психологическая готов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состояние готовности – "настрой", внутренняя настроенность на определенное поведение, ориентированность на целесообразные действия, актуализация и приспособление возможностей личности для успешных действий в ситуации сдачи экзам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 предметная готов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ли содержательная (готовность по определенному предмету, умение решать тестовые зада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2771640" y="692280"/>
            <a:ext cx="4210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готовности к ЕГЭ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b2b2b2"/>
                </a:solidFill>
                <a:latin typeface="Times New Roman"/>
              </a:rPr>
              <a:t>Цель мониторинга: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6360" y="2276640"/>
            <a:ext cx="771516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ЦЕЛОСТНОЙ, ЕДИНОЙ СИСТЕМЫ КАЧЕСТВЕННОЙ ПОДГОТОВКИ ВЫПУСКНИКОВ  К ГОСУДАРСТВЕННОЙ (ИТОГОВОЙ) АТТЕС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6840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АКТУАЛЬНЫЕ  ЗАДАЧИ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ОДГОТОВКИ К ЕГЭ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я информационной работы по подготовке учащихся к ЕГЭ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ниторинг качеств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ихологическая подготовка к ЕГ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3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800" spc="-1" strike="noStrike" u="sng">
                <a:solidFill>
                  <a:srgbClr val="0070c0"/>
                </a:solidFill>
                <a:uFillTx/>
                <a:latin typeface="Times New Roman"/>
              </a:rPr>
              <a:t>КОМПЛЕКСНЫЙ ПОДХОД:</a:t>
            </a:r>
            <a:r>
              <a:rPr b="1" lang="ru-RU" sz="3800" spc="-1" strike="noStrike">
                <a:solidFill>
                  <a:srgbClr val="0070c0"/>
                </a:solidFill>
                <a:latin typeface="Times New Roman"/>
              </a:rPr>
              <a:t> </a:t>
            </a:r>
            <a:br>
              <a:rPr sz="3800"/>
            </a:br>
            <a:r>
              <a:rPr b="1" lang="ru-RU" sz="3800" spc="-1" strike="noStrike">
                <a:solidFill>
                  <a:srgbClr val="000066"/>
                </a:solidFill>
                <a:latin typeface="Times New Roman"/>
              </a:rPr>
              <a:t>ЦЕЛЕНАПРАВЛЕННОЕ СОТРУДНИЧЕСТВО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6920" y="1915920"/>
            <a:ext cx="7804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427120" y="3778200"/>
            <a:ext cx="40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ЕЙ-ПРЕДМЕТ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042920" y="2637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ДМИНИСТ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459480" y="2770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СИХОЛО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1835280" y="1916280"/>
            <a:ext cx="1296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5003640" y="1989000"/>
            <a:ext cx="194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0"/>
          <p:cNvSpPr/>
          <p:nvPr/>
        </p:nvSpPr>
        <p:spPr>
          <a:xfrm flipH="1">
            <a:off x="4066920" y="1916280"/>
            <a:ext cx="144360" cy="19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684360" y="458136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ЖНА СОВМЕСТНАЯ РАБОТА ВСЕХ УЧАСТНИКОВ ОБРАЗОВАТЕЛЬНОГО УЧРЕЖ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9128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НФОРМАЦИОННАЯ РАБОТА С ПЕДАГОГАМ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45028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0033"/>
                </a:solidFill>
                <a:latin typeface="Arial"/>
              </a:rPr>
              <a:t>НА ПРОИЗВОДСТВЕННЫХ СОВЕЩАНИЯХ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ЗУЧЕНИЕ НОРМАТИВНО-ПРАВОВЫХ ДОКУМЕН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 ЕГЭ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374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  ХОДЕ ПОДГОТОВКИ К ЕГЭ в школе , в районе,  в крае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990033"/>
                </a:solidFill>
                <a:latin typeface="Arial"/>
              </a:rPr>
              <a:t>на МО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374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едение пробных ЕГЭ, обсуждение результатов пробных  ЕГЭ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374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ворческая презентация опыта по подготовке уч-ся к ЕГЭ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374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работка совместных рекомендаций учителю-предметнику по стратегиям  подготовки уч-ся к ЕГЭ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374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сихологические особенности 11 к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0033"/>
                </a:solidFill>
                <a:latin typeface="Arial"/>
              </a:rPr>
              <a:t>На педагогическом совете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ЕГЭ- методические подходы к подготовке уч-с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0033"/>
                </a:solidFill>
                <a:latin typeface="Arial"/>
              </a:rPr>
              <a:t>Работа учителей на районных и краевых семинарах  и курсах по вопросам ЕГЭ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9128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нформационная работа с учащимис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4502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33"/>
                </a:solidFill>
                <a:latin typeface="Arial"/>
              </a:rPr>
              <a:t>Организация информационной работы в форме инструктажа уч-с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33"/>
                </a:solidFill>
                <a:latin typeface="Arial"/>
              </a:rPr>
              <a:t>Правила поведения на экзамен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33"/>
                </a:solidFill>
                <a:latin typeface="Arial"/>
              </a:rPr>
              <a:t>Правила заполнения бланков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33"/>
                </a:solidFill>
                <a:latin typeface="Arial"/>
              </a:rPr>
              <a:t>Расписание работы кабинета информати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33"/>
                </a:solidFill>
                <a:latin typeface="Arial"/>
              </a:rPr>
              <a:t>Информационный стенд для уч-с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33"/>
                </a:solidFill>
                <a:latin typeface="Arial"/>
              </a:rPr>
              <a:t>Проведение занятий по заполнению бланков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33"/>
                </a:solidFill>
                <a:latin typeface="Arial"/>
              </a:rPr>
              <a:t>Пробные  школьные ЕГЭ по различным предмета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990033"/>
                </a:solidFill>
                <a:latin typeface="Arial"/>
              </a:rPr>
              <a:t>Работа в библиотек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Информационная работа с родителям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02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дительские собр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дивидуальное консультирование родителей  (кл. рук, педагог –психолог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46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920" y="609120"/>
            <a:ext cx="763128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Мониторинг качества образования – что это?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Система мероприятий  по повышению качества подготовки уч-ся к ЕГЭ: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- посещение администрацией уроков учителей-предметников, методическая помощь; 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- включение в планы работы деятельности школьных методических объединений вопросов подготовки к ЕГЭ, дополнительные семинары, курсы повышения квалификации; 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- индивидуальные консультации учителей-предметников для учащихся; 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привлечение ресурсов дистанционного обучения и ресурсов Интернет для подготовки к ЕГЭ; 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- широкий спектр элективных курсов, расширяющих программу базового обучения; 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- психологическая поддержка учащихся, консультирование.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025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462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6:55:43Z</dcterms:created>
  <dc:creator/>
  <dc:description/>
  <dc:language>en-US</dc:language>
  <cp:lastModifiedBy>user</cp:lastModifiedBy>
  <dcterms:modified xsi:type="dcterms:W3CDTF">2018-06-11T23:34:31Z</dcterms:modified>
  <cp:revision>30</cp:revision>
  <dc:subject/>
  <dc:title>ПЕДАГОГИЧЕСКОЕ  ВЗАИМОДЕЙСТВИЕ</dc:title>
</cp:coreProperties>
</file>