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CF50-8882-4C09-A77D-D85F35038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D55D-BF2B-401A-B8CE-C25EE054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2C18-7780-4E1A-8C9F-5E1127EB3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466F-47B8-4FBC-B613-43A854178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15452-D59E-416E-935C-B1ED2FB87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6F642-6F96-45AF-9AC1-6E0370E9A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6C150-8F83-417E-9B69-5708F119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8EFE-D891-458A-BE5C-8C1E74CE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C4A54-C5FD-42D6-BC99-A7ED2390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A69C7-2789-4E33-B3F7-10C2AECC1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1482-6FFC-4D03-86EB-B505AF43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5A01-568D-47CE-933A-622209C5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9776B-5932-4839-9F80-AC8BF1B9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CE9A-C38B-4098-BF47-016A83DF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8183-8795-4ABB-ABC0-7AC16D81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C980E-2881-42E7-B984-2071F3FBA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7998-1FCD-4F53-ADCF-D7F48D9D9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7F2D5-8B2D-46BC-9505-0FE8E86FF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9065B-5542-4CCC-A452-DFB728A06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EB936-B0FB-4D11-A510-ACA94E2D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8025B-8766-4BCA-917B-4C1390E7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47B12-63DB-470B-B2A9-BFE0EBB3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6DA2-856F-4464-9FD8-779D7203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CC67D-8485-469A-9AA4-B7EEC61B7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2AD85-670C-4BDA-8005-62217E65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12952-E4D7-4E1B-8794-C42F1AEB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1C8B2-333C-4B8A-BEC8-1EFE7546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C9214-C979-423A-ABA0-0F3C5650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11CAF-3D4B-4D34-8476-AA50E5AFE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AE3C5-DADD-471C-9CC6-AA57B7A8F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57A53-DF82-4AB7-9262-7AA7F7AE4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8034C-D36B-4FA7-A297-3E143C81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05095-D1BB-40BC-9FD2-E92B7086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04D5-0EDA-4971-9746-E7432DD55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6EC9B-E021-49D8-AB1E-F23BDABB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AB934-BE5D-40FA-B578-AEF7117F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10D01-2F94-4570-A30C-69C4D064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C013C-AF97-4576-A93A-735F1B122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C9E5B-0F2D-458D-B443-DC1DC9951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92382-B67A-4834-8BF3-00AF49DD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94D7E-A966-4B2D-926D-7727F4FEE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DB90B-6BF2-431B-8B2C-00DAE8309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F6C08-4190-4E74-A495-69F7E617F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798856-D873-4AD0-97A1-54980947D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46E0-4454-48C6-BDB3-46E37A175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D03D1-A7CA-4627-A831-B78804B6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EF6FF-FA7D-4A99-A5CE-BCF7794B1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E1B9C-9053-4782-ADF7-407EC856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0AA54-1468-4CB7-BF30-180C1D20F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5D1A5-F543-4999-A556-8A9C1DDC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DA101-AAB1-4322-93F1-2F01B30A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F1D24-8711-478E-9E2E-404188B2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16040-7739-4373-BCBA-AC99648A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6B78B-D638-4F2B-B73F-39E7BB71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E77D2-7F74-465A-8973-81D0264A8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6E8E-C065-4235-BF89-6378DB7B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627D0-AD57-4D57-BC1F-B47DB3F82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DEC541-43B5-4596-8362-AD1719EC6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47FDA1-C104-4099-A323-D767D387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ACFFB-9B3B-432B-9EE2-6E15E132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64340-0A74-419A-BB26-96D23F61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90BED-24D1-4C59-B85B-EE64688A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466C4-9874-480F-A437-28FDCED30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BC343-053A-458A-A5CA-D15FB481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E462D-5652-4403-B1E0-E949B4C6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7E9F9-47D7-4F73-BB90-E81B1C83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DA57-BB55-4245-A6F9-BDBBF391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A96244-6592-48A3-B9A0-10755348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AF7CF-67B0-4FC8-A534-1969DFA77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12BB41-C892-47B0-B293-AB9AF3685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2F5CB-2851-4106-9113-2582FE990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62C08-025A-47C4-8DE8-264800E4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D8041-7D0B-430E-BD7E-A7896D28C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A28EF7-CB5F-4228-8680-7F8AFF0C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6F0E0-635F-46B9-95DC-31CED4C5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AE23D-310F-4E6A-AEBA-9D743373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14B9C-E5DD-41A3-9F07-52BC8A7F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3AD0-7C8A-45FD-ACA6-D563A4C0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BE113-D732-4624-9C47-9FA77728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391768-B161-460F-9CDD-4F07E0215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A8860-8AFA-4FE5-85B3-130192D0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A570F-7CCF-460C-B04A-CD9E6EFD6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DDB8D-D98B-4B2B-8662-7D8735221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7037-B60A-4936-81EA-CA6BEC88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98EB4-6B77-445B-8F17-0C7DF595B68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E228-2690-4D2D-8E65-7BD10D8097A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FF26-0B4D-486A-9D44-D0324217A07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4BF6F-28C2-4D02-B602-9EF7D018F14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8377-AC33-4066-AFD6-72180F2304C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EC67-25E7-4CF4-9808-4A9EC8F7200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CF26-99D1-473B-B434-CA623A4A59C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4628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Профессиональный стандарт педагога. Вызовы времени и ключевые компетенции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5105160" y="4800600"/>
            <a:ext cx="3576600" cy="1447920"/>
          </a:xfrm>
          <a:prstGeom prst="rect">
            <a:avLst/>
          </a:prstGeom>
          <a:noFill/>
          <a:ln w="0">
            <a:noFill/>
          </a:ln>
        </p:spPr>
        <p:txBody>
          <a:bodyPr tIns="0" anchor="ctr">
            <a:noAutofit/>
          </a:bodyPr>
          <a:p>
            <a:pPr marL="270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42a"/>
                </a:solidFill>
                <a:latin typeface="Times New Roman"/>
                <a:ea typeface="Times New Roman"/>
              </a:rPr>
              <a:t>Подготовила: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42a"/>
                </a:solidFill>
                <a:latin typeface="Times New Roman"/>
                <a:ea typeface="Times New Roman"/>
              </a:rPr>
              <a:t>воспитатель МБДОУ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42a"/>
                </a:solidFill>
                <a:latin typeface="Times New Roman"/>
                <a:ea typeface="Times New Roman"/>
              </a:rPr>
              <a:t>д/с «Золотая рыбка»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e242a"/>
                </a:solidFill>
                <a:latin typeface="Times New Roman"/>
                <a:ea typeface="Times New Roman"/>
              </a:rPr>
              <a:t>Дадельцева А.М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Содержание профессионального стандарта в области </a:t>
            </a:r>
            <a:r>
              <a:rPr b="1" lang="ru-RU" sz="32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ВОСПИТАНИЕ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7" name="Прямоугольник 2"/>
          <p:cNvSpPr/>
          <p:nvPr/>
        </p:nvSpPr>
        <p:spPr>
          <a:xfrm>
            <a:off x="1295280" y="1676520"/>
            <a:ext cx="723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ладеть формами и методами воспитательной рабо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ладеть организационными формами и метод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меть общаться с детьми, защищать их интересы и достоинст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держивать уклад, атмосферу и традиции учреждения, внося в них свой положительный вкла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могать семье в решении вопросов воспитания ребён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трудничать с другими педагогическими работниками и специалистами в решении воспитательных задач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Содержание профессионального стандарта в области </a:t>
            </a:r>
            <a:r>
              <a:rPr b="1" lang="ru-RU" sz="32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РАЗВИТИЕ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9" name="Прямоугольник 2"/>
          <p:cNvSpPr/>
          <p:nvPr/>
        </p:nvSpPr>
        <p:spPr>
          <a:xfrm>
            <a:off x="1295280" y="1447920"/>
            <a:ext cx="7696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воение и применение психолого-педагогических технологий (в том числе инклюзивных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товность принять всех дет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являть разнообразные проблемы детей, оказывать адресную помощ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товность к взаимодействию с другими специалист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вивать у детей познавательную активность, самостоятельность, инициативу, творческие способ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меть отслеживать динамику развития ребен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абатывать и реализовывать индивидуальные образовательные маршруты, индивидуальные программы развит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75960"/>
            <a:ext cx="74995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Профессиональные компетенции воспитателя, отражающие специфику работы на дошкольном уровне образования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1142640" y="160020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дагог </a:t>
            </a:r>
            <a:r>
              <a:rPr b="0" lang="ru-RU" sz="25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должен </a:t>
            </a:r>
            <a:r>
              <a:rPr b="0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ть специфику дошкольного образования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ть общие закономерности развития дете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организовывать ведущие виды деятельност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ть теорией и методиками развития детей дошкольного возраст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планировать, реализовывать и анализировать образовательную работу с детьм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планировать и корректировать образовательные задачи по результатам мониторинг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ть методами и средствами психолого-педагогического просвещения родителей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еть ИКТ- компетенциям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34960" y="76320"/>
            <a:ext cx="749952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Профессиональный стандарт и национальная система учительского роста</a:t>
            </a:r>
            <a:br>
              <a:rPr sz="3600"/>
            </a:b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066320" y="1447560"/>
            <a:ext cx="7867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учение Президента Российской Федерации о формировании национальной системы учительского роста (НСУР): «обеспечить формирование национальной системы учительского роста, направленной, в частности, на установление для педагогических работников уровней владения профессиональными компетенциями, подтверждаемыми результатами аттестации, а также на учёт мнения выпускников общеобразовательных организаций, но не ранее чем через четыре года после окончания ими обучения в таких организациях, предусмотрев издание соответствующих нормативных правовых актов»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Профессиональный стандарт и </a:t>
            </a:r>
            <a:br>
              <a:rPr sz="2800"/>
            </a:br>
            <a:r>
              <a:rPr b="1" lang="ru-RU" sz="2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национальная система учительского роста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682956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офессиональный стандарт: </a:t>
            </a:r>
            <a:br>
              <a:rPr sz="2800"/>
            </a:br>
            <a:r>
              <a:rPr b="1" lang="ru-RU" sz="28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аттестация педагога и вопросы оплаты труда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34960" y="1447920"/>
            <a:ext cx="749952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рофессиональная деятельность педагога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должна оцениваться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только комплексно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рофессиональный стандарт должен выступить в качестве базы для оценки квалификаций и труда педагога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аттестация - в качестве инструмента для проведения оценки результативности деятельности педагога на соответствие требованиям профстандарта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«эффективный контракт» - в качестве инструмента соединения интересов педагогического работника и руководителя для решения задач конкретной образовательной организаци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Основные последствия введения профстандартов</a:t>
            </a:r>
            <a:br>
              <a:rPr sz="32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ельная часть деятельности, которая раньше фиксировалась в Положениях о стимулировании и дополнительно поощрялась, теперь является обязательной трудовой функцией педагога и должна оплачиваться из оклада. Так, теперь педагог обязан владеть такими компетенциями как работа с одарёнными детьми, девиантными детьми, а также компетенциями в области инклюзивного образования. Педагог должен уметь взаимодействовать с другими специалистами: психологами, дефектологами, социальными работникам, а также обладать ИКТ навыками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164448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  <a:p>
            <a:pPr marL="82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42520" y="456840"/>
            <a:ext cx="72392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Профессиональный стандарт педагога</a:t>
            </a:r>
            <a:r>
              <a:rPr b="0" lang="ru-RU" sz="2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, включающий перечень профессиональных и личностных требований к учителю (воспитателю), действующий на всей территории Российской Федерации.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7407360" cy="1752480"/>
          </a:xfrm>
          <a:prstGeom prst="rect">
            <a:avLst/>
          </a:prstGeom>
          <a:noFill/>
          <a:ln w="9360">
            <a:solidFill>
              <a:srgbClr val="922223"/>
            </a:solidFill>
            <a:miter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товность учить всех без исключения детей, вне зависимости от их склонностей, способностей, особенностей развития, ограниченных возможностей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611617"/>
                </a:solidFill>
                <a:latin typeface="Times New Roman"/>
              </a:rPr>
              <a:t>Профессиональный стандарт педагог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219320" y="13712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6840" indent="-285840">
              <a:lnSpc>
                <a:spcPct val="100000"/>
              </a:lnSpc>
              <a:spcBef>
                <a:spcPts val="601"/>
              </a:spcBef>
              <a:buClr>
                <a:srgbClr val="e4005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труда России от 18 октября 2013 г. № 544н «Об утверждении профессионального стандарта «Педагог (педагогическая деятельность в дошкольном, начальном общем, основном общем, среднем общем образовании) (воспитатель, учитель)» (Зарегистрировано в Минюсте 6 декабря 2013, № 30550В)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введение Профстандарта с – 01.01.2015 г.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6840" indent="-285840">
              <a:lnSpc>
                <a:spcPct val="100000"/>
              </a:lnSpc>
              <a:spcBef>
                <a:spcPts val="601"/>
              </a:spcBef>
              <a:buClr>
                <a:srgbClr val="e4005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труда России от 25 декабря 2014 г. № 1115н «О внесении изменения в приказ Министерства труда и социальной защиты Российской Федерации от 18 октября 2013 г. № 544н “Об утверждении профессионального стандарта «Педагог (педагогическая деятельность в дошкольном, начальном общем, основном общем, среднем общем образовании) (воспитатель, учитель))» (Зарегистрирован Минюстом России 19 февраля 2015 г., № 36091)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ведение Профстандарта с – 01.01.2017 г 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6840" indent="-285840">
              <a:lnSpc>
                <a:spcPct val="100000"/>
              </a:lnSpc>
              <a:spcBef>
                <a:spcPts val="601"/>
              </a:spcBef>
              <a:buClr>
                <a:srgbClr val="e4005c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 Минтруда России от 05.08.2016 N 422н «О внесении изменений в профессиональный стандарт «Педагог (педагогическая деятельность в дошкольном, начальном общем, основном общем, среднем общем образовании) (воспитатель, учитель)», утвержденный Приказом Министерства труда и социальной защиты Российской Федерации от 18 октября 2013 года № 544н (зарегистрирован в Минюсте России 23.08.2016 г., № 43326) ( вступает в силу 3 сентября 2016 года) –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я в названии стандарта и требованиях к образованию и обучению педагога</a:t>
            </a: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68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  <a:p>
            <a:pPr marL="366840" indent="-285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Область применения Профессионального стандарта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5" name="Содержимое 3" descr=""/>
          <p:cNvPicPr/>
          <p:nvPr/>
        </p:nvPicPr>
        <p:blipFill>
          <a:blip r:embed="rId1"/>
          <a:stretch/>
        </p:blipFill>
        <p:spPr>
          <a:xfrm>
            <a:off x="1322280" y="1633680"/>
            <a:ext cx="758988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Содержание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lang="ru-RU" sz="43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профстандарт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7" name="Прямоугольник 2"/>
          <p:cNvSpPr/>
          <p:nvPr/>
        </p:nvSpPr>
        <p:spPr>
          <a:xfrm>
            <a:off x="1143000" y="1523880"/>
            <a:ext cx="74674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I.. Общие свед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II. Описание трудовых функций, входящих в профессиональный стандарт (функциональная карта вида профессиональной деятельности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III. Характеристика обобщенных трудовых функци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IV. Сведения об организациях – разработчиках профессионального стандар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ХАРАКТЕРИСТИКА СТАНДАРТА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920"/>
            <a:ext cx="7499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м определяются основные требования к квалификации педагог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дополнятся региональными требованиям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быть дополнен внутренним стандартом образовательного учрежден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уровневым, учитывающим специфику работы педагогов образовательного учреждени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жает структуру профессиональной деятельности педагог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вигает требования к личностным качествам педагога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5438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r>
              <a:rPr b="1" lang="ru-RU" sz="3200" spc="-1" strike="noStrike">
                <a:solidFill>
                  <a:srgbClr val="3333cc"/>
                </a:solidFill>
                <a:latin typeface="Corbel"/>
                <a:ea typeface="Calibri"/>
              </a:rPr>
              <a:t> </a:t>
            </a:r>
            <a:r>
              <a:rPr b="1" lang="ru-RU" sz="3200" spc="-1" strike="noStrike">
                <a:solidFill>
                  <a:srgbClr val="922223"/>
                </a:solidFill>
                <a:latin typeface="Times New Roman"/>
                <a:ea typeface="Calibri"/>
              </a:rPr>
              <a:t>Требования к образованию и обучению </a:t>
            </a:r>
            <a:br>
              <a:rPr sz="2900"/>
            </a:br>
            <a:br>
              <a:rPr sz="29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47560" y="1142640"/>
            <a:ext cx="7499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сшее профессиональное образование или среднее профессиональное образование по направлениям подготовки "Образование и педагогика" или в области, соответствующей преподаваемому предмету (с последующей профессиональной переподготовкой по профилю педагогической деятельности), либо высшее профессиональное образование или среднее профессиональное образование и дополнительное профессиональное образование по направлению деятельности в образовательной организации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Требования к опыту практической работы  не предъявляются!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06560" y="30456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Особые условия допуска к работе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3" name="Объект 3" descr=""/>
          <p:cNvPicPr/>
          <p:nvPr/>
        </p:nvPicPr>
        <p:blipFill>
          <a:blip r:embed="rId1"/>
          <a:stretch/>
        </p:blipFill>
        <p:spPr>
          <a:xfrm>
            <a:off x="457200" y="1481040"/>
            <a:ext cx="8308800" cy="45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Содержание профессионального стандарта в области </a:t>
            </a:r>
            <a:r>
              <a:rPr b="1" lang="ru-RU" sz="3200" spc="-1" strike="noStrike">
                <a:solidFill>
                  <a:srgbClr val="611617"/>
                </a:solidFill>
                <a:latin typeface="Times New Roman"/>
                <a:ea typeface="Times New Roman"/>
              </a:rPr>
              <a:t>ОБУЧЕНИЕ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Прямоугольник 2"/>
          <p:cNvSpPr/>
          <p:nvPr/>
        </p:nvSpPr>
        <p:spPr>
          <a:xfrm>
            <a:off x="1219320" y="1523880"/>
            <a:ext cx="7543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уществлять профессиональную деятельность в соответствии с требованиями ФГОС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ть программы обу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меть планировать и анализировать работ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ладеть формами и методами обучения – стандартными и инновационны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специальные подходы, чтобы охватить всех дет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меть объективно оценивать возможности детей, используя разные формы и методы контрол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ладеть ИКТ-компетенци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ть нормативные документы по вопросам обучения и воспитания де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пользователь</dc:creator>
  <dc:description/>
  <dc:language>en-US</dc:language>
  <cp:lastModifiedBy>Анастасия Дадельцева</cp:lastModifiedBy>
  <cp:lastPrinted>2016-10-14T06:35:10Z</cp:lastPrinted>
  <dcterms:modified xsi:type="dcterms:W3CDTF">2017-09-25T18:47:56Z</dcterms:modified>
  <cp:revision>6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