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B9AC-0AD7-4AAD-B85A-F2FB2F848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B3BC-19B9-423C-BC55-FB393A60D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FF24-20E7-49E9-871F-9E4EAF9AE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1F05-CE0A-4FA3-AD20-06B6E5971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7F23D-083D-41C0-80B7-E5644354D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269AA-33F7-4CA5-B490-0ADED0073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9BF97-0846-4C4F-9913-BCCAA8F94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3936A-B8C5-4E54-A224-3BE9D0A70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C0EBD-875C-4141-B963-1443D0408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28BE0-E1DF-4C93-9776-4D9114EF1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F3F66-4FF3-4830-AE8B-B91ED51A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354D-DBE5-4F6B-B035-FCF1FB983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6D6A3-1A12-47BF-819A-51681AE3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F986B-A0FC-4E33-971E-AF1E544D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15024-8281-4D19-B9B6-A911ACA4E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C4F95-0F18-4C01-8BCE-F6D45462A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A08CE-7DD7-4B5B-BA82-D8987BE65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FC0D3-D0BE-4C7F-9A6F-8474BC754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DE9C8-95C8-491C-843B-6B0FF99CF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6DCD2-7802-40A6-BDB8-618F49C7A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52D48-699A-4734-9966-623DF6C16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288D45-DDBE-4357-AD9D-BCBD94D73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1961-3B1B-4CF0-B64E-B3248DDF5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D20DA-AFF2-4C70-9432-274743093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1999E-CF77-471A-85C9-365501CE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EA4B3-C80F-4CEA-864A-444C70A94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3BFBE-487D-44BA-B39A-FDFBB40B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94471-1CEF-42CE-BBA0-5B3D17C84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A30BE-C330-4E85-86CE-B72CF046A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9E668-5402-46E9-87FE-D6DD2B506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64066-F3F7-4A25-BD55-4AAB7669A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4E1D7-38B2-47C5-B753-348AF09C0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80C21-4F1D-4E50-8CDC-EA20709D5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6D83-C783-44D9-9379-0F5585707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6EE56-79CB-4E42-B4A4-EF34509DC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DBF1B-C51E-41CC-9840-07FC2F3A6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EB2B5-959B-43A3-B8A6-0CC4425DD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3FBB9-F85C-4C9E-874D-58C52860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63A44-FE43-4065-B477-46841121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01329-E7B5-4815-A8A5-903A7C91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E73987-03B6-4F54-9D2D-DA80997DA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5FAE0-189E-42F8-B02E-EFFF64A18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635E0-31F5-44A8-813D-58BEE0147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BF050-1D36-4945-9BD1-AC441C723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53D8-8692-4F5D-A36C-693A0B107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576B4-0B2E-4F69-9690-7F9076529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0E567-EE01-4D3B-8F17-827E6A2A8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11D77-3201-49A8-AA27-AAC3C412F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11C83-B142-4537-9557-EB17A38A7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DBA59-0A03-4005-B1E9-C0A39DC67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41E9D-61CC-449E-9113-867769D0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03D48-F982-4BEC-9B46-1954A256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2D91E-A95A-4350-A88B-1E5DC4D8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ECAC0-2D63-44E7-B594-EF29505C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F131D-E4B2-423F-A76E-5C932AAE1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E50C-EFF2-4E90-B7A0-84A92037E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D17F7-7B26-4788-9B4C-7BA752FBC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9AF1D-A61A-4515-920B-CEAD8B524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825F1-4AFC-4D6B-8B81-C98E0F56B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2B443-05B9-4D77-B968-E90952680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3277F-4B32-46AC-9FA3-A21A9DADC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9F9EA-ABC5-4987-8BD3-8E76903CB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B217C-BEF8-4CC1-8435-8B48D05B7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B34486-24BE-4313-8EFC-A9A46A410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4B737-A15C-478E-BF13-1C2B4E36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466E3-E577-4E86-A2F8-BA238F9E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BE52-1451-4ADC-B619-5FA27C70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25B63-6BB4-4C11-9753-2342AD6CD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81C0CE-B0B7-4438-87C1-AB7F2D010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F01DA-C3A3-4D5C-A687-C50C379A7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B5BA6-8D01-434B-86C1-27AA45790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78CBC6-E9D0-4721-A5E5-E48AF5E78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D7261-BD9B-4832-BBF7-1A9EE459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1D0BE7-17FE-4366-B638-9F705663F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17FF6B-2CA8-4969-B6C9-64007DEDC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97F25D-6FBC-4BD4-89C0-8597366A4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1AE7C-0396-433E-922B-5DE6650D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F198-FF65-4BFA-8796-420D705D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950F6A-04BA-44A4-A6A5-E077F217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D9DD71-3CB1-4861-886A-C894AF23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6F205C-E552-4BDA-B797-B51D58678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4B1A6-F716-4274-994C-6FB783E2F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908EF1-D5AE-490E-98A1-94B8A7AC3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4C46-BEE1-4B62-A7D9-2CBA86C9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4BF68-090E-4B98-9D08-55C93F2FF9E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79B14-6130-47AB-89C1-B8524F022D7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5BF00-2CB5-4C76-9B69-32ECB1F964C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AEAE0-686D-405B-8018-41DC30E3AB2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371F3-0BA7-4BC0-91EE-B58DD84A368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EC8E4-FD58-4D1E-B129-5AC3DBC46D6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75FEB-9AB4-4E87-9FA9-5EC68F723AC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4628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Профессиональный стандарт педагога. Вызовы времени и ключевые компетенции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5105160" y="4800600"/>
            <a:ext cx="3576600" cy="144792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marL="270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42a"/>
                </a:solidFill>
                <a:latin typeface="Times New Roman"/>
                <a:ea typeface="Times New Roman"/>
              </a:rPr>
              <a:t>Подготовила: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42a"/>
                </a:solidFill>
                <a:latin typeface="Times New Roman"/>
                <a:ea typeface="Times New Roman"/>
              </a:rPr>
              <a:t>воспитатель МБДОУ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42a"/>
                </a:solidFill>
                <a:latin typeface="Times New Roman"/>
                <a:ea typeface="Times New Roman"/>
              </a:rPr>
              <a:t>д/с «Золотая рыбка»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42a"/>
                </a:solidFill>
                <a:latin typeface="Times New Roman"/>
                <a:ea typeface="Times New Roman"/>
              </a:rPr>
              <a:t>Дадельцева А.М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Содержание профессионального стандарта в области </a:t>
            </a:r>
            <a:r>
              <a:rPr b="1" lang="ru-RU" sz="32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ВОСПИТАНИЕ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Прямоугольник 2"/>
          <p:cNvSpPr/>
          <p:nvPr/>
        </p:nvSpPr>
        <p:spPr>
          <a:xfrm>
            <a:off x="1295280" y="1676520"/>
            <a:ext cx="7239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ладеть формами и методами воспитательной рабо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ладеть организационными формами и метод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меть общаться с детьми, защищать их интересы и достоин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держивать уклад, атмосферу и традиции учреждения, внося в них свой положительный вкла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могать семье в решении вопросов воспитания ребён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трудничать с другими педагогическими работниками и специалистами в решении воспитательных задач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Содержание профессионального стандарта в области </a:t>
            </a:r>
            <a:r>
              <a:rPr b="1" lang="ru-RU" sz="32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РАЗВИТИЕ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9" name="Прямоугольник 2"/>
          <p:cNvSpPr/>
          <p:nvPr/>
        </p:nvSpPr>
        <p:spPr>
          <a:xfrm>
            <a:off x="1295280" y="1447920"/>
            <a:ext cx="7696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воение и применение психолого-педагогических технологий (в том числе инклюзивных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товность принять всех дет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являть разнообразные проблемы детей, оказывать адресную помощ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товность к взаимодействию с другими специалист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вать у детей познавательную активность, самостоятельность, инициативу, творческие способ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меть отслеживать динамику развития ребен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рабатывать и реализовывать индивидуальные образовательные маршруты, индивидуальные программы развит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75960"/>
            <a:ext cx="74995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Профессиональные компетенции воспитателя, отражающие специфику работы на дошкольном уровне образования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142640" y="160020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дагог </a:t>
            </a:r>
            <a:r>
              <a:rPr b="0" lang="ru-RU" sz="25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должен </a:t>
            </a:r>
            <a:r>
              <a:rPr b="0" lang="ru-RU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ть специфику дошкольного образования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ть общие закономерности развития дете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 организовывать ведущие виды деятельност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еть теорией и методиками развития детей дошкольного возраст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 планировать, реализовывать и анализировать образовательную работу с детьм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 планировать и корректировать образовательные задачи по результатам мониторинг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еть методами и средствами психолого-педагогического просвещения родителе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еть ИКТ- компетенциям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76320"/>
            <a:ext cx="74995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2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Профессиональный стандарт и национальная система учительского роста</a:t>
            </a:r>
            <a:br>
              <a:rPr sz="3600"/>
            </a:b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066320" y="1447560"/>
            <a:ext cx="7867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учение Президента Российской Федерации о формировании национальной системы учительского роста (НСУР): «обеспечить формирование национальной системы учительского роста, направленной, в частности, на установление для педагогических работников уровней владения профессиональными компетенциями, подтверждаемыми результатами аттестации, а также на учёт мнения выпускников общеобразовательных организаций, но не ранее чем через четыре года после окончания ими обучения в таких организациях, предусмотрев издание соответствующих нормативных правовых актов»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Профессиональный стандарт и </a:t>
            </a:r>
            <a:br>
              <a:rPr sz="2800"/>
            </a:br>
            <a:r>
              <a:rPr b="1" lang="ru-RU" sz="2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национальная система учительского роста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1"/>
          <a:stretch/>
        </p:blipFill>
        <p:spPr>
          <a:xfrm>
            <a:off x="1828800" y="1371600"/>
            <a:ext cx="682956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рофессиональный стандарт: </a:t>
            </a:r>
            <a:br>
              <a:rPr sz="2800"/>
            </a:b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аттестация педагога и вопросы оплаты труда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447920"/>
            <a:ext cx="74995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Профессиональная деятельность педагога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должна оцениваться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только комплексно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профессиональный стандарт должен выступить в качестве базы для оценки квалификаций и труда педагога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аттестация - в качестве инструмента для проведения оценки результативности деятельности педагога на соответствие требованиям профстандарта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«эффективный контракт» - в качестве инструмента соединения интересов педагогического работника и руководителя для решения задач конкретной образовательной организаци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Основные последствия введения профстандартов</a:t>
            </a: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ительная часть деятельности, которая раньше фиксировалась в Положениях о стимулировании и дополнительно поощрялась, теперь является обязательной трудовой функцией педагога и должна оплачиваться из оклада. Так, теперь педагог обязан владеть такими компетенциями как работа с одарёнными детьми, девиантными детьми, а также компетенциями в области инклюзивного образования. Педагог должен уметь взаимодействовать с другими специалистами: психологами, дефектологами, социальными работникам, а также обладать ИКТ навыками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164448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42520" y="456840"/>
            <a:ext cx="72392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Профессиональный стандарт педагога</a:t>
            </a:r>
            <a:r>
              <a:rPr b="0" lang="ru-RU" sz="2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, включающий перечень профессиональных и личностных требований к учителю (воспитателю), действующий на всей территории Российской Федерации.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7407360" cy="1752480"/>
          </a:xfrm>
          <a:prstGeom prst="rect">
            <a:avLst/>
          </a:prstGeom>
          <a:noFill/>
          <a:ln w="9360">
            <a:solidFill>
              <a:srgbClr val="922223"/>
            </a:solidFill>
            <a:miter/>
          </a:ln>
        </p:spPr>
        <p:txBody>
          <a:bodyPr tIns="0" anchor="t">
            <a:noAutofit/>
          </a:bodyPr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товность учить всех без исключения детей, вне зависимости от их склонностей, способностей, особенностей развития, ограниченных возможностей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611617"/>
                </a:solidFill>
                <a:latin typeface="Times New Roman"/>
              </a:rPr>
              <a:t>Профессиональный стандарт педагога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219320" y="13712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6840" indent="-285840">
              <a:lnSpc>
                <a:spcPct val="100000"/>
              </a:lnSpc>
              <a:spcBef>
                <a:spcPts val="601"/>
              </a:spcBef>
              <a:buClr>
                <a:srgbClr val="e4005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труда России от 18 октября 2013 г. № 544н «Об утверждении профессионального стандарта «Педагог (педагогическая деятельность в дошкольном, начальном общем, основном общем, среднем общем образовании) (воспитатель, учитель)» (Зарегистрировано в Минюсте 6 декабря 2013, № 30550В)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введение Профстандарта с – 01.01.2015 г.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6840" indent="-285840">
              <a:lnSpc>
                <a:spcPct val="100000"/>
              </a:lnSpc>
              <a:spcBef>
                <a:spcPts val="601"/>
              </a:spcBef>
              <a:buClr>
                <a:srgbClr val="e4005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труда России от 25 декабря 2014 г. № 1115н «О внесении изменения в приказ Министерства труда и социальной защиты Российской Федерации от 18 октября 2013 г. № 544н “Об утверждении профессионального стандарта «Педагог (педагогическая деятельность в дошкольном, начальном общем, основном общем, среднем общем образовании) (воспитатель, учитель))» (Зарегистрирован Минюстом России 19 февраля 2015 г., № 36091)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ведение Профстандарта с – 01.01.2017 г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6840" indent="-285840">
              <a:lnSpc>
                <a:spcPct val="100000"/>
              </a:lnSpc>
              <a:spcBef>
                <a:spcPts val="601"/>
              </a:spcBef>
              <a:buClr>
                <a:srgbClr val="e4005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 Минтруда России от 05.08.2016 N 422н «О внесении изменений в профессиональный стандарт «Педагог (педагогическая деятельность в дошкольном, начальном общем, основном общем, среднем общем образовании) (воспитатель, учитель)», утвержденный Приказом Министерства труда и социальной защиты Российской Федерации от 18 октября 2013 года № 544н (зарегистрирован в Минюсте России 23.08.2016 г., № 43326) ( вступает в силу 3 сентября 2016 года) –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я в названии стандарта и требованиях к образованию и обучению педагога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68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6840" indent="-285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Область применения Профессионального стандарта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5" name="Содержимое 3" descr=""/>
          <p:cNvPicPr/>
          <p:nvPr/>
        </p:nvPicPr>
        <p:blipFill>
          <a:blip r:embed="rId1"/>
          <a:stretch/>
        </p:blipFill>
        <p:spPr>
          <a:xfrm>
            <a:off x="1322280" y="1633680"/>
            <a:ext cx="758988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Содержание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1" lang="ru-RU" sz="43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рофстандарт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Прямоугольник 2"/>
          <p:cNvSpPr/>
          <p:nvPr/>
        </p:nvSpPr>
        <p:spPr>
          <a:xfrm>
            <a:off x="1143000" y="1523880"/>
            <a:ext cx="74674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I.. Общие сведе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II. Описание трудовых функций, входящих в профессиональный стандарт (функциональная карта вида профессиональной деятельности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III. Характеристика обобщенных трудовых функц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IV. Сведения об организациях – разработчиках профессионального стандар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ХАРАКТЕРИСТИКА СТАНДАРТА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920"/>
            <a:ext cx="7499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ем определяются основные требования к квалификации педагог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дополнятся региональными требованиям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быть дополнен внутренним стандартом образовательного учреждени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ется уровневым, учитывающим специфику работы педагогов образовательного учреждени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жает структуру профессиональной деятельности педагог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вигает требования к личностным качествам педагог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5438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r>
              <a:rPr b="1" lang="ru-RU" sz="3200" spc="-1" strike="noStrike">
                <a:solidFill>
                  <a:srgbClr val="3333cc"/>
                </a:solidFill>
                <a:latin typeface="Corbel"/>
                <a:ea typeface="Calibri"/>
              </a:rPr>
              <a:t> </a:t>
            </a:r>
            <a:r>
              <a:rPr b="1" lang="ru-RU" sz="3200" spc="-1" strike="noStrike">
                <a:solidFill>
                  <a:srgbClr val="922223"/>
                </a:solidFill>
                <a:latin typeface="Times New Roman"/>
                <a:ea typeface="Calibri"/>
              </a:rPr>
              <a:t>Требования к образованию и обучению </a:t>
            </a:r>
            <a:br>
              <a:rPr sz="2900"/>
            </a:br>
            <a:br>
              <a:rPr sz="29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47560" y="1142640"/>
            <a:ext cx="7499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сшее профессиональное образование или среднее профессиональное образование по направлениям подготовки "Образование и педагогика" или в области, соответствующей преподаваемому предмету (с последующей профессиональной переподготовкой по профилю педагогической деятельности), либо высшее профессиональное образование или среднее профессиональное образование и дополнительное профессиональное образование по направлению деятельности в образовательной организаци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Требования к опыту практической работы  не предъявляются!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06560" y="30456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Особые условия допуска к работе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3" name="Объект 3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308800" cy="45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Содержание профессионального стандарта в области </a:t>
            </a:r>
            <a:r>
              <a:rPr b="1" lang="ru-RU" sz="32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ОБУЧЕНИЕ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Прямоугольник 2"/>
          <p:cNvSpPr/>
          <p:nvPr/>
        </p:nvSpPr>
        <p:spPr>
          <a:xfrm>
            <a:off x="1219320" y="1523880"/>
            <a:ext cx="7543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уществлять профессиональную деятельность в соответствии с требованиями ФГО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нать программы обу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меть планировать и анализировать работ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ладеть формами и методами обучения – стандартными и инновационны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ть специальные подходы, чтобы охватить всех дет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меть объективно оценивать возможности детей, используя разные формы и методы контрол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ладеть ИКТ-компетенция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нать нормативные документы по вопросам обучения и воспитания дет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льзователь</dc:creator>
  <dc:description/>
  <dc:language>en-US</dc:language>
  <cp:lastModifiedBy>Анастасия Дадельцева</cp:lastModifiedBy>
  <cp:lastPrinted>2016-10-14T06:35:10Z</cp:lastPrinted>
  <dcterms:modified xsi:type="dcterms:W3CDTF">2017-09-25T18:47:56Z</dcterms:modified>
  <cp:revision>6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