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9E2B-78D9-4A11-B6FD-A931D8D3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2BC-1830-4DC7-BC68-695A809A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BDF1-866A-43FE-8771-6E32A6C9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7FA-184F-41CF-99AA-BB3E7344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E58F-4BC2-4297-9F6F-F8E6ED83E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8C7E9-1C14-4B88-A2E3-4E1432A0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B1003-6FB7-45F4-973F-F5B42921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EF60A-EA9E-493E-91B2-A86F148D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64B7-019A-4E5A-AF36-CE956658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2097-875C-4B96-BB05-B77ED641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8290-9BFA-4D1C-8E64-64A7F2CB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1D6F-FF5B-41AF-830C-F4ECAE919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1A58C-E98A-4C3A-840F-DE328783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3B46-A28A-4D2D-8B7E-B4A260B8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AD68-F835-4E71-A89A-2E53692F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29B1-DD88-4564-9AA6-22E9B9F4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D184-B0C1-4EE3-B566-C99FD1F1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9063A-E52A-4AA1-B38C-1277D6752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FE69A-A1A8-4FEF-A093-1BB0FB85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C8626-2999-4B75-B567-AB8BCA3C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F225-73D3-4596-B985-EC500EB5E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A0B38-A4C2-4A3A-893B-C0AFC2D9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692C-0BEE-4622-8121-CABDF111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B42E7-3807-49A7-8D32-E1F666398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8E146-90F2-425E-BE78-1BD8FFFD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91DF2-4D6B-4292-AD2B-11389985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24FA9-2DAE-40A3-8D52-FB55A5D8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3BEFC-4F37-4DCC-8E15-E36F9333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DDF7A-7CC9-45BB-B291-4E6A8698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7806B-EE6F-4CC9-85E7-731D24310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C1068-1C39-44AD-924D-A85EF284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A30D3-751A-4F14-9BAD-1974B4A0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1A53B-5A92-42D7-AA6C-A5E445CB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B9AE-8B19-40EE-A6D4-DCF0389D8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A8489-E23B-4046-8509-8C1EC9BD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C71D2-7ABC-4E73-915C-871FF844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64373-62DC-4538-8AFF-3F588F15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8F479-A6A6-48B4-8F7D-1F10306A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D13E8-3113-40FC-BC2F-7DBB3588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A084A-AA4D-42DE-9D41-A2AF41B0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31B80-08B9-4593-B8D9-A1D1E420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13A41-A2C7-42DF-998C-9E8ED80BD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D8438-1822-4DFB-ADCD-E47293187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DE20-7FF8-434D-B890-B9BD9E072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07F-07E6-4B2E-AFB8-0AEED4CC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3702-CC43-4EEB-A49D-72C8C8C6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B673-456B-4783-B0B7-E140ABB9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91F-8216-41C2-ABE2-0E9B163D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E6C1-02FD-4ACA-A592-6CC35A8940E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CDBC-3D40-41BF-A39D-EF410CD40E0C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E991-E4AB-4925-9601-A5EA936B293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83B5-1A51-4FEE-9C22-2AC3BCEA33B1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609480" y="2286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ниципальное казенное образовательное учреждение «Детский сад № 17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914400" y="1523880"/>
            <a:ext cx="76960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олнительная общеразвивающ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ической направл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Лего-конструир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раст обучающихся: 6-7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ок реализации: 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Татаринова И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тель первой кв.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228600" y="711360"/>
          <a:ext cx="8610480" cy="6199200"/>
        </p:xfrm>
        <a:graphic>
          <a:graphicData uri="http://schemas.openxmlformats.org/drawingml/2006/table">
            <a:tbl>
              <a:tblPr/>
              <a:tblGrid>
                <a:gridCol w="1066680"/>
                <a:gridCol w="914400"/>
                <a:gridCol w="2667240"/>
                <a:gridCol w="396216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ное 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ирование по замыс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ять полученные навы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заранее обдумывать содержание будущей построй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ф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создавать сложную постройку,  работать вместе, не мешая друг друг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ица города (конструирование фасада дом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строить по образц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буждать детей отбирать нужные дета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 го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конструировать с использованием опорных сх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зировать внимание, мышл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монтная мастерская для маш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строить сложную постройку по схеме из составных час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питывать умение работать вмест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го-г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определять характер и особенности будущей постройки, последовательности рабо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ывут кораб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строить кораб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ть творчество, мелкую моторик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Прямоугольник 1" descr=""/>
          <p:cNvPicPr/>
          <p:nvPr/>
        </p:nvPicPr>
        <p:blipFill>
          <a:blip r:embed="rId1"/>
          <a:stretch/>
        </p:blipFill>
        <p:spPr>
          <a:xfrm>
            <a:off x="712800" y="328680"/>
            <a:ext cx="7291440" cy="78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380880" y="1371600"/>
          <a:ext cx="8153640" cy="4592520"/>
        </p:xfrm>
        <a:graphic>
          <a:graphicData uri="http://schemas.openxmlformats.org/drawingml/2006/table">
            <a:tbl>
              <a:tblPr/>
              <a:tblGrid>
                <a:gridCol w="533520"/>
                <a:gridCol w="4114800"/>
                <a:gridCol w="1828800"/>
                <a:gridCol w="167652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1224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Компоненты интегративного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1224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Отметки о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«+»   «-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1224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Методы диагно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12240">
                      <a:solidFill>
                        <a:srgbClr val="5dcea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1224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Работает по схем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1224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1224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1224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Строит сложные построй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Строит по творческому замыс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Строит подгрупп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Строит по образц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Строит по инстр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Умение рассказывать о построй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«+»   «-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Уровен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536400" y="-92160"/>
            <a:ext cx="8077320" cy="3121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6094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Разработка методических рекомендаций по организации работы с детьми старшей и подготовительной групп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Составление перспективного планирования с учетом методических рекомендац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Разработка конспектов непосредственно-образовательной деятельности на основе перспективного план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Проведение мониторинга конструктивной деятельности дете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Изучение методической литературы по лего-конструировани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Прямоугольник 1" descr=""/>
          <p:cNvPicPr/>
          <p:nvPr/>
        </p:nvPicPr>
        <p:blipFill>
          <a:blip r:embed="rId1"/>
          <a:stretch/>
        </p:blipFill>
        <p:spPr>
          <a:xfrm>
            <a:off x="878040" y="328680"/>
            <a:ext cx="7583400" cy="131760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2"/>
          <p:cNvSpPr/>
          <p:nvPr/>
        </p:nvSpPr>
        <p:spPr>
          <a:xfrm>
            <a:off x="457200" y="1600200"/>
            <a:ext cx="762012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Фешина Е. В. Легоконструирование в детском саду. Методическое пособие – М.:ТЦ Сфера, 201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Библиотека современного детского са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Комарова Л. Г. Строим из Л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Моделирование логических отношений и объектов реального мира средствами конструктора Лего) М.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арцева О. Ю. Занятия по конструированию с детьми 3-7 лет. М.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Тарловская Н. Ф. Обучение конструированию и ручному труду: пособие для воспитателей детского сада и родителей/ Н,Ф. Тарловская, Л. А. Топоркова – М.: Просвещение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1371600" y="9907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384120" y="-92160"/>
            <a:ext cx="8448840" cy="12924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304560" y="121896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I 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Раздел. Комплекс основных характеристик программы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1.1. Пояснительная записк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1.2. Цели и задачи программы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1.3. Содержание программы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1.4. Планируемые результаты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II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. Комплекс организационно-педагогических условий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2.1. Особенности организации образовательного процесса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2.2. Общий объем учебной нагрузки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2.3.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Формы и направления взаимодействия с семьями воспитаннико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4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. Мониторинг  освоения программы (оценочные материалы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2.5.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 Формы работы с родителями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III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 Раздел. Методическое обеспечение программы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3.1. Методические материалы к программе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3.2. Материально-техническое обеспечение дополнительной образовательной общеразвивающей программы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3.3 Список литературы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Приложение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095880" cy="30481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152280" y="152280"/>
            <a:ext cx="8839440" cy="40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ли программы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конструкторские способности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чи програм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формировать у детей познавательную и исследовательскую активность, стремление к умствен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азвивать мелкую моторику рук, эстетический вкус, конструктивные навыки и ум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685800" y="228600"/>
            <a:ext cx="769608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уальность программ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в лего-конструктор является оптимальным средством формирования навыков конструктивно-игровой деятельности, умения ставить цель, подбирать средства для её достижения, прилагать усилия для точного соответствия полученного результата с замыслом. Лего-конструкторы дают детям возможность для экспериментирования и самовыражения. Лего развивает детское творчество.  Разнообразие строительных деталей Лего-конструктора  дает возможность дошкольникам собирать большое количество вариантов игрушек, задающих сюжеты игры. Можно не только собрать игрушку, но и играть с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ссе конструирования дети сталкиваются с множеством отдельных деталей и компонентов и имеют представление о том, как собрать сложную конструкцию из составных частей. Это и есть один из важных факторов, необходимых для освоения компьютера, т.к. интерес современного ребенка к компьютеру все возраста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личие от компьютерных игр, быстрая смена сюжета в которых перегружает психику ребенка, игрушками лего дети играют в том темпе, который им удобен, придумывая новые сюжеты вновь и вновь, собирая другие модели. Такая игра с мелкими деталями развивает не только двигательные функции, но и речь, особенно это касается детей с задержкой речевого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4037040" y="3629160"/>
            <a:ext cx="4743360" cy="313524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1"/>
          <p:cNvSpPr/>
          <p:nvPr/>
        </p:nvSpPr>
        <p:spPr>
          <a:xfrm>
            <a:off x="601560" y="304920"/>
            <a:ext cx="80010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ы познавательная и исследовательская активность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 по схемам, по образцу, по творческому замыс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 эстетический вкус, конструктивные навыки и ум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а мелкая моторика р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C:\Users\Ирина\Desktop\Детский сад\красная  флешка\лего\ec622400ef79c7320988010078dedbaa.jpg"/>
          <p:cNvPicPr/>
          <p:nvPr/>
        </p:nvPicPr>
        <p:blipFill>
          <a:blip r:embed="rId1"/>
          <a:stretch/>
        </p:blipFill>
        <p:spPr>
          <a:xfrm>
            <a:off x="6019920" y="367812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Картинки по запросу картинка лего"/>
          <p:cNvPicPr/>
          <p:nvPr/>
        </p:nvPicPr>
        <p:blipFill>
          <a:blip r:embed="rId2"/>
          <a:stretch/>
        </p:blipFill>
        <p:spPr>
          <a:xfrm>
            <a:off x="281160" y="100080"/>
            <a:ext cx="3828960" cy="3828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Картинки по запросу картинка лего"/>
          <p:cNvPicPr/>
          <p:nvPr/>
        </p:nvPicPr>
        <p:blipFill>
          <a:blip r:embed="rId3"/>
          <a:stretch/>
        </p:blipFill>
        <p:spPr>
          <a:xfrm>
            <a:off x="4876920" y="34920"/>
            <a:ext cx="3779640" cy="3780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Users\Ирина\Desktop\Детский сад\красная  флешка\лего\download.jpg"/>
          <p:cNvPicPr/>
          <p:nvPr/>
        </p:nvPicPr>
        <p:blipFill>
          <a:blip r:embed="rId4"/>
          <a:stretch/>
        </p:blipFill>
        <p:spPr>
          <a:xfrm>
            <a:off x="3543480" y="401940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C:\Users\Ирина\Desktop\Детский сад\красная  флешка\лего\8f0650e7f0ce3cb6339ce82d57a4bb37--lego-avion-lego-projects.jpg"/>
          <p:cNvPicPr/>
          <p:nvPr/>
        </p:nvPicPr>
        <p:blipFill>
          <a:blip r:embed="rId5"/>
          <a:stretch/>
        </p:blipFill>
        <p:spPr>
          <a:xfrm>
            <a:off x="284040" y="3809880"/>
            <a:ext cx="28465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536400" y="-212760"/>
            <a:ext cx="8620200" cy="1895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2282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Группы формируются исходя из запросов родителей (законных представителей) воспитанников. Набор в группу начинается с августа. На первой неделе сентября проводится  мониторинг имеющихся знаний детей по направлению программы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Численный состав группы 8-10человек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 зависимости от запросов родителей групп может быть 2 и боле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родолжительность реализации программы – девять месяцев (период с сентября по май включительно), что составляет 8 занятий в месяц по 30 минут каждое. Занятия проходят 2 раза в неделю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457200" y="-19080"/>
            <a:ext cx="822960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304920" y="1600200"/>
          <a:ext cx="8610480" cy="4302000"/>
        </p:xfrm>
        <a:graphic>
          <a:graphicData uri="http://schemas.openxmlformats.org/drawingml/2006/table">
            <a:tbl>
              <a:tblPr/>
              <a:tblGrid>
                <a:gridCol w="1676160"/>
                <a:gridCol w="2590920"/>
                <a:gridCol w="1295280"/>
                <a:gridCol w="1067040"/>
                <a:gridCol w="19810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зде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Н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едел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аттестации/контро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ое разви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ий мониторин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457200" y="-92160"/>
            <a:ext cx="8229600" cy="12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228600" y="711360"/>
          <a:ext cx="8610480" cy="5875200"/>
        </p:xfrm>
        <a:graphic>
          <a:graphicData uri="http://schemas.openxmlformats.org/drawingml/2006/table">
            <a:tbl>
              <a:tblPr/>
              <a:tblGrid>
                <a:gridCol w="1066680"/>
                <a:gridCol w="914400"/>
                <a:gridCol w="2667240"/>
                <a:gridCol w="396216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ное 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комство с лего-кабинето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Сказочная страна Лего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комить детей с конструктором, его деталями и способом крепл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стик через реч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строить мостик, анализировать образец постройки. Развивать терпение,  доводить дело до конц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оде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строить глубокий колодец. Упражнять в создании прочной построй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ушка на курьих ножк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работать в коллективе, помогая друг друг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дравствуй, лес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комить с разными видами деревьев, растущих в лес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различать деревь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строить крону, ствол дере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м лес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строить большой дом для лес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ые дом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строить домики разной величины и дли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8-07-08T09:58:27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