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B57F-7477-47E2-8928-0189FB6A3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DBAF-2C07-4D77-952E-E93F58EA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2583-83B9-425F-8F8E-96136B05B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050E-9ED0-4510-8E26-F95D457D4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4EFE-B240-446D-BA7B-5606EF46D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156C2-6B40-43F2-A736-8C54468F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61B7-791D-4AEA-A730-6827BC634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D8AAA-1CFC-4735-815A-44A85CB94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6D0F5-CFDA-4A8B-98F9-2F4DA9D1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D14C-45AF-464F-8163-0420E675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47A9-B6C1-4B87-A409-F7B97E54C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7675-6B27-4FAF-A03F-191619A8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8771-8D0A-445E-9837-B307DDA3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F0C7A-FA6E-49FE-AB9D-4E3C8907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EA1F7-7ABD-4103-AD81-20DBD55D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C088C-76F7-4A2E-A1CC-7020755B7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4DB7E-DF86-4DED-BED0-78A57A80D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BD4D4-2188-429B-8D5D-17C9E645B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63088-2E28-4DEC-ADA3-D6BC21B94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AFE82-E6BF-43B8-8DE3-EED547B1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7B4F6-1532-40A6-8B7C-F478336E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774DEF-9794-4EFD-AB26-64D40C9B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443D-C361-412A-AD8F-3360AE10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B5BEC-9D93-4458-B0B6-B7D29023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6FEB3-7A28-4C3F-9D13-E681A1B1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51329-92D4-4475-94EC-4A764F75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8D153-70E5-41E2-8284-D9B467A2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BBA6C-8532-4EC0-AA89-89576A74B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B75FA-E557-47C4-94E8-82F0AC7CA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F7CA9-8B98-4A02-8CDB-4A84DD48E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1E4B0-E04A-4DEE-A99C-78228F89C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A11F0-CB96-4271-A355-111D12AAF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51F8A-BF25-489A-A3D5-1C4F5C8B7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8ECC-62A3-463C-8683-F7344367C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88904-452D-4414-A22E-AD2A6DF8A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5232F-22AB-4D99-91CF-9CCBE21A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0461B-4547-4CBF-83E7-59140ECF4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F5AC2-805E-4E5F-B138-61EBFF44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7C7DD-1E92-465A-9882-3F29861A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37799-839E-4C97-9B9F-882D6E3B6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316BF-8032-43C9-87DC-A33B5A6F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81BF5-CBA7-44FB-81B8-23C21696E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2492D-F15F-4411-A553-815F70597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BE67-2CC8-41EF-B018-C2DB63CED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C7D5-C7BB-4062-BC7E-ACBECC9FF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7CE1-0D9E-42B3-81C9-8BCC8A1C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EFA6-3BBA-4F5C-BC08-78103930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55CE-AE13-4298-B54A-8867569F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1946-ED60-41B4-BE13-03A3946AB4C7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8C9A-34DB-49BD-8429-93C936C2FF92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EE85-0424-49BA-B7ED-C64687060B09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B93D2-8303-42D7-AA5B-7A0CE69079DF}" type="slidenum">
              <a:rPr b="1" lang="ru-RU" sz="1200" spc="-1" strike="noStrike">
                <a:solidFill>
                  <a:srgbClr val="7f7f7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609480" y="22860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униципальное казенное образовательное учреждение «Детский сад № 17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914400" y="1523880"/>
            <a:ext cx="769608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полнительная общеразвивающая пр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хнической направлен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Лего-конструиров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раст обучающихся: 6-7 л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ок реализации: 1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р: Татаринова И.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спитатель первой кв. катего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228600" y="711360"/>
          <a:ext cx="8610480" cy="6199200"/>
        </p:xfrm>
        <a:graphic>
          <a:graphicData uri="http://schemas.openxmlformats.org/drawingml/2006/table">
            <a:tbl>
              <a:tblPr/>
              <a:tblGrid>
                <a:gridCol w="1066680"/>
                <a:gridCol w="914400"/>
                <a:gridCol w="2667240"/>
                <a:gridCol w="3962160"/>
              </a:tblGrid>
              <a:tr h="578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н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я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граммное содерж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струирование по замысл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реплять полученные навы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ь заранее обдумывать содержание будущей постройк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аф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ить создавать сложную постройку,  работать вместе, не мешая друг другу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лица города (конструирование фасада домов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ить строить по образцу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буждать детей отбирать нужные детал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2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нспорт горо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ь конструировать с использованием опорных схем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изировать внимание, мышлени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2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монтная мастерская для маш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ить строить сложную постройку по схеме из составных частей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оспитывать умение работать вместе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его-гор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ить определять характер и особенности будущей постройки, последовательности работ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ывут кораб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ь строить корабл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вать творчество, мелкую моторик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Прямоугольник 1" descr=""/>
          <p:cNvPicPr/>
          <p:nvPr/>
        </p:nvPicPr>
        <p:blipFill>
          <a:blip r:embed="rId1"/>
          <a:stretch/>
        </p:blipFill>
        <p:spPr>
          <a:xfrm>
            <a:off x="712800" y="328680"/>
            <a:ext cx="7291440" cy="787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"/>
          <p:cNvGraphicFramePr/>
          <p:nvPr/>
        </p:nvGraphicFramePr>
        <p:xfrm>
          <a:off x="380880" y="1371600"/>
          <a:ext cx="8153640" cy="4592520"/>
        </p:xfrm>
        <a:graphic>
          <a:graphicData uri="http://schemas.openxmlformats.org/drawingml/2006/table">
            <a:tbl>
              <a:tblPr/>
              <a:tblGrid>
                <a:gridCol w="533520"/>
                <a:gridCol w="4114800"/>
                <a:gridCol w="1828800"/>
                <a:gridCol w="1676520"/>
              </a:tblGrid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п\п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12240">
                      <a:solidFill>
                        <a:srgbClr val="5dcea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Компоненты интегративного каче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12240">
                      <a:solidFill>
                        <a:srgbClr val="5dcea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Отметки о разви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«+»   «-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12240">
                      <a:solidFill>
                        <a:srgbClr val="5dcea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Методы диагнос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12240">
                      <a:solidFill>
                        <a:srgbClr val="5dceaf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1224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solidFill>
                      <a:srgbClr val="5dcea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Работает по схема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1224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solidFill>
                      <a:srgbClr val="5dcea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1224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solidFill>
                      <a:srgbClr val="5dcea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наблю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1224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solidFill>
                      <a:srgbClr val="5dceaf">
                        <a:alpha val="20000"/>
                      </a:srgbClr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Строит сложные построй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наблю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solidFill>
                      <a:srgbClr val="5dcea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Строит по творческому замысл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solidFill>
                      <a:srgbClr val="5dcea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solidFill>
                      <a:srgbClr val="5dcea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наблю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solidFill>
                      <a:srgbClr val="5dceaf">
                        <a:alpha val="20000"/>
                      </a:srgbClr>
                    </a:solidFill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Строит подгрупп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наблю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solidFill>
                      <a:srgbClr val="5dcea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Строит по образц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solidFill>
                      <a:srgbClr val="5dcea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solidFill>
                      <a:srgbClr val="5dcea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наблю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solidFill>
                      <a:srgbClr val="5dceaf">
                        <a:alpha val="20000"/>
                      </a:srgbClr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6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Строит по инстру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наблю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7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solidFill>
                      <a:srgbClr val="5dcea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Умение рассказывать о построй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solidFill>
                      <a:srgbClr val="5dcea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solidFill>
                      <a:srgbClr val="5dcea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наблюд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solidFill>
                      <a:srgbClr val="5dceaf">
                        <a:alpha val="20000"/>
                      </a:srgbClr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«+»   «-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solidFill>
                      <a:srgbClr val="5dcea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21306a"/>
                          </a:solidFill>
                          <a:latin typeface="Times New Roman"/>
                          <a:ea typeface="Times New Roman"/>
                        </a:rPr>
                        <a:t>Уровень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solidFill>
                      <a:srgbClr val="5dcea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solidFill>
                      <a:srgbClr val="5dcea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5dceaf"/>
                      </a:solidFill>
                    </a:lnL>
                    <a:lnR w="5760">
                      <a:solidFill>
                        <a:srgbClr val="5dceaf"/>
                      </a:solidFill>
                    </a:lnR>
                    <a:lnT w="5760">
                      <a:solidFill>
                        <a:srgbClr val="5dceaf"/>
                      </a:solidFill>
                    </a:lnT>
                    <a:lnB w="5760">
                      <a:solidFill>
                        <a:srgbClr val="5dceaf"/>
                      </a:solidFill>
                    </a:lnB>
                    <a:solidFill>
                      <a:srgbClr val="5dceaf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Rectangle 2" descr=""/>
          <p:cNvPicPr/>
          <p:nvPr/>
        </p:nvPicPr>
        <p:blipFill>
          <a:blip r:embed="rId1"/>
          <a:stretch/>
        </p:blipFill>
        <p:spPr>
          <a:xfrm>
            <a:off x="536400" y="-92160"/>
            <a:ext cx="8077320" cy="31212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609480" y="1828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. Разработка методических рекомендаций по организации работы с детьми старшей и подготовительной группы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. Составление перспективного планирования с учетом методических рекомендаций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 Разработка конспектов непосредственно-образовательной деятельности на основе перспективного плана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.Проведение мониторинга конструктивной деятельности детей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5.Изучение методической литературы по лего-конструированию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Прямоугольник 1" descr=""/>
          <p:cNvPicPr/>
          <p:nvPr/>
        </p:nvPicPr>
        <p:blipFill>
          <a:blip r:embed="rId1"/>
          <a:stretch/>
        </p:blipFill>
        <p:spPr>
          <a:xfrm>
            <a:off x="878040" y="328680"/>
            <a:ext cx="7583400" cy="1317600"/>
          </a:xfrm>
          <a:prstGeom prst="rect">
            <a:avLst/>
          </a:prstGeom>
          <a:ln w="0">
            <a:noFill/>
          </a:ln>
        </p:spPr>
      </p:pic>
      <p:sp>
        <p:nvSpPr>
          <p:cNvPr id="240" name="Прямоугольник 2"/>
          <p:cNvSpPr/>
          <p:nvPr/>
        </p:nvSpPr>
        <p:spPr>
          <a:xfrm>
            <a:off x="457200" y="1600200"/>
            <a:ext cx="7620120" cy="46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.Фешина Е. В. Легоконструирование в детском саду. Методическое пособие – М.:ТЦ Сфера, 201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Библиотека современного детского сад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2. Комарова Л. Г. Строим из Л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(Моделирование логических отношений и объектов реального мира средствами конструктора Лего) М. 200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3. Старцева О. Ю. Занятия по конструированию с детьми 3-7 лет. М., 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4.Тарловская Н. Ф. Обучение конструированию и ручному труду: пособие для воспитателей детского сада и родителей/ Н,Ф. Тарловская, Л. А. Топоркова – М.: Просвещение, 199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Box 1"/>
          <p:cNvSpPr/>
          <p:nvPr/>
        </p:nvSpPr>
        <p:spPr>
          <a:xfrm>
            <a:off x="1371600" y="99072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21306a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Rectangle 2" descr=""/>
          <p:cNvPicPr/>
          <p:nvPr/>
        </p:nvPicPr>
        <p:blipFill>
          <a:blip r:embed="rId1"/>
          <a:stretch/>
        </p:blipFill>
        <p:spPr>
          <a:xfrm>
            <a:off x="384120" y="-92160"/>
            <a:ext cx="8448840" cy="12924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304560" y="121896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04040"/>
                </a:solidFill>
                <a:latin typeface="Trebuchet MS"/>
              </a:rPr>
              <a:t>I </a:t>
            </a:r>
            <a:r>
              <a:rPr b="1" lang="ru-RU" sz="1900" spc="-1" strike="noStrike">
                <a:solidFill>
                  <a:srgbClr val="404040"/>
                </a:solidFill>
                <a:latin typeface="Trebuchet MS"/>
              </a:rPr>
              <a:t>Раздел. Комплекс основных характеристик программы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1.1. Пояснительная записка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1.2. Цели и задачи программы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1.3. Содержание программы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1.4. Планируемые результаты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04040"/>
                </a:solidFill>
                <a:latin typeface="Trebuchet MS"/>
              </a:rPr>
              <a:t>II</a:t>
            </a:r>
            <a:r>
              <a:rPr b="1" lang="ru-RU" sz="1900" spc="-1" strike="noStrike">
                <a:solidFill>
                  <a:srgbClr val="404040"/>
                </a:solidFill>
                <a:latin typeface="Trebuchet MS"/>
              </a:rPr>
              <a:t>. Комплекс организационно-педагогических условий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2.1. Особенности организации образовательного процесса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2.2. Общий объем учебной нагрузки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2.3.</a:t>
            </a:r>
            <a:r>
              <a:rPr b="1" lang="ru-RU" sz="19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Формы и направления взаимодействия с семьями воспитанников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2.</a:t>
            </a: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4</a:t>
            </a: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. Мониторинг  освоения программы (оценочные материалы)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Trebuchet MS"/>
              </a:rPr>
              <a:t>2.5.</a:t>
            </a: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 Формы работы с родителями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404040"/>
                </a:solidFill>
                <a:latin typeface="Trebuchet MS"/>
              </a:rPr>
              <a:t>III</a:t>
            </a:r>
            <a:r>
              <a:rPr b="1" lang="ru-RU" sz="1900" spc="-1" strike="noStrike">
                <a:solidFill>
                  <a:srgbClr val="404040"/>
                </a:solidFill>
                <a:latin typeface="Trebuchet MS"/>
              </a:rPr>
              <a:t> Раздел. Методическое обеспечение программы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3.1. Методические материалы к программе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3.2. Материально-техническое обеспечение дополнительной образовательной общеразвивающей программы 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404040"/>
                </a:solidFill>
                <a:latin typeface="Trebuchet MS"/>
              </a:rPr>
              <a:t>3.3 Список литературы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404040"/>
                </a:solidFill>
                <a:latin typeface="Trebuchet MS"/>
              </a:rPr>
              <a:t>Приложение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1371600" y="3657600"/>
            <a:ext cx="6095880" cy="30481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4"/>
          <p:cNvSpPr/>
          <p:nvPr/>
        </p:nvSpPr>
        <p:spPr>
          <a:xfrm>
            <a:off x="152280" y="152280"/>
            <a:ext cx="8839440" cy="40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Цели программы: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вивать конструкторские способности де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Задачи программ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формировать у детей познавательную и исследовательскую активность, стремление к умственной деятель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развивать мелкую моторику рук, эстетический вкус, конструктивные навыки и ум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1"/>
          <p:cNvSpPr/>
          <p:nvPr/>
        </p:nvSpPr>
        <p:spPr>
          <a:xfrm>
            <a:off x="685800" y="228600"/>
            <a:ext cx="7696080" cy="69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ктуальность программы: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гра в лего-конструктор является оптимальным средством формирования навыков конструктивно-игровой деятельности, умения ставить цель, подбирать средства для её достижения, прилагать усилия для точного соответствия полученного результата с замыслом. Лего-конструкторы дают детям возможность для экспериментирования и самовыражения. Лего развивает детское творчество.  Разнообразие строительных деталей Лего-конструктора  дает возможность дошкольникам собирать большое количество вариантов игрушек, задающих сюжеты игры. Можно не только собрать игрушку, но и играть с н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оцессе конструирования дети сталкиваются с множеством отдельных деталей и компонентов и имеют представление о том, как собрать сложную конструкцию из составных частей. Это и есть один из важных факторов, необходимых для освоения компьютера, т.к. интерес современного ребенка к компьютеру все возраста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тличие от компьютерных игр, быстрая смена сюжета в которых перегружает психику ребенка, игрушками лего дети играют в том темпе, который им удобен, придумывая новые сюжеты вновь и вновь, собирая другие модели. Такая игра с мелкими деталями развивает не только двигательные функции, но и речь, особенно это касается детей с задержкой речевого развит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3" descr=""/>
          <p:cNvPicPr/>
          <p:nvPr/>
        </p:nvPicPr>
        <p:blipFill>
          <a:blip r:embed="rId1"/>
          <a:stretch/>
        </p:blipFill>
        <p:spPr>
          <a:xfrm>
            <a:off x="4037040" y="3629160"/>
            <a:ext cx="4743360" cy="3135240"/>
          </a:xfrm>
          <a:prstGeom prst="rect">
            <a:avLst/>
          </a:prstGeom>
          <a:ln w="0">
            <a:noFill/>
          </a:ln>
        </p:spPr>
      </p:pic>
      <p:sp>
        <p:nvSpPr>
          <p:cNvPr id="222" name="Прямоугольник 1"/>
          <p:cNvSpPr/>
          <p:nvPr/>
        </p:nvSpPr>
        <p:spPr>
          <a:xfrm>
            <a:off x="601560" y="304920"/>
            <a:ext cx="80010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ируемые результат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3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ормированы познавательная и исследовательская активность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13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т по схемам, по образцу, по творческому замысл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звит эстетический вкус, конструктивные навыки и ум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Развита мелкая моторика ру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6" descr="C:\Users\Ирина\Desktop\Детский сад\красная  флешка\лего\ec622400ef79c7320988010078dedbaa.jpg"/>
          <p:cNvPicPr/>
          <p:nvPr/>
        </p:nvPicPr>
        <p:blipFill>
          <a:blip r:embed="rId1"/>
          <a:stretch/>
        </p:blipFill>
        <p:spPr>
          <a:xfrm>
            <a:off x="6019920" y="3678120"/>
            <a:ext cx="2895480" cy="28958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Картинки по запросу картинка лего"/>
          <p:cNvPicPr/>
          <p:nvPr/>
        </p:nvPicPr>
        <p:blipFill>
          <a:blip r:embed="rId2"/>
          <a:stretch/>
        </p:blipFill>
        <p:spPr>
          <a:xfrm>
            <a:off x="281160" y="100080"/>
            <a:ext cx="3828960" cy="38289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Картинки по запросу картинка лего"/>
          <p:cNvPicPr/>
          <p:nvPr/>
        </p:nvPicPr>
        <p:blipFill>
          <a:blip r:embed="rId3"/>
          <a:stretch/>
        </p:blipFill>
        <p:spPr>
          <a:xfrm>
            <a:off x="4876920" y="34920"/>
            <a:ext cx="3779640" cy="3780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C:\Users\Ирина\Desktop\Детский сад\красная  флешка\лего\download.jpg"/>
          <p:cNvPicPr/>
          <p:nvPr/>
        </p:nvPicPr>
        <p:blipFill>
          <a:blip r:embed="rId4"/>
          <a:stretch/>
        </p:blipFill>
        <p:spPr>
          <a:xfrm>
            <a:off x="3543480" y="4019400"/>
            <a:ext cx="2476440" cy="1847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" descr="C:\Users\Ирина\Desktop\Детский сад\красная  флешка\лего\8f0650e7f0ce3cb6339ce82d57a4bb37--lego-avion-lego-projects.jpg"/>
          <p:cNvPicPr/>
          <p:nvPr/>
        </p:nvPicPr>
        <p:blipFill>
          <a:blip r:embed="rId5"/>
          <a:stretch/>
        </p:blipFill>
        <p:spPr>
          <a:xfrm>
            <a:off x="284040" y="3809880"/>
            <a:ext cx="284652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Rectangle 2" descr=""/>
          <p:cNvPicPr/>
          <p:nvPr/>
        </p:nvPicPr>
        <p:blipFill>
          <a:blip r:embed="rId1"/>
          <a:stretch/>
        </p:blipFill>
        <p:spPr>
          <a:xfrm>
            <a:off x="536400" y="-212760"/>
            <a:ext cx="8620200" cy="18954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22824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Группы формируются исходя из запросов родителей (законных представителей) воспитанников. Набор в группу начинается с августа. На первой неделе сентября проводится  мониторинг имеющихся знаний детей по направлению программы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Численный состав группы 8-10человек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В зависимости от запросов родителей групп может быть 2 и более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Продолжительность реализации программы – девять месяцев (период с сентября по май включительно), что составляет 8 занятий в месяц по 30 минут каждое. Занятия проходят 2 раза в неделю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Rectangle 2" descr=""/>
          <p:cNvPicPr/>
          <p:nvPr/>
        </p:nvPicPr>
        <p:blipFill>
          <a:blip r:embed="rId1"/>
          <a:stretch/>
        </p:blipFill>
        <p:spPr>
          <a:xfrm>
            <a:off x="457200" y="-19080"/>
            <a:ext cx="8229600" cy="1500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1" name=""/>
          <p:cNvGraphicFramePr/>
          <p:nvPr/>
        </p:nvGraphicFramePr>
        <p:xfrm>
          <a:off x="304920" y="1600200"/>
          <a:ext cx="8610480" cy="4302000"/>
        </p:xfrm>
        <a:graphic>
          <a:graphicData uri="http://schemas.openxmlformats.org/drawingml/2006/table">
            <a:tbl>
              <a:tblPr/>
              <a:tblGrid>
                <a:gridCol w="1676160"/>
                <a:gridCol w="2590920"/>
                <a:gridCol w="1295280"/>
                <a:gridCol w="1067040"/>
                <a:gridCol w="198108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раздел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должительность НО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недел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го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аттестации/контрол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66760"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ческое развит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 м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30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ический мониторин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6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Rectangle 2" descr=""/>
          <p:cNvPicPr/>
          <p:nvPr/>
        </p:nvPicPr>
        <p:blipFill>
          <a:blip r:embed="rId1"/>
          <a:stretch/>
        </p:blipFill>
        <p:spPr>
          <a:xfrm>
            <a:off x="457200" y="-92160"/>
            <a:ext cx="8229600" cy="1292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3" name=""/>
          <p:cNvGraphicFramePr/>
          <p:nvPr/>
        </p:nvGraphicFramePr>
        <p:xfrm>
          <a:off x="228600" y="711360"/>
          <a:ext cx="8610480" cy="5875200"/>
        </p:xfrm>
        <a:graphic>
          <a:graphicData uri="http://schemas.openxmlformats.org/drawingml/2006/table">
            <a:tbl>
              <a:tblPr/>
              <a:tblGrid>
                <a:gridCol w="1066680"/>
                <a:gridCol w="914400"/>
                <a:gridCol w="2667240"/>
                <a:gridCol w="3962160"/>
              </a:tblGrid>
              <a:tr h="62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нят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ся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граммное содерж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накомство с лего-кабинетом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«Сказочная страна Лего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знакомить детей с конструктором, его деталями и способом креплени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2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4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Мостик через реч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ить строить мостик, анализировать образец постройки. Развивать терпение,  доводить дело до конца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лоде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ить строить глубокий колодец. Упражнять в создании прочной построй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бушка на курьих ножк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ь работать в коллективе, помогая друг друг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6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Здравствуй, лес!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знакомить с разными видами деревьев, растущих в лесу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ить различать деревья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ить строить крону, ствол дерев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ом лесн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ить строить большой дом для лесн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ные дом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ить строить домики разной величины и длин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Ирина</dc:creator>
  <dc:description/>
  <dc:language>en-US</dc:language>
  <cp:lastModifiedBy>Ирина</cp:lastModifiedBy>
  <dcterms:modified xsi:type="dcterms:W3CDTF">2018-07-08T09:58:27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