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.jpeg" ContentType="image/jpeg"/>
  <Override PartName="/ppt/media/image7.png" ContentType="image/png"/>
  <Override PartName="/ppt/media/image15.wmf" ContentType="image/x-wmf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4825-DD63-4666-805E-340DE6F2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AE2-5424-4719-9D22-424040D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289-32A6-432A-BF33-C315496D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FD1-2E8A-40C4-B075-E347A6B7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FD6-5D30-4E1A-B78A-9502059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650-EAB9-4CF4-B650-A69633CF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8CD-7DC3-4CEF-8D59-E215E740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EAC-A721-4D83-84B5-72DE7EB3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B60-A00F-4E08-A188-A2E79D45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6C6-5D8E-48B5-866D-4FD4F2D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69C-F41D-497F-A7DC-497E8F0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DDB-C2D2-4536-852F-CAD9039C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FF5-16DE-460B-953B-F3380871A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xponenta.ru/" TargetMode="External"/><Relationship Id="rId3" Type="http://schemas.openxmlformats.org/officeDocument/2006/relationships/hyperlink" Target="http://www.zaba.ru/all.html" TargetMode="External"/><Relationship Id="rId4" Type="http://schemas.openxmlformats.org/officeDocument/2006/relationships/hyperlink" Target="http://www.zaba.ru/all.html" TargetMode="External"/><Relationship Id="rId5" Type="http://schemas.openxmlformats.org/officeDocument/2006/relationships/hyperlink" Target="http://www.exponenta.ru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2" name="AutoShape 5"/>
          <p:cNvSpPr/>
          <p:nvPr/>
        </p:nvSpPr>
        <p:spPr>
          <a:xfrm>
            <a:off x="0" y="907920"/>
            <a:ext cx="9144000" cy="5307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8400" y="980640"/>
            <a:ext cx="839124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ектная работ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геометри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тем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Загадки ленты Мёбиуса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чениц 9 класса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мирновой Марии и  Андрющенко Анаст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ководитель: учитель математики и информатики Анохина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2554560" y="52560"/>
            <a:ext cx="423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mic Sans MS"/>
              </a:rPr>
              <a:t>МБОУ СОШ с Кен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139280" y="580536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MCj02974450000[1]"/>
          <p:cNvPicPr/>
          <p:nvPr/>
        </p:nvPicPr>
        <p:blipFill>
          <a:blip r:embed="rId1"/>
          <a:stretch/>
        </p:blipFill>
        <p:spPr>
          <a:xfrm>
            <a:off x="1908000" y="2205000"/>
            <a:ext cx="3202200" cy="3300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0" y="0"/>
            <a:ext cx="9144000" cy="489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ществует 3 верси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  Открыть свой «лист» Мёбиусу помогла служанка, сшившая однажды неправильно концы ле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думал ленту Мёбиус, когда наблюдал за горничной, неправильно одевшей на ш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вой пл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новат во всём портной, кото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правильно вшил манжет руба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U6XTDMCAU6O9CFCAMHBK2MCAX9UYAXCAJSEXKVCAQ8MSPSCADYLCBICAZSS93OCACMCJDGCAE70KXNCAURYJ0ACAD5BYFKCA481EA4CAWOX4R7CACKGB5ECA8KWBLACAONL60UCAF3Q8ZYCA6OPBOHCA4IVO33"/>
          <p:cNvPicPr/>
          <p:nvPr/>
        </p:nvPicPr>
        <p:blipFill>
          <a:blip r:embed="rId3"/>
          <a:stretch/>
        </p:blipFill>
        <p:spPr>
          <a:xfrm>
            <a:off x="8215200" y="1571760"/>
            <a:ext cx="712800" cy="86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MCj03496480000[1]"/>
          <p:cNvPicPr/>
          <p:nvPr/>
        </p:nvPicPr>
        <p:blipFill>
          <a:blip r:embed="rId4"/>
          <a:stretch/>
        </p:blipFill>
        <p:spPr>
          <a:xfrm>
            <a:off x="7812000" y="404640"/>
            <a:ext cx="503280" cy="93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кругленный прямоугольник 2"/>
          <p:cNvSpPr/>
          <p:nvPr/>
        </p:nvSpPr>
        <p:spPr>
          <a:xfrm>
            <a:off x="0" y="571680"/>
            <a:ext cx="9144000" cy="592920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грушка эта о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люб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тематикам. И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лько им –  не з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ь, навер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ейчас у  входа в Му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стории и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Вашингтоне (С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оит  памятник лен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ёби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C:\Documents and Settings\user16\Мои документы\Мои рисунки\vt,bec11.jpg"/>
          <p:cNvPicPr/>
          <p:nvPr/>
        </p:nvPicPr>
        <p:blipFill>
          <a:blip r:embed="rId2"/>
          <a:stretch/>
        </p:blipFill>
        <p:spPr>
          <a:xfrm>
            <a:off x="5214960" y="714240"/>
            <a:ext cx="2643120" cy="4357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357800" y="5286240"/>
            <a:ext cx="4214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докс и соверше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Лента Мебиуса и ш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за, змеевик 199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7"/>
          <p:cNvSpPr/>
          <p:nvPr/>
        </p:nvSpPr>
        <p:spPr>
          <a:xfrm>
            <a:off x="0" y="714240"/>
            <a:ext cx="9144000" cy="5715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1110960" y="1071720"/>
            <a:ext cx="75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оведём экспериме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357200" y="2000160"/>
            <a:ext cx="678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ьмем нами приготовленный лист Мёбиуса и разрежем склеенную ленту посеред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вы думаете, что получ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C:\Documents and Settings\user16\Мои документы\Мои рисунки\60.gif"/>
          <p:cNvPicPr/>
          <p:nvPr/>
        </p:nvPicPr>
        <p:blipFill>
          <a:blip r:embed="rId2"/>
          <a:stretch/>
        </p:blipFill>
        <p:spPr>
          <a:xfrm>
            <a:off x="3429000" y="4286160"/>
            <a:ext cx="2146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4"/>
          <p:cNvSpPr/>
          <p:nvPr/>
        </p:nvSpPr>
        <p:spPr>
          <a:xfrm>
            <a:off x="0" y="714240"/>
            <a:ext cx="9144000" cy="578664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училось не два кольца, а одно, вдвое уже, но зато вдвое длиннее. К тому же перекручено оно не один раз, а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C:\Documents and Settings\user16\Мои документы\Мои рисунки\мебиус10.jpg"/>
          <p:cNvPicPr/>
          <p:nvPr/>
        </p:nvPicPr>
        <p:blipFill>
          <a:blip r:embed="rId2"/>
          <a:stretch/>
        </p:blipFill>
        <p:spPr>
          <a:xfrm>
            <a:off x="2786040" y="23572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714680" y="57168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менение Ленты Мёбиуса в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85840" y="2428920"/>
            <a:ext cx="8429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е того, эта теория полностью совпадает с теорией относительности Эйнштейна и его предположением, что космический корабль, все время летящий прямо, может вернуться к месту старта, что подтверждает неограниченность и конечность Вселенной, изогнутой в пространстве большого числа измерений. Из этого же, в свою очередь, можно сделать вывод о реальности теорий зеркальных миров - ведь астронавты, совершившие путешествие по ленте Мебиуса, возвращаются в исходную точку, превращаясь в зеркальных своих двойников - сердце смещается вправо, правши превращаются в левшей, спираль ДНК меняет направление закруч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285840" y="1214280"/>
            <a:ext cx="8715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изики-теоретики пришли к выводу, что наша Вселенная вполне вероятна замкнута в ту же самую ленту согласно теории относительности - чем больше масса, тем больше кривизна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pendantInfinityMobius"/>
          <p:cNvPicPr/>
          <p:nvPr/>
        </p:nvPicPr>
        <p:blipFill>
          <a:blip r:embed="rId2"/>
          <a:stretch/>
        </p:blipFill>
        <p:spPr>
          <a:xfrm>
            <a:off x="428760" y="142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Jurmala013"/>
          <p:cNvPicPr/>
          <p:nvPr/>
        </p:nvPicPr>
        <p:blipFill>
          <a:blip r:embed="rId3"/>
          <a:stretch/>
        </p:blipFill>
        <p:spPr>
          <a:xfrm>
            <a:off x="7740720" y="285840"/>
            <a:ext cx="14032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Скругленный прямоугольник 2"/>
          <p:cNvSpPr/>
          <p:nvPr/>
        </p:nvSpPr>
        <p:spPr>
          <a:xfrm>
            <a:off x="0" y="500040"/>
            <a:ext cx="9144000" cy="578664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42960" y="714240"/>
            <a:ext cx="77868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0" lang="ru-RU" sz="8000" spc="-1" strike="noStrike">
                <a:solidFill>
                  <a:srgbClr val="000000"/>
                </a:solidFill>
                <a:latin typeface="Haettenschweiler"/>
              </a:rPr>
              <a:t>Вывод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результате проделанной нами работы мы выяснили, что Лента Мёбиуса обладает многими интересными  свойствами. Самое главное свойство – у нее одна сторона. Также мы обнаружили некоторые свойства Ленты Мёбиуса и исследовали их в повседневной 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ша работа поможет ученикам расширить свой кругозор, научит в обычном понятии найти неожиданное и таинств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2"/>
          <p:cNvSpPr/>
          <p:nvPr/>
        </p:nvSpPr>
        <p:spPr>
          <a:xfrm>
            <a:off x="0" y="3071880"/>
            <a:ext cx="9144000" cy="57132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ollege.ru/mathematics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0" y="22860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    http://www.zaba.ru/all.ht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l</a:t>
            </a: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0" y="3857760"/>
            <a:ext cx="9144000" cy="57132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5"/>
              </a:rPr>
              <a:t>http://www.exponenta.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6"/>
          <p:cNvSpPr/>
          <p:nvPr/>
        </p:nvSpPr>
        <p:spPr>
          <a:xfrm>
            <a:off x="0" y="571680"/>
            <a:ext cx="9144000" cy="121428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пользуемая литератур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и интернет-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7"/>
          <p:cNvSpPr/>
          <p:nvPr/>
        </p:nvSpPr>
        <p:spPr>
          <a:xfrm>
            <a:off x="0" y="464328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97a0"/>
                </a:solidFill>
                <a:latin typeface="Arial"/>
              </a:rPr>
              <a:t>Б. В. Кордемский – «Топологические опыты своими ру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9"/>
          <p:cNvSpPr/>
          <p:nvPr/>
        </p:nvSpPr>
        <p:spPr>
          <a:xfrm>
            <a:off x="0" y="542916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597a0"/>
                </a:solidFill>
                <a:latin typeface="Arial"/>
              </a:rPr>
              <a:t>И. М. Смирнова, В. А. Смирнов – «Геометрия 10-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47" name="AutoShape 5"/>
          <p:cNvSpPr/>
          <p:nvPr/>
        </p:nvSpPr>
        <p:spPr>
          <a:xfrm>
            <a:off x="0" y="907920"/>
            <a:ext cx="9144000" cy="5307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400" y="980640"/>
            <a:ext cx="839124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аждого из нас есть интуитивное представление о том, что такое "поверхность". Поверхность листа бумаги, поверхность стен класса, поверхность земного шара известны всем. Может ли быть что-нибудь неожиданное и даже таинственное в таком обычном понятии? Пример листа Мёбиуса показывает, что мо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1"/>
          <p:cNvSpPr/>
          <p:nvPr/>
        </p:nvSpPr>
        <p:spPr>
          <a:xfrm>
            <a:off x="0" y="1052640"/>
            <a:ext cx="9144000" cy="43210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62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и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ся с историей возникновения ленты Меби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следовать свойства ленты Меби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следовать применение ленты Мебиуса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6"/>
          <p:cNvSpPr/>
          <p:nvPr/>
        </p:nvSpPr>
        <p:spPr>
          <a:xfrm>
            <a:off x="0" y="642960"/>
            <a:ext cx="9144000" cy="492912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856800"/>
            <a:ext cx="86439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ми был проведён опрос учащихся 10-11 классов нашей школы. Ребята ответили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ете ли Вы, что такое лента Мёби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е, по вашему мнению, наименьшее количество поверхностей может иметь 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ете ли Вы, что такое тополог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6" descr="Рисунок2.jpg"/>
          <p:cNvPicPr/>
          <p:nvPr/>
        </p:nvPicPr>
        <p:blipFill>
          <a:blip r:embed="rId1"/>
          <a:stretch/>
        </p:blipFill>
        <p:spPr>
          <a:xfrm>
            <a:off x="-3024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езультаты таков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2"/>
          <a:stretch/>
        </p:blipFill>
        <p:spPr>
          <a:xfrm>
            <a:off x="0" y="1359000"/>
            <a:ext cx="464508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Диаграмма 4" descr=""/>
          <p:cNvPicPr/>
          <p:nvPr/>
        </p:nvPicPr>
        <p:blipFill>
          <a:blip r:embed="rId3"/>
          <a:stretch/>
        </p:blipFill>
        <p:spPr>
          <a:xfrm>
            <a:off x="4211640" y="1500120"/>
            <a:ext cx="4932360" cy="27115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4"/>
          <a:stretch/>
        </p:blipFill>
        <p:spPr>
          <a:xfrm>
            <a:off x="1859040" y="3713040"/>
            <a:ext cx="5425920" cy="3144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1571760" y="928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вопро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072120" y="928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вопро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857760" y="3643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вопро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214200"/>
            <a:ext cx="9144000" cy="64296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539640" y="705600"/>
            <a:ext cx="820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ента Мёби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ехмерная поверхность, имеющая только одну сторону и одну границу, обладающая математическим свойством неориентируемости. Она была открыта независимо одновременно двумя математиками из Германии Августом Фердинандом Мёбиусом и Иоганном Бенедиктом Листингом в 1858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moebius2"/>
          <p:cNvPicPr/>
          <p:nvPr/>
        </p:nvPicPr>
        <p:blipFill>
          <a:blip r:embed="rId2"/>
          <a:stretch/>
        </p:blipFill>
        <p:spPr>
          <a:xfrm>
            <a:off x="714240" y="1143000"/>
            <a:ext cx="3714840" cy="167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300px-August_Ferdinand_Möbius"/>
          <p:cNvPicPr/>
          <p:nvPr/>
        </p:nvPicPr>
        <p:blipFill>
          <a:blip r:embed="rId2"/>
          <a:stretch/>
        </p:blipFill>
        <p:spPr>
          <a:xfrm>
            <a:off x="4946760" y="476280"/>
            <a:ext cx="4197240" cy="58053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0" y="0"/>
            <a:ext cx="4932360" cy="6858000"/>
          </a:xfrm>
          <a:custGeom>
            <a:avLst/>
            <a:gdLst>
              <a:gd name="textAreaLeft" fmla="*/ 240480 w 4932360"/>
              <a:gd name="textAreaRight" fmla="*/ 4691880 w 4932360"/>
              <a:gd name="textAreaTop" fmla="*/ 240480 h 6858000"/>
              <a:gd name="textAreaBottom" fmla="*/ 6617520 h 6858000"/>
            </a:gdLst>
            <a:ahLst/>
            <a:rect l="textAreaLeft" t="textAreaTop" r="textAreaRight" b="textAreaBottom"/>
            <a:pathLst>
              <a:path w="21600" h="30032">
                <a:moveTo>
                  <a:pt x="3600" y="0"/>
                </a:moveTo>
                <a:arcTo wR="3600" hR="3600" stAng="16200000" swAng="-5400000"/>
                <a:lnTo>
                  <a:pt x="0" y="26432"/>
                </a:lnTo>
                <a:arcTo wR="3600" hR="3600" stAng="10800000" swAng="-5400000"/>
                <a:lnTo>
                  <a:pt x="18000" y="30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47149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густ Фердинанд Мёб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мецкий ге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фессор Лейпцигского 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первые ввёл в проективную геометрию систему координат и аналитические метод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л новую классификацию кривых и поверх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ановил общее понятие проективного пре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ановил существование односторонних поверх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exag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ёбиуса считают основателем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опологи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науки, изучающей свойства фигур, не изменяющихся при любых деформациях, производимых без разрывов и склеивани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exagon"/>
          <p:cNvPicPr/>
          <p:nvPr/>
        </p:nvPicPr>
        <p:blipFill>
          <a:blip r:embed="rId2"/>
          <a:stretch/>
        </p:blipFill>
        <p:spPr>
          <a:xfrm rot="18534600">
            <a:off x="6404400" y="4213440"/>
            <a:ext cx="2077920" cy="1663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Без тор1"/>
          <p:cNvPicPr/>
          <p:nvPr/>
        </p:nvPicPr>
        <p:blipFill>
          <a:blip r:embed="rId3"/>
          <a:stretch/>
        </p:blipFill>
        <p:spPr>
          <a:xfrm rot="20133000">
            <a:off x="3021120" y="149040"/>
            <a:ext cx="2624040" cy="239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193416402_image003"/>
          <p:cNvPicPr/>
          <p:nvPr/>
        </p:nvPicPr>
        <p:blipFill>
          <a:blip r:embed="rId4"/>
          <a:stretch/>
        </p:blipFill>
        <p:spPr>
          <a:xfrm>
            <a:off x="900000" y="378936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7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solidFill>
            <a:srgbClr val="ffffff">
              <a:alpha val="57000"/>
            </a:srgbClr>
          </a:solidFill>
          <a:ln w="25560">
            <a:solidFill>
              <a:srgbClr val="89a4a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лизким «странным» геометрическим объектом является бутылка Клейна. Бутылка Клейна может быть получена путем склеивания двух лент Мёбиуса по краям. В обычном трехмерном евклидовом пространстве сделать это, не создавая самопересечения, не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ругое похожее множество — вещественная проективная плоскость. Если проколоть отверстие в вещественной проективной плоскости, тогда то что останется будет листом Мёбиуса. С другой стороны, если приклеить диск к ленте Мёбиуса, совмещая их границы, то результатом будет проективная плоскость. Чтобы визуализировать это, полезно деформировать ленту Мёбиуса так, чтобы ее граница стала обычным кругом. Такую фигуру называют «пересеченная крыш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1"/>
          <p:cNvPicPr/>
          <p:nvPr/>
        </p:nvPicPr>
        <p:blipFill>
          <a:blip r:embed="rId2"/>
          <a:stretch/>
        </p:blipFill>
        <p:spPr>
          <a:xfrm>
            <a:off x="857160" y="2249640"/>
            <a:ext cx="2000520" cy="3749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mestrans"/>
          <p:cNvPicPr/>
          <p:nvPr/>
        </p:nvPicPr>
        <p:blipFill>
          <a:blip r:embed="rId3"/>
          <a:stretch/>
        </p:blipFill>
        <p:spPr>
          <a:xfrm>
            <a:off x="4857840" y="3571920"/>
            <a:ext cx="3268440" cy="3071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добные объ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11:45:20Z</dcterms:created>
  <dc:creator>1</dc:creator>
  <dc:description/>
  <dc:language>en-US</dc:language>
  <cp:lastModifiedBy>Елена Викторовна</cp:lastModifiedBy>
  <dcterms:modified xsi:type="dcterms:W3CDTF">2018-07-09T08:50:36Z</dcterms:modified>
  <cp:revision>79</cp:revision>
  <dc:subject/>
  <dc:title>Проектная работа по геометрии учениц 10 класса СОШ №7 Усановой Ольги, Черновой Ксении.  Руководитель проекта – Графова Л.В.</dc:title>
</cp:coreProperties>
</file>