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wmf" ContentType="image/x-wmf"/>
  <Override PartName="/ppt/media/image24.jpeg" ContentType="image/jpeg"/>
  <Override PartName="/ppt/media/image3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C5D-8224-486A-8919-90BD6D791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4BAC-769B-4E98-B12D-26FE9A215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88C-54D0-427B-B079-37BDE006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56E-7296-4325-8248-8182B5054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9E0D-F5EC-41A7-B1D2-B8DC7DF50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A454-2878-4ED5-B09B-9E6F41D4A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F1769-C9A2-4B29-8457-BCB2FF64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AFB6-0BE5-4C38-B315-3FC05080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5BBD1-5507-49AB-A029-646E65832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3A7E7-9471-4E99-9F76-3027EBB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0D314-6240-4BBE-B3B3-7A6CCDC9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E54-F43A-43B0-9EBF-62DA4715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6A92-74E6-4D54-BB03-285B1A9C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FD38F-EF86-4BB3-A06B-620B31E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302F-8D6E-4D99-A689-8CCB154A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7F9-16DC-48AD-9790-928E556E6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7DF-D316-4EF3-AE54-065AAB34F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716B-FF38-49DA-B225-802D08301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B12F-F68A-4DC7-94A8-E0715D69D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A68B-3D0B-4B59-A6B8-70CB30F6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1DE-2FED-4D26-9957-47D68CC3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588E-6808-42AF-9F11-0B8876DFD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7EE2-DB59-4E17-B73A-5D791425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5FAE-E34E-4664-99D9-78DF2DE0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a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CE69-6B96-4FCE-AF63-A2D7AC3B43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a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5110C-9C0A-4A8A-BBAA-11CEB428DF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" Target="slide18.xml"/><Relationship Id="rId5" Type="http://schemas.openxmlformats.org/officeDocument/2006/relationships/slide" Target="slide19.xml"/><Relationship Id="rId6" Type="http://schemas.openxmlformats.org/officeDocument/2006/relationships/slide" Target="slide19.xml"/><Relationship Id="rId7" Type="http://schemas.openxmlformats.org/officeDocument/2006/relationships/slide" Target="slide19.xml"/><Relationship Id="rId8" Type="http://schemas.openxmlformats.org/officeDocument/2006/relationships/slide" Target="slide19.xml"/><Relationship Id="rId9" Type="http://schemas.openxmlformats.org/officeDocument/2006/relationships/slide" Target="slide19.xml"/><Relationship Id="rId10" Type="http://schemas.openxmlformats.org/officeDocument/2006/relationships/image" Target="../media/image13.jpeg"/><Relationship Id="rId11" Type="http://schemas.openxmlformats.org/officeDocument/2006/relationships/image" Target="../media/image14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Picture 2" descr="C:\Users\Public\Pictures\Sample Pictures\Penguins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www.kleos.ru/forum/uploads/monthly_12_2012/post-10205-0-74919600-1356301108.jpg"/>
          <p:cNvPicPr/>
          <p:nvPr/>
        </p:nvPicPr>
        <p:blipFill>
          <a:blip r:embed="rId1"/>
          <a:stretch/>
        </p:blipFill>
        <p:spPr>
          <a:xfrm>
            <a:off x="1785960" y="357120"/>
            <a:ext cx="6238800" cy="5072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"/>
          <p:cNvSpPr/>
          <p:nvPr/>
        </p:nvSpPr>
        <p:spPr>
          <a:xfrm>
            <a:off x="4366800" y="57150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у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alibri"/>
              </a:rPr>
              <a:t>1. Содержи в чистоте своё тело, одежду и жилищ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88000" y="2852640"/>
            <a:ext cx="403848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т простой воды и мы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У микробов тают си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рис"/>
          <p:cNvPicPr/>
          <p:nvPr/>
        </p:nvPicPr>
        <p:blipFill>
          <a:blip r:embed="rId1"/>
          <a:stretch/>
        </p:blipFill>
        <p:spPr>
          <a:xfrm>
            <a:off x="611280" y="2205000"/>
            <a:ext cx="3844800" cy="3878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капляя"/>
          <p:cNvPicPr/>
          <p:nvPr/>
        </p:nvPicPr>
        <p:blipFill>
          <a:blip r:embed="rId2"/>
          <a:stretch/>
        </p:blipFill>
        <p:spPr>
          <a:xfrm>
            <a:off x="539640" y="4941720"/>
            <a:ext cx="121932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1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428760" y="642960"/>
            <a:ext cx="82296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.  Правильно питайся!</a:t>
            </a:r>
            <a:endParaRPr b="0" lang="en-US" sz="1800" spc="1" strike="noStrike">
              <a:ln w="0">
                <a:noFill/>
              </a:ln>
              <a:solidFill>
                <a:srgbClr val="33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1" name="Picture 7" descr="рис"/>
          <p:cNvPicPr/>
          <p:nvPr/>
        </p:nvPicPr>
        <p:blipFill>
          <a:blip r:embed="rId1"/>
          <a:stretch/>
        </p:blipFill>
        <p:spPr>
          <a:xfrm>
            <a:off x="4716360" y="1989000"/>
            <a:ext cx="4038840" cy="28083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9"/>
          <p:cNvSpPr/>
          <p:nvPr/>
        </p:nvSpPr>
        <p:spPr>
          <a:xfrm>
            <a:off x="1476360" y="5229360"/>
            <a:ext cx="619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ежде, чем за стол мне с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Я подумаю, что съ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"/>
          <p:cNvPicPr/>
          <p:nvPr/>
        </p:nvPicPr>
        <p:blipFill>
          <a:blip r:embed="rId2"/>
          <a:stretch/>
        </p:blipFill>
        <p:spPr>
          <a:xfrm>
            <a:off x="324000" y="1989000"/>
            <a:ext cx="4103640" cy="2789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3520800" y="0"/>
            <a:ext cx="215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Лаком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акое питание можно считать здоровы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4038480" cy="39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1" action="ppaction://hlinksldjump"/>
              </a:rPr>
              <a:t>Разнообраз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2" action="ppaction://hlinksldjump"/>
              </a:rPr>
              <a:t>Богатое овощами и фрукт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3" action="ppaction://hlinksldjump"/>
              </a:rPr>
              <a:t>Регуляр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4" action="ppaction://hlinksldjump"/>
              </a:rPr>
              <a:t>Без спеш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88000" y="2133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5" action="ppaction://hlinksldjump"/>
              </a:rPr>
              <a:t>Богатое сладостя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6" action="ppaction://hlinksldjump"/>
              </a:rPr>
              <a:t>Однообраз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7" action="ppaction://hlinksldjump"/>
              </a:rPr>
              <a:t>От случая к случаю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6b9f2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8" action="ppaction://hlinksldjump"/>
              </a:rPr>
              <a:t>Второпях</a:t>
            </a:r>
            <a:r>
              <a:rPr b="0" lang="ru-RU" sz="2800" spc="-1" strike="noStrike" u="sng">
                <a:solidFill>
                  <a:srgbClr val="6b9f25"/>
                </a:solidFill>
                <a:uFillTx/>
                <a:latin typeface="Calibri"/>
                <a:hlinkClick r:id="rId9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14" descr="торт"/>
          <p:cNvPicPr/>
          <p:nvPr/>
        </p:nvPicPr>
        <p:blipFill>
          <a:blip r:embed="rId10"/>
          <a:stretch/>
        </p:blipFill>
        <p:spPr>
          <a:xfrm>
            <a:off x="5435640" y="4724280"/>
            <a:ext cx="2120760" cy="1944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5" descr="j0233354"/>
          <p:cNvPicPr/>
          <p:nvPr/>
        </p:nvPicPr>
        <p:blipFill>
          <a:blip r:embed="rId11"/>
          <a:stretch/>
        </p:blipFill>
        <p:spPr>
          <a:xfrm>
            <a:off x="900000" y="4797360"/>
            <a:ext cx="2664000" cy="1857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2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768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" dur="768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" dur="76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C:\Users\Альбина\Desktop\режим дня Вероники\P1010233.JPG"/>
          <p:cNvPicPr/>
          <p:nvPr/>
        </p:nvPicPr>
        <p:blipFill>
          <a:blip r:embed="rId1"/>
          <a:stretch/>
        </p:blipFill>
        <p:spPr>
          <a:xfrm>
            <a:off x="928800" y="571680"/>
            <a:ext cx="7143480" cy="47862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000080" y="5572080"/>
            <a:ext cx="789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то жить умеет по часам и ценит каждый ч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го не надо по утрам будить по десять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C:\Users\Альбина\Desktop\режим дня Вероники\P1010234.JPG"/>
          <p:cNvPicPr/>
          <p:nvPr/>
        </p:nvPicPr>
        <p:blipFill>
          <a:blip r:embed="rId1"/>
          <a:stretch/>
        </p:blipFill>
        <p:spPr>
          <a:xfrm>
            <a:off x="1143000" y="500040"/>
            <a:ext cx="6786720" cy="49291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2"/>
          <p:cNvSpPr/>
          <p:nvPr/>
        </p:nvSpPr>
        <p:spPr>
          <a:xfrm>
            <a:off x="642960" y="5572080"/>
            <a:ext cx="77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 он не станет говорить, что лень ему встав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рядку дела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" descr="C:\Users\Альбина\Desktop\режим дня Вероники\P1010237.JPG"/>
          <p:cNvPicPr/>
          <p:nvPr/>
        </p:nvPicPr>
        <p:blipFill>
          <a:blip r:embed="rId1"/>
          <a:stretch/>
        </p:blipFill>
        <p:spPr>
          <a:xfrm>
            <a:off x="1143000" y="571680"/>
            <a:ext cx="6858000" cy="5072040"/>
          </a:xfrm>
          <a:prstGeom prst="rect">
            <a:avLst/>
          </a:prstGeom>
          <a:ln w="0">
            <a:noFill/>
          </a:ln>
        </p:spPr>
      </p:pic>
      <p:sp>
        <p:nvSpPr>
          <p:cNvPr id="125" name="TextBox 2"/>
          <p:cNvSpPr/>
          <p:nvPr/>
        </p:nvSpPr>
        <p:spPr>
          <a:xfrm>
            <a:off x="1714680" y="5929200"/>
            <a:ext cx="55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уки м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C:\Users\Альбина\Desktop\режим дня Вероники\P1010241.JPG"/>
          <p:cNvPicPr/>
          <p:nvPr/>
        </p:nvPicPr>
        <p:blipFill>
          <a:blip r:embed="rId1"/>
          <a:stretch/>
        </p:blipFill>
        <p:spPr>
          <a:xfrm>
            <a:off x="1928880" y="500040"/>
            <a:ext cx="5500800" cy="521496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2286000" y="5929200"/>
            <a:ext cx="46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застилать крова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C:\Users\Альбина\Desktop\режим дня Вероники\P1010243.JPG"/>
          <p:cNvPicPr/>
          <p:nvPr/>
        </p:nvPicPr>
        <p:blipFill>
          <a:blip r:embed="rId1"/>
          <a:stretch/>
        </p:blipFill>
        <p:spPr>
          <a:xfrm>
            <a:off x="2143080" y="571680"/>
            <a:ext cx="4714920" cy="4714560"/>
          </a:xfrm>
          <a:prstGeom prst="rect">
            <a:avLst/>
          </a:prstGeom>
          <a:ln w="0">
            <a:noFill/>
          </a:ln>
        </p:spPr>
      </p:pic>
      <p:sp>
        <p:nvSpPr>
          <p:cNvPr id="129" name="TextBox 2"/>
          <p:cNvSpPr/>
          <p:nvPr/>
        </p:nvSpPr>
        <p:spPr>
          <a:xfrm>
            <a:off x="1643040" y="578628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ет он одеться в с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C:\Users\Альбина\Desktop\режим дня Вероники\P1010244.JPG"/>
          <p:cNvPicPr/>
          <p:nvPr/>
        </p:nvPicPr>
        <p:blipFill>
          <a:blip r:embed="rId1"/>
          <a:stretch/>
        </p:blipFill>
        <p:spPr>
          <a:xfrm>
            <a:off x="1143000" y="500040"/>
            <a:ext cx="6929280" cy="50007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2"/>
          <p:cNvSpPr/>
          <p:nvPr/>
        </p:nvSpPr>
        <p:spPr>
          <a:xfrm>
            <a:off x="2000160" y="5786280"/>
            <a:ext cx="492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мыть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C:\Users\Альбина\Pictures\рисунок 8.png"/>
          <p:cNvPicPr/>
          <p:nvPr/>
        </p:nvPicPr>
        <p:blipFill>
          <a:blip r:embed="rId1"/>
          <a:stretch/>
        </p:blipFill>
        <p:spPr>
          <a:xfrm>
            <a:off x="-371520" y="-11160"/>
            <a:ext cx="9515520" cy="686916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214200" y="1857240"/>
            <a:ext cx="771552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7030a0"/>
                </a:solidFill>
                <a:latin typeface="Calibri"/>
              </a:rPr>
              <a:t>«Здоровый образ жизни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1" descr="C:\Users\Альбина\Desktop\режим дня Вероники\P1010245.JPG"/>
          <p:cNvPicPr/>
          <p:nvPr/>
        </p:nvPicPr>
        <p:blipFill>
          <a:blip r:embed="rId1"/>
          <a:stretch/>
        </p:blipFill>
        <p:spPr>
          <a:xfrm>
            <a:off x="1071720" y="428760"/>
            <a:ext cx="7000560" cy="52862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429000" y="5929200"/>
            <a:ext cx="471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по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C:\Users\Альбина\Desktop\режим дня Вероники\P1010260.JPG"/>
          <p:cNvPicPr/>
          <p:nvPr/>
        </p:nvPicPr>
        <p:blipFill>
          <a:blip r:embed="rId1"/>
          <a:stretch/>
        </p:blipFill>
        <p:spPr>
          <a:xfrm>
            <a:off x="1000080" y="642960"/>
            <a:ext cx="7215120" cy="49291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2286000" y="6000840"/>
            <a:ext cx="56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пеет в школу он дойт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C:\Users\Альбина\Desktop\режим дня Вероники\P1010259.JPG"/>
          <p:cNvPicPr/>
          <p:nvPr/>
        </p:nvPicPr>
        <p:blipFill>
          <a:blip r:embed="rId1"/>
          <a:stretch/>
        </p:blipFill>
        <p:spPr>
          <a:xfrm>
            <a:off x="928800" y="500040"/>
            <a:ext cx="7429320" cy="48578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214720" y="5857920"/>
            <a:ext cx="55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 парту в школе с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Users\Альбина\Desktop\режим дня Вероники\P1010250.JPG"/>
          <p:cNvPicPr/>
          <p:nvPr/>
        </p:nvPicPr>
        <p:blipFill>
          <a:blip r:embed="rId1"/>
          <a:stretch/>
        </p:blipFill>
        <p:spPr>
          <a:xfrm>
            <a:off x="714240" y="642960"/>
            <a:ext cx="7715520" cy="485784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1571760" y="5572080"/>
            <a:ext cx="6286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часами дружба хорош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ботай, отдыха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Users\Альбина\Desktop\режим дня Вероники\P1010251.JPG"/>
          <p:cNvPicPr/>
          <p:nvPr/>
        </p:nvPicPr>
        <p:blipFill>
          <a:blip r:embed="rId1"/>
          <a:stretch/>
        </p:blipFill>
        <p:spPr>
          <a:xfrm>
            <a:off x="785880" y="571680"/>
            <a:ext cx="7500960" cy="49291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2071800" y="59292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роки делай не спе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Users\Альбина\Desktop\режим дня Вероники\P1010255.JPG"/>
          <p:cNvPicPr/>
          <p:nvPr/>
        </p:nvPicPr>
        <p:blipFill>
          <a:blip r:embed="rId1"/>
          <a:stretch/>
        </p:blipFill>
        <p:spPr>
          <a:xfrm>
            <a:off x="1000080" y="642960"/>
            <a:ext cx="7215120" cy="52149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1714680" y="6072120"/>
            <a:ext cx="692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книг не забыва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C:\Users\Альбина\Desktop\режим дня Вероники\P1010257.JPG"/>
          <p:cNvPicPr/>
          <p:nvPr/>
        </p:nvPicPr>
        <p:blipFill>
          <a:blip r:embed="rId1"/>
          <a:stretch/>
        </p:blipFill>
        <p:spPr>
          <a:xfrm>
            <a:off x="1000080" y="714240"/>
            <a:ext cx="7215120" cy="48578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2071800" y="5643720"/>
            <a:ext cx="613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 вечером, ложась в крова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наступит сро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C:\Users\Альбина\Desktop\режим дня Вероники\P1010258.JPG"/>
          <p:cNvPicPr/>
          <p:nvPr/>
        </p:nvPicPr>
        <p:blipFill>
          <a:blip r:embed="rId1"/>
          <a:stretch/>
        </p:blipFill>
        <p:spPr>
          <a:xfrm>
            <a:off x="785880" y="500040"/>
            <a:ext cx="7500960" cy="51436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2357280" y="5857920"/>
            <a:ext cx="5072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ы мог уверенно сказ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Хороший был денёк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C:\Users\Альбина\Pictures\рисунок 8.png"/>
          <p:cNvPicPr/>
          <p:nvPr/>
        </p:nvPicPr>
        <p:blipFill>
          <a:blip r:embed="rId1"/>
          <a:stretch/>
        </p:blipFill>
        <p:spPr>
          <a:xfrm>
            <a:off x="-371520" y="-11160"/>
            <a:ext cx="9515520" cy="68691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4"/>
          <p:cNvSpPr/>
          <p:nvPr/>
        </p:nvSpPr>
        <p:spPr>
          <a:xfrm>
            <a:off x="214200" y="907920"/>
            <a:ext cx="771552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7030a0"/>
                </a:solidFill>
                <a:latin typeface="Calibri"/>
              </a:rPr>
              <a:t>Правила здорового образа жизни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1.Соблюдай чист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.Правильно питай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3.Сочетай труд и отдых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4.Больше двигайся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642960" y="714240"/>
            <a:ext cx="7929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сформировать у учащихся знания о правилах сохранения и укрепле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785880" y="1009440"/>
            <a:ext cx="77868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ть у учащихся знания о правилах сохранения и укрепления здоров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"/>
          <p:cNvSpPr/>
          <p:nvPr/>
        </p:nvSpPr>
        <p:spPr>
          <a:xfrm>
            <a:off x="776880" y="2714760"/>
            <a:ext cx="64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овать деятельность учащихся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знакомлению с видами предложений по ц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казы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"/>
          <p:cNvSpPr/>
          <p:nvPr/>
        </p:nvSpPr>
        <p:spPr>
          <a:xfrm>
            <a:off x="214200" y="0"/>
            <a:ext cx="892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знание правил гигиены и основы здорового образа жи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формировать убеждения о здоровом образе жизни и о здоровье, как самой главной цен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особствовать развитию навыков личной гигиены и труда по самообслужив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ы сохранения и укрепление здоровья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предме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ормирование умения планировать, контролировать и оценивать учебные действия в соответствии с поставленной целью;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                                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речь учащих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чност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человека, который умеет заботиться о своём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9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ка на здоровый образ жизни; ежедневную физическую культуру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s://im0-tub-ru.yandex.net/i?id=67ee0a0b8550e173de1b9c07f96fd5cb&amp;n=33&amp;h=215&amp;w=430"/>
          <p:cNvPicPr/>
          <p:nvPr/>
        </p:nvPicPr>
        <p:blipFill>
          <a:blip r:embed="rId1"/>
          <a:stretch/>
        </p:blipFill>
        <p:spPr>
          <a:xfrm>
            <a:off x="928800" y="1071720"/>
            <a:ext cx="7381800" cy="3690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3453120" y="5286240"/>
            <a:ext cx="312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убная щёт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3223440" y="214200"/>
            <a:ext cx="284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Arial"/>
              </a:rPr>
              <a:t>Чистюльки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s://im2-tub-ru.yandex.net/i?id=3b228cc8cbae790d87f96620df90267c&amp;n=33&amp;h=215&amp;w=215"/>
          <p:cNvPicPr/>
          <p:nvPr/>
        </p:nvPicPr>
        <p:blipFill>
          <a:blip r:embed="rId1"/>
          <a:stretch/>
        </p:blipFill>
        <p:spPr>
          <a:xfrm>
            <a:off x="1285920" y="428760"/>
            <a:ext cx="6786360" cy="52862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3725280" y="5929200"/>
            <a:ext cx="182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л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https://im1-tub-ru.yandex.net/i?id=a474caa86bfcdcc7c06dc301cdc1e14f&amp;n=33&amp;h=215&amp;w=313"/>
          <p:cNvPicPr/>
          <p:nvPr/>
        </p:nvPicPr>
        <p:blipFill>
          <a:blip r:embed="rId1"/>
          <a:stretch/>
        </p:blipFill>
        <p:spPr>
          <a:xfrm>
            <a:off x="1214280" y="571680"/>
            <a:ext cx="6864480" cy="471456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4150080" y="5786280"/>
            <a:ext cx="15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ан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http://tyttaya.ru/wp-content/uploads/2014/05/%D0%BA%D0%B0%D0%BA-%D0%B2%D1%8B%D0%B1%D1%80%D0%B0%D1%82%D1%8C-%D1%80%D0%B0%D1%81%D1%87%D0%B5%D1%81%D0%BA%D1%83-%D0%B4%D0%BB%D1%8F-%D0%B2%D0%BE%D0%BB%D0%BE%D1%81-16.jpg"/>
          <p:cNvPicPr/>
          <p:nvPr/>
        </p:nvPicPr>
        <p:blipFill>
          <a:blip r:embed="rId1"/>
          <a:stretch/>
        </p:blipFill>
        <p:spPr>
          <a:xfrm>
            <a:off x="1143000" y="500040"/>
            <a:ext cx="6894360" cy="5286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5"/>
          <p:cNvSpPr/>
          <p:nvPr/>
        </p:nvSpPr>
        <p:spPr>
          <a:xfrm>
            <a:off x="3933000" y="6000840"/>
            <a:ext cx="192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чёс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http://prom-hotel.ru/d/289844/d/23791206_6.jpg"/>
          <p:cNvPicPr/>
          <p:nvPr/>
        </p:nvPicPr>
        <p:blipFill>
          <a:blip r:embed="rId1"/>
          <a:stretch/>
        </p:blipFill>
        <p:spPr>
          <a:xfrm>
            <a:off x="500040" y="928800"/>
            <a:ext cx="8158320" cy="42148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3571560" y="5643720"/>
            <a:ext cx="225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оте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3T19:39:53Z</dcterms:created>
  <dc:creator>Тарлина</dc:creator>
  <dc:description/>
  <dc:language>en-US</dc:language>
  <cp:lastModifiedBy>User</cp:lastModifiedBy>
  <dcterms:modified xsi:type="dcterms:W3CDTF">2018-07-09T13:20:21Z</dcterms:modified>
  <cp:revision>45</cp:revision>
  <dc:subject/>
  <dc:title>Слайд 1</dc:title>
</cp:coreProperties>
</file>