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wmf" ContentType="image/x-wmf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D9AD-B802-4327-91A2-CFFCF71CD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6698-2EE5-484A-9477-4465D099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23CE-9F3D-418D-A7DF-A350CBDF2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8E8-FEFD-4E0D-B029-F41680FC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08AF-3DF3-469A-800D-98B02A3A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D6C88-8826-42D1-92CE-10C7DBC3B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25BB-516F-463E-BC53-460E1122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DA7B9-132A-474F-871D-7478C36C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8589-62F9-45CE-A5C3-5211E12CD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AF54-6CFF-4C66-835B-B0E2FFB7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479-CFFE-4B0E-87C2-0EFB301D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6177-3BB4-4F75-8FE1-87AAFAE3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93AE-C91A-4185-BC0F-6D47D85B3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6125-7AA0-44A8-8760-4EF9235E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ABBE-5118-4B14-9C58-DA254975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C9E23-1A4A-4CCB-AE6C-5BF8FB3E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B678-1B83-40A0-91B5-349C5B176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D24-C128-4A65-81B0-90B11C12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8473-7ED5-47E2-B4CF-A7AE6797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89D-9D26-4348-A928-DE16E573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68D3-AF4E-45C3-BB0E-829CB220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FF6E-72DE-46D1-9601-5A97137A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0C27-4CFC-4652-9C48-48D87FF3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71C3-6674-43C8-B1FF-796F1658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a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5182-991F-4BED-B71A-8215AB2B28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a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C4E2-4640-4ECE-9A35-60CB5929AA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3.jpeg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Picture 2" descr="C:\Users\Public\Pictures\Sample Pictures\Penguins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www.kleos.ru/forum/uploads/monthly_12_2012/post-10205-0-74919600-1356301108.jpg"/>
          <p:cNvPicPr/>
          <p:nvPr/>
        </p:nvPicPr>
        <p:blipFill>
          <a:blip r:embed="rId1"/>
          <a:stretch/>
        </p:blipFill>
        <p:spPr>
          <a:xfrm>
            <a:off x="1785960" y="357120"/>
            <a:ext cx="6238800" cy="5072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4366800" y="57150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1. Содержи в чистоте своё тело, одежду и жилищ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40384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т простой воды и мы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 микробов тают си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рис"/>
          <p:cNvPicPr/>
          <p:nvPr/>
        </p:nvPicPr>
        <p:blipFill>
          <a:blip r:embed="rId1"/>
          <a:stretch/>
        </p:blipFill>
        <p:spPr>
          <a:xfrm>
            <a:off x="611280" y="2205000"/>
            <a:ext cx="3844800" cy="387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пляя"/>
          <p:cNvPicPr/>
          <p:nvPr/>
        </p:nvPicPr>
        <p:blipFill>
          <a:blip r:embed="rId2"/>
          <a:stretch/>
        </p:blipFill>
        <p:spPr>
          <a:xfrm>
            <a:off x="539640" y="4941720"/>
            <a:ext cx="121932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428760" y="642960"/>
            <a:ext cx="82296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Правильно питайся!</a:t>
            </a:r>
            <a:endParaRPr b="0" lang="en-US" sz="1800" spc="1" strike="noStrike">
              <a:ln w="0">
                <a:noFill/>
              </a:ln>
              <a:solidFill>
                <a:srgbClr val="33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7" descr="рис"/>
          <p:cNvPicPr/>
          <p:nvPr/>
        </p:nvPicPr>
        <p:blipFill>
          <a:blip r:embed="rId1"/>
          <a:stretch/>
        </p:blipFill>
        <p:spPr>
          <a:xfrm>
            <a:off x="4716360" y="1989000"/>
            <a:ext cx="4038840" cy="2808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476360" y="522936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ежде, чем за стол мне с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Я подумаю, что съ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103640" cy="2789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3520800" y="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аком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Какое питание можно считать здоров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40384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1" action="ppaction://hlinksldjump"/>
              </a:rPr>
              <a:t>Разнообраз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2" action="ppaction://hlinksldjump"/>
              </a:rPr>
              <a:t>Богатое овощами и фрук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3" action="ppaction://hlinksldjump"/>
              </a:rPr>
              <a:t>Регуляр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4" action="ppaction://hlinksldjump"/>
              </a:rPr>
              <a:t>Без спе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8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5" action="ppaction://hlinksldjump"/>
              </a:rPr>
              <a:t>Богатое слад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6" action="ppaction://hlinksldjump"/>
              </a:rPr>
              <a:t>Однообраз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7" action="ppaction://hlinksldjump"/>
              </a:rPr>
              <a:t>От случая к случа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8" action="ppaction://hlinksldjump"/>
              </a:rPr>
              <a:t>Второпях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9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4" descr="торт"/>
          <p:cNvPicPr/>
          <p:nvPr/>
        </p:nvPicPr>
        <p:blipFill>
          <a:blip r:embed="rId10"/>
          <a:stretch/>
        </p:blipFill>
        <p:spPr>
          <a:xfrm>
            <a:off x="5435640" y="4724280"/>
            <a:ext cx="2120760" cy="194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j0233354"/>
          <p:cNvPicPr/>
          <p:nvPr/>
        </p:nvPicPr>
        <p:blipFill>
          <a:blip r:embed="rId11"/>
          <a:stretch/>
        </p:blipFill>
        <p:spPr>
          <a:xfrm>
            <a:off x="900000" y="4797360"/>
            <a:ext cx="2664000" cy="1857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C:\Users\Альбина\Desktop\режим дня Вероники\P1010233.JPG"/>
          <p:cNvPicPr/>
          <p:nvPr/>
        </p:nvPicPr>
        <p:blipFill>
          <a:blip r:embed="rId1"/>
          <a:stretch/>
        </p:blipFill>
        <p:spPr>
          <a:xfrm>
            <a:off x="928800" y="571680"/>
            <a:ext cx="7143480" cy="4786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1000080" y="5572080"/>
            <a:ext cx="78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жить умеет по часам и ценит каждый ч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о не надо по утрам будить по десят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C:\Users\Альбина\Desktop\режим дня Вероники\P1010234.JPG"/>
          <p:cNvPicPr/>
          <p:nvPr/>
        </p:nvPicPr>
        <p:blipFill>
          <a:blip r:embed="rId1"/>
          <a:stretch/>
        </p:blipFill>
        <p:spPr>
          <a:xfrm>
            <a:off x="1143000" y="500040"/>
            <a:ext cx="6786720" cy="4929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642960" y="55720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ядку дел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:\Users\Альбина\Desktop\режим дня Вероники\P1010237.JPG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072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714680" y="5929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и м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C:\Users\Альбина\Desktop\режим дня Вероники\P1010241.JPG"/>
          <p:cNvPicPr/>
          <p:nvPr/>
        </p:nvPicPr>
        <p:blipFill>
          <a:blip r:embed="rId1"/>
          <a:stretch/>
        </p:blipFill>
        <p:spPr>
          <a:xfrm>
            <a:off x="1928880" y="500040"/>
            <a:ext cx="5500800" cy="52149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2286000" y="59292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застилать к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C:\Users\Альбина\Desktop\режим дня Вероники\P1010243.JPG"/>
          <p:cNvPicPr/>
          <p:nvPr/>
        </p:nvPicPr>
        <p:blipFill>
          <a:blip r:embed="rId1"/>
          <a:stretch/>
        </p:blipFill>
        <p:spPr>
          <a:xfrm>
            <a:off x="2143080" y="571680"/>
            <a:ext cx="4714920" cy="4714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643040" y="578628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пеет он одеться в с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C:\Users\Альбина\Desktop\режим дня Вероники\P1010244.JPG"/>
          <p:cNvPicPr/>
          <p:nvPr/>
        </p:nvPicPr>
        <p:blipFill>
          <a:blip r:embed="rId1"/>
          <a:stretch/>
        </p:blipFill>
        <p:spPr>
          <a:xfrm>
            <a:off x="1143000" y="500040"/>
            <a:ext cx="6929280" cy="50007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2000160" y="57862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ы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Альбина\Pictures\рисунок 8.png"/>
          <p:cNvPicPr/>
          <p:nvPr/>
        </p:nvPicPr>
        <p:blipFill>
          <a:blip r:embed="rId1"/>
          <a:stretch/>
        </p:blipFill>
        <p:spPr>
          <a:xfrm>
            <a:off x="-371520" y="-11160"/>
            <a:ext cx="951552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14200" y="1857240"/>
            <a:ext cx="7715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Здоровый образ жизн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C:\Users\Альбина\Desktop\режим дня Вероники\P1010245.JPG"/>
          <p:cNvPicPr/>
          <p:nvPr/>
        </p:nvPicPr>
        <p:blipFill>
          <a:blip r:embed="rId1"/>
          <a:stretch/>
        </p:blipFill>
        <p:spPr>
          <a:xfrm>
            <a:off x="1071720" y="428760"/>
            <a:ext cx="7000560" cy="5286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429000" y="5929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Альбина\Desktop\режим дня Вероники\P1010260.JPG"/>
          <p:cNvPicPr/>
          <p:nvPr/>
        </p:nvPicPr>
        <p:blipFill>
          <a:blip r:embed="rId1"/>
          <a:stretch/>
        </p:blipFill>
        <p:spPr>
          <a:xfrm>
            <a:off x="1000080" y="642960"/>
            <a:ext cx="7215120" cy="4929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2286000" y="600084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пеет в школу он дой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C:\Users\Альбина\Desktop\режим дня Вероники\P1010259.JPG"/>
          <p:cNvPicPr/>
          <p:nvPr/>
        </p:nvPicPr>
        <p:blipFill>
          <a:blip r:embed="rId1"/>
          <a:stretch/>
        </p:blipFill>
        <p:spPr>
          <a:xfrm>
            <a:off x="928800" y="500040"/>
            <a:ext cx="7429320" cy="48578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214720" y="5857920"/>
            <a:ext cx="55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парту в школе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Альбина\Desktop\режим дня Вероники\P1010250.JPG"/>
          <p:cNvPicPr/>
          <p:nvPr/>
        </p:nvPicPr>
        <p:blipFill>
          <a:blip r:embed="rId1"/>
          <a:stretch/>
        </p:blipFill>
        <p:spPr>
          <a:xfrm>
            <a:off x="714240" y="642960"/>
            <a:ext cx="7715520" cy="4857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1571760" y="557208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часами дружба хорош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й, отдых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Альбина\Desktop\режим дня Вероники\P1010251.JPG"/>
          <p:cNvPicPr/>
          <p:nvPr/>
        </p:nvPicPr>
        <p:blipFill>
          <a:blip r:embed="rId1"/>
          <a:stretch/>
        </p:blipFill>
        <p:spPr>
          <a:xfrm>
            <a:off x="785880" y="571680"/>
            <a:ext cx="7500960" cy="4929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071800" y="59292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и делай не спе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Альбина\Desktop\режим дня Вероники\P1010255.JPG"/>
          <p:cNvPicPr/>
          <p:nvPr/>
        </p:nvPicPr>
        <p:blipFill>
          <a:blip r:embed="rId1"/>
          <a:stretch/>
        </p:blipFill>
        <p:spPr>
          <a:xfrm>
            <a:off x="1000080" y="642960"/>
            <a:ext cx="7215120" cy="5214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1714680" y="607212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книг не забыв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Альбина\Desktop\режим дня Вероники\P1010257.JPG"/>
          <p:cNvPicPr/>
          <p:nvPr/>
        </p:nvPicPr>
        <p:blipFill>
          <a:blip r:embed="rId1"/>
          <a:stretch/>
        </p:blipFill>
        <p:spPr>
          <a:xfrm>
            <a:off x="1000080" y="714240"/>
            <a:ext cx="721512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2071800" y="5643720"/>
            <a:ext cx="613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 вечером, ложась в кр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наступит с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Альбина\Desktop\режим дня Вероники\P1010258.JPG"/>
          <p:cNvPicPr/>
          <p:nvPr/>
        </p:nvPicPr>
        <p:blipFill>
          <a:blip r:embed="rId1"/>
          <a:stretch/>
        </p:blipFill>
        <p:spPr>
          <a:xfrm>
            <a:off x="785880" y="500040"/>
            <a:ext cx="7500960" cy="5143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2357280" y="5857920"/>
            <a:ext cx="5072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мог уверенно с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Хороший был денё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льбина\Pictures\рисунок 8.png"/>
          <p:cNvPicPr/>
          <p:nvPr/>
        </p:nvPicPr>
        <p:blipFill>
          <a:blip r:embed="rId1"/>
          <a:stretch/>
        </p:blipFill>
        <p:spPr>
          <a:xfrm>
            <a:off x="-371520" y="-11160"/>
            <a:ext cx="9515520" cy="6869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214200" y="907920"/>
            <a:ext cx="77155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Правила здорового образа жизн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1.Соблюдай чист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2.Правильно питай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3.Сочетай труд и отды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4.Больше двигай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42960" y="71424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формировать у учащихся знания о правилах сохранения и укрепле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785880" y="1009440"/>
            <a:ext cx="77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учащихся знания о правилах сохран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76880" y="2714760"/>
            <a:ext cx="64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деятельность учащихс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ю с видами предложений по ц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14200" y="0"/>
            <a:ext cx="8929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ние правил гигиены и основы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овать убеждения о здоровом образе жизни и о здоровье, как самой главной ц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развитию навыков личной гигиены и труда по самообслужи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сохранения и укрепление здоровья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умения планировать, контролировать и оценивать учебные действия в соответствии с поставленной целью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реч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человека, который умеет заботиться о своём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на здоровый образ жизни; ежедневную физическую культуру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im0-tub-ru.yandex.net/i?id=67ee0a0b8550e173de1b9c07f96fd5cb&amp;n=33&amp;h=215&amp;w=430"/>
          <p:cNvPicPr/>
          <p:nvPr/>
        </p:nvPicPr>
        <p:blipFill>
          <a:blip r:embed="rId1"/>
          <a:stretch/>
        </p:blipFill>
        <p:spPr>
          <a:xfrm>
            <a:off x="928800" y="1071720"/>
            <a:ext cx="7381800" cy="3690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3453120" y="5286240"/>
            <a:ext cx="31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убная щё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23440" y="214200"/>
            <a:ext cx="28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Чистюль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im2-tub-ru.yandex.net/i?id=3b228cc8cbae790d87f96620df90267c&amp;n=33&amp;h=215&amp;w=215"/>
          <p:cNvPicPr/>
          <p:nvPr/>
        </p:nvPicPr>
        <p:blipFill>
          <a:blip r:embed="rId1"/>
          <a:stretch/>
        </p:blipFill>
        <p:spPr>
          <a:xfrm>
            <a:off x="1285920" y="428760"/>
            <a:ext cx="6786360" cy="5286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3725280" y="592920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im1-tub-ru.yandex.net/i?id=a474caa86bfcdcc7c06dc301cdc1e14f&amp;n=33&amp;h=215&amp;w=313"/>
          <p:cNvPicPr/>
          <p:nvPr/>
        </p:nvPicPr>
        <p:blipFill>
          <a:blip r:embed="rId1"/>
          <a:stretch/>
        </p:blipFill>
        <p:spPr>
          <a:xfrm>
            <a:off x="1214280" y="571680"/>
            <a:ext cx="6864480" cy="4714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150080" y="57862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н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http://tyttaya.ru/wp-content/uploads/2014/05/%D0%BA%D0%B0%D0%BA-%D0%B2%D1%8B%D0%B1%D1%80%D0%B0%D1%82%D1%8C-%D1%80%D0%B0%D1%81%D1%87%D0%B5%D1%81%D0%BA%D1%83-%D0%B4%D0%BB%D1%8F-%D0%B2%D0%BE%D0%BB%D0%BE%D1%81-16.jpg"/>
          <p:cNvPicPr/>
          <p:nvPr/>
        </p:nvPicPr>
        <p:blipFill>
          <a:blip r:embed="rId1"/>
          <a:stretch/>
        </p:blipFill>
        <p:spPr>
          <a:xfrm>
            <a:off x="1143000" y="500040"/>
            <a:ext cx="6894360" cy="5286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3933000" y="600084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чё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prom-hotel.ru/d/289844/d/23791206_6.jpg"/>
          <p:cNvPicPr/>
          <p:nvPr/>
        </p:nvPicPr>
        <p:blipFill>
          <a:blip r:embed="rId1"/>
          <a:stretch/>
        </p:blipFill>
        <p:spPr>
          <a:xfrm>
            <a:off x="500040" y="928800"/>
            <a:ext cx="8158320" cy="4214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3571560" y="56437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те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39:53Z</dcterms:created>
  <dc:creator>Тарлина</dc:creator>
  <dc:description/>
  <dc:language>en-US</dc:language>
  <cp:lastModifiedBy>User</cp:lastModifiedBy>
  <dcterms:modified xsi:type="dcterms:W3CDTF">2018-07-09T13:20:21Z</dcterms:modified>
  <cp:revision>45</cp:revision>
  <dc:subject/>
  <dc:title>Слайд 1</dc:title>
</cp:coreProperties>
</file>