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032B-903F-4934-9D5E-395DE8F6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05BF-41C8-4780-B91D-72D7B752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6E26EA-1F96-4680-9594-FE4A3D34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3A6CD-C612-471A-92B5-CC3FAE4A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4E34C7-A0C4-4012-8505-D7FA44DC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D33F2-8E7E-445D-BE59-5C69E621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D82D1-23CB-4A1C-B4AD-F6B7AF8B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0AC17-785B-4E6C-8C3B-76DACE4C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C2BA8B-5BC2-41B6-93E2-A88196A51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39F14-346F-4AE2-ADFF-70E3DA13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C18D0-9953-4E45-8334-D267469F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C749-8FA3-408F-A5D1-B974C011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63EF-ECF9-4F5D-B7B3-7703777BC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5926-D891-44B0-989F-D67D0198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4B401-463F-42F5-B902-4D2C808B9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56F64-383E-40DC-8164-9A598FC3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5BA5-3C80-4F12-BA43-ED78DE8C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3D1E-5B70-4702-A41A-9F386EAF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0CA4-2249-4340-BB80-8BE27CEE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F4E7-243B-4DA5-8F41-3DF0430ED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CE2-B11B-4310-8799-26FB2221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B28B-F46E-4076-9616-52F5926A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B54EE-2771-4118-ABB3-9D28B32B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889B-57DF-4E02-B612-F782AAFB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2A4D-DF63-41E4-88E2-19BC8893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986C6-ECF4-44A4-BAB2-F5B917743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D0C8A-2C19-48A4-9DA6-F0049EE8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03C57-5F58-4D81-848C-F5340272D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7EDD1-7699-4343-AF8D-052445D25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E43E1-5823-40C3-970A-1EF68243A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D9EED-64BB-433B-83BA-2922A929A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6564-1304-408C-8BFE-8E5DD8A8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981FE-F791-4F21-8368-040EA0EB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016E16-2218-4FAB-8E13-974D683E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D52DF-5010-4399-BA4C-41C7F6E2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43BA3-A466-445D-8DE4-19797CD4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59E8D-EC2A-452D-ADDE-BA22C520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95B04-CEA8-472A-8BD6-DB8E813A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17525-623E-4B01-B1E6-5A78F99B5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0B64C-1BBC-4AC6-875B-16210B2BA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85363-BBCD-47EC-95DF-8EFAF986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F04CD-FB7C-4B57-9AEA-8140C7204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7940-0106-4A7D-B9A2-0245796B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E922E-09E7-4450-861F-F1CB894A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06C06-79D8-43B0-B47E-DBDD8C6B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6FE43-F079-4585-B714-5356CABD5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46E71-E4E3-4FD3-AD35-DCD10F079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4EA125-88A2-4A92-BC01-94D42D7F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29F63-1B58-47A8-A7DF-D9922D19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CCE0F-509C-46BC-B7F6-2B3212D3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1DC08-586C-4850-A045-0D1EEF363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07D9D-151A-4DF8-AE71-0D4D440F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1244B-3DB1-482D-BDEA-BD69267A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E4D2-CD75-475F-BBE7-595799DA3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9025B-50EB-43CB-A922-F9C43F42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56EFB-EA76-40D3-8684-1345D166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0C5F6-8084-482E-ACD8-1E6BFFD5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9314D-54C4-4E11-A881-DC84F10E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0D99E0-8BC9-47A7-8059-91E5928A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31CE1-866E-4E0E-8764-992E55EB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D6EF4-7CB1-4677-9696-28578ABA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1D566-0E19-4578-B6EE-940E5EA2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F9D7BC-F31A-4CFD-8A85-97CB906C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6A4E9-C93F-41C9-8E6B-0B4172FD5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BB97-DBAB-43E5-903A-4B15F6B4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73FBCA-9D20-4FDC-A117-4D85F0380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8B6A-E604-4E88-BD8D-3E0DB544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4390-93C8-4AFD-9982-177B28B6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DC894-CFCC-4C84-BBBB-EDCCD82D2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35340-CEA2-426D-AB9C-D82B389E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92EB7-BC94-4836-9711-FB2E012F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A7C05-4879-4700-B00C-3CAE45C9D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DC497-C66F-4B60-90F8-5CFA651F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64B4-A621-4AF1-9825-1F975FA6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CB1CA-4DCE-4EFC-A509-CC3154703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2A340-859C-4C2B-BD8A-D1D57E52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21815-3EDD-4916-BEFF-67A771EE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A4774-F166-48A5-9A5E-67A3E3FF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5E4BE-DCEE-4286-BAF7-E702DB7C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A736B-EB62-4153-BFA2-0E18D0770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38552-3B91-4B1F-A7AB-56359CB51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E3D1F-57A6-47EB-A32A-54B644125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91559-3365-464F-841A-56EBE211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83B8E-B8D0-4CF3-AD74-C72418068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E077-617E-4AB8-AAC8-4F6F5F65841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B70E-C7BB-49DD-9EE5-036939E6AC7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8A57-952C-4DEA-9FFC-6B4620E5368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10F3-DC9A-478A-80EC-9DCEA0C93AE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9B4C-FF5E-4A58-9113-1B7C84CFACA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3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8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8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33cc"/>
                </a:gs>
                <a:gs pos="100000">
                  <a:srgbClr val="002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33cc"/>
                </a:gs>
                <a:gs pos="100000">
                  <a:srgbClr val="002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1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EC69-87F5-41EA-AB39-3D30411B641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3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61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65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33cc"/>
                </a:gs>
                <a:gs pos="100000">
                  <a:srgbClr val="002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33cc"/>
                </a:gs>
                <a:gs pos="100000">
                  <a:srgbClr val="002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90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6F6F-72B0-41F7-BB31-CCD5DFFA876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3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28600" y="7621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06668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спользование прямой, косвенной и опосредованной оценки в воспитании ребенка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981080" y="4876920"/>
            <a:ext cx="7162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сполнил: Костина О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читель – логопед МБДОУ №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. Ставроп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3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5800" y="228600"/>
            <a:ext cx="441972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Эффективность педагогического воздействия на ребенка в дошкольном детстве зависит от оптимального выбора методов и средств воспитательной работы, в каждом из которых обязательно присутствует общий компонент –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оц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3713040" cy="4267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42" name=""/>
          <p:cNvSpPr/>
          <p:nvPr/>
        </p:nvSpPr>
        <p:spPr>
          <a:xfrm>
            <a:off x="304920" y="380880"/>
            <a:ext cx="228600" cy="5791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3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609480"/>
            <a:ext cx="82296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ff"/>
                </a:solidFill>
                <a:latin typeface="Times New Roman"/>
              </a:rPr>
              <a:t>Оценка</a:t>
            </a:r>
            <a:r>
              <a:rPr b="1" i="1" lang="ru-RU" sz="36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это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арактеристик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ценности, уровня или значения каких – либо объектов или процессов.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цени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– значит установить уровень, степень или качество чего – нибудь. Применительно к воспитательной деятельности оценка означает установление степени выполнения ребенком правил и норм поведения, программ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920" y="838080"/>
            <a:ext cx="228600" cy="4191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3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57200" y="609480"/>
            <a:ext cx="82296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90720" y="8380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ВЕРБАЛЬНЫЕ ВИДЫ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819520" y="4495680"/>
            <a:ext cx="3352680" cy="1905120"/>
          </a:xfrm>
          <a:prstGeom prst="ellipse">
            <a:avLst/>
          </a:prstGeom>
          <a:solidFill>
            <a:srgbClr val="ff99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352680" y="5105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косв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495680" y="1752480"/>
            <a:ext cx="0" cy="2667240"/>
          </a:xfrm>
          <a:prstGeom prst="line">
            <a:avLst/>
          </a:prstGeom>
          <a:ln w="5724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523520" y="1752480"/>
            <a:ext cx="1676520" cy="1219320"/>
          </a:xfrm>
          <a:prstGeom prst="line">
            <a:avLst/>
          </a:prstGeom>
          <a:ln w="5724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1752480"/>
            <a:ext cx="1447920" cy="1295640"/>
          </a:xfrm>
          <a:prstGeom prst="line">
            <a:avLst/>
          </a:prstGeom>
          <a:ln w="5724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2280" y="2971800"/>
            <a:ext cx="3353040" cy="1905120"/>
          </a:xfrm>
          <a:prstGeom prst="ellipse">
            <a:avLst/>
          </a:prstGeom>
          <a:solidFill>
            <a:srgbClr val="ff99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791320" y="3048120"/>
            <a:ext cx="3352680" cy="1904760"/>
          </a:xfrm>
          <a:prstGeom prst="ellipse">
            <a:avLst/>
          </a:prstGeom>
          <a:solidFill>
            <a:srgbClr val="ff99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3657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опосредова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35812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пря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3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990720" y="8380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ВЕРБАЛЬНЫЕ ВИДЫ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533520"/>
            <a:ext cx="8458200" cy="9903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762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ПРЯМАЯ ОДНОЗНАЧНАЯ О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81480" y="2286000"/>
            <a:ext cx="3657600" cy="129528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" y="2209680"/>
            <a:ext cx="3657600" cy="129564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62120" y="2057400"/>
            <a:ext cx="3124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положит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57800" y="25909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отрицат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152388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99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15238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99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371600" y="4038480"/>
            <a:ext cx="1905120" cy="1143000"/>
          </a:xfrm>
          <a:prstGeom prst="ellipse">
            <a:avLst/>
          </a:prstGeom>
          <a:solidFill>
            <a:srgbClr val="ff99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5486400"/>
            <a:ext cx="1905120" cy="1143000"/>
          </a:xfrm>
          <a:prstGeom prst="ellipse">
            <a:avLst/>
          </a:pr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514600" y="5486400"/>
            <a:ext cx="1905120" cy="1143000"/>
          </a:xfrm>
          <a:prstGeom prst="ellipse">
            <a:avLst/>
          </a:pr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5486400"/>
            <a:ext cx="1905120" cy="1143000"/>
          </a:xfrm>
          <a:prstGeom prst="ellipse">
            <a:avLst/>
          </a:pr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086600" y="5486400"/>
            <a:ext cx="1905120" cy="1143000"/>
          </a:xfrm>
          <a:prstGeom prst="ellipse">
            <a:avLst/>
          </a:pr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19920" y="4114800"/>
            <a:ext cx="1904760" cy="1143000"/>
          </a:xfrm>
          <a:prstGeom prst="ellipse">
            <a:avLst/>
          </a:pr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3505320"/>
            <a:ext cx="228600" cy="533160"/>
          </a:xfrm>
          <a:prstGeom prst="downArrow">
            <a:avLst>
              <a:gd name="adj1" fmla="val 50000"/>
              <a:gd name="adj2" fmla="val 58307"/>
            </a:avLst>
          </a:prstGeom>
          <a:solidFill>
            <a:srgbClr val="99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43434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соглас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934320" y="3581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99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570000">
            <a:off x="990360" y="3427560"/>
            <a:ext cx="233280" cy="2057400"/>
          </a:xfrm>
          <a:prstGeom prst="downArrow">
            <a:avLst>
              <a:gd name="adj1" fmla="val 50000"/>
              <a:gd name="adj2" fmla="val 220486"/>
            </a:avLst>
          </a:prstGeom>
          <a:solidFill>
            <a:srgbClr val="99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570000">
            <a:off x="5714640" y="3505320"/>
            <a:ext cx="233280" cy="2057400"/>
          </a:xfrm>
          <a:prstGeom prst="downArrow">
            <a:avLst>
              <a:gd name="adj1" fmla="val 50000"/>
              <a:gd name="adj2" fmla="val 220486"/>
            </a:avLst>
          </a:prstGeom>
          <a:solidFill>
            <a:srgbClr val="99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20894400">
            <a:off x="8023320" y="3501720"/>
            <a:ext cx="228600" cy="1984320"/>
          </a:xfrm>
          <a:prstGeom prst="downArrow">
            <a:avLst>
              <a:gd name="adj1" fmla="val 52093"/>
              <a:gd name="adj2" fmla="val 178067"/>
            </a:avLst>
          </a:prstGeom>
          <a:solidFill>
            <a:srgbClr val="99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20894400">
            <a:off x="3351240" y="3427200"/>
            <a:ext cx="235080" cy="2057400"/>
          </a:xfrm>
          <a:prstGeom prst="downArrow">
            <a:avLst>
              <a:gd name="adj1" fmla="val 52093"/>
              <a:gd name="adj2" fmla="val 179536"/>
            </a:avLst>
          </a:prstGeom>
          <a:solidFill>
            <a:srgbClr val="99ff33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" y="57150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обод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1460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одоб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019920" y="4419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замеч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2920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отриц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08660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пориц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3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09480" y="762120"/>
            <a:ext cx="82296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Косвенная оценк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ыражается в одобрении либо в порицании определенных моральных качеств и поступков оцениваемого, сравнение его поступков с поступками других лиц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920" y="838080"/>
            <a:ext cx="2286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3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533520" y="762120"/>
            <a:ext cx="84582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Опосредованная оценка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ыражается в оценивании действий и личностных качеств одного субъекта через прямую оценку другого субъ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посредованная оценка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ценивание одного ребенка через другого – это травмирующая оценк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04920" y="838080"/>
            <a:ext cx="228600" cy="358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3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28600" y="7621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762120"/>
            <a:ext cx="815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инимая во внимание важную роль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оценки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для различных сторон воспитательного процесса, педагогам и родителям необходимо целенаправленно использовать оценку для достижения большей эффективности воспитатель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04920" y="838080"/>
            <a:ext cx="228600" cy="358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9-23T19:56:19Z</dcterms:modified>
  <cp:revision>5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