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D36-06D6-4FC7-9161-E752A5C0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B0BE-2397-42BD-812A-89FFFFBB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BB0D2-7231-45B3-B329-A3A5A071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EEB5F-2B1E-46CD-A2D4-D0D178E9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BB736-2EEC-4D8E-A08C-BE12C90A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57BE1D-554C-40F5-A84E-874C07F9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B2891D-F915-4429-A8E0-B36579BB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922AF5-09BF-46E0-B5EE-64D5F42B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77417-7CD7-4EFF-B6E9-52F4BBD66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F879E-69A7-4977-8595-C042F0A6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2C2834-9FB7-4081-A6D8-BDB43F72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D8E-25FB-43B0-8242-749D7E74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FF5-4D90-4893-8734-9D3D98500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429A-8C8A-4207-82F1-1B34D8639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FF7C2-51EA-4654-BC42-99584526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E53B-8A28-4133-8EEB-3BC20D32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E67C5-4A6A-40D6-B8BC-ED95522DA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D255-E2A9-48A0-AF33-40448E35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CF499-9683-4B03-A749-CF6840A7E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2132-724C-4896-98AD-4B98D76E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3715-D4BB-481B-88FF-9553F82D3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494CF-3D97-423E-9CAB-C67921B6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57F8-D7D8-4565-AAC1-1EEC564B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93271-6705-4A41-88E0-8C06E4D4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BE7AD-E9D4-449A-AA3F-0FBEC92AE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DCAAE-CAA8-4897-9282-ED4BC545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17D73E-3A5B-499A-B4E9-65DCCD18E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28F91-31F8-441D-B4EE-50918B38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3098-3899-4AB5-A510-BB877ED9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ADC93-F302-45AD-A5C6-BA8F47EE2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65078-8D3A-4DEF-A2B1-40D9E56E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8A96-CBAB-4A24-8D06-F739B6D32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C1669-0465-4576-BCCC-5EA1FD4E8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A6FAB-F1CC-46F7-A0B3-55E0B83C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72A03-65F3-4EAC-8E9B-8BA76E9E7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3453D-7578-4D2E-BC83-E26D35DF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A95A5-73F7-406D-8489-B7A49C72C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B3F2-B95F-4994-A2FC-572AD993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954DC6-2F95-47A3-BD69-2A86DDDD5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9C1AC-74DB-4018-BCD5-50231760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E7CB-2794-4421-9E32-9E9893CDE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2C674-86AD-4E3C-9F38-9744D546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BF43-0E77-40E5-BBCC-388143D3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9721D-89FC-4D01-9A8F-D033E466A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323CD-4B25-43C9-A0C1-FAC9D7D7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1B48E-9AD9-4051-AA62-46D12BC58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98D5-7C07-4BD6-9879-480C8A19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9AD19-BF31-4180-A8BE-7E140297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9EC12-FE7F-4453-A2E8-A695F011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4DC81-2E4E-43E0-85D2-F8737933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79E5A-E372-461D-A713-BFCFB2250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CFE5D-BE10-4CE0-8ED4-A5E25ED8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E9B65-6821-4807-996A-B407B69B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2681-41CD-4D9C-8759-B4BD255FB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3B6C9-67B4-42B6-96D6-05EC058A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EC2F0-A92A-4178-8EEA-534D1753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6C146-0F8D-4BD1-A618-F7E90F19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C18E92-A56D-4080-BF78-36ED676F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1EB270-D8CF-4912-A8CD-CDA81A9B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D520D-8B97-4821-B225-BD95B1A1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1E205-A2FB-4DEA-A4B1-055A0BC1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8943F-FA7F-43A4-9AD1-09274134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5879E-859C-42A6-AEEA-9B6C2AE7D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087CA-E944-4D33-BFAB-BDBFDF40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8BAA-F75E-475B-8798-3B167332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EB96D-2D32-423F-8C73-75B91771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2D4B-7CA3-4A3C-82CD-756DC5CB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D944-3644-4019-94F6-564FBA0F1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69AEF8-AADF-4922-9365-B1B074E72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3F8E3-7433-4F44-97D0-2606E2ABB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5D9B41-5E1A-4781-AD92-03C6B45D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8EE71-5C01-4F54-B17B-9C86160B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B60E9-2848-44C7-8E7F-6E5B8223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453C-9E7A-4626-AF3B-57F8032AE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B1E6B-87A0-4407-A997-76542E381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FA2DF-D58C-4E97-9915-F48FB4FB2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E021E7-CEDC-4FC2-A26B-E42215DC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22D94-A667-4F4A-807E-0722B150E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C6C8AA-7FF3-4E52-86A2-A30D17E5C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90A0E8-60E9-41A3-BDD0-FF229A90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A0BDF-9978-46E3-8E0C-D2E3B243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81905-3839-48C6-8942-DBF9E3977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C156C-7E13-49FE-AB45-1C90C5CD2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31CEE-1177-461B-AD12-DCD0FEFD9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0E3F-675E-46CD-993B-872A26A18FA3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4A1D-8533-4B8C-9010-C9C6FC3C89BC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580BB-7D86-44F7-87F7-C1ECBE2DFCB9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EF824-6C2D-4123-BBEE-8275022B44A6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8F3F-88DE-4EF0-9D92-6FC0D0CF6C61}" type="slidenum">
              <a:rPr b="0" lang="en-US" sz="14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28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28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2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2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1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CFF7-7C0E-471E-BF04-A69F07E80D5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ce9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948cc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36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36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cc"/>
                  </a:gs>
                  <a:gs pos="100000">
                    <a:srgbClr val="0021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5856"/>
                </a:gs>
                <a:gs pos="100000">
                  <a:srgbClr val="0035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2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33cc"/>
                </a:gs>
                <a:gs pos="100000">
                  <a:srgbClr val="002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39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58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F7CD8-5214-415B-A87B-D224DCDFA5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/>
          <p:nvPr/>
        </p:nvSpPr>
        <p:spPr>
          <a:xfrm>
            <a:off x="228600" y="762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09480" y="1066680"/>
            <a:ext cx="754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Использование прямой, косвенной и опосредованной оценки в воспитании ребенка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981080" y="4876920"/>
            <a:ext cx="71629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Исполнил: Костина О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учитель – логопед МБДОУ №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г. Ставропо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685800" y="228600"/>
            <a:ext cx="4419720" cy="64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Эффективность педагогического воздействия на ребенка в дошкольном детстве зависит от оптимального выбора методов и средств воспитательной работы, в каждом из которых обязательно присутствует общий компонент –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оце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5257800" y="685800"/>
            <a:ext cx="3713040" cy="42670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442" name=""/>
          <p:cNvSpPr/>
          <p:nvPr/>
        </p:nvSpPr>
        <p:spPr>
          <a:xfrm>
            <a:off x="304920" y="380880"/>
            <a:ext cx="228600" cy="5791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685800" y="609480"/>
            <a:ext cx="82296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Оценка</a:t>
            </a:r>
            <a:r>
              <a:rPr b="1" i="1" lang="ru-RU" sz="36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это </a:t>
            </a:r>
            <a:r>
              <a:rPr b="1" i="1" lang="ru-RU" sz="3200" spc="-1" strike="noStrike">
                <a:solidFill>
                  <a:srgbClr val="ffffff"/>
                </a:solidFill>
                <a:latin typeface="Times New Roman"/>
              </a:rPr>
              <a:t>характеристика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ценности, уровня или значения каких – либо объектов или процессов. 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ценить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– значит установить уровень, степень или качество чего – нибудь. Применительно к воспитательной деятельности оценка означает установление степени выполнения ребенком правил и норм поведения, программ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04920" y="838080"/>
            <a:ext cx="228600" cy="41911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457200" y="609480"/>
            <a:ext cx="8229600" cy="1143000"/>
          </a:xfrm>
          <a:prstGeom prst="rect">
            <a:avLst/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90720" y="8380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ВЕРБАЛЬНЫЕ ВИДЫ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819520" y="4495680"/>
            <a:ext cx="3352680" cy="1905120"/>
          </a:xfrm>
          <a:prstGeom prst="ellipse">
            <a:avLst/>
          </a:prstGeom>
          <a:solidFill>
            <a:srgbClr val="ff99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51055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косве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495680" y="1752480"/>
            <a:ext cx="0" cy="2667240"/>
          </a:xfrm>
          <a:prstGeom prst="line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1523520" y="1752480"/>
            <a:ext cx="1676520" cy="1219320"/>
          </a:xfrm>
          <a:prstGeom prst="line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172200" y="1752480"/>
            <a:ext cx="1447920" cy="1295640"/>
          </a:xfrm>
          <a:prstGeom prst="line">
            <a:avLst/>
          </a:prstGeom>
          <a:ln w="57240">
            <a:solidFill>
              <a:srgbClr val="99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52280" y="2971800"/>
            <a:ext cx="3353040" cy="1905120"/>
          </a:xfrm>
          <a:prstGeom prst="ellipse">
            <a:avLst/>
          </a:prstGeom>
          <a:solidFill>
            <a:srgbClr val="ff99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91320" y="3048120"/>
            <a:ext cx="3352680" cy="1904760"/>
          </a:xfrm>
          <a:prstGeom prst="ellipse">
            <a:avLst/>
          </a:prstGeom>
          <a:solidFill>
            <a:srgbClr val="ff99cc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36576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опосредован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358128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прям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990720" y="83808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ВЕРБАЛЬНЫЕ ВИДЫ ОЦЕН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0880" y="533520"/>
            <a:ext cx="8458200" cy="990360"/>
          </a:xfrm>
          <a:prstGeom prst="rect">
            <a:avLst/>
          </a:prstGeom>
          <a:solidFill>
            <a:srgbClr val="ffff00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762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ПРЯМАЯ ОДНОЗНАЧНАЯ ОЦЕ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181480" y="2286000"/>
            <a:ext cx="3657600" cy="129528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57200" y="2209680"/>
            <a:ext cx="3657600" cy="1295640"/>
          </a:xfrm>
          <a:prstGeom prst="ellipse">
            <a:avLst/>
          </a:prstGeom>
          <a:solidFill>
            <a:srgbClr val="ff99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62120" y="2057400"/>
            <a:ext cx="3124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положи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57800" y="259092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отрицательн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1523880"/>
            <a:ext cx="228600" cy="685800"/>
          </a:xfrm>
          <a:prstGeom prst="downArrow">
            <a:avLst>
              <a:gd name="adj1" fmla="val 50000"/>
              <a:gd name="adj2" fmla="val 75000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1523880"/>
            <a:ext cx="228600" cy="76212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371600" y="4038480"/>
            <a:ext cx="1905120" cy="1143000"/>
          </a:xfrm>
          <a:prstGeom prst="ellipse">
            <a:avLst/>
          </a:prstGeom>
          <a:solidFill>
            <a:srgbClr val="ff99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28600" y="5486400"/>
            <a:ext cx="190512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514600" y="5486400"/>
            <a:ext cx="190512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029200" y="5486400"/>
            <a:ext cx="190512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086600" y="5486400"/>
            <a:ext cx="190512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19920" y="4114800"/>
            <a:ext cx="1904760" cy="11430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133720" y="3505320"/>
            <a:ext cx="228600" cy="533160"/>
          </a:xfrm>
          <a:prstGeom prst="downArrow">
            <a:avLst>
              <a:gd name="adj1" fmla="val 50000"/>
              <a:gd name="adj2" fmla="val 58307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43434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соглас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934320" y="3581280"/>
            <a:ext cx="228600" cy="533520"/>
          </a:xfrm>
          <a:prstGeom prst="downArrow">
            <a:avLst>
              <a:gd name="adj1" fmla="val 50000"/>
              <a:gd name="adj2" fmla="val 58346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rot="570000">
            <a:off x="990360" y="3427560"/>
            <a:ext cx="233280" cy="2057400"/>
          </a:xfrm>
          <a:prstGeom prst="downArrow">
            <a:avLst>
              <a:gd name="adj1" fmla="val 50000"/>
              <a:gd name="adj2" fmla="val 220486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rot="570000">
            <a:off x="5714640" y="3505320"/>
            <a:ext cx="233280" cy="2057400"/>
          </a:xfrm>
          <a:prstGeom prst="downArrow">
            <a:avLst>
              <a:gd name="adj1" fmla="val 50000"/>
              <a:gd name="adj2" fmla="val 220486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rot="20894400">
            <a:off x="8023320" y="3501720"/>
            <a:ext cx="228600" cy="1984320"/>
          </a:xfrm>
          <a:prstGeom prst="downArrow">
            <a:avLst>
              <a:gd name="adj1" fmla="val 52093"/>
              <a:gd name="adj2" fmla="val 178067"/>
            </a:avLst>
          </a:prstGeom>
          <a:solidFill>
            <a:srgbClr val="99ff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rot="20894400">
            <a:off x="3351240" y="3427200"/>
            <a:ext cx="235080" cy="2057400"/>
          </a:xfrm>
          <a:prstGeom prst="downArrow">
            <a:avLst>
              <a:gd name="adj1" fmla="val 52093"/>
              <a:gd name="adj2" fmla="val 179536"/>
            </a:avLst>
          </a:prstGeom>
          <a:solidFill>
            <a:srgbClr val="99ff33"/>
          </a:solidFill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571500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обод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51460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одоб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019920" y="4419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замеч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отр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86600" y="5791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пориц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09480" y="762120"/>
            <a:ext cx="82296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ff"/>
                </a:solidFill>
                <a:latin typeface="Times New Roman"/>
              </a:rPr>
              <a:t>Косвенная оценк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ражается в одобрении либо в порицании определенных моральных качеств и поступков оцениваемого, сравнение его поступков с поступками других ли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304920" y="838080"/>
            <a:ext cx="228600" cy="251460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533520" y="762120"/>
            <a:ext cx="845820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Опосредованная оценка</a:t>
            </a:r>
            <a:r>
              <a:rPr b="1" i="1" lang="en-US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выражается в оценивании действий и личностных качеств одного субъекта через прямую оценку другого субъ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Опосредованная оценка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оценивание одного ребенка через другого – это травмирующая оценка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04920" y="838080"/>
            <a:ext cx="228600" cy="358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3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228600" y="762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2120" y="762120"/>
            <a:ext cx="815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Принимая во внимание важную роль </a:t>
            </a:r>
            <a:r>
              <a:rPr b="1" i="1" lang="en-US" sz="3200" spc="-1" strike="noStrike">
                <a:solidFill>
                  <a:srgbClr val="ff00ff"/>
                </a:solidFill>
                <a:latin typeface="Times New Roman"/>
              </a:rPr>
              <a:t>оценки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для различных сторон воспитательного процесса, педагогам и родителям необходимо целенаправленно использовать оценку для достижения большей эффективности воспитательной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04920" y="838080"/>
            <a:ext cx="228600" cy="35816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9-23T19:56:19Z</dcterms:modified>
  <cp:revision>5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