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AF8F-6644-429C-B44A-15D7B692D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39F-7CE5-4CB5-AF51-3266AD02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0D52-5FC9-4F99-B31C-9AFCDDAD8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AA17-D7D9-435B-948D-AECE66755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863CD-B6B5-42C9-A055-961C8B88C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2495-2F67-4234-8D3F-D8AA8463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0253-4C07-4668-AD17-C406F658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45B3-44B5-464C-923F-6EBBF820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32F6-F6B1-4377-8D31-BD3254D88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A8C1-2502-4B02-946A-965F3F42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5AA3-3121-43A5-8CA0-335F5A70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031-F966-4985-B953-2E1ED265E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3101-2AAB-4359-A884-B7EA58E4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7957-B972-4247-AAC9-0D0F46D3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B423-BCCB-4337-8559-F972BA7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5ED0-8340-49C4-B996-DB22A94E4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88FF-C369-4C3E-9B0E-A02EC6AA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C7F2-BF1D-40A8-8F2E-32F7A52C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A26C-2AC1-44F9-B3E5-263A2531A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46C-D05F-4E2C-BD5F-F9701209A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7B9-5564-4AF7-9CDF-7A2751102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073B-BB18-4858-9A99-1877F1D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3AC9-3204-417D-8C9F-5E95A8DF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D213-3751-43DF-88ED-E62B8376C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F607-A614-4827-9D53-8F5331434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BD35-D5CE-4E67-9FAB-6707DD6707C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000" y="980640"/>
            <a:ext cx="84596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6666"/>
                </a:solidFill>
                <a:latin typeface="Arial"/>
              </a:rPr>
              <a:t>ВИДЕОНАБЛЮДЕНИЕ ЗА ПТИЦАМИ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5120" y="510552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дубская Елена Николаевн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осква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6919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БЛЮДЕНИЕ ЗА ПТИЦАМИ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773360"/>
            <a:ext cx="860436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блюдение за птицами увлекательное занятие, только таким способом можно увидеть реальную жизнь пернатых. Никакие фильмы и зоопарки не передадут и не дадут увидеть моменты жизни птиц которые заметите только Вы.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 важно сразу отметить, что наблюдения ни в коем случае не должны мешать жизни пернатых или вносить беспокойство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БЛЮДЕНИЕ ЗА ПТИЦАМ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8532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стоянно находясь в контакте с птицами и не представляя для них опасности, можно приучить их не спасаться от нас бегством, а допускать присутствие человека на безопасном по мнению птиц рас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Так можно наблюдать с близкого расстояния за птицами как на кормушках, так и в период гнездования или выращивания птенцов. К сожалению такие примеры поведения диких птиц характерны для малонаселенных мест или зоопарков и мест кормления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5" descr="Вольтметр "/>
          <p:cNvPicPr/>
          <p:nvPr/>
        </p:nvPicPr>
        <p:blipFill>
          <a:blip r:embed="rId1"/>
          <a:stretch/>
        </p:blipFill>
        <p:spPr>
          <a:xfrm>
            <a:off x="179280" y="189000"/>
            <a:ext cx="273708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Модуль видеокамеры"/>
          <p:cNvPicPr/>
          <p:nvPr/>
        </p:nvPicPr>
        <p:blipFill>
          <a:blip r:embed="rId2"/>
          <a:stretch/>
        </p:blipFill>
        <p:spPr>
          <a:xfrm>
            <a:off x="6443640" y="260280"/>
            <a:ext cx="2509920" cy="2509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Стекло корпуса вольтметра изнутри"/>
          <p:cNvPicPr/>
          <p:nvPr/>
        </p:nvPicPr>
        <p:blipFill>
          <a:blip r:embed="rId3"/>
          <a:stretch/>
        </p:blipFill>
        <p:spPr>
          <a:xfrm>
            <a:off x="3059280" y="83664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Видеомодуль в корпусе"/>
          <p:cNvPicPr/>
          <p:nvPr/>
        </p:nvPicPr>
        <p:blipFill>
          <a:blip r:embed="rId4"/>
          <a:stretch/>
        </p:blipFill>
        <p:spPr>
          <a:xfrm>
            <a:off x="2843280" y="2492280"/>
            <a:ext cx="36003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5" descr="Кожух видеокамеры в скворечнике"/>
          <p:cNvPicPr/>
          <p:nvPr/>
        </p:nvPicPr>
        <p:blipFill>
          <a:blip r:embed="rId1"/>
          <a:stretch/>
        </p:blipFill>
        <p:spPr>
          <a:xfrm>
            <a:off x="324000" y="260280"/>
            <a:ext cx="2903400" cy="29037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Покрытие крыши "/>
          <p:cNvPicPr/>
          <p:nvPr/>
        </p:nvPicPr>
        <p:blipFill>
          <a:blip r:embed="rId2"/>
          <a:stretch/>
        </p:blipFill>
        <p:spPr>
          <a:xfrm>
            <a:off x="5580000" y="189000"/>
            <a:ext cx="3371760" cy="3371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Скворечник установлен"/>
          <p:cNvPicPr/>
          <p:nvPr/>
        </p:nvPicPr>
        <p:blipFill>
          <a:blip r:embed="rId3">
            <a:lum bright="-30000"/>
          </a:blip>
          <a:stretch/>
        </p:blipFill>
        <p:spPr>
          <a:xfrm>
            <a:off x="2340000" y="2781360"/>
            <a:ext cx="3889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ВРЕМЕННАЯ ТЕХНИКА ДЛЯ НАБЛЮД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c828"/>
          <p:cNvPicPr/>
          <p:nvPr/>
        </p:nvPicPr>
        <p:blipFill>
          <a:blip r:embed="rId1"/>
          <a:stretch/>
        </p:blipFill>
        <p:spPr>
          <a:xfrm>
            <a:off x="0" y="907920"/>
            <a:ext cx="2736720" cy="2590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10_41"/>
          <p:cNvPicPr/>
          <p:nvPr/>
        </p:nvPicPr>
        <p:blipFill>
          <a:blip r:embed="rId2"/>
          <a:stretch/>
        </p:blipFill>
        <p:spPr>
          <a:xfrm>
            <a:off x="4381560" y="1413000"/>
            <a:ext cx="4762440" cy="3543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5_58"/>
          <p:cNvPicPr/>
          <p:nvPr/>
        </p:nvPicPr>
        <p:blipFill>
          <a:blip r:embed="rId3"/>
          <a:stretch/>
        </p:blipFill>
        <p:spPr>
          <a:xfrm>
            <a:off x="0" y="3645000"/>
            <a:ext cx="3484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ОВРЕМЕННАЯ ТЕХНИКА ДЛЯ НАБЛЮД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5" descr="Подзорная труба Celestron 18-55x Ultima 65mm 45°"/>
          <p:cNvPicPr/>
          <p:nvPr/>
        </p:nvPicPr>
        <p:blipFill>
          <a:blip r:embed="rId1"/>
          <a:stretch/>
        </p:blipFill>
        <p:spPr>
          <a:xfrm>
            <a:off x="539640" y="2276640"/>
            <a:ext cx="3203640" cy="3203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Зрительная труба Yukon Юкон 6-100х100 с штативом"/>
          <p:cNvPicPr/>
          <p:nvPr/>
        </p:nvPicPr>
        <p:blipFill>
          <a:blip r:embed="rId2"/>
          <a:stretch/>
        </p:blipFill>
        <p:spPr>
          <a:xfrm>
            <a:off x="5292720" y="2060640"/>
            <a:ext cx="385128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Vy8WX2m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ПАСИБО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ЗА ВНИМАНИЕ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2T16:36:27Z</dcterms:created>
  <dc:creator>Zver</dc:creator>
  <dc:description/>
  <dc:language>en-US</dc:language>
  <cp:lastModifiedBy>Пользователь Windows</cp:lastModifiedBy>
  <dcterms:modified xsi:type="dcterms:W3CDTF">2018-07-09T11:11:56Z</dcterms:modified>
  <cp:revision>3</cp:revision>
  <dc:subject/>
  <dc:title>ВИДЕОНАБЛЮДЕНИЕ ЗА ПТИЦАМИ</dc:title>
</cp:coreProperties>
</file>