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15E1-1A5F-473D-BBDF-327EDFCB1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3562-0810-4A38-9DC3-6D897B3CD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9B72-0741-4BC7-9EE4-67216BED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523-E1DF-46A9-A21E-98ADD933F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2B66-17D3-47CA-B0B7-CA5DDCB24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7B64-37B0-4A2F-8415-2DFFE30E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C621A-A048-477A-B29C-67D61082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39BB-0FF9-42F8-90F4-B954A972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648F-1C01-456D-B7C5-FD2D2158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9FB2-6E84-4693-B86C-7DBD8907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B511-8EA0-4BBB-87FD-5859A231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35C-5EAF-461C-886F-00BDD3D3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9543-20F6-4B5F-B6A6-7D346FDF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0014-ED34-4456-8DD1-5E092685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D936-132E-4F69-B7A0-BA36E274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EBC2-2C46-49AD-B486-6C45598F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70FD-A1BA-489B-952C-0D1BC49C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40D9-A819-49DB-AAEB-14597BF6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DCA-7EB7-474D-8678-FC63E33E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75A0-B4CE-4D8F-BCC3-F4CF6C98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E32-D2FA-4873-9145-C691E46B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B1F-F108-4955-9E61-1CFFBAA7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87DC-99F6-4A53-99C0-D8CB3EAA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F31A-8435-40BC-B942-A1C9B9DF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49B5-3566-4AE5-9B70-0ABC04E030B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9188-38FE-476A-AC6D-1596A5AAA83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84596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ВИДЕОНАБЛЮДЕНИЕ ЗА ПТИЦАМИ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05120" y="51055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ддубская Елена Николаевн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Москв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691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БЛЮДЕНИЕ ЗА ПТИЦАМИ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блюдение за птицами увлекательное занятие, только таким способом можно увидеть реальную жизнь пернатых. Никакие фильмы и зоопарки не передадут и не дадут увидеть моменты жизни птиц которые заметите только В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 важно сразу отметить, что наблюдения ни в коем случае не должны мешать жизни пернатых или вносить беспокойств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БЛЮДЕНИЕ ЗА ПТИЦАМ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532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стоянно находясь в контакте с птицами и не представляя для них опасности, можно приучить их не спасаться от нас бегством, а допускать присутствие человека на безопасном по мнению птиц расстояни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ак можно наблюдать с близкого расстояния за птицами как на кормушках, так и в период гнездования или выращивания птенцов. К сожалению такие примеры поведения диких птиц характерны для малонаселенных мест или зоопарков и мест кормл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5" descr="Вольтметр "/>
          <p:cNvPicPr/>
          <p:nvPr/>
        </p:nvPicPr>
        <p:blipFill>
          <a:blip r:embed="rId1"/>
          <a:stretch/>
        </p:blipFill>
        <p:spPr>
          <a:xfrm>
            <a:off x="179280" y="189000"/>
            <a:ext cx="2737080" cy="273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Модуль видеокамеры"/>
          <p:cNvPicPr/>
          <p:nvPr/>
        </p:nvPicPr>
        <p:blipFill>
          <a:blip r:embed="rId2"/>
          <a:stretch/>
        </p:blipFill>
        <p:spPr>
          <a:xfrm>
            <a:off x="6443640" y="260280"/>
            <a:ext cx="2509920" cy="2509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Стекло корпуса вольтметра изнутри"/>
          <p:cNvPicPr/>
          <p:nvPr/>
        </p:nvPicPr>
        <p:blipFill>
          <a:blip r:embed="rId3"/>
          <a:stretch/>
        </p:blipFill>
        <p:spPr>
          <a:xfrm>
            <a:off x="3059280" y="83664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Видеомодуль в корпусе"/>
          <p:cNvPicPr/>
          <p:nvPr/>
        </p:nvPicPr>
        <p:blipFill>
          <a:blip r:embed="rId4"/>
          <a:stretch/>
        </p:blipFill>
        <p:spPr>
          <a:xfrm>
            <a:off x="2843280" y="2492280"/>
            <a:ext cx="3600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Кожух видеокамеры в скворечнике"/>
          <p:cNvPicPr/>
          <p:nvPr/>
        </p:nvPicPr>
        <p:blipFill>
          <a:blip r:embed="rId1"/>
          <a:stretch/>
        </p:blipFill>
        <p:spPr>
          <a:xfrm>
            <a:off x="324000" y="260280"/>
            <a:ext cx="2903400" cy="2903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Покрытие крыши "/>
          <p:cNvPicPr/>
          <p:nvPr/>
        </p:nvPicPr>
        <p:blipFill>
          <a:blip r:embed="rId2"/>
          <a:stretch/>
        </p:blipFill>
        <p:spPr>
          <a:xfrm>
            <a:off x="5580000" y="189000"/>
            <a:ext cx="3371760" cy="3371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Скворечник установлен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2340000" y="278136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ВРЕМЕННАЯ ТЕХНИКА ДЛЯ НАБЛЮД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c828"/>
          <p:cNvPicPr/>
          <p:nvPr/>
        </p:nvPicPr>
        <p:blipFill>
          <a:blip r:embed="rId1"/>
          <a:stretch/>
        </p:blipFill>
        <p:spPr>
          <a:xfrm>
            <a:off x="0" y="907920"/>
            <a:ext cx="2736720" cy="2590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10_41"/>
          <p:cNvPicPr/>
          <p:nvPr/>
        </p:nvPicPr>
        <p:blipFill>
          <a:blip r:embed="rId2"/>
          <a:stretch/>
        </p:blipFill>
        <p:spPr>
          <a:xfrm>
            <a:off x="4381560" y="1413000"/>
            <a:ext cx="4762440" cy="354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5_58"/>
          <p:cNvPicPr/>
          <p:nvPr/>
        </p:nvPicPr>
        <p:blipFill>
          <a:blip r:embed="rId3"/>
          <a:stretch/>
        </p:blipFill>
        <p:spPr>
          <a:xfrm>
            <a:off x="0" y="3645000"/>
            <a:ext cx="3484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ВРЕМЕННАЯ ТЕХНИКА ДЛЯ НАБЛЮД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Подзорная труба Celestron 18-55x Ultima 65mm 45°"/>
          <p:cNvPicPr/>
          <p:nvPr/>
        </p:nvPicPr>
        <p:blipFill>
          <a:blip r:embed="rId1"/>
          <a:stretch/>
        </p:blipFill>
        <p:spPr>
          <a:xfrm>
            <a:off x="539640" y="2276640"/>
            <a:ext cx="3203640" cy="3203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Зрительная труба Yukon Юкон 6-100х100 с штативом"/>
          <p:cNvPicPr/>
          <p:nvPr/>
        </p:nvPicPr>
        <p:blipFill>
          <a:blip r:embed="rId2"/>
          <a:stretch/>
        </p:blipFill>
        <p:spPr>
          <a:xfrm>
            <a:off x="5292720" y="2060640"/>
            <a:ext cx="38512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Vy8WX2m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ПАСИБ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 ВНИМАНИЕ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2T16:36:27Z</dcterms:created>
  <dc:creator>Zver</dc:creator>
  <dc:description/>
  <dc:language>en-US</dc:language>
  <cp:lastModifiedBy>Пользователь Windows</cp:lastModifiedBy>
  <dcterms:modified xsi:type="dcterms:W3CDTF">2018-07-09T11:11:56Z</dcterms:modified>
  <cp:revision>3</cp:revision>
  <dc:subject/>
  <dc:title>ВИДЕОНАБЛЮДЕНИЕ ЗА ПТИЦАМИ</dc:title>
</cp:coreProperties>
</file>