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F571-9A60-4915-BC9B-A7D87822B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94A-9478-43B9-99AE-CC839CD879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56AC-19F4-4660-9337-2C9F747F3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53A5-0F6C-49F1-9C13-E25633BAC3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53ED-11F9-4B6D-BFDE-3DB2F68D6E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CC8E-1705-43CE-A035-309280326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42D1-832A-4F88-BECD-3FB6E82A6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96D-8311-4EDB-A017-6CB23ECD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00D-DA5A-4EF5-B4F0-1D188461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D36-058D-4D60-8B26-A9360B3F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88E0-8030-4D24-8B1D-0F2BE0E2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C55-F446-4C0B-AB17-3C49529A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EBD-6725-4E7E-8F0E-F5007807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1A8-41A9-4049-9BF2-11DC9BED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EEF-F470-4804-B51C-0E29E8B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AF1-9A09-43F5-A362-F026FA44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2E3-1A57-4CA0-97A6-643AF748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E7C-7B13-444E-9CE4-8B92E1C3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76A-B778-42AD-B4A5-F6AF1F9B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A8BE-7C48-45F1-AB74-CE71D8B59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 rot="20756400">
            <a:off x="4815000" y="2205000"/>
            <a:ext cx="421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нуж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 rot="20387400">
            <a:off x="2675880" y="4535640"/>
            <a:ext cx="696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214800" y="-285840"/>
            <a:ext cx="578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Зачем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8"/>
          <p:cNvSpPr/>
          <p:nvPr/>
        </p:nvSpPr>
        <p:spPr>
          <a:xfrm>
            <a:off x="500040" y="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для бомбардировщиков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542880" y="157176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В годы второй миров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математические расчеты шир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применялись для план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боевых действий. Так,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работали для бомбардиров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авиации США. Ими исследовались многочисленные факторы, влия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на эффективность бомбом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Были выработаны рекоменд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приведшие к 4-х-кратному повышению эффективности бомбом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:\МЕТОД\школа удивительных открытий\Зачем нужна математика\96607-Royalty-Free-RF-Clipart-Illustration-Of-A-Military-Bomber-Plane-Releasing-Bombsкопирование.png"/>
          <p:cNvPicPr/>
          <p:nvPr/>
        </p:nvPicPr>
        <p:blipFill>
          <a:blip r:embed="rId2"/>
          <a:stretch/>
        </p:blipFill>
        <p:spPr>
          <a:xfrm rot="564000">
            <a:off x="5270400" y="-618840"/>
            <a:ext cx="40878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для землекопов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68360" y="785880"/>
            <a:ext cx="83898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Причем здесь землекопы, скажете вы. Но еще в 1885 году американский инженер и исследователь Фредерик Тейл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задумался о возможности применения математики дл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организации труда. Проблема, рассмотренная им, на перв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взгляд, кажется очень простой: «Как оптимальным образом организовать работу землекопов?» Казалось бы, отв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давно известен – «Бери больше, кидай дальше, отдыхай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пока летит»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Однако математические расчеты показали, чт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такой принцип работы не самый лучший. Оказалось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что оптимальный вес груза, позволяющий выкопать больше земли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значительно меньше того, что может подня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человек при максимальной нагрузк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Тейлор установил, что идеальное количество земли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составляет 9,75 килограмма, и сконструирова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лопату именно такой ёмкости, в результате ч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производительность труда землекоп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значительно возрос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МЕТОД\школа удивительных открытий\Зачем нужна математика\fwtaylorкопирование.png"/>
          <p:cNvPicPr/>
          <p:nvPr/>
        </p:nvPicPr>
        <p:blipFill>
          <a:blip r:embed="rId2"/>
          <a:stretch/>
        </p:blipFill>
        <p:spPr>
          <a:xfrm>
            <a:off x="428760" y="3929040"/>
            <a:ext cx="2089080" cy="2757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D:\МЕТОД\школа удивительных открытий\Зачем нужна математика\901362_1300522660_1_644x461копирование.png"/>
          <p:cNvPicPr/>
          <p:nvPr/>
        </p:nvPicPr>
        <p:blipFill>
          <a:blip r:embed="rId3"/>
          <a:stretch/>
        </p:blipFill>
        <p:spPr>
          <a:xfrm>
            <a:off x="6286680" y="785880"/>
            <a:ext cx="2643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8"/>
          <p:cNvSpPr/>
          <p:nvPr/>
        </p:nvSpPr>
        <p:spPr>
          <a:xfrm>
            <a:off x="428760" y="0"/>
            <a:ext cx="86976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для футболистов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28760" y="765000"/>
            <a:ext cx="82864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Группа ученых Ливерпульского университета разработала математическую модель идеального пенальти в помощь футболистам, которые при исполнении 11-метр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штрафных ударов до сих пор больше полаг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на инту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о-первых, удар должен быть нанесен со скор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104,6 км/ч. При этом разбег идеального пенальт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равен 5-6 шагам, и двигаться он должен под уг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20-30 градусов к оси, проходящей по линии мяч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центр ворот.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Другой ключевой момент - это направление удара. Его следует наносить только в верхний угол ворот. Мертвой для вратаря зоной является точка, которая находится на пересечении воображаемых линий, если их провести в 50 сантиметрах от перекладины и в 50 сантиметрах от штан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 этом случае, как утверждают ученые, даже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длиннорукий и высокорослый вратарь уг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направление удара, он все равно не в со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его пар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football_player_-_soccer_graphics_free_20140609_1393171713"/>
          <p:cNvPicPr/>
          <p:nvPr/>
        </p:nvPicPr>
        <p:blipFill>
          <a:blip r:embed="rId2"/>
          <a:srcRect l="25794" t="4793" r="28586" b="9274"/>
          <a:stretch/>
        </p:blipFill>
        <p:spPr>
          <a:xfrm>
            <a:off x="6942240" y="790560"/>
            <a:ext cx="19796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для всех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68360" y="692280"/>
            <a:ext cx="8572320" cy="64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Большинство людей не задумывается, что результаты деятельности математиков они ежедневно видят вокруг себя. Недаром гениальный учёный Карл Фридрих Гаусс говорил, что математика – царица нау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Однако не только формулы в математике имеют значение, занятия математикой способствуют развитию мышления, воображения и умен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видеть природу вещ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Математика учит признавать свои ошиб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и двигаться вперед, чтобы все-таки одержать долгожданную победу над неразрешимой задач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Учит мыслить на несколько шагов вперед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анализировать ситуацию при принят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важных реш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3"/>
          <p:cNvSpPr/>
          <p:nvPr/>
        </p:nvSpPr>
        <p:spPr>
          <a:xfrm>
            <a:off x="611280" y="476280"/>
            <a:ext cx="820872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54061"/>
                </a:solidFill>
                <a:latin typeface="Arial"/>
              </a:rPr>
              <a:t>Если бы математика как наука не развивалась, не была бы обязательным предметом, то доброй половины научных открытий, да и современных технологий прост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54061"/>
                </a:solidFill>
                <a:latin typeface="Arial"/>
              </a:rPr>
              <a:t>не существовало б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54061"/>
                </a:solidFill>
                <a:latin typeface="Arial"/>
              </a:rPr>
              <a:t>Не зная математики нельзя построить дом, сконструировать двигатель внутреннего сгорания, сделат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54061"/>
                </a:solidFill>
                <a:latin typeface="Arial"/>
              </a:rPr>
              <a:t>компьютер и даже провести социологический опрос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ткрытия на кончике пер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01560" y="669960"/>
            <a:ext cx="836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Математика всегда способствовала развитию других наук и сама развивалась под их воздействием. В астро- номии математика помогла сделать многие открытия. Новые алгоритмы, разработанные математиками, переходили на службу астрономам. Например, Ньютон вычислил форму нашей планеты и показал, что Земля имеет форму шара, расширенного у экватора и сплюс-нутого у полюсов. Ученый установил «сплющенность» Земли, не выходя за дверь. Это открытие было сделано «на кончике пера» средствами матема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33868-1516726-451копирование"/>
          <p:cNvPicPr/>
          <p:nvPr/>
        </p:nvPicPr>
        <p:blipFill>
          <a:blip r:embed="rId2"/>
          <a:stretch/>
        </p:blipFill>
        <p:spPr>
          <a:xfrm>
            <a:off x="609480" y="4365720"/>
            <a:ext cx="3638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ткрытия на кончике пер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571680" y="1000080"/>
            <a:ext cx="8215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71680" y="1000080"/>
            <a:ext cx="8215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71680" y="1000080"/>
            <a:ext cx="8215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571680" y="78588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Английский астроном Э. Галлей, вычисляя по совету своего друга И. Ньютона элементы орбит 24 наиболее ярких комет, обнаружил сходство орбит комет 1531, 1607 и 1682 годов. Галлей пришел к выводу, что это одна и та же комета, и предсказал ее очередное появление в конце 1758 года. Это предсказание ученого полностью подтвердилось: комета была обнаружена в декабре 1758 года. Она была названа кометой Галле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&amp;Kcy;&amp;ocy;&amp;mcy;&amp;iecy;&amp;tcy;&amp;acy; &amp;Gcy;&amp;acy;&amp;lcy;&amp;lcy;&amp;iecy;&amp;yacy; 8 &amp;mcy;&amp;acy;&amp;rcy;&amp;tcy;&amp;acy; 1986 &amp;gcy;&amp;ocy;&amp;dcy;&amp;acy;"/>
          <p:cNvPicPr/>
          <p:nvPr/>
        </p:nvPicPr>
        <p:blipFill>
          <a:blip r:embed="rId2"/>
          <a:stretch/>
        </p:blipFill>
        <p:spPr>
          <a:xfrm>
            <a:off x="826920" y="4005360"/>
            <a:ext cx="38894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ткрытия на кончике пер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46200" y="824040"/>
            <a:ext cx="8286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Вы знаете, Солнечная система состоит из 8 планет. Однако, еще в 18 веке о 8-ой планете никто ничего не знал. В 1783 г. русский ученый Лексель, изучая движение планеты Уран, обратил внимание на расхождение между расчетным и наблюдаемым движением Урана. Он подумал: «Отчего не хочется Урану бежать по той дорожке, которая для него рассчитана, ведь для остальных извест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планет расчеты оказываются верными.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Может быть на движение Урана влия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другая, неизвестная пока планет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Такие предположения делал учены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но ему никто не повер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D:\МЕТОД\школа удивительных открытий\Зачем нужна математика\65084753копирование.png"/>
          <p:cNvPicPr/>
          <p:nvPr/>
        </p:nvPicPr>
        <p:blipFill>
          <a:blip r:embed="rId2"/>
          <a:stretch/>
        </p:blipFill>
        <p:spPr>
          <a:xfrm>
            <a:off x="428760" y="3036960"/>
            <a:ext cx="29289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ткрытия на кончике пер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71680" y="785880"/>
            <a:ext cx="8286480" cy="54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рошло более 50 лет и загадка Урана по-прежнему волновала ученых. И вот английский астроном Адамс и французский астроном и математик Леверье решили проверить предположение русского ученого. Они рассчитали, каждый в отдельности, предполагаемое местонахождение этой все еще неизвестной планеты. Вычисления были очень сложны, заняли больше года, ведь выполнялись они вручную. О вычислениях на компьютерах в те времена никто не слышал! Но труд ученых закончился блестящим успех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23 сентября 1846 года немецкий астроном Иоганн Готтф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Галле получил письмо от Леверье с просьбой про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оиск заурановой планеты по предвычисл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им координатам. В тот же вечер Галле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телескопа отыскал новую план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олучившую позже название Непту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Так, планета, рассчит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на бумаге, была обнару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человеческим глаз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642960" y="4713120"/>
            <a:ext cx="20001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и гармония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87520" y="782640"/>
            <a:ext cx="82864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расота, оказывается, порою имеет математическое объяснение. 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ропорциональность в природе, искусстве, архитектуре означает соблюдение определенных соотношений между размерами отдельных частей растения, скульптуры, здания и является непременным условием правильного и красивого изображения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Золотое сечение – это такое пропорциональное 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трезка на неравные части, при котором весь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так относится к большей части, как сама больш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тносится к меньш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с : b = b : 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тношение золотого сечения обозначают </a:t>
            </a:r>
            <a:r>
              <a:rPr b="0" lang="ru-RU" sz="2400" spc="-1" strike="noStrike">
                <a:solidFill>
                  <a:srgbClr val="254061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≈1,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 округленном процентном значении пропор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частей целого будут соотнос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ак 62% на 38%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&amp;zcy;&amp;ocy;&amp;lcy;&amp;ocy;&amp;tcy;&amp;ocy;&amp;iecy; &amp;scy;&amp;iecy;&amp;chcy;&amp;iecy;&amp;ncy;&amp;icy;&amp;iecy;"/>
          <p:cNvPicPr/>
          <p:nvPr/>
        </p:nvPicPr>
        <p:blipFill>
          <a:blip r:embed="rId2"/>
          <a:stretch/>
        </p:blipFill>
        <p:spPr>
          <a:xfrm>
            <a:off x="755640" y="4292640"/>
            <a:ext cx="4176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и гармония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574560" y="830160"/>
            <a:ext cx="8466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дним из красивейших произведений древнегреческой архитектуры является храм Парфенон (V в. до н. э.).На рисунках виден целый ряд закономерностей, связанных с «золотым сечением». Пропорции здания можно выразить через различные степени числа </a:t>
            </a:r>
            <a:r>
              <a:rPr b="0" lang="ru-RU" sz="2400" spc="-1" strike="noStrike">
                <a:solidFill>
                  <a:srgbClr val="254061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=1,61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://www.bestreferat.ru/images/paper/66/72/9507266.jpeg"/>
          <p:cNvPicPr/>
          <p:nvPr/>
        </p:nvPicPr>
        <p:blipFill>
          <a:blip r:embed="rId2"/>
          <a:stretch/>
        </p:blipFill>
        <p:spPr>
          <a:xfrm>
            <a:off x="684360" y="2349360"/>
            <a:ext cx="4979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и гармония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74560" y="830160"/>
            <a:ext cx="8466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ереходя к примерам «золотого сечения» в живописи, нельзя не остановить своего внимания на творчестве Леонардо да Винчи. Посмотрим внимательно на картину «Джоконда». Композиция портрета построена на «золотых треугольниках» (равнобедренных треугольниках, у которого отношение длины боковой стороны к длине основания равняется числу </a:t>
            </a:r>
            <a:r>
              <a:rPr b="0" lang="ru-RU" sz="2400" spc="-1" strike="noStrike">
                <a:solidFill>
                  <a:srgbClr val="254061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bestreferat.ru/images/paper/78/72/9507278.jpeg"/>
          <p:cNvPicPr/>
          <p:nvPr/>
        </p:nvPicPr>
        <p:blipFill>
          <a:blip r:embed="rId2"/>
          <a:stretch/>
        </p:blipFill>
        <p:spPr>
          <a:xfrm>
            <a:off x="1547640" y="2795760"/>
            <a:ext cx="2664000" cy="38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Елена Попова</cp:lastModifiedBy>
  <dcterms:modified xsi:type="dcterms:W3CDTF">2018-07-08T22:10:40Z</dcterms:modified>
  <cp:revision>140</cp:revision>
  <dc:subject/>
  <dc:title>Слайд 1</dc:title>
</cp:coreProperties>
</file>