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95B3-A94F-4105-98DE-ECA50B7907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6CE1-7800-4601-92B5-368948B194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D99AF-3B8D-4FEB-AE1E-31AB608A4E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A52F-7EBF-42BA-B554-11FF917E64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1592-2BCD-4FE3-B0B1-7A05E5DC3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BCC1-97DD-4D31-86C8-770F2B100B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611E-C8A8-4A2A-A0D0-E4C245617E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CF2E-3631-4081-8EB5-B996C9F40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FD81-1142-4A05-B1FD-BDD6820A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7578-FECA-4AA5-BDA8-DBC40DBB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204-9312-455F-B4ED-6E7CAFB9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F16A-CAA5-4639-8343-09BA4F4C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181B-07EB-4289-86C6-B92AC677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04F-C309-452A-8DE8-452A6FE3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98D-D6F7-402D-8EEE-610ACD10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0BEE-AB6D-4E01-94C6-7A743CB5D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C54-2158-4DE0-9300-C8D22299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3EE-506B-4A9F-BCD1-A0E36975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B080-238A-474C-BB6E-0CF9BE60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14FE-7FE4-4EB4-BC6C-8EE73B71B7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4"/>
          <p:cNvSpPr/>
          <p:nvPr/>
        </p:nvSpPr>
        <p:spPr>
          <a:xfrm rot="20756400">
            <a:off x="4815000" y="2205000"/>
            <a:ext cx="4214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нужн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 rot="20387400">
            <a:off x="2675880" y="4535640"/>
            <a:ext cx="6962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3214800" y="-285840"/>
            <a:ext cx="5786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Зачем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8"/>
          <p:cNvSpPr/>
          <p:nvPr/>
        </p:nvSpPr>
        <p:spPr>
          <a:xfrm>
            <a:off x="500040" y="0"/>
            <a:ext cx="8786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для бомбардировщиков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>
            <a:off x="542880" y="1571760"/>
            <a:ext cx="82868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В годы второй мировой вой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математические расчеты шир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применялись для план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боевых действий. Так,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работали для бомбардировоч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авиации США. Ими исследовались многочисленные факторы, влияющ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на эффективность бомбом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Были выработаны рекоменда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приведшие к 4-х-кратному повышению эффективности бомбоме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D:\МЕТОД\школа удивительных открытий\Зачем нужна математика\96607-Royalty-Free-RF-Clipart-Illustration-Of-A-Military-Bomber-Plane-Releasing-Bombsкопирование.png"/>
          <p:cNvPicPr/>
          <p:nvPr/>
        </p:nvPicPr>
        <p:blipFill>
          <a:blip r:embed="rId2"/>
          <a:stretch/>
        </p:blipFill>
        <p:spPr>
          <a:xfrm rot="564000">
            <a:off x="5270400" y="-618840"/>
            <a:ext cx="408780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для землекопов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/>
          <p:cNvSpPr/>
          <p:nvPr/>
        </p:nvSpPr>
        <p:spPr>
          <a:xfrm>
            <a:off x="468360" y="785880"/>
            <a:ext cx="838980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Причем здесь землекопы, скажете вы. Но еще в 1885 году американский инженер и исследователь Фредерик Тейло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задумался о возможности применения математики дл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организации труда. Проблема, рассмотренная им, на первы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взгляд, кажется очень простой: «Как оптимальным образом организовать работу землекопов?» Казалось бы, отве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давно известен – «Бери больше, кидай дальше, отдыхай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пока летит»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Однако математические расчеты показали, чт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такой принцип работы не самый лучший. Оказалось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что оптимальный вес груза, позволяющий выкопать больше земли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значительно меньше того, что может поднят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человек при максимальной нагрузк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Тейлор установил, что идеальное количество земли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составляет 9,75 килограмма, и сконструирова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лопату именно такой ёмкости, в результате ч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производительность труда землекоп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                          </a:t>
            </a:r>
            <a:r>
              <a:rPr b="0" lang="ru-RU" sz="1900" spc="-1" strike="noStrike">
                <a:solidFill>
                  <a:srgbClr val="254061"/>
                </a:solidFill>
                <a:latin typeface="Arial"/>
              </a:rPr>
              <a:t>значительно возросл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D:\МЕТОД\школа удивительных открытий\Зачем нужна математика\fwtaylorкопирование.png"/>
          <p:cNvPicPr/>
          <p:nvPr/>
        </p:nvPicPr>
        <p:blipFill>
          <a:blip r:embed="rId2"/>
          <a:stretch/>
        </p:blipFill>
        <p:spPr>
          <a:xfrm>
            <a:off x="428760" y="3929040"/>
            <a:ext cx="2089080" cy="2757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D:\МЕТОД\школа удивительных открытий\Зачем нужна математика\901362_1300522660_1_644x461копирование.png"/>
          <p:cNvPicPr/>
          <p:nvPr/>
        </p:nvPicPr>
        <p:blipFill>
          <a:blip r:embed="rId3"/>
          <a:stretch/>
        </p:blipFill>
        <p:spPr>
          <a:xfrm>
            <a:off x="6286680" y="785880"/>
            <a:ext cx="26431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8"/>
          <p:cNvSpPr/>
          <p:nvPr/>
        </p:nvSpPr>
        <p:spPr>
          <a:xfrm>
            <a:off x="428760" y="0"/>
            <a:ext cx="86976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для футболистов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428760" y="765000"/>
            <a:ext cx="82864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Группа ученых Ливерпульского университета разработала математическую модель идеального пенальти в помощь футболистам, которые при исполнении 11-метров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штрафных ударов до сих пор больше полага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на интуиц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о-первых, удар должен быть нанесен со скор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104,6 км/ч. При этом разбег идеального пенальти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равен 5-6 шагам, и двигаться он должен под уг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20-30 градусов к оси, проходящей по линии мяч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центр ворот.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Другой ключевой момент - это направление удара. Его следует наносить только в верхний угол ворот. Мертвой для вратаря зоной является точка, которая находится на пересечении воображаемых линий, если их провести в 50 сантиметрах от перекладины и в 50 сантиметрах от штан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 этом случае, как утверждают ученые, даже е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длиннорукий и высокорослый вратарь угад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направление удара, он все равно не в состоя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его париров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football_player_-_soccer_graphics_free_20140609_1393171713"/>
          <p:cNvPicPr/>
          <p:nvPr/>
        </p:nvPicPr>
        <p:blipFill>
          <a:blip r:embed="rId2"/>
          <a:srcRect l="25794" t="4793" r="28586" b="9274"/>
          <a:stretch/>
        </p:blipFill>
        <p:spPr>
          <a:xfrm>
            <a:off x="6942240" y="790560"/>
            <a:ext cx="19796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для всех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9"/>
          <p:cNvSpPr/>
          <p:nvPr/>
        </p:nvSpPr>
        <p:spPr>
          <a:xfrm>
            <a:off x="468360" y="692280"/>
            <a:ext cx="8572320" cy="64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Большинство людей не задумывается, что результаты деятельности математиков они ежедневно видят вокруг себя. Недаром гениальный учёный Карл Фридрих Гаусс говорил, что математика – царица наук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Однако не только формулы в математике имеют значение, занятия математикой способствуют развитию мышления, воображения и умен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видеть природу вещ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Математика учит признавать свои ошиб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и двигаться вперед, чтобы все-таки одержать долгожданную победу над неразрешимой задач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Учит мыслить на несколько шагов вперед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анализировать ситуацию при приняти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54061"/>
                </a:solidFill>
                <a:latin typeface="Arial"/>
              </a:rPr>
              <a:t>важных реш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3"/>
          <p:cNvSpPr/>
          <p:nvPr/>
        </p:nvSpPr>
        <p:spPr>
          <a:xfrm>
            <a:off x="611280" y="476280"/>
            <a:ext cx="8208720" cy="57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54061"/>
                </a:solidFill>
                <a:latin typeface="Arial"/>
              </a:rPr>
              <a:t>Если бы математика как наука не развивалась, не была бы обязательным предметом, то доброй половины научных открытий, да и современных технологий просто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54061"/>
                </a:solidFill>
                <a:latin typeface="Arial"/>
              </a:rPr>
              <a:t>не существовало бы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54061"/>
                </a:solidFill>
                <a:latin typeface="Arial"/>
              </a:rPr>
              <a:t>Не зная математики нельзя построить дом, сконструировать двигатель внутреннего сгорания, сделать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254061"/>
                </a:solidFill>
                <a:latin typeface="Arial"/>
              </a:rPr>
              <a:t>компьютер и даже провести социологический опрос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ткрытия на кончике пер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601560" y="669960"/>
            <a:ext cx="8363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Математика всегда способствовала развитию других наук и сама развивалась под их воздействием. В астро- номии математика помогла сделать многие открытия. Новые алгоритмы, разработанные математиками, переходили на службу астрономам. Например, Ньютон вычислил форму нашей планеты и показал, что Земля имеет форму шара, расширенного у экватора и сплюс-нутого у полюсов. Ученый установил «сплющенность» Земли, не выходя за дверь. Это открытие было сделано «на кончике пера» средствами математи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33868-1516726-451копирование"/>
          <p:cNvPicPr/>
          <p:nvPr/>
        </p:nvPicPr>
        <p:blipFill>
          <a:blip r:embed="rId2"/>
          <a:stretch/>
        </p:blipFill>
        <p:spPr>
          <a:xfrm>
            <a:off x="609480" y="4365720"/>
            <a:ext cx="3638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ткрытия на кончике пер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"/>
          <p:cNvSpPr/>
          <p:nvPr/>
        </p:nvSpPr>
        <p:spPr>
          <a:xfrm>
            <a:off x="571680" y="1000080"/>
            <a:ext cx="8215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9"/>
          <p:cNvSpPr/>
          <p:nvPr/>
        </p:nvSpPr>
        <p:spPr>
          <a:xfrm>
            <a:off x="571680" y="1000080"/>
            <a:ext cx="8215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571680" y="1000080"/>
            <a:ext cx="8215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571680" y="785880"/>
            <a:ext cx="8215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Arial"/>
              </a:rPr>
              <a:t>Английский астроном Э. Галлей, вычисляя по совету своего друга И. Ньютона элементы орбит 24 наиболее ярких комет, обнаружил сходство орбит комет 1531, 1607 и 1682 годов. Галлей пришел к выводу, что это одна и та же комета, и предсказал ее очередное появление в конце 1758 года. Это предсказание ученого полностью подтвердилось: комета была обнаружена в декабре 1758 года. Она была названа кометой Галлея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&amp;Kcy;&amp;ocy;&amp;mcy;&amp;iecy;&amp;tcy;&amp;acy; &amp;Gcy;&amp;acy;&amp;lcy;&amp;lcy;&amp;iecy;&amp;yacy; 8 &amp;mcy;&amp;acy;&amp;rcy;&amp;tcy;&amp;acy; 1986 &amp;gcy;&amp;ocy;&amp;dcy;&amp;acy;"/>
          <p:cNvPicPr/>
          <p:nvPr/>
        </p:nvPicPr>
        <p:blipFill>
          <a:blip r:embed="rId2"/>
          <a:stretch/>
        </p:blipFill>
        <p:spPr>
          <a:xfrm>
            <a:off x="826920" y="4005360"/>
            <a:ext cx="388944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ткрытия на кончике пер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"/>
          <p:cNvSpPr/>
          <p:nvPr/>
        </p:nvSpPr>
        <p:spPr>
          <a:xfrm>
            <a:off x="646200" y="824040"/>
            <a:ext cx="8286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Вы знаете, Солнечная система состоит из 8 планет. Однако, еще в 18 веке о 8-ой планете никто ничего не знал. В 1783 г. русский ученый Лексель, изучая движение планеты Уран, обратил внимание на расхождение между расчетным и наблюдаемым движением Урана. Он подумал: «Отчего не хочется Урану бежать по той дорожке, которая для него рассчитана, ведь для остальных извест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планет расчеты оказываются верными.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Может быть на движение Урана влия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другая, неизвестная пока планета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Такие предположения делал учены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                          </a:t>
            </a:r>
            <a:r>
              <a:rPr b="0" lang="ru-RU" sz="2200" spc="-1" strike="noStrike">
                <a:solidFill>
                  <a:srgbClr val="254061"/>
                </a:solidFill>
                <a:latin typeface="Arial"/>
              </a:rPr>
              <a:t>но ему никто не повери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D:\МЕТОД\школа удивительных открытий\Зачем нужна математика\65084753копирование.png"/>
          <p:cNvPicPr/>
          <p:nvPr/>
        </p:nvPicPr>
        <p:blipFill>
          <a:blip r:embed="rId2"/>
          <a:stretch/>
        </p:blipFill>
        <p:spPr>
          <a:xfrm>
            <a:off x="428760" y="3036960"/>
            <a:ext cx="292896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Открытия на кончике пера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571680" y="785880"/>
            <a:ext cx="8286480" cy="54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рошло более 50 лет и загадка Урана по-прежнему волновала ученых. И вот английский астроном Адамс и французский астроном и математик Леверье решили проверить предположение русского ученого. Они рассчитали, каждый в отдельности, предполагаемое местонахождение этой все еще неизвестной планеты. Вычисления были очень сложны, заняли больше года, ведь выполнялись они вручную. О вычислениях на компьютерах в те времена никто не слышал! Но труд ученых закончился блестящим успех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23 сентября 1846 года немецкий астроном Иоганн Готтф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Галле получил письмо от Леверье с просьбой про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оиск заурановой планеты по предвычислен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им координатам. В тот же вечер Галле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телескопа отыскал новую планет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олучившую позже название Непту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Так, планета, рассчита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на бумаге, была обнаруж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                             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человеческим глаз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642960" y="4713120"/>
            <a:ext cx="200016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и гармония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87520" y="782640"/>
            <a:ext cx="8286480" cy="60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расота, оказывается, порою имеет математическое объяснение. </a:t>
            </a:r>
            <a:br>
              <a:rPr sz="2000"/>
            </a:b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ропорциональность в природе, искусстве, архитектуре означает соблюдение определенных соотношений между размерами отдельных частей растения, скульптуры, здания и является непременным условием правильного и красивого изображения предм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Золотое сечение – это такое пропорциональное д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трезка на неравные части, при котором весь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так относится к большей части, как сама большая ч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тносится к меньш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254061"/>
                </a:solidFill>
                <a:latin typeface="Arial"/>
              </a:rPr>
              <a:t>с : b = b : 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тношение золотого сечения обозначают </a:t>
            </a:r>
            <a:r>
              <a:rPr b="0" lang="ru-RU" sz="2400" spc="-1" strike="noStrike">
                <a:solidFill>
                  <a:srgbClr val="254061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≈1,6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В округленном процентном значении пропор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частей целого будут соотнос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как 62% на 38%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9" descr="&amp;zcy;&amp;ocy;&amp;lcy;&amp;ocy;&amp;tcy;&amp;ocy;&amp;iecy; &amp;scy;&amp;iecy;&amp;chcy;&amp;iecy;&amp;ncy;&amp;icy;&amp;iecy;"/>
          <p:cNvPicPr/>
          <p:nvPr/>
        </p:nvPicPr>
        <p:blipFill>
          <a:blip r:embed="rId2"/>
          <a:stretch/>
        </p:blipFill>
        <p:spPr>
          <a:xfrm>
            <a:off x="755640" y="4292640"/>
            <a:ext cx="41767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и гармония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574560" y="830160"/>
            <a:ext cx="84661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Одним из красивейших произведений древнегреческой архитектуры является храм Парфенон (V в. до н. э.).На рисунках виден целый ряд закономерностей, связанных с «золотым сечением». Пропорции здания можно выразить через различные степени числа </a:t>
            </a:r>
            <a:r>
              <a:rPr b="0" lang="ru-RU" sz="2400" spc="-1" strike="noStrike">
                <a:solidFill>
                  <a:srgbClr val="254061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=1,61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http://www.bestreferat.ru/images/paper/66/72/9507266.jpeg"/>
          <p:cNvPicPr/>
          <p:nvPr/>
        </p:nvPicPr>
        <p:blipFill>
          <a:blip r:embed="rId2"/>
          <a:stretch/>
        </p:blipFill>
        <p:spPr>
          <a:xfrm>
            <a:off x="684360" y="2349360"/>
            <a:ext cx="4979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8"/>
          <p:cNvSpPr/>
          <p:nvPr/>
        </p:nvSpPr>
        <p:spPr>
          <a:xfrm>
            <a:off x="539640" y="0"/>
            <a:ext cx="850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Математика и гармония</a:t>
            </a:r>
            <a:r>
              <a:rPr b="1" lang="ru-RU" sz="48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574560" y="830160"/>
            <a:ext cx="84661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Переходя к примерам «золотого сечения» в живописи, нельзя не остановить своего внимания на творчестве Леонардо да Винчи. Посмотрим внимательно на картину «Джоконда». Композиция портрета построена на «золотых треугольниках» (равнобедренных треугольниках, у которого отношение длины боковой стороны к длине основания равняется числу </a:t>
            </a:r>
            <a:r>
              <a:rPr b="0" lang="ru-RU" sz="2400" spc="-1" strike="noStrike">
                <a:solidFill>
                  <a:srgbClr val="254061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254061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http://www.bestreferat.ru/images/paper/78/72/9507278.jpeg"/>
          <p:cNvPicPr/>
          <p:nvPr/>
        </p:nvPicPr>
        <p:blipFill>
          <a:blip r:embed="rId2"/>
          <a:stretch/>
        </p:blipFill>
        <p:spPr>
          <a:xfrm>
            <a:off x="1547640" y="2795760"/>
            <a:ext cx="2664000" cy="38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Елена Попова</cp:lastModifiedBy>
  <dcterms:modified xsi:type="dcterms:W3CDTF">2018-07-08T22:10:40Z</dcterms:modified>
  <cp:revision>140</cp:revision>
  <dc:subject/>
  <dc:title>Слайд 1</dc:title>
</cp:coreProperties>
</file>