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A7B-62E4-419D-A086-AA07F6BE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333-5F5D-4F92-AF73-F4A792DB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39BD-C393-48C9-98E0-56CEDD31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00B-5812-45F3-B763-0F58CD38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880B-0114-416D-8C7F-A2EB9DCD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1645-EEE2-450B-A95F-6F9B3137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9500-487E-4EB2-9540-44F502BD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5707-0405-414E-ACC5-FEA4BA58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3575-7CEC-4326-91A9-30D2A491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A856-104D-45A3-8C03-B28A41A4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84A8-F895-4B40-95C9-EBC36948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009-6BBE-47E4-8F11-0F5A1F0A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A333-47DD-486E-91C7-B9E34F29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3C46-2673-4BB0-B236-27256AF9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51E7-2122-4841-A959-C3CC6F7F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2CCC-5B0A-4AB1-BDCD-0AB81845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F79D-0973-491E-9A46-B03EE269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620EF-55CB-45FD-A362-AB01EB36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EA03E-AE6F-48E3-8163-976C2F9A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8D162-3DB2-427F-831A-217D77AB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9B500-44FF-4089-8DA3-DB1F478F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4057C-EDA4-4CB3-911F-2313B65F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8F29-FB4D-418A-B91E-B2E1AEF9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FD721-786E-4D29-BC49-903E05B8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FBBF7-9911-4809-8BC9-53EFF883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C98B1-925E-406B-9A06-665B6FCA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A1CF7-4D3D-4C6E-A331-CF1520B8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122B0-FA40-482D-B547-14A659CF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F3376-EDB7-45A0-8D86-8A9C72AD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75951-EE8B-43E1-946E-883A05A3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58EFA-D785-4E2F-BD02-1CE07900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983A1-2050-4ACE-8F2B-AB31876F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4E5D3-1311-441C-82D3-B80788DB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839F-319B-4A7F-9358-407EB62F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DD1A6-5EE0-4523-BE8C-6BDB5803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46236-2488-4B34-B3A2-E5AB479D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B167A-A004-4871-A6FA-6C9D79FB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709D5-7A67-44D9-A44A-6F4AF4BE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CFCE3-EAE7-4976-8ECB-F4754509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5C3F2-04B0-4B64-9ABB-78CD1C47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F7390-42D0-403C-998E-D9FEA4E1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D7F27-5C0E-4ABA-ABAC-F94E8534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51B93-3752-46D5-9751-63002A33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E8ED-5D77-4AC6-A4F6-A9E260EB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2F0-893D-4AEF-9716-206AE6C5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BBB-3B53-44AA-B103-4E1C38D4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B279-F741-45F4-9714-A97F7DC7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6C9-1DC4-46A0-8B6F-7A155705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1FCE-92B1-4A4A-B300-5C1028F4EE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4029-ED31-480A-97FF-D093D65276A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38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39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0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1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2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3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4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5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6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7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8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9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0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1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2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3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4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5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6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7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8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9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0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1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2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3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4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5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6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7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8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9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0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1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2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3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4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5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6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7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8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9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0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91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DDEA-856A-4DAA-B8CA-5C8F49721348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E5E5-059C-4A52-B9B8-0DC37859654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WordArt 4"/>
          <p:cNvSpPr txBox="1"/>
          <p:nvPr/>
        </p:nvSpPr>
        <p:spPr>
          <a:xfrm>
            <a:off x="596880" y="692280"/>
            <a:ext cx="676764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Georgia"/>
              </a:rPr>
              <a:t>Быстрый счет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Georgia"/>
              </a:rPr>
              <a:t>без калькулятора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712800" y="4005360"/>
            <a:ext cx="7128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Авторы проекта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Цыганкова Дарья, Четин Артём 8 класс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Руководитель: Анохина Е.В., учитель математики и информатики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2015-2016 учебный год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6" name="TextBox 1"/>
          <p:cNvSpPr/>
          <p:nvPr/>
        </p:nvSpPr>
        <p:spPr>
          <a:xfrm>
            <a:off x="962280" y="13176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"/>
              </a:rPr>
              <a:t>МБОУ СОШ с.Кенада Ванинского района Хабаровского края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1042920" y="5493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множение и деление на 4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971640" y="1125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число умножить на 4, его дважды удваивают.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1258920" y="198900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971640" y="299736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число разделить на 4, его дважды делят на 2.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12"/>
              <p:cNvSpPr txBox="1"/>
              <p:nvPr/>
            </p:nvSpPr>
            <p:spPr>
              <a:xfrm>
                <a:off x="1619280" y="2205000"/>
                <a:ext cx="6480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3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6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5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4"/>
              <p:cNvSpPr txBox="1"/>
              <p:nvPr/>
            </p:nvSpPr>
            <p:spPr>
              <a:xfrm>
                <a:off x="1042920" y="4292640"/>
                <a:ext cx="5616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4</m:t>
                    </m:r>
                    <m:r>
                      <m:t xml:space="preserve">: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4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Text Box 16"/>
          <p:cNvSpPr/>
          <p:nvPr/>
        </p:nvSpPr>
        <p:spPr>
          <a:xfrm>
            <a:off x="1116000" y="5300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Предложите свой пример!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4"/>
          <p:cNvSpPr/>
          <p:nvPr/>
        </p:nvSpPr>
        <p:spPr>
          <a:xfrm>
            <a:off x="250920" y="5493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множение и деление на 5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50920" y="1125360"/>
            <a:ext cx="7632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число умножить на 5,   нужно    умножить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его  на        , т.е. умножить его на 10 и разделить на 2.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250920" y="3429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разделить число  на 5, нужно умножить его на 0,2, т.н. в удвоенном исходном числе отделить запятой последнюю цифру.                                      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7"/>
              <p:cNvSpPr txBox="1"/>
              <p:nvPr/>
            </p:nvSpPr>
            <p:spPr>
              <a:xfrm>
                <a:off x="1403280" y="1484280"/>
                <a:ext cx="3319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9"/>
              <p:cNvSpPr txBox="1"/>
              <p:nvPr/>
            </p:nvSpPr>
            <p:spPr>
              <a:xfrm>
                <a:off x="250920" y="2708280"/>
                <a:ext cx="74167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8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3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80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Rectangle 1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1"/>
              <p:cNvSpPr txBox="1"/>
              <p:nvPr/>
            </p:nvSpPr>
            <p:spPr>
              <a:xfrm>
                <a:off x="1187280" y="5084640"/>
                <a:ext cx="46087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45</m:t>
                    </m:r>
                    <m:r>
                      <m:t xml:space="preserve">: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  <m:r>
                      <m:t xml:space="preserve">⋅</m:t>
                    </m:r>
                    <m:r>
                      <m:t xml:space="preserve">0,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3"/>
              <p:cNvSpPr txBox="1"/>
              <p:nvPr/>
            </p:nvSpPr>
            <p:spPr>
              <a:xfrm>
                <a:off x="1403280" y="5805360"/>
                <a:ext cx="4176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: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⋅</m:t>
                    </m:r>
                    <m:r>
                      <m:t xml:space="preserve">0,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1042920" y="11253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множение на 25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826920" y="1844640"/>
            <a:ext cx="792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число умножить на 25,   нужно    умножить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его  на        , т.е. умножить его на 100 и разделить на 4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6"/>
              <p:cNvSpPr txBox="1"/>
              <p:nvPr/>
            </p:nvSpPr>
            <p:spPr>
              <a:xfrm>
                <a:off x="1835280" y="2133720"/>
                <a:ext cx="458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Rectangle 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1116000" y="3789360"/>
                <a:ext cx="5472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4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800</m:t>
                    </m:r>
                    <m:r>
                      <m:t xml:space="preserve">: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7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250920" y="26028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множение на 1,5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250920" y="907920"/>
            <a:ext cx="792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умножить число на 1,5, нужно к исходному числу прибавить его половину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6"/>
              <p:cNvSpPr txBox="1"/>
              <p:nvPr/>
            </p:nvSpPr>
            <p:spPr>
              <a:xfrm>
                <a:off x="826920" y="2565360"/>
                <a:ext cx="64803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⋅</m:t>
                    </m:r>
                    <m:r>
                      <m:t xml:space="preserve">1,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8"/>
              <p:cNvSpPr txBox="1"/>
              <p:nvPr/>
            </p:nvSpPr>
            <p:spPr>
              <a:xfrm>
                <a:off x="179280" y="4149720"/>
                <a:ext cx="77774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9</m:t>
                    </m:r>
                    <m:r>
                      <m:t xml:space="preserve">⋅</m:t>
                    </m:r>
                    <m:r>
                      <m:t xml:space="preserve">1,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3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4"/>
          <p:cNvSpPr/>
          <p:nvPr/>
        </p:nvSpPr>
        <p:spPr>
          <a:xfrm>
            <a:off x="1042920" y="69228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множение на 9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826920" y="1628640"/>
            <a:ext cx="7921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умножить число на 9, к нему приписывают 0 и отнимают исходное число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6"/>
              <p:cNvSpPr txBox="1"/>
              <p:nvPr/>
            </p:nvSpPr>
            <p:spPr>
              <a:xfrm>
                <a:off x="684360" y="3357720"/>
                <a:ext cx="61927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1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4"/>
          <p:cNvSpPr/>
          <p:nvPr/>
        </p:nvSpPr>
        <p:spPr>
          <a:xfrm>
            <a:off x="324000" y="47628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множение на 11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79280" y="981000"/>
            <a:ext cx="792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умножить число на 11, к нему приписывают 0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и прибавляют исходное число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6"/>
              <p:cNvSpPr txBox="1"/>
              <p:nvPr/>
            </p:nvSpPr>
            <p:spPr>
              <a:xfrm>
                <a:off x="539640" y="4365720"/>
                <a:ext cx="6985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1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5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Rectangle 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8"/>
              <p:cNvSpPr txBox="1"/>
              <p:nvPr/>
            </p:nvSpPr>
            <p:spPr>
              <a:xfrm>
                <a:off x="539640" y="2924280"/>
                <a:ext cx="6480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4"/>
          <p:cNvSpPr/>
          <p:nvPr/>
        </p:nvSpPr>
        <p:spPr>
          <a:xfrm>
            <a:off x="826920" y="69228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озведение в квадрат числа, оканчивающегося цифрой 5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900000" y="1628640"/>
            <a:ext cx="7921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Чтобы возвести в квадрат число, оканчивающееся цифрой 5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(например, 65)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, умножают число его десятков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(6)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 на число десятков, увеличенное на 1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(на 6+1 = 7)</a:t>
            </a:r>
            <a:r>
              <a:rPr b="1" i="1" lang="ru-RU" sz="2400" spc="-1" strike="noStrike">
                <a:solidFill>
                  <a:srgbClr val="800080"/>
                </a:solidFill>
                <a:latin typeface="Times New Roman"/>
              </a:rPr>
              <a:t>, и к полученному числу приписывают 25        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Ответ: 4225)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800080"/>
                </a:solidFill>
                <a:latin typeface="Times New Roman"/>
              </a:rPr>
              <a:t>Например: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6"/>
              <p:cNvSpPr txBox="1"/>
              <p:nvPr/>
            </p:nvSpPr>
            <p:spPr>
              <a:xfrm>
                <a:off x="1116000" y="3284640"/>
                <a:ext cx="14889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Rectangle 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8"/>
              <p:cNvSpPr txBox="1"/>
              <p:nvPr/>
            </p:nvSpPr>
            <p:spPr>
              <a:xfrm>
                <a:off x="2340000" y="4221000"/>
                <a:ext cx="201600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</m:groupChr>
                      </m:e>
                      <m:li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10"/>
              <p:cNvSpPr txBox="1"/>
              <p:nvPr/>
            </p:nvSpPr>
            <p:spPr>
              <a:xfrm>
                <a:off x="2268360" y="5373720"/>
                <a:ext cx="21607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6</m:t>
                            </m: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279080" y="685800"/>
            <a:ext cx="7086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ЧИТАЙТЕ БЫСТРО И С УДОВОЛЬСТВИЕМ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3:41:19Z</dcterms:created>
  <dc:creator>Krainova</dc:creator>
  <dc:description/>
  <dc:language>en-US</dc:language>
  <cp:lastModifiedBy>Елена Викторовна</cp:lastModifiedBy>
  <dcterms:modified xsi:type="dcterms:W3CDTF">2018-07-09T09:11:25Z</dcterms:modified>
  <cp:revision>8</cp:revision>
  <dc:subject/>
  <dc:title>Слайд 1</dc:title>
</cp:coreProperties>
</file>