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240-77AA-4469-96E3-D1C54551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75B-60EE-4AA6-A7DA-F4E550D3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DBC-2321-4DBD-8DDE-544EC327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D91-A77D-4E6D-A708-387BEA12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8E56-E9DE-4D2D-80B5-601E4469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F265-AF68-43F8-AC10-D7B63E20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231C-A105-4154-B67D-1FBA5E6B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BF69-0420-4B75-84AB-6F3F8FB5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EBF8-AA23-425F-82F6-D4EB51A0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1054-7541-449A-89D7-9BC7A5DE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D3DB-C92C-46CC-8368-81010F5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299-0C91-4141-A760-2D0208CB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5F79-9C05-4A06-A454-2E9582DA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9261-32B9-4EFF-8859-F23343F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CC46-DEC1-40BF-802C-5FACD0E4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A050-05BC-449D-B30A-6E4DD86D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1D02-F470-47F1-9C50-48F3EC64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C329-B2CF-40AD-9731-689BD6EE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F7CE-FB71-45FD-AEDB-0B7EBFD4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8A2F-87AF-4042-B720-9E151114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9130-1F9A-4254-8523-057D18D4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4408-BE05-4A5D-909A-97FD2166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949-D179-4F26-9F9D-DD683E73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8B52-AC26-4B43-89FA-F2388B1E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92B4-9713-4808-99C0-027C3C86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324B-DFCA-483D-847B-8CBA0B92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012A-06DC-4E82-BF80-E78EAA42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C78F-EE6F-4762-A207-87F6ECDF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4C626-0D94-4FC2-A302-3E16580E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3C14-920F-4478-B6D0-945164A3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3E29-3D6D-488E-90D0-43A797A3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ED97B-0F7C-450C-B7C5-F703CE48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EE68-51C3-4083-9456-C2C467EC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9D0-A5A5-4BEA-A7DD-376331F4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C3AD-D695-4D4C-90B7-C7FDC441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4B7F-5A2B-425E-9FC1-5862161A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EEDC-3A3E-42FD-A4C3-F6152B36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C51E-F7A5-47D5-9033-7822412B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17947-01EC-43BB-AAEA-90C66AA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F9908-5CC7-41BF-BD71-E1ABE095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5A4E-EA71-41B1-B494-E6720D79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3B71-26F5-4126-A817-B3049CE4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FA7AC-003C-411E-B4F9-0CE04D71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BD3-5D25-43CF-991E-3B5CCC7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649-0BFC-44E7-9FB1-8E4E21CA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D47-82EC-428E-A19D-6A037A6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416-E378-4DA8-B064-A26A8085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278-BD91-4B86-8DAA-31990A7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CE5A-F27E-4E94-A20D-8615AC528E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9B3A-316E-4253-98F1-9D3AD35D9D5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38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39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0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1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2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3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4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5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6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7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8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1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2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3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4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5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6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7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8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9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0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1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2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3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4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5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6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7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8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9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0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1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2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3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4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5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6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7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8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9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0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91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7B0A-BD35-4E79-ADB4-ED41F88A9167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E08D-1A91-442B-8203-2C81F79FB6B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596880" y="692280"/>
            <a:ext cx="676764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Быстрый счет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без калькулятор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12800" y="4005360"/>
            <a:ext cx="712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Авторы проекта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Цыганкова Дарья, Четин Артём 8 класс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уководитель: Анохина Е.В., учитель математики и информатики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2015-2016 учебный год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962280" y="13176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БОУ СОШ с.Кенада Ванинского района Хабаровского края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042920" y="549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и деление на 4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971640" y="1125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умножить на 4, его дважды удваивают.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258920" y="1989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971640" y="2997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разделить на 4, его дважды делят на 2.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1619280" y="2205000"/>
                <a:ext cx="648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6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4"/>
              <p:cNvSpPr txBox="1"/>
              <p:nvPr/>
            </p:nvSpPr>
            <p:spPr>
              <a:xfrm>
                <a:off x="1042920" y="4292640"/>
                <a:ext cx="5616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16"/>
          <p:cNvSpPr/>
          <p:nvPr/>
        </p:nvSpPr>
        <p:spPr>
          <a:xfrm>
            <a:off x="1116000" y="5300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Предложите свой пример!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250920" y="549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и деление на 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125360"/>
            <a:ext cx="763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умножить на 5,   нужно    умножить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его  на        , т.е. умножить его на 10 и разделить на 2.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50920" y="3429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разделить число  на 5, нужно умножить его на 0,2, т.н. в удвоенном исходном числе отделить запятой последнюю цифру.                                     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1403280" y="1484280"/>
                <a:ext cx="331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250920" y="2708280"/>
                <a:ext cx="7416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0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1"/>
              <p:cNvSpPr txBox="1"/>
              <p:nvPr/>
            </p:nvSpPr>
            <p:spPr>
              <a:xfrm>
                <a:off x="1187280" y="5084640"/>
                <a:ext cx="4608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5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3"/>
              <p:cNvSpPr txBox="1"/>
              <p:nvPr/>
            </p:nvSpPr>
            <p:spPr>
              <a:xfrm>
                <a:off x="1403280" y="5805360"/>
                <a:ext cx="4176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042920" y="1125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на 2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826920" y="1844640"/>
            <a:ext cx="792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умножить на 25,   нужно    умножить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его  на        , т.е. умножить его на 100 и разделить на 4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835280" y="2133720"/>
                <a:ext cx="458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1116000" y="3789360"/>
                <a:ext cx="5472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800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250920" y="260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на 1,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50920" y="907920"/>
            <a:ext cx="79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умножить число на 1,5, нужно к исходному числу прибавить его половину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826920" y="2565360"/>
                <a:ext cx="6480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8"/>
              <p:cNvSpPr txBox="1"/>
              <p:nvPr/>
            </p:nvSpPr>
            <p:spPr>
              <a:xfrm>
                <a:off x="179280" y="4149720"/>
                <a:ext cx="7777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⋅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1042920" y="692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на 9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826920" y="1628640"/>
            <a:ext cx="792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умножить число на 9, к нему приписывают 0 и отнимают исходное число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684360" y="3357720"/>
                <a:ext cx="61927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324000" y="476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на 11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79280" y="981000"/>
            <a:ext cx="792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умножить число на 11, к нему приписывают 0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и прибавляют исходное число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6"/>
              <p:cNvSpPr txBox="1"/>
              <p:nvPr/>
            </p:nvSpPr>
            <p:spPr>
              <a:xfrm>
                <a:off x="539640" y="4365720"/>
                <a:ext cx="698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5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8"/>
              <p:cNvSpPr txBox="1"/>
              <p:nvPr/>
            </p:nvSpPr>
            <p:spPr>
              <a:xfrm>
                <a:off x="539640" y="2924280"/>
                <a:ext cx="648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826920" y="692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озведение в квадрат числа, оканчивающегося цифрой 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900000" y="1628640"/>
            <a:ext cx="7921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возвести в квадрат число, оканчивающееся цифрой 5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(например, 65)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, умножают число его десятк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(6)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на число десятков, увеличенное на 1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(на 6+1 = 7)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, и к полученному числу приписывают 25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Ответ: 4225)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6"/>
              <p:cNvSpPr txBox="1"/>
              <p:nvPr/>
            </p:nvSpPr>
            <p:spPr>
              <a:xfrm>
                <a:off x="1116000" y="3284640"/>
                <a:ext cx="14889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2340000" y="4221000"/>
                <a:ext cx="20160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</m:groupChr>
                      </m:e>
                      <m:li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0"/>
              <p:cNvSpPr txBox="1"/>
              <p:nvPr/>
            </p:nvSpPr>
            <p:spPr>
              <a:xfrm>
                <a:off x="2268360" y="5373720"/>
                <a:ext cx="2160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6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79080" y="685800"/>
            <a:ext cx="7086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ЧИТАЙТЕ БЫСТРО И С УДОВОЛЬСТВИЕМ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3:41:19Z</dcterms:created>
  <dc:creator>Krainova</dc:creator>
  <dc:description/>
  <dc:language>en-US</dc:language>
  <cp:lastModifiedBy>Елена Викторовна</cp:lastModifiedBy>
  <dcterms:modified xsi:type="dcterms:W3CDTF">2018-07-09T09:11:25Z</dcterms:modified>
  <cp:revision>8</cp:revision>
  <dc:subject/>
  <dc:title>Слайд 1</dc:title>
</cp:coreProperties>
</file>