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15"/>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77FEFF-817F-42EC-BCE0-10C536430E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6C6EA4-59D4-4004-998F-E496D1C0DA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08D497-5360-416A-8EA4-76C2254295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EA4455-227B-49C5-86B1-78068B264C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CDFB12-C4B4-4D2B-94F3-F4A13BF11A4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5CBC37-2364-416E-AC4E-1B38F1350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4FD8E4-B6A9-42C4-BE9A-364ED4BACA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282B2E-8BE8-4FF8-B6D4-3B9A5DB199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485C57-0645-4884-983F-03F6EDA14D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7CA148-4CEB-4563-919D-9281EBD5BB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AC71FC-27D6-4C9C-BB34-F996810738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11E3D09-4012-44B4-A3D8-150F028CD28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D4053-9E5E-431F-BD13-D433FAC99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43AEAD9-75F7-4E2A-BB16-5EC1C11BE66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7B5F43-1C12-4B8B-B9D4-7C6BEF52476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1878EBE-8138-4305-82B1-9DD34DF1F9A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81C960-2356-46A7-9B08-22B75BF354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1A98A3-0F72-4112-BAC4-362A63FD96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64A6F23-E0C8-4A62-B505-C6A37309DA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75A69A2-4955-40D1-9612-28B995FCF4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84691B-7D4B-4A5D-82DC-E2A99D2430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1EDF724-0EF4-4CB8-9719-1609847EBE1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BBA8EB8-D04E-41BD-BE97-829EBF367308}"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E24B4D-2CBC-4008-9A8C-98CAB3BDC4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179FAF-1A14-47BA-8D37-DB63E698A51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32B1B44-9568-4712-9AC9-4ADA4D3E1E5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7B7317-0C83-4744-8B6D-023C8FF0BD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6289DC6-F810-409C-A528-BB2E2D94535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B03D1E2-4168-4A08-A0B5-BAEE12B1B90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8BDE827-E7FD-4411-9895-789051A883F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BCD5C87-780B-4609-A980-9FBAC6939BE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1A7F44-7812-40BE-ACC1-53120B5A812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52DA78C-75BB-47A6-828F-7D686974DF8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E8C1457-2028-4DE4-A6F2-06A34CFE8D2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54FD68-3D18-4F4F-8203-3CDE76876F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2AD3E96-564E-4849-B094-ABCF6643E5E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8A26D0F-0802-4361-A90D-3061B6B08CB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EB50935-6D09-4661-9C4D-D4C7BCDDCE4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D947BD57-2A90-46F0-A38D-51715F840094}"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1B741C3-4C9A-43D1-B298-9E6DCFB60DB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FE3DD1C-8352-46B8-AAEF-36800A5AB13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E5B1D62-16DA-476F-B273-E95B44422D4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83BA3BF-3F8B-46D9-AC46-45E03F0533A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5253B5-7D26-4B1D-9036-E7E5AB5826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AE74B72-9D43-4F11-87D8-8440BB56970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C41612-585F-474E-9BB8-C2BDBE57D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1B1ADD-1402-407F-B5C1-6F5334F1F4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A973EE9-2016-4B94-AE2F-73E6F0DDBC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31579FA-3158-49F3-813A-DA7DEDC80C9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7E5302C-2703-4E71-B1C7-B9B9E6FCEEA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88597D6-C692-470B-AC10-7F3865EF2D3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4ED46C3A-1978-489E-8900-FE43A7BDB310}"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EBAD994-FBEF-474E-A8F1-AFB90B732B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93277FA-3B30-4CBE-81D5-01016462EAF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3BF3E84-5418-489E-9A1B-1C01C5EEEB1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A7C8EAC-3164-420B-8805-5D39C2BFC72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338D5D-94D1-44FD-9E4E-35A2ED6FBD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8C8E0F-A071-4505-880D-6FDA826D1A7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D75FF7-7441-4653-AB0E-2C080DC7508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FDEE65D-1898-477F-912F-02AA6E41962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58E9B1-21BA-4466-B9E6-340A4E31C40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F91CA0-34E1-4A07-87C1-8D605BD6A1E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0981429-7658-4734-A05F-FCDC7ECDC38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AA2C9B2-AA03-40D0-B61F-E16ECB7CDE41}"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D0F4623-BA2D-42B6-920A-3F60C40B50C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01D9B5E-7D0D-4C9C-B4DE-2C919CA35EFA}"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FF29C98-3C8C-4461-8B9C-A3182EEAAF3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B5F16-2A1E-401B-93B3-9C22ADB9B2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CE7414-B21F-4052-B212-DEA7849134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56792442-A1F8-4BE8-8FA9-0E390474C68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9FC5122-1C61-4C4E-B95D-66A03160101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9684F2E-76A3-4DD5-AC88-268414896E0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4672F9B-AAC8-4CE9-9099-9F8750C4D45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395D94B-9F41-46A1-9FDE-684228BF2E7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E15A1AD-2058-46CD-AB65-017297882BC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AFBFDB92-ED01-45D0-A9D2-D642A170A36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D929EA5-2B0E-4BC1-B895-C32FBC3F28C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B2A63B04-F4D0-45F6-AEF4-C4CF2EA5EB2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9509B-6997-4C97-B4E4-B6719DE971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73B126ED-F1A7-4763-840D-99CADC1A8289}"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106E4D3-FFCF-4C24-86E8-BCB4E533562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DB53A05-B238-4F95-81BA-CA68606F0DA8}"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3A93274-E199-42E6-B88B-496FD4A615B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D7DA678-8DDF-4350-A8BE-643401D3A22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88E8F47-DA4D-43A0-9515-E273A4C9229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978F53-47CA-4D36-96CB-D5AB158621A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AB5B1DA-E5F3-4DF6-932E-0F27D7F993C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911BF89-D4A9-4CB5-9B04-A769235F3D5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ED9F98E3-F6D1-4AB2-BACD-1E866020CD3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B7918-CC3B-46DE-8165-106D413FC4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B16E15D-6F5D-4D85-B744-B3DDD6E783C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48B627EB-6F9F-48E3-AC4D-9F96024E099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B30452D-42E5-45FE-90FE-49516AA3E92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F130D331-4224-4653-9610-0B286134B92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B8E3DF8D-B4FB-42A6-9652-AABADCEA41A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1C5046-B973-409B-BAD4-2FC299211F7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7DCCE7C-CB45-42BC-B944-8367F535FB5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B24FB23-CFFE-4DE8-8826-5CDD62C1CF0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DEF2D89-63FB-4F34-9931-DB7DF9904A3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D2BD9D8-1F2E-4791-B886-6D735ED44F9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3AE010-1132-48B2-AF15-FB27C0774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38368C97-4073-43ED-A830-83059EAD2E4E}"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05DFAEF-9557-4B90-9773-4E436E24D17C}"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2D00F9B3-9FEE-487F-A34F-53FD439B9004}"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3089DF8-FE30-4EA8-B214-59D9ED40D860}"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966F080-9BA8-4004-9E50-781A27492DD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A7D63C5-145A-42D9-AC1B-C65960EE9458}"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47F1572-7E2B-4BC4-8A1C-B9683FB4F4D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2287C292-0DD5-43F5-835B-DC1591FBB18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BE889FF-FC37-482C-893B-0948BAB2D44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6DA7446-F036-4DD9-9A69-EA3CE6D065CE}"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5212E-4A11-4987-8458-71B3FB0A56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600DE-BE8F-44B9-A8D0-E3F817C56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821BEDF-D360-4ED3-8345-7E149770F22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5B78C0C-A316-4027-9645-C732281E463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5C64F9A-18F4-439A-AF4A-152A1478E61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51110902-0622-485A-9271-E0A21466DE5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04A13C1-DACD-4312-AA19-E9CBFDC0850C}"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57881E-B8B6-40AE-8CDA-2DF47E8863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B392E9-F4C9-4F4A-94EF-A4525C1D9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5C24F-FC2C-44CC-9DD2-3665A41C0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8B13CA-5022-497B-9ED9-FB27A884AB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A64FC5-DD5F-46CE-85BC-4BBAC2F0745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E0AAB7-30CD-44BF-B06A-EB7474B08A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54BF147-2A48-479F-AABD-248568127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41C125-4B15-46FC-9569-9F77B6B082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B85746-4DD8-4CB4-B150-FE04301D8B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CADC7E-9A01-4D4B-B8E2-D568FC2284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6363B2-C8A0-4EB9-9B7E-265FA7F5B4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41977-57EE-4866-9EA8-1500452AB4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9D9FD8-418B-49FD-8A94-08318D220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A94E6-8FEA-4798-BCB4-B22345DD38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316267-7572-4057-AF5A-E44A8E3770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35DEF-E14A-4900-B473-208A61DA98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DFF370-5B27-4F96-84A7-BF88107342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300CD6-94BF-41EC-AA5D-4A995E10FE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5A66FB-8BB1-41FA-949F-F2CFC66D50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678944-A6D9-4140-AB9B-B5CFE3DDE1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A68CE-75F3-4894-87A2-97C80B624E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6CD900-4EF3-4B65-B7D2-B4DBBED660D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EBB32F-953A-4A2F-85CF-D305B24A46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2DE9C53-2D2A-4ECC-AA6C-67594DFC21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6E7432-5273-488E-AF43-8331EA63EF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6AA37C-C70C-4958-9D22-CA6B087478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3FE06B-1B30-4E93-8361-B5234E640F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845ECC-91A0-4944-A363-832044C9A2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A95E55-2240-4BF7-A7C3-D648E54C4D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1322B6-BA49-4846-98DD-A1287B5859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04576E6-8054-483D-84DC-AEF9AECE0B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B26E42-28BC-49C3-9FC6-76D8AD9D6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046E63-A8E5-42BD-A14C-B132139C9D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88BF31-2BA2-4B85-9C57-EB165EAA13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F3EB32-741A-4B89-B68F-5C9B6BC356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7C67EC-1D8F-4004-A381-CD6FB85AE3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0F9C0-2472-406D-8693-924F56B984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2BE8B1-623B-4373-B08A-6F52A91144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F8D292-E816-45C7-93F3-50EEDA2EDD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1C583E-32F4-4293-ADFE-7A1F2526FA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2757A9-F237-4BE7-A38F-042D9E3F488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055ED3-6718-483D-B9B7-2DE73B15F4C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9E360-36F6-4728-BD43-D01F10309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301FAF4-A0FE-48C7-AE5E-6BFD06DAE89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068C45-9B57-4A9A-A52B-EA61B6301E8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FE47EB-906A-46AB-8B65-1F2137C3C6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351EF5D-62B9-4395-A8B6-C761601209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B30A56-5186-4C1F-92B1-45B28D7549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54D65B-3830-411E-8F39-7BAB9CE6B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90E07A-6926-4E0D-98EA-5D3459C321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5B0735-D2E9-4AD0-A749-F9AE529059D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1A52C-D104-431B-9D2C-FBBC35F7F1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18943-BE09-499D-9A8F-7D60290C66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71FBD-FBF5-4F9C-B4A4-F00B18257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688A43B-1908-48B9-954D-3EBE60096A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2409D30-6953-4352-91CA-95204975A53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B1C9DD6-1337-43AC-A823-DA8F860E3B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95B192-F639-4790-9BB5-A082F2DA86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9878FA-B4C3-4BDB-9035-683AD26609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57AAB3-9227-4AD3-B810-11C06F3C7D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B8CD9E-CC0F-4DE3-BB18-F95F45E48A6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665C2D-D0FF-439F-898A-285C3E7FB00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EAA3FC0-4829-438E-8B29-134B0688DA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C671E6-9C0B-4696-8495-AF153E70F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1AFB7-5D2B-4B17-83D3-C7EFB45302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C9D67A-1F36-493B-B2B1-2C6EA1323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07DF79-CC08-48EF-BB1A-0511525EF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DA560-9FCD-4203-BEB3-ED184E4DD3E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686FC71-5D22-4F0B-B3AF-B3C4651C0B5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0A1C018-D205-4FB7-A243-F53F05DBCD3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AFD11B6-187D-43CC-B1CA-ED6FA4053A6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BDB6D6-3E03-4186-B374-8BA471C5FA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4ED348C-6CCC-4BFB-B95D-0801736000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C0DA17E-56D7-4442-85C8-4EBE77D421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51096F-64E9-4A0D-B823-FDA262318E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59A15-062F-48D7-A307-939850E5B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1944360" y="623520"/>
            <a:ext cx="658980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FA96D7-5177-4A2B-BDC3-92F73CE61F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532044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F8B517-9DFB-4BE5-8CEF-112D0DF6B4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1942920" y="2133360"/>
            <a:ext cx="3216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5B8BFC-11DE-4AEE-8776-FD99E21D16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951CBA-22ED-4588-B203-E693D0888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1942920" y="213336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1942920" y="4163400"/>
            <a:ext cx="6591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7AFC63-6E04-4C33-A580-DD8C1FA614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194292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5320440" y="213336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194292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5320440" y="4163400"/>
            <a:ext cx="32162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18CC68-D37E-4D3B-B5A1-E304B683A2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194292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417168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6400440" y="213336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194292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417168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6400440" y="4163400"/>
            <a:ext cx="21222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D1D77E-9CC5-438E-917C-9B6186B5B4D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3EACB6-C720-400D-94E6-9A23E0EC0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1942920" y="2133360"/>
            <a:ext cx="659124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C42CC6-7775-4C1B-9E69-90F89DD45B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1942920" y="2133360"/>
            <a:ext cx="659124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1E6836-7DD5-43FF-9A30-126F1433371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35"/>
          <p:cNvGrpSpPr/>
          <p:nvPr/>
        </p:nvGrpSpPr>
        <p:grpSpPr>
          <a:xfrm>
            <a:off x="0" y="228600"/>
            <a:ext cx="1981080" cy="6638760"/>
            <a:chOff x="0" y="228600"/>
            <a:chExt cx="1981080" cy="6638760"/>
          </a:xfrm>
        </p:grpSpPr>
        <p:sp>
          <p:nvSpPr>
            <p:cNvPr id="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3" name="Group 48"/>
          <p:cNvGrpSpPr/>
          <p:nvPr/>
        </p:nvGrpSpPr>
        <p:grpSpPr>
          <a:xfrm>
            <a:off x="20520" y="0"/>
            <a:ext cx="1952640" cy="6853320"/>
            <a:chOff x="20520" y="0"/>
            <a:chExt cx="1952640" cy="6853320"/>
          </a:xfrm>
        </p:grpSpPr>
        <p:sp>
          <p:nvSpPr>
            <p:cNvPr id="1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2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0" name="PlaceHolder 4"/>
          <p:cNvSpPr>
            <a:spLocks noGrp="1"/>
          </p:cNvSpPr>
          <p:nvPr>
            <p:ph type="ftr" idx="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1" name="PlaceHolder 5"/>
          <p:cNvSpPr>
            <a:spLocks noGrp="1"/>
          </p:cNvSpPr>
          <p:nvPr>
            <p:ph type="sldNum" idx="3"/>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2B66-201B-4524-A938-68DE147B4C7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35"/>
          <p:cNvGrpSpPr/>
          <p:nvPr/>
        </p:nvGrpSpPr>
        <p:grpSpPr>
          <a:xfrm>
            <a:off x="0" y="228600"/>
            <a:ext cx="1981080" cy="6638760"/>
            <a:chOff x="0" y="228600"/>
            <a:chExt cx="1981080" cy="6638760"/>
          </a:xfrm>
        </p:grpSpPr>
        <p:sp>
          <p:nvSpPr>
            <p:cNvPr id="621"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2"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3"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4"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5"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6"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7"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8"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29"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0"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1"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2"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633" name="Group 48"/>
          <p:cNvGrpSpPr/>
          <p:nvPr/>
        </p:nvGrpSpPr>
        <p:grpSpPr>
          <a:xfrm>
            <a:off x="20520" y="0"/>
            <a:ext cx="1952640" cy="6853320"/>
            <a:chOff x="20520" y="0"/>
            <a:chExt cx="1952640" cy="6853320"/>
          </a:xfrm>
        </p:grpSpPr>
        <p:sp>
          <p:nvSpPr>
            <p:cNvPr id="634"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5"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6"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7"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8"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39"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0"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1"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2"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3"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4"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5"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646"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7"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4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651" name="PlaceHolder 4"/>
          <p:cNvSpPr>
            <a:spLocks noGrp="1"/>
          </p:cNvSpPr>
          <p:nvPr>
            <p:ph type="ftr" idx="29"/>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652" name="PlaceHolder 5"/>
          <p:cNvSpPr>
            <a:spLocks noGrp="1"/>
          </p:cNvSpPr>
          <p:nvPr>
            <p:ph type="sldNum" idx="30"/>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107B3-DC8D-4A40-96FC-1A9BC9DAE1B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35"/>
          <p:cNvGrpSpPr/>
          <p:nvPr/>
        </p:nvGrpSpPr>
        <p:grpSpPr>
          <a:xfrm>
            <a:off x="0" y="228600"/>
            <a:ext cx="1981080" cy="6638760"/>
            <a:chOff x="0" y="228600"/>
            <a:chExt cx="1981080" cy="6638760"/>
          </a:xfrm>
        </p:grpSpPr>
        <p:sp>
          <p:nvSpPr>
            <p:cNvPr id="69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69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702" name="Group 48"/>
          <p:cNvGrpSpPr/>
          <p:nvPr/>
        </p:nvGrpSpPr>
        <p:grpSpPr>
          <a:xfrm>
            <a:off x="20520" y="0"/>
            <a:ext cx="1952640" cy="6853320"/>
            <a:chOff x="20520" y="0"/>
            <a:chExt cx="1952640" cy="6853320"/>
          </a:xfrm>
        </p:grpSpPr>
        <p:sp>
          <p:nvSpPr>
            <p:cNvPr id="70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71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6"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20" name="PlaceHolder 4"/>
          <p:cNvSpPr>
            <a:spLocks noGrp="1"/>
          </p:cNvSpPr>
          <p:nvPr>
            <p:ph type="ftr" idx="32"/>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21" name="PlaceHolder 5"/>
          <p:cNvSpPr>
            <a:spLocks noGrp="1"/>
          </p:cNvSpPr>
          <p:nvPr>
            <p:ph type="sldNum" idx="33"/>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CD8D-0C9B-4B8D-A3DB-3CF2C70F02A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35"/>
          <p:cNvGrpSpPr/>
          <p:nvPr/>
        </p:nvGrpSpPr>
        <p:grpSpPr>
          <a:xfrm>
            <a:off x="0" y="228600"/>
            <a:ext cx="1981080" cy="6638760"/>
            <a:chOff x="0" y="228600"/>
            <a:chExt cx="1981080" cy="6638760"/>
          </a:xfrm>
        </p:grpSpPr>
        <p:sp>
          <p:nvSpPr>
            <p:cNvPr id="75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771" name="Group 48"/>
          <p:cNvGrpSpPr/>
          <p:nvPr/>
        </p:nvGrpSpPr>
        <p:grpSpPr>
          <a:xfrm>
            <a:off x="20520" y="0"/>
            <a:ext cx="1952640" cy="6853320"/>
            <a:chOff x="20520" y="0"/>
            <a:chExt cx="1952640" cy="6853320"/>
          </a:xfrm>
        </p:grpSpPr>
        <p:sp>
          <p:nvSpPr>
            <p:cNvPr id="77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78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5"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78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91" name="PlaceHolder 4"/>
          <p:cNvSpPr>
            <a:spLocks noGrp="1"/>
          </p:cNvSpPr>
          <p:nvPr>
            <p:ph type="ftr" idx="3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792" name="PlaceHolder 5"/>
          <p:cNvSpPr>
            <a:spLocks noGrp="1"/>
          </p:cNvSpPr>
          <p:nvPr>
            <p:ph type="sldNum" idx="36"/>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921B-94EF-4839-84FF-45C822710332}"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35"/>
          <p:cNvGrpSpPr/>
          <p:nvPr/>
        </p:nvGrpSpPr>
        <p:grpSpPr>
          <a:xfrm>
            <a:off x="0" y="228600"/>
            <a:ext cx="1981080" cy="6638760"/>
            <a:chOff x="0" y="228600"/>
            <a:chExt cx="1981080" cy="6638760"/>
          </a:xfrm>
        </p:grpSpPr>
        <p:sp>
          <p:nvSpPr>
            <p:cNvPr id="83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842" name="Group 48"/>
          <p:cNvGrpSpPr/>
          <p:nvPr/>
        </p:nvGrpSpPr>
        <p:grpSpPr>
          <a:xfrm>
            <a:off x="20520" y="0"/>
            <a:ext cx="1952640" cy="6853320"/>
            <a:chOff x="20520" y="0"/>
            <a:chExt cx="1952640" cy="6853320"/>
          </a:xfrm>
        </p:grpSpPr>
        <p:sp>
          <p:nvSpPr>
            <p:cNvPr id="84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85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860" name="PlaceHolder 4"/>
          <p:cNvSpPr>
            <a:spLocks noGrp="1"/>
          </p:cNvSpPr>
          <p:nvPr>
            <p:ph type="ftr" idx="3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861" name="PlaceHolder 5"/>
          <p:cNvSpPr>
            <a:spLocks noGrp="1"/>
          </p:cNvSpPr>
          <p:nvPr>
            <p:ph type="sldNum" idx="39"/>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9144-41D5-4C66-B5F2-40027A660313}"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35"/>
          <p:cNvGrpSpPr/>
          <p:nvPr/>
        </p:nvGrpSpPr>
        <p:grpSpPr>
          <a:xfrm>
            <a:off x="0" y="228600"/>
            <a:ext cx="1981080" cy="6638760"/>
            <a:chOff x="0" y="228600"/>
            <a:chExt cx="1981080" cy="6638760"/>
          </a:xfrm>
        </p:grpSpPr>
        <p:sp>
          <p:nvSpPr>
            <p:cNvPr id="89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911" name="Group 48"/>
          <p:cNvGrpSpPr/>
          <p:nvPr/>
        </p:nvGrpSpPr>
        <p:grpSpPr>
          <a:xfrm>
            <a:off x="20520" y="0"/>
            <a:ext cx="1952640" cy="6853320"/>
            <a:chOff x="20520" y="0"/>
            <a:chExt cx="1952640" cy="6853320"/>
          </a:xfrm>
        </p:grpSpPr>
        <p:sp>
          <p:nvSpPr>
            <p:cNvPr id="91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92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5"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6" name="TextBox 34"/>
          <p:cNvSpPr/>
          <p:nvPr/>
        </p:nvSpPr>
        <p:spPr>
          <a:xfrm>
            <a:off x="1808280" y="64764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7" name="TextBox 62"/>
          <p:cNvSpPr/>
          <p:nvPr/>
        </p:nvSpPr>
        <p:spPr>
          <a:xfrm>
            <a:off x="8169120" y="290520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a53010"/>
                </a:solidFill>
                <a:latin typeface="Arial"/>
              </a:rPr>
              <a:t>”</a:t>
            </a:r>
            <a:endParaRPr b="0" lang="en-US" sz="8000" spc="-1" strike="noStrike">
              <a:solidFill>
                <a:srgbClr val="000000"/>
              </a:solidFill>
              <a:latin typeface="Arial"/>
            </a:endParaRPr>
          </a:p>
        </p:txBody>
      </p:sp>
      <p:sp>
        <p:nvSpPr>
          <p:cNvPr id="928"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31" name="PlaceHolder 4"/>
          <p:cNvSpPr>
            <a:spLocks noGrp="1"/>
          </p:cNvSpPr>
          <p:nvPr>
            <p:ph type="ftr" idx="4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32" name="PlaceHolder 5"/>
          <p:cNvSpPr>
            <a:spLocks noGrp="1"/>
          </p:cNvSpPr>
          <p:nvPr>
            <p:ph type="sldNum" idx="42"/>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3B8B-1C62-4AFB-A4CE-3710B78657BB}"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35"/>
          <p:cNvGrpSpPr/>
          <p:nvPr/>
        </p:nvGrpSpPr>
        <p:grpSpPr>
          <a:xfrm>
            <a:off x="0" y="228600"/>
            <a:ext cx="1981080" cy="6638760"/>
            <a:chOff x="0" y="228600"/>
            <a:chExt cx="1981080" cy="6638760"/>
          </a:xfrm>
        </p:grpSpPr>
        <p:sp>
          <p:nvSpPr>
            <p:cNvPr id="970"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1"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2"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3"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4"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5"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6"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7"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8"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79"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0"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1"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982" name="Group 48"/>
          <p:cNvGrpSpPr/>
          <p:nvPr/>
        </p:nvGrpSpPr>
        <p:grpSpPr>
          <a:xfrm>
            <a:off x="20520" y="0"/>
            <a:ext cx="1952640" cy="6853320"/>
            <a:chOff x="20520" y="0"/>
            <a:chExt cx="1952640" cy="6853320"/>
          </a:xfrm>
        </p:grpSpPr>
        <p:sp>
          <p:nvSpPr>
            <p:cNvPr id="983"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4"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5"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6"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7"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8"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89"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0"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1"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2"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3"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4"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995"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6" name="Freeform 11"/>
          <p:cNvSpPr/>
          <p:nvPr/>
        </p:nvSpPr>
        <p:spPr>
          <a:xfrm flipV="1">
            <a:off x="0" y="490932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97"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00" name="PlaceHolder 4"/>
          <p:cNvSpPr>
            <a:spLocks noGrp="1"/>
          </p:cNvSpPr>
          <p:nvPr>
            <p:ph type="ftr" idx="4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01" name="PlaceHolder 5"/>
          <p:cNvSpPr>
            <a:spLocks noGrp="1"/>
          </p:cNvSpPr>
          <p:nvPr>
            <p:ph type="sldNum" idx="45"/>
          </p:nvPr>
        </p:nvSpPr>
        <p:spPr>
          <a:xfrm>
            <a:off x="510840" y="49831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EDA76-1D4F-4BB4-9F73-64013BD9D5BA}"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35"/>
          <p:cNvGrpSpPr/>
          <p:nvPr/>
        </p:nvGrpSpPr>
        <p:grpSpPr>
          <a:xfrm>
            <a:off x="0" y="228600"/>
            <a:ext cx="1981080" cy="6638760"/>
            <a:chOff x="0" y="228600"/>
            <a:chExt cx="1981080" cy="6638760"/>
          </a:xfrm>
        </p:grpSpPr>
        <p:sp>
          <p:nvSpPr>
            <p:cNvPr id="103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4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051" name="Group 48"/>
          <p:cNvGrpSpPr/>
          <p:nvPr/>
        </p:nvGrpSpPr>
        <p:grpSpPr>
          <a:xfrm>
            <a:off x="20520" y="0"/>
            <a:ext cx="1952640" cy="6853320"/>
            <a:chOff x="20520" y="0"/>
            <a:chExt cx="1952640" cy="6853320"/>
          </a:xfrm>
        </p:grpSpPr>
        <p:sp>
          <p:nvSpPr>
            <p:cNvPr id="105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5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106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5"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06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69" name="PlaceHolder 4"/>
          <p:cNvSpPr>
            <a:spLocks noGrp="1"/>
          </p:cNvSpPr>
          <p:nvPr>
            <p:ph type="ftr" idx="4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70" name="PlaceHolder 5"/>
          <p:cNvSpPr>
            <a:spLocks noGrp="1"/>
          </p:cNvSpPr>
          <p:nvPr>
            <p:ph type="sldNum" idx="4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1F20-E912-4F15-8EED-6C4B6712CA7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35"/>
          <p:cNvGrpSpPr/>
          <p:nvPr/>
        </p:nvGrpSpPr>
        <p:grpSpPr>
          <a:xfrm>
            <a:off x="0" y="228600"/>
            <a:ext cx="1981080" cy="6638760"/>
            <a:chOff x="0" y="228600"/>
            <a:chExt cx="1981080" cy="6638760"/>
          </a:xfrm>
        </p:grpSpPr>
        <p:sp>
          <p:nvSpPr>
            <p:cNvPr id="110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0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1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120" name="Group 48"/>
          <p:cNvGrpSpPr/>
          <p:nvPr/>
        </p:nvGrpSpPr>
        <p:grpSpPr>
          <a:xfrm>
            <a:off x="20520" y="0"/>
            <a:ext cx="1952640" cy="6853320"/>
            <a:chOff x="20520" y="0"/>
            <a:chExt cx="1952640" cy="6853320"/>
          </a:xfrm>
        </p:grpSpPr>
        <p:sp>
          <p:nvSpPr>
            <p:cNvPr id="112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2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113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13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138" name="PlaceHolder 4"/>
          <p:cNvSpPr>
            <a:spLocks noGrp="1"/>
          </p:cNvSpPr>
          <p:nvPr>
            <p:ph type="ftr" idx="5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139" name="PlaceHolder 5"/>
          <p:cNvSpPr>
            <a:spLocks noGrp="1"/>
          </p:cNvSpPr>
          <p:nvPr>
            <p:ph type="sldNum" idx="5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A8FF-EDAC-49A9-BF89-BCA26A797155}"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35"/>
          <p:cNvGrpSpPr/>
          <p:nvPr/>
        </p:nvGrpSpPr>
        <p:grpSpPr>
          <a:xfrm>
            <a:off x="0" y="228600"/>
            <a:ext cx="1981080" cy="6638760"/>
            <a:chOff x="0" y="228600"/>
            <a:chExt cx="1981080" cy="6638760"/>
          </a:xfrm>
        </p:grpSpPr>
        <p:sp>
          <p:nvSpPr>
            <p:cNvPr id="69"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0"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1"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2"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3"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4"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5"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6"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7"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8"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79"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0"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81" name="Group 48"/>
          <p:cNvGrpSpPr/>
          <p:nvPr/>
        </p:nvGrpSpPr>
        <p:grpSpPr>
          <a:xfrm>
            <a:off x="20520" y="0"/>
            <a:ext cx="1952640" cy="6853320"/>
            <a:chOff x="20520" y="0"/>
            <a:chExt cx="1952640" cy="6853320"/>
          </a:xfrm>
        </p:grpSpPr>
        <p:sp>
          <p:nvSpPr>
            <p:cNvPr id="82"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3"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4"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5"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6"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7"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8"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89"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0"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1"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2"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3"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94"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5" name="Freeform 8"/>
          <p:cNvSpPr/>
          <p:nvPr/>
        </p:nvSpPr>
        <p:spPr>
          <a:xfrm>
            <a:off x="-31680" y="4321080"/>
            <a:ext cx="1395360" cy="781200"/>
          </a:xfrm>
          <a:custGeom>
            <a:avLst/>
            <a:gdLst/>
            <a:ahLst/>
            <a:rect l="l" t="t" r="r" b="b"/>
            <a:pathLst>
              <a:path w="8042" h="10000">
                <a:moveTo>
                  <a:pt x="5799" y="10000"/>
                </a:moveTo>
                <a:cubicBezTo>
                  <a:pt x="5880" y="10000"/>
                  <a:pt x="5934" y="9940"/>
                  <a:pt x="5961" y="9880"/>
                </a:cubicBezTo>
                <a:cubicBezTo>
                  <a:pt x="5961" y="9820"/>
                  <a:pt x="5988" y="9820"/>
                  <a:pt x="5988" y="9820"/>
                </a:cubicBezTo>
                <a:lnTo>
                  <a:pt x="8042" y="5260"/>
                </a:lnTo>
                <a:cubicBezTo>
                  <a:pt x="8096" y="5140"/>
                  <a:pt x="8096" y="4901"/>
                  <a:pt x="8042" y="4721"/>
                </a:cubicBezTo>
                <a:lnTo>
                  <a:pt x="5988" y="221"/>
                </a:lnTo>
                <a:cubicBezTo>
                  <a:pt x="5988" y="160"/>
                  <a:pt x="5961" y="160"/>
                  <a:pt x="5961" y="160"/>
                </a:cubicBezTo>
                <a:cubicBezTo>
                  <a:pt x="5934" y="101"/>
                  <a:pt x="5880" y="41"/>
                  <a:pt x="5799" y="41"/>
                </a:cubicBezTo>
                <a:lnTo>
                  <a:pt x="18" y="0"/>
                </a:lnTo>
                <a:cubicBezTo>
                  <a:pt x="12" y="3330"/>
                  <a:pt x="6" y="6661"/>
                  <a:pt x="0" y="9991"/>
                </a:cubicBezTo>
                <a:lnTo>
                  <a:pt x="5799" y="10000"/>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96"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99" name="PlaceHolder 4"/>
          <p:cNvSpPr>
            <a:spLocks noGrp="1"/>
          </p:cNvSpPr>
          <p:nvPr>
            <p:ph type="ftr" idx="5"/>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00" name="PlaceHolder 5"/>
          <p:cNvSpPr>
            <a:spLocks noGrp="1"/>
          </p:cNvSpPr>
          <p:nvPr>
            <p:ph type="sldNum" idx="6"/>
          </p:nvPr>
        </p:nvSpPr>
        <p:spPr>
          <a:xfrm>
            <a:off x="423360" y="4529160"/>
            <a:ext cx="5842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14577-6A3C-487E-B25F-B37622C44A3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35"/>
          <p:cNvGrpSpPr/>
          <p:nvPr/>
        </p:nvGrpSpPr>
        <p:grpSpPr>
          <a:xfrm>
            <a:off x="0" y="228600"/>
            <a:ext cx="1981080" cy="6638760"/>
            <a:chOff x="0" y="228600"/>
            <a:chExt cx="1981080" cy="6638760"/>
          </a:xfrm>
        </p:grpSpPr>
        <p:sp>
          <p:nvSpPr>
            <p:cNvPr id="138"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39"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0"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1"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2"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3"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4"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5"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6"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7"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8"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49"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150" name="Group 48"/>
          <p:cNvGrpSpPr/>
          <p:nvPr/>
        </p:nvGrpSpPr>
        <p:grpSpPr>
          <a:xfrm>
            <a:off x="20520" y="0"/>
            <a:ext cx="1952640" cy="6853320"/>
            <a:chOff x="20520" y="0"/>
            <a:chExt cx="1952640" cy="6853320"/>
          </a:xfrm>
        </p:grpSpPr>
        <p:sp>
          <p:nvSpPr>
            <p:cNvPr id="151"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2"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3"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4"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5"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6"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7"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8"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59"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0"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1"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2"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163"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4"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165"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8" name="PlaceHolder 4"/>
          <p:cNvSpPr>
            <a:spLocks noGrp="1"/>
          </p:cNvSpPr>
          <p:nvPr>
            <p:ph type="ftr" idx="8"/>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169" name="PlaceHolder 5"/>
          <p:cNvSpPr>
            <a:spLocks noGrp="1"/>
          </p:cNvSpPr>
          <p:nvPr>
            <p:ph type="sldNum" idx="9"/>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4076E-C30F-499B-9182-0A6E2A1C6AA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35"/>
          <p:cNvGrpSpPr/>
          <p:nvPr/>
        </p:nvGrpSpPr>
        <p:grpSpPr>
          <a:xfrm>
            <a:off x="0" y="228600"/>
            <a:ext cx="1981080" cy="6638760"/>
            <a:chOff x="0" y="228600"/>
            <a:chExt cx="1981080" cy="6638760"/>
          </a:xfrm>
        </p:grpSpPr>
        <p:sp>
          <p:nvSpPr>
            <p:cNvPr id="207"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08"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09"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0"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1"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2"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3"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4"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5"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6"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7"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18"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219" name="Group 48"/>
          <p:cNvGrpSpPr/>
          <p:nvPr/>
        </p:nvGrpSpPr>
        <p:grpSpPr>
          <a:xfrm>
            <a:off x="20520" y="0"/>
            <a:ext cx="1952640" cy="6853320"/>
            <a:chOff x="20520" y="0"/>
            <a:chExt cx="1952640" cy="6853320"/>
          </a:xfrm>
        </p:grpSpPr>
        <p:sp>
          <p:nvSpPr>
            <p:cNvPr id="220"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1"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2"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3"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4"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5"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6"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7"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8"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29"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0"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1"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232"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3" name="Freeform 11"/>
          <p:cNvSpPr/>
          <p:nvPr/>
        </p:nvSpPr>
        <p:spPr>
          <a:xfrm flipV="1">
            <a:off x="0" y="3166920"/>
            <a:ext cx="1359000" cy="50832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34"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237" name="PlaceHolder 4"/>
          <p:cNvSpPr>
            <a:spLocks noGrp="1"/>
          </p:cNvSpPr>
          <p:nvPr>
            <p:ph type="ftr" idx="11"/>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238" name="PlaceHolder 5"/>
          <p:cNvSpPr>
            <a:spLocks noGrp="1"/>
          </p:cNvSpPr>
          <p:nvPr>
            <p:ph type="sldNum" idx="12"/>
          </p:nvPr>
        </p:nvSpPr>
        <p:spPr>
          <a:xfrm>
            <a:off x="510840" y="3244320"/>
            <a:ext cx="58572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0399-3924-4391-8F28-5A5269A97B87}"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35"/>
          <p:cNvGrpSpPr/>
          <p:nvPr/>
        </p:nvGrpSpPr>
        <p:grpSpPr>
          <a:xfrm>
            <a:off x="0" y="228600"/>
            <a:ext cx="1981080" cy="6638760"/>
            <a:chOff x="0" y="228600"/>
            <a:chExt cx="1981080" cy="6638760"/>
          </a:xfrm>
        </p:grpSpPr>
        <p:sp>
          <p:nvSpPr>
            <p:cNvPr id="276"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7"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8"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79"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0"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1"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2"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3"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4"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5"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6"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87"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288" name="Group 48"/>
          <p:cNvGrpSpPr/>
          <p:nvPr/>
        </p:nvGrpSpPr>
        <p:grpSpPr>
          <a:xfrm>
            <a:off x="20520" y="0"/>
            <a:ext cx="1952640" cy="6853320"/>
            <a:chOff x="20520" y="0"/>
            <a:chExt cx="1952640" cy="6853320"/>
          </a:xfrm>
        </p:grpSpPr>
        <p:sp>
          <p:nvSpPr>
            <p:cNvPr id="289"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0"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1"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2"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3"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4"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5"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6"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7"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8"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299"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00"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301"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02"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03"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06" name="PlaceHolder 4"/>
          <p:cNvSpPr>
            <a:spLocks noGrp="1"/>
          </p:cNvSpPr>
          <p:nvPr>
            <p:ph type="ftr" idx="14"/>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07" name="PlaceHolder 5"/>
          <p:cNvSpPr>
            <a:spLocks noGrp="1"/>
          </p:cNvSpPr>
          <p:nvPr>
            <p:ph type="sldNum" idx="15"/>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1E47A-2283-4E50-90A6-BD21AD50401F}"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35"/>
          <p:cNvGrpSpPr/>
          <p:nvPr/>
        </p:nvGrpSpPr>
        <p:grpSpPr>
          <a:xfrm>
            <a:off x="0" y="228600"/>
            <a:ext cx="1981080" cy="6638760"/>
            <a:chOff x="0" y="228600"/>
            <a:chExt cx="1981080" cy="6638760"/>
          </a:xfrm>
        </p:grpSpPr>
        <p:sp>
          <p:nvSpPr>
            <p:cNvPr id="345"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6"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7"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8"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49"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0"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1"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2"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3"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4"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5"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6"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357" name="Group 48"/>
          <p:cNvGrpSpPr/>
          <p:nvPr/>
        </p:nvGrpSpPr>
        <p:grpSpPr>
          <a:xfrm>
            <a:off x="20520" y="0"/>
            <a:ext cx="1952640" cy="6853320"/>
            <a:chOff x="20520" y="0"/>
            <a:chExt cx="1952640" cy="6853320"/>
          </a:xfrm>
        </p:grpSpPr>
        <p:sp>
          <p:nvSpPr>
            <p:cNvPr id="358"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59"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0"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1"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2"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3"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4"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5"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6"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7"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8"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69"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370"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71"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37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75" name="PlaceHolder 4"/>
          <p:cNvSpPr>
            <a:spLocks noGrp="1"/>
          </p:cNvSpPr>
          <p:nvPr>
            <p:ph type="ftr" idx="17"/>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376" name="PlaceHolder 5"/>
          <p:cNvSpPr>
            <a:spLocks noGrp="1"/>
          </p:cNvSpPr>
          <p:nvPr>
            <p:ph type="sldNum" idx="18"/>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C283-F454-474C-80C6-A304111C67A6}"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35"/>
          <p:cNvGrpSpPr/>
          <p:nvPr/>
        </p:nvGrpSpPr>
        <p:grpSpPr>
          <a:xfrm>
            <a:off x="0" y="228600"/>
            <a:ext cx="1981080" cy="6638760"/>
            <a:chOff x="0" y="228600"/>
            <a:chExt cx="1981080" cy="6638760"/>
          </a:xfrm>
        </p:grpSpPr>
        <p:sp>
          <p:nvSpPr>
            <p:cNvPr id="414"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5"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6"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7"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8"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19"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0"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1"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2"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3"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4"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5"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426" name="Group 48"/>
          <p:cNvGrpSpPr/>
          <p:nvPr/>
        </p:nvGrpSpPr>
        <p:grpSpPr>
          <a:xfrm>
            <a:off x="20520" y="0"/>
            <a:ext cx="1952640" cy="6853320"/>
            <a:chOff x="20520" y="0"/>
            <a:chExt cx="1952640" cy="6853320"/>
          </a:xfrm>
        </p:grpSpPr>
        <p:sp>
          <p:nvSpPr>
            <p:cNvPr id="427"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8"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29"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0"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1"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2"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3"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4"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5"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6"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7"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38"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439"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40"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41"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444" name="PlaceHolder 4"/>
          <p:cNvSpPr>
            <a:spLocks noGrp="1"/>
          </p:cNvSpPr>
          <p:nvPr>
            <p:ph type="ftr" idx="20"/>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445" name="PlaceHolder 5"/>
          <p:cNvSpPr>
            <a:spLocks noGrp="1"/>
          </p:cNvSpPr>
          <p:nvPr>
            <p:ph type="sldNum" idx="21"/>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85BF2-2788-45DF-A687-27BFA4B2493C}"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35"/>
          <p:cNvGrpSpPr/>
          <p:nvPr/>
        </p:nvGrpSpPr>
        <p:grpSpPr>
          <a:xfrm>
            <a:off x="0" y="228600"/>
            <a:ext cx="1981080" cy="6638760"/>
            <a:chOff x="0" y="228600"/>
            <a:chExt cx="1981080" cy="6638760"/>
          </a:xfrm>
        </p:grpSpPr>
        <p:sp>
          <p:nvSpPr>
            <p:cNvPr id="483"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4"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5"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6"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7"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8"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89"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0"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1"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2"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3"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4"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495" name="Group 48"/>
          <p:cNvGrpSpPr/>
          <p:nvPr/>
        </p:nvGrpSpPr>
        <p:grpSpPr>
          <a:xfrm>
            <a:off x="20520" y="0"/>
            <a:ext cx="1952640" cy="6853320"/>
            <a:chOff x="20520" y="0"/>
            <a:chExt cx="1952640" cy="6853320"/>
          </a:xfrm>
        </p:grpSpPr>
        <p:sp>
          <p:nvSpPr>
            <p:cNvPr id="496"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7"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8"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499"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0"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1"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2"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3"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4"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5"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6"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7"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508"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09"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10"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13" name="PlaceHolder 4"/>
          <p:cNvSpPr>
            <a:spLocks noGrp="1"/>
          </p:cNvSpPr>
          <p:nvPr>
            <p:ph type="ftr" idx="23"/>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14" name="PlaceHolder 5"/>
          <p:cNvSpPr>
            <a:spLocks noGrp="1"/>
          </p:cNvSpPr>
          <p:nvPr>
            <p:ph type="sldNum" idx="24"/>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4D03-FD2E-49FE-9CB6-81A29548E1C1}"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35"/>
          <p:cNvGrpSpPr/>
          <p:nvPr/>
        </p:nvGrpSpPr>
        <p:grpSpPr>
          <a:xfrm>
            <a:off x="0" y="228600"/>
            <a:ext cx="1981080" cy="6638760"/>
            <a:chOff x="0" y="228600"/>
            <a:chExt cx="1981080" cy="6638760"/>
          </a:xfrm>
        </p:grpSpPr>
        <p:sp>
          <p:nvSpPr>
            <p:cNvPr id="552" name="Freeform 11"/>
            <p:cNvSpPr/>
            <p:nvPr/>
          </p:nvSpPr>
          <p:spPr>
            <a:xfrm>
              <a:off x="0" y="2575080"/>
              <a:ext cx="69840" cy="62604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3" name="Freeform 12"/>
            <p:cNvSpPr/>
            <p:nvPr/>
          </p:nvSpPr>
          <p:spPr>
            <a:xfrm>
              <a:off x="89280" y="3156480"/>
              <a:ext cx="44928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4" name="Freeform 13"/>
            <p:cNvSpPr/>
            <p:nvPr/>
          </p:nvSpPr>
          <p:spPr>
            <a:xfrm>
              <a:off x="560520" y="5447160"/>
              <a:ext cx="423360" cy="142020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5" name="Freeform 14"/>
            <p:cNvSpPr/>
            <p:nvPr/>
          </p:nvSpPr>
          <p:spPr>
            <a:xfrm>
              <a:off x="666720" y="6504120"/>
              <a:ext cx="11880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6" name="Freeform 15"/>
            <p:cNvSpPr/>
            <p:nvPr/>
          </p:nvSpPr>
          <p:spPr>
            <a:xfrm>
              <a:off x="69840" y="3201120"/>
              <a:ext cx="570960" cy="332856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7" name="Freeform 16"/>
            <p:cNvSpPr/>
            <p:nvPr/>
          </p:nvSpPr>
          <p:spPr>
            <a:xfrm>
              <a:off x="15480" y="228600"/>
              <a:ext cx="73800" cy="292788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8" name="Freeform 17"/>
            <p:cNvSpPr/>
            <p:nvPr/>
          </p:nvSpPr>
          <p:spPr>
            <a:xfrm>
              <a:off x="54360" y="2944080"/>
              <a:ext cx="54360" cy="49392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59" name="Freeform 18"/>
            <p:cNvSpPr/>
            <p:nvPr/>
          </p:nvSpPr>
          <p:spPr>
            <a:xfrm>
              <a:off x="534600" y="5478840"/>
              <a:ext cx="131760" cy="102492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0" name="Freeform 19"/>
            <p:cNvSpPr/>
            <p:nvPr/>
          </p:nvSpPr>
          <p:spPr>
            <a:xfrm>
              <a:off x="538560" y="1398960"/>
              <a:ext cx="144252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1" name="Freeform 20"/>
            <p:cNvSpPr/>
            <p:nvPr/>
          </p:nvSpPr>
          <p:spPr>
            <a:xfrm>
              <a:off x="640800" y="6530040"/>
              <a:ext cx="112320" cy="33732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2" name="Freeform 21"/>
            <p:cNvSpPr/>
            <p:nvPr/>
          </p:nvSpPr>
          <p:spPr>
            <a:xfrm>
              <a:off x="534600" y="5359680"/>
              <a:ext cx="25560" cy="22176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3" name="Freeform 22"/>
            <p:cNvSpPr/>
            <p:nvPr/>
          </p:nvSpPr>
          <p:spPr>
            <a:xfrm>
              <a:off x="590400" y="6244920"/>
              <a:ext cx="165600" cy="62244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grpSp>
        <p:nvGrpSpPr>
          <p:cNvPr id="564" name="Group 48"/>
          <p:cNvGrpSpPr/>
          <p:nvPr/>
        </p:nvGrpSpPr>
        <p:grpSpPr>
          <a:xfrm>
            <a:off x="20520" y="0"/>
            <a:ext cx="1952640" cy="6853320"/>
            <a:chOff x="20520" y="0"/>
            <a:chExt cx="1952640" cy="6853320"/>
          </a:xfrm>
        </p:grpSpPr>
        <p:sp>
          <p:nvSpPr>
            <p:cNvPr id="565" name="Freeform 27"/>
            <p:cNvSpPr/>
            <p:nvPr/>
          </p:nvSpPr>
          <p:spPr>
            <a:xfrm>
              <a:off x="20520" y="0"/>
              <a:ext cx="409320" cy="440136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6" name="Freeform 28"/>
            <p:cNvSpPr/>
            <p:nvPr/>
          </p:nvSpPr>
          <p:spPr>
            <a:xfrm>
              <a:off x="453960" y="4316400"/>
              <a:ext cx="350640" cy="158076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7" name="Freeform 29"/>
            <p:cNvSpPr/>
            <p:nvPr/>
          </p:nvSpPr>
          <p:spPr>
            <a:xfrm>
              <a:off x="831600" y="5862960"/>
              <a:ext cx="35712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8" name="Freeform 30"/>
            <p:cNvSpPr/>
            <p:nvPr/>
          </p:nvSpPr>
          <p:spPr>
            <a:xfrm>
              <a:off x="429840" y="4364280"/>
              <a:ext cx="457200" cy="223596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69" name="Freeform 31"/>
            <p:cNvSpPr/>
            <p:nvPr/>
          </p:nvSpPr>
          <p:spPr>
            <a:xfrm>
              <a:off x="385560" y="1288800"/>
              <a:ext cx="14436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0" name="Freeform 32"/>
            <p:cNvSpPr/>
            <p:nvPr/>
          </p:nvSpPr>
          <p:spPr>
            <a:xfrm>
              <a:off x="919080" y="6571800"/>
              <a:ext cx="110880" cy="28152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1" name="Freeform 33"/>
            <p:cNvSpPr/>
            <p:nvPr/>
          </p:nvSpPr>
          <p:spPr>
            <a:xfrm>
              <a:off x="414000" y="4107600"/>
              <a:ext cx="68040" cy="51156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2" name="Freeform 34"/>
            <p:cNvSpPr/>
            <p:nvPr/>
          </p:nvSpPr>
          <p:spPr>
            <a:xfrm>
              <a:off x="804600" y="3145680"/>
              <a:ext cx="1168560" cy="271692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3" name="Freeform 35"/>
            <p:cNvSpPr/>
            <p:nvPr/>
          </p:nvSpPr>
          <p:spPr>
            <a:xfrm>
              <a:off x="887400" y="6600600"/>
              <a:ext cx="99720" cy="25272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4" name="Freeform 36"/>
            <p:cNvSpPr/>
            <p:nvPr/>
          </p:nvSpPr>
          <p:spPr>
            <a:xfrm>
              <a:off x="804600" y="5897160"/>
              <a:ext cx="114120" cy="67428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5" name="Freeform 37"/>
            <p:cNvSpPr/>
            <p:nvPr/>
          </p:nvSpPr>
          <p:spPr>
            <a:xfrm>
              <a:off x="804600" y="5772600"/>
              <a:ext cx="31680" cy="22788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6" name="Freeform 38"/>
            <p:cNvSpPr/>
            <p:nvPr/>
          </p:nvSpPr>
          <p:spPr>
            <a:xfrm>
              <a:off x="831600" y="6322680"/>
              <a:ext cx="174600" cy="53064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grpSp>
      <p:sp>
        <p:nvSpPr>
          <p:cNvPr id="577" name="Rectangle 61"/>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8" name="Freeform 11"/>
          <p:cNvSpPr/>
          <p:nvPr/>
        </p:nvSpPr>
        <p:spPr>
          <a:xfrm flipV="1">
            <a:off x="0" y="710280"/>
            <a:ext cx="1359000" cy="507960"/>
          </a:xfrm>
          <a:custGeom>
            <a:avLst/>
            <a:gdLst/>
            <a:ahLst/>
            <a:rect l="l" t="t" r="r" b="b"/>
            <a:pathLst>
              <a:path w="7908" h="10000">
                <a:moveTo>
                  <a:pt x="7908" y="4694"/>
                </a:moveTo>
                <a:lnTo>
                  <a:pt x="6575" y="188"/>
                </a:lnTo>
                <a:cubicBezTo>
                  <a:pt x="6566" y="157"/>
                  <a:pt x="6555" y="125"/>
                  <a:pt x="6546" y="94"/>
                </a:cubicBezTo>
                <a:cubicBezTo>
                  <a:pt x="6519" y="0"/>
                  <a:pt x="6491" y="0"/>
                  <a:pt x="6463" y="0"/>
                </a:cubicBezTo>
                <a:lnTo>
                  <a:pt x="5935" y="0"/>
                </a:lnTo>
                <a:lnTo>
                  <a:pt x="0" y="62"/>
                </a:lnTo>
                <a:lnTo>
                  <a:pt x="0" y="10000"/>
                </a:lnTo>
                <a:lnTo>
                  <a:pt x="5935" y="9952"/>
                </a:lnTo>
                <a:lnTo>
                  <a:pt x="6463" y="9952"/>
                </a:lnTo>
                <a:cubicBezTo>
                  <a:pt x="6491" y="9952"/>
                  <a:pt x="6519" y="9859"/>
                  <a:pt x="6546" y="9859"/>
                </a:cubicBezTo>
                <a:cubicBezTo>
                  <a:pt x="6546" y="9764"/>
                  <a:pt x="6575" y="9764"/>
                  <a:pt x="6575" y="9764"/>
                </a:cubicBezTo>
                <a:lnTo>
                  <a:pt x="7908" y="5258"/>
                </a:lnTo>
                <a:cubicBezTo>
                  <a:pt x="7963" y="5070"/>
                  <a:pt x="7963" y="4883"/>
                  <a:pt x="7908" y="4694"/>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7200" spc="-1" strike="noStrike">
              <a:solidFill>
                <a:srgbClr val="000000"/>
              </a:solidFill>
              <a:latin typeface="Arial"/>
            </a:endParaRPr>
          </a:p>
        </p:txBody>
      </p:sp>
      <p:sp>
        <p:nvSpPr>
          <p:cNvPr id="579"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1942920" y="2133360"/>
            <a:ext cx="659124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7772400" y="6135480"/>
            <a:ext cx="766800" cy="36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82" name="PlaceHolder 4"/>
          <p:cNvSpPr>
            <a:spLocks noGrp="1"/>
          </p:cNvSpPr>
          <p:nvPr>
            <p:ph type="ftr" idx="26"/>
          </p:nvPr>
        </p:nvSpPr>
        <p:spPr>
          <a:xfrm>
            <a:off x="1942920" y="6135840"/>
            <a:ext cx="5716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200" spc="-1" strike="noStrike">
              <a:solidFill>
                <a:srgbClr val="000000"/>
              </a:solidFill>
              <a:latin typeface="Arial"/>
            </a:endParaRPr>
          </a:p>
        </p:txBody>
      </p:sp>
      <p:sp>
        <p:nvSpPr>
          <p:cNvPr id="583" name="PlaceHolder 5"/>
          <p:cNvSpPr>
            <a:spLocks noGrp="1"/>
          </p:cNvSpPr>
          <p:nvPr>
            <p:ph type="sldNum" idx="27"/>
          </p:nvPr>
        </p:nvSpPr>
        <p:spPr>
          <a:xfrm>
            <a:off x="510840" y="787320"/>
            <a:ext cx="585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000" spc="-1" strike="noStrike">
                <a:solidFill>
                  <a:srgbClr val="fe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DD411-61A7-498A-B9A3-0DEADBA5886E}" type="slidenum">
              <a:rPr b="0" lang="ru-RU"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PlaceHolder 1"/>
          <p:cNvSpPr>
            <a:spLocks noGrp="1"/>
          </p:cNvSpPr>
          <p:nvPr>
            <p:ph type="title"/>
          </p:nvPr>
        </p:nvSpPr>
        <p:spPr>
          <a:xfrm>
            <a:off x="1258560" y="1628280"/>
            <a:ext cx="6592680" cy="3117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800"/>
            </a:br>
            <a:r>
              <a:rPr b="0" lang="en-US" sz="4800" spc="-1" strike="noStrike">
                <a:solidFill>
                  <a:srgbClr val="56643e"/>
                </a:solidFill>
                <a:latin typeface="Century Gothic"/>
              </a:rPr>
              <a:t>Comparison of children’s rights in Russia and England</a:t>
            </a:r>
            <a:endParaRPr b="0" lang="en-US" sz="4800" spc="-1" strike="noStrike">
              <a:solidFill>
                <a:srgbClr val="262626"/>
              </a:solidFill>
              <a:latin typeface="Century Gothic"/>
            </a:endParaRPr>
          </a:p>
        </p:txBody>
      </p:sp>
      <p:sp>
        <p:nvSpPr>
          <p:cNvPr id="1177" name="PlaceHolder 2"/>
          <p:cNvSpPr>
            <a:spLocks noGrp="1"/>
          </p:cNvSpPr>
          <p:nvPr>
            <p:ph/>
          </p:nvPr>
        </p:nvSpPr>
        <p:spPr>
          <a:xfrm>
            <a:off x="7461360" y="5302080"/>
            <a:ext cx="1658880" cy="1555920"/>
          </a:xfrm>
          <a:prstGeom prst="rect">
            <a:avLst/>
          </a:prstGeom>
          <a:noFill/>
          <a:ln w="0">
            <a:noFill/>
          </a:ln>
        </p:spPr>
        <p:txBody>
          <a:bodyPr anchor="ctr">
            <a:norm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Freestyle Script"/>
              </a:rPr>
              <a:t>Project of Narek</a:t>
            </a:r>
            <a:endParaRPr b="0" lang="en-US" sz="1800" spc="-1" strike="noStrike">
              <a:solidFill>
                <a:srgbClr val="404040"/>
              </a:solidFill>
              <a:latin typeface="Century Gothic"/>
            </a:endParaRPr>
          </a:p>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Freestyle Script"/>
              </a:rPr>
              <a:t>Isakhanyan</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title"/>
          </p:nvPr>
        </p:nvSpPr>
        <p:spPr>
          <a:xfrm>
            <a:off x="3708360" y="549360"/>
            <a:ext cx="6588000" cy="1279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In Russia</a:t>
            </a:r>
            <a:endParaRPr b="0" lang="en-US" sz="3600" spc="-1" strike="noStrike">
              <a:solidFill>
                <a:srgbClr val="262626"/>
              </a:solidFill>
              <a:latin typeface="Century Gothic"/>
            </a:endParaRPr>
          </a:p>
        </p:txBody>
      </p:sp>
      <p:sp>
        <p:nvSpPr>
          <p:cNvPr id="1195" name=""/>
          <p:cNvSpPr txBox="1"/>
          <p:nvPr/>
        </p:nvSpPr>
        <p:spPr>
          <a:xfrm>
            <a:off x="1618920" y="2565000"/>
            <a:ext cx="6592680" cy="37767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t should be emphasized that Russian legislation in the field of child protection has been developed and is being developed in accordance with international norms and standards. Some problems of Russian children are not familiar to the British, for instance, thousands of queues in kindergartens, the implementation of the right of children with disabilities to education in school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title"/>
          </p:nvPr>
        </p:nvSpPr>
        <p:spPr>
          <a:xfrm>
            <a:off x="3347640" y="62028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In England</a:t>
            </a:r>
            <a:endParaRPr b="0" lang="en-US" sz="3600" spc="-1" strike="noStrike">
              <a:solidFill>
                <a:srgbClr val="262626"/>
              </a:solidFill>
              <a:latin typeface="Century Gothic"/>
            </a:endParaRPr>
          </a:p>
        </p:txBody>
      </p:sp>
      <p:sp>
        <p:nvSpPr>
          <p:cNvPr id="1197" name=""/>
          <p:cNvSpPr txBox="1"/>
          <p:nvPr/>
        </p:nvSpPr>
        <p:spPr>
          <a:xfrm>
            <a:off x="1403280" y="2133720"/>
            <a:ext cx="6593040" cy="37764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Great Britain is one of the world leaders in the field of social work with children. For example, a child came to school with a bruise or his parents did not take him after school. In this case, the school teacher is obliged to inform the social service for working with children. For this purpose, there is a hotline for children, the phone which is located in the most prominent place in every school. The social service has a Department that is ready to help parents in case their child refuses to go to school; Department dealing with young offenders, which works with criminals under the age of 18 years both before and after the trial.</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title"/>
          </p:nvPr>
        </p:nvSpPr>
        <p:spPr>
          <a:xfrm>
            <a:off x="2700360" y="764640"/>
            <a:ext cx="65880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Convention</a:t>
            </a:r>
            <a:br>
              <a:rPr sz="3600"/>
            </a:br>
            <a:endParaRPr b="0" lang="en-US" sz="3600" spc="-1" strike="noStrike">
              <a:solidFill>
                <a:srgbClr val="262626"/>
              </a:solidFill>
              <a:latin typeface="Century Gothic"/>
            </a:endParaRPr>
          </a:p>
        </p:txBody>
      </p:sp>
      <p:sp>
        <p:nvSpPr>
          <p:cNvPr id="1199" name=""/>
          <p:cNvSpPr txBox="1"/>
          <p:nvPr/>
        </p:nvSpPr>
        <p:spPr>
          <a:xfrm>
            <a:off x="1258560" y="2276280"/>
            <a:ext cx="659268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Every right spelled out in the Convention is inherent to the human dignity and harmonious development of every child. The Convention protects children’s rights by setting standards in health care, education and legal, civil and social services. These standards are benchmarks against which progress can be assessed. States that are party to the Convention are obliged to develop and undertake all actions and policies in the light of the best interests of the child.</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PlaceHolder 1"/>
          <p:cNvSpPr>
            <a:spLocks noGrp="1"/>
          </p:cNvSpPr>
          <p:nvPr>
            <p:ph type="title"/>
          </p:nvPr>
        </p:nvSpPr>
        <p:spPr>
          <a:xfrm>
            <a:off x="1692360" y="692280"/>
            <a:ext cx="658800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analysis of rights in Russia and in England</a:t>
            </a:r>
            <a:br>
              <a:rPr sz="3600"/>
            </a:br>
            <a:endParaRPr b="0" lang="en-US" sz="3600" spc="-1" strike="noStrike">
              <a:solidFill>
                <a:srgbClr val="262626"/>
              </a:solidFill>
              <a:latin typeface="Century Gothic"/>
            </a:endParaRPr>
          </a:p>
        </p:txBody>
      </p:sp>
      <p:sp>
        <p:nvSpPr>
          <p:cNvPr id="1201" name=""/>
          <p:cNvSpPr txBox="1"/>
          <p:nvPr/>
        </p:nvSpPr>
        <p:spPr>
          <a:xfrm>
            <a:off x="1403280" y="2204640"/>
            <a:ext cx="6593040" cy="377676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n comparison with Western models, the Russian system is not totally formed, and therefore it is  recognized as less effective. In the UK, the child in action has the right to vote on an equal basis with all family members. The State intervention in the education process in the UK is very large, any complaints of the child's punishment or restrictions may result in serious legal proceedings with the parents. In Russia, the majority of families still have a controlling style of parenting, where strict rules and regulations regulate the process of child developmen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2" name="PlaceHolder 1"/>
          <p:cNvSpPr>
            <a:spLocks noGrp="1"/>
          </p:cNvSpPr>
          <p:nvPr>
            <p:ph type="title"/>
          </p:nvPr>
        </p:nvSpPr>
        <p:spPr>
          <a:xfrm>
            <a:off x="1944360" y="623520"/>
            <a:ext cx="658980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graphicFrame>
        <p:nvGraphicFramePr>
          <p:cNvPr id="1203" name="Объект 11"/>
          <p:cNvGraphicFramePr/>
          <p:nvPr/>
        </p:nvGraphicFramePr>
        <p:xfrm>
          <a:off x="1892160" y="2082960"/>
          <a:ext cx="6693120" cy="3879720"/>
        </p:xfrm>
        <a:graphic>
          <a:graphicData uri="http://schemas.openxmlformats.org/presentationml/2006/ole">
            <p:oleObj progId="Excel.Sheet.12" r:id="rId1" spid="">
              <p:embed/>
              <p:pic>
                <p:nvPicPr>
                  <p:cNvPr id="1204" name="Объект 11" descr=""/>
                  <p:cNvPicPr/>
                  <p:nvPr/>
                </p:nvPicPr>
                <p:blipFill>
                  <a:blip r:embed="rId2"/>
                  <a:stretch/>
                </p:blipFill>
                <p:spPr>
                  <a:xfrm>
                    <a:off x="1892160" y="2082960"/>
                    <a:ext cx="6693120" cy="3879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title"/>
          </p:nvPr>
        </p:nvSpPr>
        <p:spPr>
          <a:xfrm>
            <a:off x="1258560" y="692280"/>
            <a:ext cx="6589800" cy="12808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conclusion</a:t>
            </a:r>
            <a:endParaRPr b="0" lang="en-US" sz="3600" spc="-1" strike="noStrike">
              <a:solidFill>
                <a:srgbClr val="262626"/>
              </a:solidFill>
              <a:latin typeface="Century Gothic"/>
            </a:endParaRPr>
          </a:p>
        </p:txBody>
      </p:sp>
      <p:sp>
        <p:nvSpPr>
          <p:cNvPr id="1206" name=""/>
          <p:cNvSpPr txBox="1"/>
          <p:nvPr/>
        </p:nvSpPr>
        <p:spPr>
          <a:xfrm>
            <a:off x="1547640" y="2133720"/>
            <a:ext cx="6591600" cy="37764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omparing the rights of the child of both countries, it is clear that the basic rights of the child in the UK are similar to the rights of the child in Russia and are common. Some peculiarities in the rights of the child of both countries were studied and a comparative analysis and disclosure of these peculiarities were carried out. According to the survey in the field of knowledge about the rights of the child in our country, we can conclude that the level of interest of children in the field of child rights has increased, many people know their basic rights and consider this topic important</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title"/>
          </p:nvPr>
        </p:nvSpPr>
        <p:spPr>
          <a:xfrm>
            <a:off x="660240" y="333360"/>
            <a:ext cx="7886880" cy="13255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600" spc="-1" strike="noStrike">
                <a:solidFill>
                  <a:srgbClr val="56643e"/>
                </a:solidFill>
                <a:latin typeface="Century Gothic"/>
              </a:rPr>
              <a:t>The introduction</a:t>
            </a:r>
            <a:endParaRPr b="0" lang="en-US" sz="3600" spc="-1" strike="noStrike">
              <a:solidFill>
                <a:srgbClr val="262626"/>
              </a:solidFill>
              <a:latin typeface="Century Gothic"/>
            </a:endParaRPr>
          </a:p>
        </p:txBody>
      </p:sp>
      <p:sp>
        <p:nvSpPr>
          <p:cNvPr id="1179" name=""/>
          <p:cNvSpPr txBox="1"/>
          <p:nvPr/>
        </p:nvSpPr>
        <p:spPr>
          <a:xfrm>
            <a:off x="971280" y="2541240"/>
            <a:ext cx="7675560" cy="4351320"/>
          </a:xfrm>
          <a:prstGeom prst="rect">
            <a:avLst/>
          </a:prstGeom>
          <a:noFill/>
          <a:ln w="0">
            <a:noFill/>
          </a:ln>
        </p:spPr>
        <p:txBody>
          <a:bodyPr anchor="t">
            <a:normAutofit/>
          </a:bodyPr>
          <a:p>
            <a:pPr marL="343080" indent="-343080" algn="ct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Since the birth and becoming a member of society, the child immediately gets a lot of rights. These rights are necessary for survival, development and protection. In order for children to grow up strong, healthy, literate and educated people, the children's rights have to be respected by all countries. Due to lack of life experience, a child may not always exercise his rights or apply to the relevant authorities for protection of his rights and legitimate interests. In our time it is important to know the rights of children not only in your country but also in other countrie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title"/>
          </p:nvPr>
        </p:nvSpPr>
        <p:spPr>
          <a:xfrm>
            <a:off x="1514160" y="333000"/>
            <a:ext cx="658980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6d7f39"/>
                </a:solidFill>
                <a:latin typeface="Century Gothic"/>
              </a:rPr>
              <a:t>The AIM</a:t>
            </a:r>
            <a:endParaRPr b="0" lang="en-US" sz="3600" spc="-1" strike="noStrike">
              <a:solidFill>
                <a:srgbClr val="262626"/>
              </a:solidFill>
              <a:latin typeface="Century Gothic"/>
            </a:endParaRPr>
          </a:p>
        </p:txBody>
      </p:sp>
      <p:sp>
        <p:nvSpPr>
          <p:cNvPr id="1181" name=""/>
          <p:cNvSpPr txBox="1"/>
          <p:nvPr/>
        </p:nvSpPr>
        <p:spPr>
          <a:xfrm>
            <a:off x="971280" y="1915920"/>
            <a:ext cx="7675560" cy="43513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aim of the work is a comparative analysis and a disclosure of the features of the rights of the child in Russia and the UK, to make children to become more attentive to the world around them.</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PlaceHolder 1"/>
          <p:cNvSpPr>
            <a:spLocks noGrp="1"/>
          </p:cNvSpPr>
          <p:nvPr>
            <p:ph type="title"/>
          </p:nvPr>
        </p:nvSpPr>
        <p:spPr>
          <a:xfrm>
            <a:off x="2916360" y="836280"/>
            <a:ext cx="658944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hypothesis</a:t>
            </a:r>
            <a:endParaRPr b="0" lang="en-US" sz="3600" spc="-1" strike="noStrike">
              <a:solidFill>
                <a:srgbClr val="262626"/>
              </a:solidFill>
              <a:latin typeface="Century Gothic"/>
            </a:endParaRPr>
          </a:p>
        </p:txBody>
      </p:sp>
      <p:sp>
        <p:nvSpPr>
          <p:cNvPr id="1183" name=""/>
          <p:cNvSpPr txBox="1"/>
          <p:nvPr/>
        </p:nvSpPr>
        <p:spPr>
          <a:xfrm>
            <a:off x="839520" y="3068640"/>
            <a:ext cx="7675560" cy="3108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hypothesis is if the children's rights in Russia and England are the same or not.</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title"/>
          </p:nvPr>
        </p:nvSpPr>
        <p:spPr>
          <a:xfrm>
            <a:off x="3059280" y="692280"/>
            <a:ext cx="6589440" cy="128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subject</a:t>
            </a:r>
            <a:endParaRPr b="0" lang="en-US" sz="3600" spc="-1" strike="noStrike">
              <a:solidFill>
                <a:srgbClr val="262626"/>
              </a:solidFill>
              <a:latin typeface="Century Gothic"/>
            </a:endParaRPr>
          </a:p>
        </p:txBody>
      </p:sp>
      <p:sp>
        <p:nvSpPr>
          <p:cNvPr id="1185" name=""/>
          <p:cNvSpPr txBox="1"/>
          <p:nvPr/>
        </p:nvSpPr>
        <p:spPr>
          <a:xfrm>
            <a:off x="1187280" y="3212640"/>
            <a:ext cx="6593040" cy="37782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subject of the project is the legal status of the child, the concept of the rights of the child, to get acquainted with the rights of the child in Russia and the UK.</a:t>
            </a:r>
            <a:endParaRPr b="0" lang="en-US" sz="1800" spc="-1" strike="noStrike">
              <a:solidFill>
                <a:srgbClr val="40404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3206880" y="836280"/>
            <a:ext cx="313056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object</a:t>
            </a:r>
            <a:endParaRPr b="0" lang="en-US" sz="3600" spc="-1" strike="noStrike">
              <a:solidFill>
                <a:srgbClr val="262626"/>
              </a:solidFill>
              <a:latin typeface="Century Gothic"/>
            </a:endParaRPr>
          </a:p>
        </p:txBody>
      </p:sp>
      <p:sp>
        <p:nvSpPr>
          <p:cNvPr id="1187" name=""/>
          <p:cNvSpPr txBox="1"/>
          <p:nvPr/>
        </p:nvSpPr>
        <p:spPr>
          <a:xfrm>
            <a:off x="1476000" y="3573000"/>
            <a:ext cx="6591240" cy="18716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object of the project is the rights of the child in Russia and the UK, the main legislation protecting these rights.</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title"/>
          </p:nvPr>
        </p:nvSpPr>
        <p:spPr>
          <a:xfrm>
            <a:off x="3492000" y="620280"/>
            <a:ext cx="6589800" cy="12812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The tasks</a:t>
            </a:r>
            <a:endParaRPr b="0" lang="en-US" sz="3600" spc="-1" strike="noStrike">
              <a:solidFill>
                <a:srgbClr val="262626"/>
              </a:solidFill>
              <a:latin typeface="Century Gothic"/>
            </a:endParaRPr>
          </a:p>
        </p:txBody>
      </p:sp>
      <p:sp>
        <p:nvSpPr>
          <p:cNvPr id="1189"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In order to achieve the aim, it is necessary to solve the following tasks:</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o study the rights of the child in Russia and the UK.</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tudy of the Convention on the rights of the child.</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o make a comparative analysis of the content of the rights of the child in Russia and the UK.</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Analysis of the survey.</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Draw conclusions based on the data.</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title"/>
          </p:nvPr>
        </p:nvSpPr>
        <p:spPr>
          <a:xfrm>
            <a:off x="598320" y="189000"/>
            <a:ext cx="7886880" cy="132552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ru-RU" sz="3600" spc="-1" strike="noStrike">
              <a:solidFill>
                <a:srgbClr val="262626"/>
              </a:solidFill>
              <a:latin typeface="Century Gothic"/>
            </a:endParaRPr>
          </a:p>
        </p:txBody>
      </p:sp>
      <p:sp>
        <p:nvSpPr>
          <p:cNvPr id="1191" name=""/>
          <p:cNvSpPr txBox="1"/>
          <p:nvPr/>
        </p:nvSpPr>
        <p:spPr>
          <a:xfrm>
            <a:off x="1042560" y="2997360"/>
            <a:ext cx="7675560" cy="28080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e rights of the child are the rights and freedoms that every child owns, regardless of race, sex, language, religion, place of birth, national or social origin, property, birth or other status. The state has undertaken a responsibility to protect children, so they have the equal rights as adults.</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title"/>
          </p:nvPr>
        </p:nvSpPr>
        <p:spPr>
          <a:xfrm>
            <a:off x="1547640" y="1052640"/>
            <a:ext cx="6591600" cy="1149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262626"/>
                </a:solidFill>
                <a:latin typeface="Century Gothic"/>
              </a:rPr>
              <a:t>The rights of the child are carefully detailed and better articulated in the UK, but some of the challenges to the promotion, realization and protection of children's rights are common to the two countries. </a:t>
            </a:r>
            <a:endParaRPr b="0" lang="en-US" sz="1400" spc="-1" strike="noStrike">
              <a:solidFill>
                <a:srgbClr val="262626"/>
              </a:solidFill>
              <a:latin typeface="Century Gothic"/>
            </a:endParaRPr>
          </a:p>
        </p:txBody>
      </p:sp>
      <p:sp>
        <p:nvSpPr>
          <p:cNvPr id="1193" name=""/>
          <p:cNvSpPr txBox="1"/>
          <p:nvPr/>
        </p:nvSpPr>
        <p:spPr>
          <a:xfrm>
            <a:off x="1942920" y="2133360"/>
            <a:ext cx="6591240" cy="37782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Conventionally, the rights of the child can be divided into 6 major groups:</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first group includes the rights of the child, such as the right to life, nationality, name, equality in the enjoyment of other rights, etc;</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second group includes the right to family well-being;</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third group includes the right of the child to the free development of his personality; </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fourth group of rights aims to ensure children's health;</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fifth group of rights is focused on children's education and cultural development;</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404040"/>
                </a:solidFill>
                <a:latin typeface="Century Gothic"/>
              </a:rPr>
              <a:t>the sixth group of rights aims to protect children from economic and other exploitation.</a:t>
            </a: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6T11:03:31Z</dcterms:created>
  <dc:creator>Александр</dc:creator>
  <dc:description/>
  <dc:language>en-US</dc:language>
  <cp:lastModifiedBy>ПК</cp:lastModifiedBy>
  <dcterms:modified xsi:type="dcterms:W3CDTF">2018-04-09T18:41:48Z</dcterms:modified>
  <cp:revision>42</cp:revision>
  <dc:subject/>
  <dc:title>Архитектура компьютера</dc:title>
</cp:coreProperties>
</file>