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855-043D-4497-A694-D1D11F3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BA2-F830-423F-9E9C-2DFB627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0FE-0DB9-4AFA-8444-AA768D9D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03D-D35B-49AF-AAD0-1978D912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89B-7378-46B8-8855-79A8C575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332-9A6D-4DFF-B6E5-5C2B11F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6B9-AAC6-4D95-9C56-475187B5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FDA-B7EE-4EA2-B709-967D2F1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AE8-0E9B-457B-AFEC-6E8F3407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40B-85F3-4F3E-977F-A56F1C2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77C-46B2-47A5-A4AF-BEE6AF0F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7A4-D215-401B-829C-AD329A2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FA3-11CB-47A8-9A45-B650438B16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09440" y="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I.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Программа по итоговой  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аттестации  учащихся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Программа по итоговой аттестации  учащихся представляет собой комплекс диагностических и оценочных процедур, обеспечивающих оценку образовательных достижений учащихся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Промежуточная и итоговая аттестация стоят в одной цепочке с мероприятиями текущего и входящего контроля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d55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• 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омежуточная и итоговая аттестация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 учащихся проводится на основании критериев мониторинга образовательных результатов учащихся 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Контрольно-измерительные материалы разрабатываются для каждого критерия, с учётом периода аттестац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Результаты итоговой аттестации фиксируются в «Протоколе итоговой аттестации учащихся детского объединения», который является одним из отчетных документов и хранится в администрации Центр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55000"/>
                </a:solidFill>
                <a:latin typeface="Calibri"/>
              </a:rPr>
              <a:t>Требования к разработке тестовых заданий</a:t>
            </a: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1052640"/>
            <a:ext cx="8928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: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содержание тестов должно соответствовать источникам учебной информации, которые используют уч-ся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задание должно содержать решение только одного вопрос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формулировка вопроса должна быть чёткой и исчерпывающей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в задании должно быть оптимальное число ответов (не более 4)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грамматическое и логическое соответствие выборочных ответов к заданию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56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В тестовом задании обязательно наличие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инструкци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альтернативных вариантов ответа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равильного ответа (оформляем как  «ключ» к тестовым заданиям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критериев и норм оценк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Все 3 уровня знаний включают примерно одинаковое суммарное количество операци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Задания одного типа располагаются группой на одном месте, пояснения к ним даются 1 раз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2120" indent="-31212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40720" cy="511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8508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497800" cy="674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d55000"/>
                </a:solidFill>
                <a:uFillTx/>
                <a:latin typeface="Calibri"/>
              </a:rPr>
              <a:t>Техника построения тестовых заданий 1,2,3 уровней усвоения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699920"/>
            <a:ext cx="892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Тесты 1 уровня усвоения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 «опознания», требующие ответа «да» - «нет»;» «относится – не относится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различения» - выбор правильного ответа из нескольких предложенных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на «соотнесение» - при выполнении задания нужно сравнить объекты из 2-х множеств и правильно их соотне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d55000"/>
                </a:solidFill>
                <a:latin typeface="Calibri"/>
              </a:rPr>
              <a:t>Тесты 2 уровня усвоения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на подстановку», где намеренно пропускаются слова, фразы, формулы или другой элемент задания, который учащийся должен дописать самостоятельно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на процесс», т.е. проверку знаний последовательности операций, действий, процессов.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.З. «конструктивные», учащийся самостоятельно по памяти воспроизводит информацию любой формулировки (словесной, графической, числовой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3600" spc="-1" strike="noStrike">
                <a:solidFill>
                  <a:srgbClr val="d55000"/>
                </a:solidFill>
                <a:latin typeface="Calibri"/>
              </a:rPr>
              <a:t>Тесты 3 уровня усвоения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Требуют применения усвоенных умений и навыков  в новых условиях, в неизученной ситуации, в практической деятельности. Содержат задания на сравнение, обоснование, обобщение, доказательство, умение делать вывод, объяснение причинно-следственных связе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3600" spc="-1" strike="noStrike">
                <a:solidFill>
                  <a:srgbClr val="d55000"/>
                </a:solidFill>
                <a:latin typeface="Calibri"/>
              </a:rPr>
              <a:t>Тесты 4 уровня усвоения: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олучение новой информации в исследовательской деятельност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d55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ff9900"/>
                </a:solidFill>
                <a:latin typeface="Calibri"/>
              </a:rPr>
              <a:t>I.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 Мониторинг образовательных 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9900"/>
                </a:solidFill>
                <a:latin typeface="Calibri"/>
              </a:rPr>
              <a:t>результатов учащихся</a:t>
            </a:r>
            <a:br>
              <a:rPr sz="32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Цель мониторинга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- получение объективной информации о состоянии и динамике уровня и фиксирование динамики развития каждого учащегося и объединения в целом</a:t>
            </a:r>
            <a:br>
              <a:rPr sz="2800"/>
            </a:b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Методы: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1.Тестирование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2. Опрос (анкетирование, собеседование, беседа) </a:t>
            </a:r>
            <a:br>
              <a:rPr sz="2800"/>
            </a:br>
            <a:r>
              <a:rPr b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3. Психолого-педагогическое наблюдение (включённое наблюдение, узкоспециальное наблюдение)</a:t>
            </a: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Критерий 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– (средство для суждения) - признак на основании которого производится оценка чего либо</a:t>
            </a:r>
            <a:br>
              <a:rPr sz="2800"/>
            </a:br>
            <a:r>
              <a:rPr b="1" i="1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          Показатель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  <a:ea typeface="Times New Roman"/>
              </a:rPr>
              <a:t> - результат, по которому можно судить о чем либо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d55000"/>
                </a:solidFill>
                <a:latin typeface="Calibri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орядок оформления </a:t>
            </a: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риложения №2</a:t>
            </a:r>
            <a:br>
              <a:rPr sz="4400"/>
            </a:b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На листе пишем</a:t>
            </a:r>
            <a:r>
              <a:rPr b="0" lang="ru-RU" sz="4400" spc="-1" strike="noStrike">
                <a:solidFill>
                  <a:srgbClr val="d55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484280"/>
            <a:ext cx="903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иложение №2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ограмма по итоговой аттестации  учащих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Автор-составитель: …, ПД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d55000"/>
                </a:solidFill>
                <a:latin typeface="Cambria"/>
              </a:rPr>
              <a:t>Пишем: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Программа по итоговой аттестации  учащихся представляет собой комплекс диагностических и оценочных процедур, обеспечивающих оценку достижений учащихся  по ДОП  «…» в соответствии со  следующими запланированными  предметными результатами:  </a:t>
            </a:r>
            <a:r>
              <a:rPr b="0" i="1" lang="ru-RU" sz="3100" spc="-1" strike="noStrike">
                <a:solidFill>
                  <a:srgbClr val="d55000"/>
                </a:solidFill>
                <a:latin typeface="Cambria"/>
              </a:rPr>
              <a:t>(</a:t>
            </a:r>
            <a:r>
              <a:rPr b="1" i="1" lang="ru-RU" sz="3100" spc="-1" strike="noStrike">
                <a:solidFill>
                  <a:srgbClr val="d55000"/>
                </a:solidFill>
                <a:latin typeface="Cambria"/>
              </a:rPr>
              <a:t>далее пишем последовательно критерии</a:t>
            </a:r>
            <a:r>
              <a:rPr b="0" i="1" lang="ru-RU" sz="3100" spc="-1" strike="noStrike">
                <a:solidFill>
                  <a:srgbClr val="d55000"/>
                </a:solidFill>
                <a:latin typeface="Cambria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</a:t>
            </a:r>
            <a:r>
              <a:rPr b="1" lang="ru-RU" sz="3100" spc="-1" strike="noStrike">
                <a:solidFill>
                  <a:srgbClr val="d55000"/>
                </a:solidFill>
                <a:latin typeface="Cambria"/>
              </a:rPr>
              <a:t>ПРИМЕР ( ДОП «Весёлые звуки»): </a:t>
            </a: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1. Владение навыками чтения: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d55000"/>
                </a:solidFill>
                <a:latin typeface="Cambria"/>
              </a:rPr>
              <a:t>- умеют делить слова на слоги: прямоугольник («домик» слова) на части; подобрать «домик» к слову и устно – слово к «домику»;</a:t>
            </a: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74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libri"/>
              </a:rPr>
              <a:t>1 уровень усвоения знаний</a:t>
            </a:r>
            <a:br>
              <a:rPr sz="3200"/>
            </a:br>
            <a:r>
              <a:rPr b="0" lang="ru-RU" sz="3200" spc="-1" strike="noStrike">
                <a:solidFill>
                  <a:srgbClr val="d55000"/>
                </a:solidFill>
                <a:latin typeface="Calibri"/>
              </a:rPr>
              <a:t>- Правда ли , что предложенных словах 3 слога?  1. Да      2.Нет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539640" y="234792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3200" y="115560"/>
            <a:ext cx="77724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2 уровень усвоения знаний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1966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- Подбери по 1  слову  к каждому «домику слова»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31800" y="2421000"/>
            <a:ext cx="607860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3 уровень усвоения знаний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Нарисуй домик слова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9" name="Рисунок 6" descr="turtle030"/>
          <p:cNvPicPr/>
          <p:nvPr/>
        </p:nvPicPr>
        <p:blipFill>
          <a:blip r:embed="rId1"/>
          <a:stretch/>
        </p:blipFill>
        <p:spPr>
          <a:xfrm>
            <a:off x="2411280" y="2981160"/>
            <a:ext cx="381636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341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d55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Нет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2.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504036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755640" y="5805360"/>
            <a:ext cx="518472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libri"/>
              </a:rPr>
              <a:t>Использованная литература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1. 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Мониторинг качества непрерывного физкультурного образования школьников./Журкина А.Я., Назарова Н.Н. Книга для учителя. – Шуя: Изд-во ГОУ «ШГПУ», 2010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2.Методические основы разработки и применения тестов в системе начального и среднего профессионального образования. (Методические рекомендации). Составитель Савельева Г.В. Коми республик. ин-т развития образования и переподготовки кадров. – Сыктывкар, 2009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8000" y="333360"/>
            <a:ext cx="8928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3. Вопросы организации и проведения аттестации образовательных учреждений. Материалы для практического руководства образовательным учреждением. Авторы-составители В.М.Лянцевич, О.А.Овчарова. Сыктывкар, 2002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4. </a:t>
            </a:r>
            <a:r>
              <a:rPr b="0" lang="en-US" sz="3200" spc="-1" strike="noStrike">
                <a:solidFill>
                  <a:srgbClr val="d55000"/>
                </a:solidFill>
                <a:latin typeface="Cambria"/>
              </a:rPr>
              <a:t>http://yandex.ru/clck/jsredir?from=yandex.ru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689040" y="530280"/>
            <a:ext cx="7772400" cy="470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410544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798480" y="0"/>
            <a:ext cx="7785000" cy="1127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 flipV="1" rot="10800000">
            <a:off x="0" y="771840"/>
            <a:ext cx="90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Положительная динамика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- увеличение значений выделенных показателей по сравнению с предыдущим контрольным этапом исслед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Инертность положительной динамики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подразумевает отсутствие характеристик положительной динамики и возможное увеличение отрицательных значений по сравнению с результатами предыдущего контрольного этапа исследов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55000"/>
                </a:solidFill>
                <a:latin typeface="Times New Roman"/>
              </a:rPr>
              <a:t>Устойчивость (стабильность) исследуемых показателей</a:t>
            </a:r>
            <a:r>
              <a:rPr b="0" lang="ru-RU" sz="2800" spc="-1" strike="noStrike">
                <a:solidFill>
                  <a:srgbClr val="d55000"/>
                </a:solidFill>
                <a:latin typeface="Times New Roman"/>
              </a:rPr>
              <a:t> на этапах иссле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85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55000"/>
                </a:solidFill>
                <a:latin typeface="Cambria"/>
              </a:rPr>
              <a:t>Показатели  уровней   полученных знаний и умений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разрабатываются педагогами самостоятельно в соответствии с предметом образовательной деятельности: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d55000"/>
                </a:solidFill>
                <a:latin typeface="Cambria"/>
              </a:rPr>
              <a:t>по 10-балльной шкале  проявление знаний и умений на уровень от 1 до 4 баллов соответствует низкому уровню, от 5 до 7 баллов – среднему уровню, от 8 до 10 баллов – высокому уровню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5000"/>
                </a:solidFill>
                <a:latin typeface="Calibri"/>
              </a:rPr>
              <a:t>Для оценки уровня формирования УУД ( у дошкольников – уровня формирования универсальных предпосылок учебной деятельности) </a:t>
            </a:r>
            <a:endParaRPr b="0" lang="en-US" sz="2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личностных и коммуникативных </a:t>
            </a: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использовать материалы Д.П.Н. Журкиной А.Я. (Мониторинг качества непрерывного физкультурного образования школьников./Журкина А.Я., Назарова Н.Н. Книга для учителя. – Шуя: Изд-во ГОУ «ШГПУ», 2010)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регулятивных и познавательных </a:t>
            </a:r>
            <a:r>
              <a:rPr b="0" lang="ru-RU" sz="30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- адаптировать материалы ФГОС дошкольного, начального,  общего основного и среднего полного общего образования в соответствии  с возрастной категорией учащихся, осваивающих дополнительную общеобразовательную  общеразвивающую программу</a:t>
            </a:r>
            <a:r>
              <a:rPr b="0" lang="ru-RU" sz="3000" spc="-1" strike="noStrike">
                <a:solidFill>
                  <a:srgbClr val="cc6600"/>
                </a:solidFill>
                <a:latin typeface="Cambri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орядок оформления </a:t>
            </a:r>
            <a:br>
              <a:rPr sz="4400"/>
            </a:br>
            <a:r>
              <a:rPr b="1" lang="ru-RU" sz="4400" spc="-1" strike="noStrike">
                <a:solidFill>
                  <a:srgbClr val="d55000"/>
                </a:solidFill>
                <a:latin typeface="Calibri"/>
              </a:rPr>
              <a:t>Приложения №1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d55000"/>
                </a:solidFill>
                <a:latin typeface="Calibri"/>
              </a:rPr>
              <a:t>На отдельном листе пишем:</a:t>
            </a:r>
            <a:endParaRPr b="0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8000" y="162864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Приложение № 1 </a:t>
            </a:r>
            <a:br>
              <a:rPr sz="3200"/>
            </a:b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Мониторинг образовательных результатов учащихся к ДОП «…»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 algn="ctr"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Автор-составитель: …, ПД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9280" y="18864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55000"/>
                </a:solidFill>
                <a:latin typeface="Cambria"/>
              </a:rPr>
              <a:t>Пишем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Цель 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мониторинга образовательных результатов учащихся по ДОП «…» - получение объективной информации о состоянии и динамике уровня и фиксирование динамики развития каждого учащегося  и объединения в целом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d55000"/>
                </a:solidFill>
                <a:latin typeface="Cambria"/>
              </a:rPr>
              <a:t>Мониторинг   проводится 3 раза</a:t>
            </a:r>
            <a:r>
              <a:rPr b="0" lang="ru-RU" sz="3200" spc="-1" strike="noStrike">
                <a:solidFill>
                  <a:srgbClr val="d55000"/>
                </a:solidFill>
                <a:latin typeface="Cambria"/>
              </a:rPr>
              <a:t> в течение учебного года в соответствии с  планируемыми образовательными результатам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560" y="260280"/>
            <a:ext cx="871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1.Предметные результаты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:</a:t>
            </a:r>
            <a:br>
              <a:rPr sz="4400"/>
            </a:b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!)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buClr>
                <a:srgbClr val="d55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2. Результаты по формированию УУД: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d55000"/>
                </a:solidFill>
                <a:latin typeface="Cambria"/>
              </a:rPr>
              <a:t>-Личностные результаты 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!);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  <a:p>
            <a:pPr marL="335880" indent="-335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	</a:t>
            </a:r>
            <a:r>
              <a:rPr b="0" i="1" lang="ru-RU" sz="4400" spc="-1" strike="noStrike">
                <a:solidFill>
                  <a:srgbClr val="d55000"/>
                </a:solidFill>
                <a:latin typeface="Cambria"/>
              </a:rPr>
              <a:t>-</a:t>
            </a:r>
            <a:r>
              <a:rPr b="1" i="1" lang="ru-RU" sz="4400" spc="-1" strike="noStrike">
                <a:solidFill>
                  <a:srgbClr val="d55000"/>
                </a:solidFill>
                <a:latin typeface="Cambria"/>
              </a:rPr>
              <a:t>Метапредметные результаты </a:t>
            </a:r>
            <a:r>
              <a:rPr b="0" lang="ru-RU" sz="4400" spc="-1" strike="noStrike">
                <a:solidFill>
                  <a:srgbClr val="d55000"/>
                </a:solidFill>
                <a:latin typeface="Cambria"/>
              </a:rPr>
              <a:t>(перечислить)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5:32:28Z</dcterms:created>
  <dc:creator>OTGT</dc:creator>
  <dc:description/>
  <dc:language>en-US</dc:language>
  <cp:lastModifiedBy>Светлана</cp:lastModifiedBy>
  <cp:lastPrinted>2018-07-10T09:26:34Z</cp:lastPrinted>
  <dcterms:modified xsi:type="dcterms:W3CDTF">2018-07-10T12:37:31Z</dcterms:modified>
  <cp:revision>125</cp:revision>
  <dc:subject/>
  <dc:title>Современные педагогические и информационные технологии в системе образования</dc:title>
</cp:coreProperties>
</file>