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04F-2949-4415-86B3-D541EFA6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A07-FF17-42A2-9F55-B69EEF4F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CE21-5602-4AC8-AD92-DAD52784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D63-05BF-4ABC-AB68-7C72FAAC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4BA4-2FED-4951-B2EF-DFB472A0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523-6AAF-4D47-8862-91F73B18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E651-2ABC-4B38-AA47-B0DA10D2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1337-C451-445B-9DA4-679BC719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A45E-F2CD-44B3-BD34-47043B91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6053-FFA0-42CF-97B4-8B84420A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19A3-F447-4026-BC23-B35F05E5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A2B-98F9-4433-AF3F-FA767C59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259D-B226-4A88-88F8-FB750B08BB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1"/>
          <a:stretch/>
        </p:blipFill>
        <p:spPr>
          <a:xfrm>
            <a:off x="109440" y="0"/>
            <a:ext cx="9144000" cy="698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0"/>
            <a:ext cx="9036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	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I.</a:t>
            </a:r>
            <a:r>
              <a:rPr b="1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Программа по итоговой   </a:t>
            </a:r>
            <a:r>
              <a:rPr b="1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аттестации  учащихся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d55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Программа по итоговой аттестации  учащихся представляет собой комплекс диагностических и оценочных процедур, обеспечивающих оценку образовательных достижений учащихся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buClr>
                <a:srgbClr val="d55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Промежуточная и итоговая аттестация стоят в одной цепочке с мероприятиями текущего и входящего контроля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d55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08000" y="0"/>
            <a:ext cx="892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• </a:t>
            </a: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Промежуточная и итоговая аттестация</a:t>
            </a: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 учащихся проводится на основании критериев мониторинга образовательных результатов учащихся 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35880" indent="-3358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Контрольно-измерительные материалы разрабатываются для каждого критерия, с учётом периода аттестаци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35880" indent="-3358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Результаты итоговой аттестации фиксируются в «Протоколе итоговой аттестации учащихся детского объединения», который является одним из отчетных документов и хранится в администрации Центр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35880" indent="-3358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55000"/>
                </a:solidFill>
                <a:latin typeface="Calibri"/>
              </a:rPr>
              <a:t>Требования к разработке тестовых заданий</a:t>
            </a:r>
            <a:endParaRPr b="0" lang="en-US" sz="36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1052640"/>
            <a:ext cx="89280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:</a:t>
            </a: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содержание тестов должно соответствовать источникам учебной информации, которые используют уч-ся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задание должно содержать решение только одного вопроса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формулировка вопроса должна быть чёткой и исчерпывающей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в задании должно быть оптимальное число ответов (не более 4)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грамматическое и логическое соответствие выборочных ответов к заданию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56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55000"/>
                </a:solidFill>
                <a:latin typeface="Calibri"/>
              </a:rPr>
              <a:t>В тестовом задании обязательно наличие: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инструкции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12120" indent="-31212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альтернативных вариантов ответа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12120" indent="-31212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правильного ответа (оформляем как  «ключ» к тестовым заданиям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12120" indent="-31212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критериев и норм оценк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Все 3 уровня знаний включают примерно одинаковое суммарное количество операций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Задания одного типа располагаются группой на одном месте, пояснения к ним даются 1 раз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12120" indent="-31212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640720" cy="5113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78508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49780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 u="sng">
                <a:solidFill>
                  <a:srgbClr val="d55000"/>
                </a:solidFill>
                <a:uFillTx/>
                <a:latin typeface="Calibri"/>
              </a:rPr>
              <a:t>Техника построения тестовых заданий 1,2,3 уровней усвоения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000" y="1699920"/>
            <a:ext cx="892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55000"/>
                </a:solidFill>
                <a:latin typeface="Cambria"/>
              </a:rPr>
              <a:t>Тесты 1 уровня усвоения</a:t>
            </a: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Т.З «опознания», требующие ответа «да» - «нет»;» «относится – не относится»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Т.З. «различения» - выбор правильного ответа из нескольких предложенных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Т.З. на «соотнесение» - при выполнении задания нужно сравнить объекты из 2-х множеств и правильно их соотнест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d55000"/>
                </a:solidFill>
                <a:latin typeface="Calibri"/>
              </a:rPr>
              <a:t>Тесты 2 уровня усвоения: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8000" y="907920"/>
            <a:ext cx="903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Т.З. «на подстановку», где намеренно пропускаются слова, фразы, формулы или другой элемент задания, который учащийся должен дописать самостоятельно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18960" indent="-31896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Т.З. «на процесс», т.е. проверку знаний последовательности операций, действий, процессов.</a:t>
            </a: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18960" indent="-31896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Т.З. «конструктивные», учащийся самостоятельно по памяти воспроизводит информацию любой формулировки (словесной, графической, числовой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3600" spc="-1" strike="noStrike">
                <a:solidFill>
                  <a:srgbClr val="d55000"/>
                </a:solidFill>
                <a:latin typeface="Calibri"/>
              </a:rPr>
              <a:t>Тесты 3 уровня усвоения: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8000" y="836640"/>
            <a:ext cx="9036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Требуют применения усвоенных умений и навыков  в новых условиях, в неизученной ситуации, в практической деятельности. Содержат задания на сравнение, обоснование, обобщение, доказательство, умение делать вывод, объяснение причинно-следственных связей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55000"/>
                </a:solidFill>
                <a:latin typeface="Cambria"/>
              </a:rPr>
              <a:t>	</a:t>
            </a:r>
            <a:r>
              <a:rPr b="1" i="1" lang="ru-RU" sz="3200" spc="-1" strike="noStrike">
                <a:solidFill>
                  <a:srgbClr val="d55000"/>
                </a:solidFill>
                <a:latin typeface="Cambria"/>
              </a:rPr>
              <a:t>	</a:t>
            </a:r>
            <a:r>
              <a:rPr b="1" i="1" lang="ru-RU" sz="3600" spc="-1" strike="noStrike">
                <a:solidFill>
                  <a:srgbClr val="d55000"/>
                </a:solidFill>
                <a:latin typeface="Calibri"/>
              </a:rPr>
              <a:t>Тесты 4 уровня усвоения: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Получение новой информации в исследовательской деятельност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d55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ff9900"/>
                </a:solidFill>
                <a:latin typeface="Calibri"/>
              </a:rPr>
              <a:t>I.</a:t>
            </a:r>
            <a:r>
              <a:rPr b="1" i="1" lang="ru-RU" sz="3200" spc="-1" strike="noStrike">
                <a:solidFill>
                  <a:srgbClr val="ff9900"/>
                </a:solidFill>
                <a:latin typeface="Calibri"/>
              </a:rPr>
              <a:t> Мониторинг образовательных </a:t>
            </a:r>
            <a:r>
              <a:rPr b="1" i="1" lang="ru-RU" sz="3200" spc="-1" strike="noStrike">
                <a:solidFill>
                  <a:srgbClr val="ff99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ff99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ff99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ff99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ff9900"/>
                </a:solidFill>
                <a:latin typeface="Calibri"/>
              </a:rPr>
              <a:t>результатов учащихся</a:t>
            </a:r>
            <a:br>
              <a:rPr sz="3200"/>
            </a:br>
            <a:r>
              <a:rPr b="1" i="1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Цель мониторинга</a:t>
            </a:r>
            <a:r>
              <a:rPr b="0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 - получение объективной информации о состоянии и динамике уровня и фиксирование динамики развития каждого учащегося и объединения в целом</a:t>
            </a:r>
            <a:br>
              <a:rPr sz="2800"/>
            </a:br>
            <a:r>
              <a:rPr b="0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Методы:</a:t>
            </a:r>
            <a:br>
              <a:rPr sz="2800"/>
            </a:br>
            <a:r>
              <a:rPr b="1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1.Тестирование</a:t>
            </a:r>
            <a:br>
              <a:rPr sz="2800"/>
            </a:br>
            <a:r>
              <a:rPr b="1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2. Опрос (анкетирование, собеседование, беседа) </a:t>
            </a:r>
            <a:br>
              <a:rPr sz="2800"/>
            </a:br>
            <a:r>
              <a:rPr b="1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3. Психолого-педагогическое наблюдение (включённое наблюдение, узкоспециальное наблюдение)</a:t>
            </a:r>
            <a:r>
              <a:rPr b="1" i="1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Критерий </a:t>
            </a:r>
            <a:r>
              <a:rPr b="0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– (средство для суждения) - признак на основании которого производится оценка чего либо</a:t>
            </a:r>
            <a:br>
              <a:rPr sz="2800"/>
            </a:br>
            <a:r>
              <a:rPr b="1" i="1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           Показатель</a:t>
            </a:r>
            <a:r>
              <a:rPr b="0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 - результат, по которому можно судить о чем либо</a:t>
            </a: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d55000"/>
                </a:solidFill>
                <a:latin typeface="Calibri"/>
                <a:ea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55000"/>
                </a:solidFill>
                <a:latin typeface="Calibri"/>
              </a:rPr>
              <a:t>Порядок оформления </a:t>
            </a:r>
            <a:br>
              <a:rPr sz="4400"/>
            </a:br>
            <a:r>
              <a:rPr b="1" lang="ru-RU" sz="4400" spc="-1" strike="noStrike">
                <a:solidFill>
                  <a:srgbClr val="d55000"/>
                </a:solidFill>
                <a:latin typeface="Calibri"/>
              </a:rPr>
              <a:t>Приложения №2</a:t>
            </a:r>
            <a:br>
              <a:rPr sz="4400"/>
            </a:br>
            <a:r>
              <a:rPr b="0" i="1" lang="ru-RU" sz="4400" spc="-1" strike="noStrike">
                <a:solidFill>
                  <a:srgbClr val="d55000"/>
                </a:solidFill>
                <a:latin typeface="Calibri"/>
              </a:rPr>
              <a:t>На листе пишем</a:t>
            </a:r>
            <a:r>
              <a:rPr b="0" lang="ru-RU" sz="4400" spc="-1" strike="noStrike">
                <a:solidFill>
                  <a:srgbClr val="d55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8000" y="1484280"/>
            <a:ext cx="903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Приложение №2 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Программа по итоговой аттестации  учащихс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Автор-составитель: …, ПДО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d55000"/>
                </a:solidFill>
                <a:latin typeface="Cambria"/>
              </a:rPr>
              <a:t>Пишем:</a:t>
            </a:r>
            <a:r>
              <a:rPr b="0" lang="ru-RU" sz="3100" spc="-1" strike="noStrike">
                <a:solidFill>
                  <a:srgbClr val="d55000"/>
                </a:solidFill>
                <a:latin typeface="Cambria"/>
              </a:rPr>
              <a:t> Программа по итоговой аттестации  учащихся представляет собой комплекс диагностических и оценочных процедур, обеспечивающих оценку достижений учащихся  по ДОП  «…» в соответствии со  следующими запланированными  предметными результатами:  </a:t>
            </a:r>
            <a:r>
              <a:rPr b="0" i="1" lang="ru-RU" sz="3100" spc="-1" strike="noStrike">
                <a:solidFill>
                  <a:srgbClr val="d55000"/>
                </a:solidFill>
                <a:latin typeface="Cambria"/>
              </a:rPr>
              <a:t>(</a:t>
            </a:r>
            <a:r>
              <a:rPr b="1" i="1" lang="ru-RU" sz="3100" spc="-1" strike="noStrike">
                <a:solidFill>
                  <a:srgbClr val="d55000"/>
                </a:solidFill>
                <a:latin typeface="Cambria"/>
              </a:rPr>
              <a:t>далее пишем последовательно критерии</a:t>
            </a:r>
            <a:r>
              <a:rPr b="0" i="1" lang="ru-RU" sz="3100" spc="-1" strike="noStrike">
                <a:solidFill>
                  <a:srgbClr val="d55000"/>
                </a:solidFill>
                <a:latin typeface="Cambria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d55000"/>
                </a:solidFill>
                <a:latin typeface="Cambria"/>
              </a:rPr>
              <a:t>	</a:t>
            </a:r>
            <a:r>
              <a:rPr b="0" lang="ru-RU" sz="3100" spc="-1" strike="noStrike">
                <a:solidFill>
                  <a:srgbClr val="d55000"/>
                </a:solidFill>
                <a:latin typeface="Cambria"/>
              </a:rPr>
              <a:t> </a:t>
            </a:r>
            <a:r>
              <a:rPr b="1" lang="ru-RU" sz="3100" spc="-1" strike="noStrike">
                <a:solidFill>
                  <a:srgbClr val="d55000"/>
                </a:solidFill>
                <a:latin typeface="Cambria"/>
              </a:rPr>
              <a:t>ПРИМЕР ( ДОП «Весёлые звуки»): </a:t>
            </a:r>
            <a:r>
              <a:rPr b="0" lang="ru-RU" sz="3100" spc="-1" strike="noStrike">
                <a:solidFill>
                  <a:srgbClr val="d55000"/>
                </a:solidFill>
                <a:latin typeface="Cambria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d55000"/>
                </a:solidFill>
                <a:latin typeface="Cambria"/>
              </a:rPr>
              <a:t>1. Владение навыками чтения: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74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d55000"/>
                </a:solidFill>
                <a:latin typeface="Cambria"/>
              </a:rPr>
              <a:t>- умеют делить слова на слоги: прямоугольник («домик» слова) на части; подобрать «домик» к слову и устно – слово к «домику»;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74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libri"/>
              </a:rPr>
              <a:t>1 уровень усвоения знаний</a:t>
            </a:r>
            <a:br>
              <a:rPr sz="3200"/>
            </a:br>
            <a:r>
              <a:rPr b="0" lang="ru-RU" sz="3200" spc="-1" strike="noStrike">
                <a:solidFill>
                  <a:srgbClr val="d55000"/>
                </a:solidFill>
                <a:latin typeface="Calibri"/>
              </a:rPr>
              <a:t>- Правда ли , что предложенных словах 3 слога?  1. Да      2.Нет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539640" y="2347920"/>
            <a:ext cx="2952720" cy="1728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"/>
          <p:cNvPicPr/>
          <p:nvPr/>
        </p:nvPicPr>
        <p:blipFill>
          <a:blip r:embed="rId2"/>
          <a:stretch/>
        </p:blipFill>
        <p:spPr>
          <a:xfrm>
            <a:off x="5508720" y="2349360"/>
            <a:ext cx="259236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3200" y="115560"/>
            <a:ext cx="7772400" cy="201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55000"/>
                </a:solidFill>
                <a:latin typeface="Calibri"/>
              </a:rPr>
              <a:t>2 уровень усвоения знаний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196640"/>
            <a:ext cx="9036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Подбери по 1  слову  к каждому «домику слова»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531800" y="2421000"/>
            <a:ext cx="607860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55000"/>
                </a:solidFill>
                <a:latin typeface="Calibri"/>
              </a:rPr>
              <a:t>3 уровень усвоения знаний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Нарисуй домик слова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9" name="Рисунок 6" descr="turtle030"/>
          <p:cNvPicPr/>
          <p:nvPr/>
        </p:nvPicPr>
        <p:blipFill>
          <a:blip r:embed="rId1"/>
          <a:stretch/>
        </p:blipFill>
        <p:spPr>
          <a:xfrm>
            <a:off x="2411280" y="2981160"/>
            <a:ext cx="3816360" cy="2176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55000"/>
                </a:solidFill>
                <a:latin typeface="Calibri"/>
              </a:rPr>
              <a:t>Ответы: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0920" y="1341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d55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55000"/>
                </a:solidFill>
                <a:latin typeface="Cambria"/>
              </a:rPr>
              <a:t>Нет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55000"/>
                </a:solidFill>
                <a:latin typeface="Cambria"/>
              </a:rPr>
              <a:t>2.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55000"/>
                </a:solidFill>
                <a:latin typeface="Cambria"/>
              </a:rPr>
              <a:t>3.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5040360" cy="2592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755640" y="5805360"/>
            <a:ext cx="5184720" cy="719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55000"/>
                </a:solidFill>
                <a:latin typeface="Calibri"/>
              </a:rPr>
              <a:t>Использованная литература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79280" y="691920"/>
            <a:ext cx="8785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1. </a:t>
            </a: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Мониторинг качества непрерывного физкультурного образования школьников./Журкина А.Я., Назарова Н.Н. Книга для учителя. – Шуя: Изд-во ГОУ «ШГПУ», 2010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2.Методические основы разработки и применения тестов в системе начального и среднего профессионального образования. (Методические рекомендации). Составитель Савельева Г.В. Коми республик. ин-т развития образования и переподготовки кадров. – Сыктывкар, 2009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08000" y="333360"/>
            <a:ext cx="8928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3. Вопросы организации и проведения аттестации образовательных учреждений. Материалы для практического руководства образовательным учреждением. Авторы-составители В.М.Лянцевич, О.А.Овчарова. Сыктывкар, 2002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4. </a:t>
            </a:r>
            <a:r>
              <a:rPr b="0" lang="en-US" sz="3200" spc="-1" strike="noStrike">
                <a:solidFill>
                  <a:srgbClr val="d55000"/>
                </a:solidFill>
                <a:latin typeface="Cambria"/>
              </a:rPr>
              <a:t>http://yandex.ru/clck/jsredir?from=yandex.ru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Объект 2" descr=""/>
          <p:cNvPicPr/>
          <p:nvPr/>
        </p:nvPicPr>
        <p:blipFill>
          <a:blip r:embed="rId1"/>
          <a:stretch/>
        </p:blipFill>
        <p:spPr>
          <a:xfrm>
            <a:off x="689040" y="530280"/>
            <a:ext cx="7772400" cy="4700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2411280" y="3500280"/>
            <a:ext cx="4105440" cy="3241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2" descr=""/>
          <p:cNvPicPr/>
          <p:nvPr/>
        </p:nvPicPr>
        <p:blipFill>
          <a:blip r:embed="rId1"/>
          <a:stretch/>
        </p:blipFill>
        <p:spPr>
          <a:xfrm>
            <a:off x="798480" y="0"/>
            <a:ext cx="7785000" cy="11271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 flipV="1" rot="10800000">
            <a:off x="0" y="771840"/>
            <a:ext cx="903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3" marL="1600200" indent="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55000"/>
                </a:solidFill>
                <a:latin typeface="Times New Roman"/>
              </a:rPr>
              <a:t>Положительная динамика</a:t>
            </a:r>
            <a:r>
              <a:rPr b="0" lang="ru-RU" sz="2800" spc="-1" strike="noStrike">
                <a:solidFill>
                  <a:srgbClr val="d55000"/>
                </a:solidFill>
                <a:latin typeface="Times New Roman"/>
              </a:rPr>
              <a:t> - увеличение значений выделенных показателей по сравнению с предыдущим контрольным этапом исслед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55000"/>
                </a:solidFill>
                <a:latin typeface="Times New Roman"/>
              </a:rPr>
              <a:t>Инертность положительной динамики</a:t>
            </a:r>
            <a:r>
              <a:rPr b="0" lang="ru-RU" sz="2800" spc="-1" strike="noStrike">
                <a:solidFill>
                  <a:srgbClr val="d55000"/>
                </a:solidFill>
                <a:latin typeface="Times New Roman"/>
              </a:rPr>
              <a:t> подразумевает отсутствие характеристик положительной динамики и возможное увеличение отрицательных значений по сравнению с результатами предыдущего контрольного этапа исследова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55000"/>
                </a:solidFill>
                <a:latin typeface="Times New Roman"/>
              </a:rPr>
              <a:t>Устойчивость (стабильность) исследуемых показателей</a:t>
            </a:r>
            <a:r>
              <a:rPr b="0" lang="ru-RU" sz="2800" spc="-1" strike="noStrike">
                <a:solidFill>
                  <a:srgbClr val="d55000"/>
                </a:solidFill>
                <a:latin typeface="Times New Roman"/>
              </a:rPr>
              <a:t> на этапах исслед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856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55000"/>
                </a:solidFill>
                <a:latin typeface="Cambria"/>
              </a:rPr>
              <a:t>Показатели  уровней   полученных знаний и умений</a:t>
            </a:r>
            <a:r>
              <a:rPr b="0" lang="ru-RU" sz="2800" spc="-1" strike="noStrike">
                <a:solidFill>
                  <a:srgbClr val="d55000"/>
                </a:solidFill>
                <a:latin typeface="Cambria"/>
              </a:rPr>
              <a:t>  </a:t>
            </a:r>
            <a:r>
              <a:rPr b="0" lang="ru-RU" sz="2800" spc="-1" strike="noStrike">
                <a:solidFill>
                  <a:srgbClr val="d55000"/>
                </a:solidFill>
                <a:latin typeface="Cambria"/>
              </a:rPr>
              <a:t>разрабатываются педагогами самостоятельно в соответствии с предметом образовательной деятельности: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5000"/>
                </a:solidFill>
                <a:latin typeface="Cambria"/>
              </a:rPr>
              <a:t>	</a:t>
            </a:r>
            <a:r>
              <a:rPr b="0" lang="ru-RU" sz="2800" spc="-1" strike="noStrike">
                <a:solidFill>
                  <a:srgbClr val="d55000"/>
                </a:solidFill>
                <a:latin typeface="Cambria"/>
              </a:rPr>
              <a:t>по 10-балльной шкале  проявление знаний и умений на уровень от 1 до 4 баллов соответствует низкому уровню, от 5 до 7 баллов – среднему уровню, от 8 до 10 баллов – высокому уровню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5000"/>
                </a:solidFill>
                <a:latin typeface="Calibri"/>
              </a:rPr>
              <a:t>Для оценки уровня формирования УУД ( у дошкольников – уровня формирования универсальных предпосылок учебной деятельности) </a:t>
            </a:r>
            <a:endParaRPr b="0" lang="en-US" sz="2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3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личностных и коммуникативных </a:t>
            </a:r>
            <a:r>
              <a:rPr b="0" lang="ru-RU" sz="3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- использовать материалы Д.П.Н. Журкиной А.Я. (Мониторинг качества непрерывного физкультурного образования школьников./Журкина А.Я., Назарова Н.Н. Книга для учителя. – Шуя: Изд-во ГОУ «ШГПУ», 2010) 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3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регулятивных и познавательных </a:t>
            </a:r>
            <a:r>
              <a:rPr b="0" lang="ru-RU" sz="3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- адаптировать материалы ФГОС дошкольного, начального,  общего основного и среднего полного общего образования в соответствии  с возрастной категорией учащихся, осваивающих дополнительную общеобразовательную  общеразвивающую программу</a:t>
            </a:r>
            <a:r>
              <a:rPr b="0" lang="ru-RU" sz="3000" spc="-1" strike="noStrike">
                <a:solidFill>
                  <a:srgbClr val="cc6600"/>
                </a:solidFill>
                <a:latin typeface="Cambri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856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d55000"/>
                </a:solidFill>
                <a:latin typeface="Calibri"/>
              </a:rPr>
              <a:t>Порядок оформления </a:t>
            </a:r>
            <a:br>
              <a:rPr sz="4400"/>
            </a:br>
            <a:r>
              <a:rPr b="1" lang="ru-RU" sz="4400" spc="-1" strike="noStrike">
                <a:solidFill>
                  <a:srgbClr val="d55000"/>
                </a:solidFill>
                <a:latin typeface="Calibri"/>
              </a:rPr>
              <a:t>Приложения №1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d55000"/>
                </a:solidFill>
                <a:latin typeface="Calibri"/>
              </a:rPr>
              <a:t>На отдельном листе пишем: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8000" y="1628640"/>
            <a:ext cx="8856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 algn="r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Приложение № 1 </a:t>
            </a:r>
            <a:br>
              <a:rPr sz="3200"/>
            </a:b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 algn="r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Мониторинг образовательных результатов учащихся к ДОП «…»,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Автор-составитель: …, ПДО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9280" y="18864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55000"/>
                </a:solidFill>
                <a:latin typeface="Cambria"/>
              </a:rPr>
              <a:t>Пишем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Цель </a:t>
            </a: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мониторинга образовательных результатов учащихся по ДОП «…» - получение объективной информации о состоянии и динамике уровня и фиксирование динамики развития каждого учащегося  и объединения в целом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	</a:t>
            </a: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Мониторинг   проводится 3 раза</a:t>
            </a: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 в течение учебного года в соответствии с  планируемыми образовательными результатам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50560" y="260280"/>
            <a:ext cx="8713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55000"/>
                </a:solidFill>
                <a:latin typeface="Cambria"/>
              </a:rPr>
              <a:t>1.Предметные результаты</a:t>
            </a:r>
            <a:r>
              <a:rPr b="0" lang="ru-RU" sz="4400" spc="-1" strike="noStrike">
                <a:solidFill>
                  <a:srgbClr val="d55000"/>
                </a:solidFill>
                <a:latin typeface="Cambria"/>
              </a:rPr>
              <a:t>:</a:t>
            </a:r>
            <a:br>
              <a:rPr sz="4400"/>
            </a:br>
            <a:r>
              <a:rPr b="0" lang="ru-RU" sz="4400" spc="-1" strike="noStrike">
                <a:solidFill>
                  <a:srgbClr val="d55000"/>
                </a:solidFill>
                <a:latin typeface="Cambria"/>
              </a:rPr>
              <a:t>(перечислить!)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marL="335880" indent="-335880">
              <a:spcBef>
                <a:spcPts val="1100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55000"/>
                </a:solidFill>
                <a:latin typeface="Cambria"/>
              </a:rPr>
              <a:t>2. Результаты по формированию УУД: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55000"/>
                </a:solidFill>
                <a:latin typeface="Cambria"/>
              </a:rPr>
              <a:t>	</a:t>
            </a:r>
            <a:r>
              <a:rPr b="1" i="1" lang="ru-RU" sz="4400" spc="-1" strike="noStrike">
                <a:solidFill>
                  <a:srgbClr val="d55000"/>
                </a:solidFill>
                <a:latin typeface="Cambria"/>
              </a:rPr>
              <a:t>-Личностные результаты </a:t>
            </a:r>
            <a:r>
              <a:rPr b="0" lang="ru-RU" sz="4400" spc="-1" strike="noStrike">
                <a:solidFill>
                  <a:srgbClr val="d55000"/>
                </a:solidFill>
                <a:latin typeface="Cambria"/>
              </a:rPr>
              <a:t>(перечислить!);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55000"/>
                </a:solidFill>
                <a:latin typeface="Cambria"/>
              </a:rPr>
              <a:t>	</a:t>
            </a:r>
            <a:r>
              <a:rPr b="0" i="1" lang="ru-RU" sz="4400" spc="-1" strike="noStrike">
                <a:solidFill>
                  <a:srgbClr val="d55000"/>
                </a:solidFill>
                <a:latin typeface="Cambria"/>
              </a:rPr>
              <a:t>-</a:t>
            </a:r>
            <a:r>
              <a:rPr b="1" i="1" lang="ru-RU" sz="4400" spc="-1" strike="noStrike">
                <a:solidFill>
                  <a:srgbClr val="d55000"/>
                </a:solidFill>
                <a:latin typeface="Cambria"/>
              </a:rPr>
              <a:t>Метапредметные результаты </a:t>
            </a:r>
            <a:r>
              <a:rPr b="0" lang="ru-RU" sz="4400" spc="-1" strike="noStrike">
                <a:solidFill>
                  <a:srgbClr val="d55000"/>
                </a:solidFill>
                <a:latin typeface="Cambria"/>
              </a:rPr>
              <a:t>(перечислить)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49780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5:32:28Z</dcterms:created>
  <dc:creator>OTGT</dc:creator>
  <dc:description/>
  <dc:language>en-US</dc:language>
  <cp:lastModifiedBy>Светлана</cp:lastModifiedBy>
  <cp:lastPrinted>2018-07-10T09:26:34Z</cp:lastPrinted>
  <dcterms:modified xsi:type="dcterms:W3CDTF">2018-07-10T12:37:31Z</dcterms:modified>
  <cp:revision>125</cp:revision>
  <dc:subject/>
  <dc:title>Современные педагогические и информационные технологии в системе образования</dc:title>
</cp:coreProperties>
</file>