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AC4-5749-4081-8CF2-84F23C38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B72-0D3D-4CA2-8678-1CE10BD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8B7-FB36-428C-BB7C-0BF8E04E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D1E-7D73-4DDC-8909-17A71C7A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686-6463-4DD4-B3EE-857E59CA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B26-F78B-4708-8EDB-3737A42C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D4D-69E6-42ED-820D-DCE94962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7B7-8AD3-4290-93C3-CFA2715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908-F25D-4AD5-A901-35BD33B1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CA8C-B269-4339-AC3B-7014D8C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549-574E-44ED-9F81-491A985E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83A-18D7-43CE-AAE9-AAD4AC4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BFA-C401-49C0-82C0-6D31D245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84692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етоды и приемы обучения коммуникативной деятельности учащихся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- 7 класс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876640"/>
            <a:ext cx="6616800" cy="57636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БОУ «СШ №6» 10.11. 20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дание 2. Сгруппируйте слова по нескольким признакам одноврем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якиш_, плач_, молодеж_, приемыш, теч_, малыш_, брош_, кирпич_, царевич_, экипаж_, суш_, роскош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арианты выполнения задания, в которых ученики предлагают сгруппировать слова по трем признакам одновремен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по написанию (существительные с ь и без 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по родам (существительные мужского и женского ро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по склонениям (существительные 2-го и 3-го скло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уппировка как процесс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им образом, группировка протекает как процесс анализа, абстрагирования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твлечения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обобщения, что развивает творческие способности школьников. По тому, как осуществляются группировки, можно судить не только о характере мыслительных процессов ученик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анализирующее наблюдение, обобщающее мышление и практические действия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о и о тех знаниях, которыми он опери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Цель таких упражн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остоит в осмыслении понятия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«предмет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грамматическом уровне, обобщении знаний на основе исследуемых объектов, в развитии уровня аналитико-синтет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пределите общее значение сгруппированных слов в каждой строчке и запишите обобщающе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рабрость, свежесть, широта, кривизна, глушь - 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ризна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одьба, просьба, стирка, чтение, работа - ?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процес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Как бы вы сказали одним словом о человеке: необщительный, скрытный, трудно сближающийся с другими людьми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Замкнут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Замените одним словом: порицать, считать кого-либо неправым, несправедливым, виновным в чем-либо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 Осуждать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пражнения такого характера обогащают словарный запас учащихся, конкретизируют абстрактное значение части речи, помогают ученикам осмыслить поняти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предмет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же не на уровне бытовом, житейском, а на более высоком - грамматическ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122400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Задания на исключение лишнег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предлагаемых вариантов зад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стоит в усвоении учащимися большого объема знаний языкового материала на основе установления связей между отдельными его элементами, явлениями, в развитии поэтапных операционных умений переноса знаний в другие области и построения доказательных монологическ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ика проведения такого вида задания общеизвестна. Но, в отличие от традиционной методики,  она имеет свои особенности: ученикам предлагается такой подбор слов, при котором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«лишним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может быть любое слово из четырех предлож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404640"/>
            <a:ext cx="8713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 данного списка слов найдите четвертое лишне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на, клен, ясень, топ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арианты ответов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хвойное дерево, остальные - ли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л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1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Ясен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начало - на гласную букву, у остальных - на согласную бу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лен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лово без орфограммы, у остальных - орфограмма «Безударная гласная в кор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существительное женского рода, остальные - муж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1-го склонения, остальные - 2-го скло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Ученикам предлагается цепочка слов, в процессе работы надо исключать из нее постепенно по одному сло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956720" y="620640"/>
            <a:ext cx="742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сключите из цепочки лишние слова по какому-либо признаку так, чтобы в ней осталось только одно слово. Причину исключения каждого слова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онны, костюм, рожь, объединить, какао, ш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арианты ответов уче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бъедини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это глагол, остальные - существи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акао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есклоняемое существительное среди существительных, другие - склоня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лон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мн. ч., остальные - ед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остю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уществительное мужского рода, остальные - жен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ож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существительное 3-го склонения, школа - существительное 1-го скло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Arial"/>
              </a:rPr>
              <a:t>Задания на обобщ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и задания служат успешному усвоению знаний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 развитию монологической речи и мышления учащихс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и создают благоприятные условия для выявления учеником связей грамматического и орфографического материала в процессе применения знаний в новых условиях: в условиях непривычной формулировки задания, оперирования новым языковым материалом, на который должен быть осуществлён перенос знаний, в условиях, требующих сделать самостоятельный вывод, обоб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. Учебная лингвистическая задач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выполнения таких зада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стоит в освоении теоретического языкового материала на высоком уровне трудности с соблюдением меры трудности, в развитии умения последующего практического применения теории при анализе языковых явлений, а также в повышении речевой активности на основе сравнения, анализа и синтеза при описании изучаемого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К какой части речи относится выделенное слово?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Докажите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Спишите, расставляя знаки препинания в диалоге. Что создает комический эффект (почему смешно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овой! Который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й ваше благородь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авно 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а с полтора ваше благород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8bebf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тимулирующ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тем предлагается выполнить стимулирующее задание, оцениваются результаты операций, поощряются правильные решения, анализируются ошибки. Если в структуре запрограммирован поэтапный контроль, то проанализировать выполнение, не допустив при этом ошибок, смогут и сами ученики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 этой целью им предлагается карточка №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а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асовой - имя существительное, потому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 ...; 2) ...; 3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и самоконтроля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щие решение одного действия, готовятся заранее для каждого ученика. Ученик, который не смог выполнить первое действие, обращается самостоятельно к карточ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и с её помощью овладевает необходимым операционным ум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179280" y="136368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) Неправильная мотивация на обучение в школе: </a:t>
            </a: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отбывание, уступка родителям, получение аттестата без усилий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б) разноуровневость  и беспорядочность знаний  учащихся в каждом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) психологические  особен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г) проблемы с посещаемостью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д)  длительный перерыв в обучении и пробелы в знаниях с начально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е) надежды на освоение наук только в стенах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Monotype Corsiva"/>
              </a:rPr>
              <a:t>(  без поддержки в домашних условия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33360"/>
            <a:ext cx="8351640" cy="1008000"/>
          </a:xfrm>
          <a:prstGeom prst="rect">
            <a:avLst/>
          </a:prstGeom>
          <a:solidFill>
            <a:srgbClr val="85f0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блемы формирования ключе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мпетенций у обучающихся 6 – 7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рточка №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о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мя существительное, потому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ет предмет (кто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мужскому роду, имеет морфологические призна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ется об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смешно? Чем вызван комический эффек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едует ответ учеников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Такую же форму имеет прилагательно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ов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-ая, -ое), оно обозначает признак (какой?), изменяется по родам: часовой механизм, часовая фабрика, часовое устройство; в предложении выступает как определение»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я существительное образовалось из имени прилагатель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означает человека, стоящего на часах (т.е. на посту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Давно ли?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жно понять двояко: как уточняющий врем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первый час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как относящийся к времени пребывания на посту часового. Спрашивающий имеет в виду первое, а отвечающий - второе. Этим вызван комически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тимулирующ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апное решение этой задачи формирует у школьников умение  сопоставлять части речи, их морфологические признаки, использовать внутрипредметные связи для доказательства и самоконтроля. В основе этого задания -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емы сравнения, анализа и синте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пособствующие развитию умения делать умозаключения, выявлять черты сходства и различия в изучаемых яв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т диктант  способствует обогащению  словарного запаса учащихся и усвоению литературных норм произношения слов. Так, на уроке на тему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Лексическое значение слов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огут быть предложены следующие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торы из пластинок, навешиваемые на окн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жалюз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итанность, глубокие познания человека в какой-либо области наук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эруди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ойной лист бумаги, соединяющий крышку переплета с самой книжко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форза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окупность наук, изучающих культуру народа, выраженную в языке и литературном творчеств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филология)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им образом, целенаправленное обучение связной речи в устной и письменной форме проводится в виде различных упражнений. Большое значение имеют синтаксические упражнения, аналитическая работа с различными текстами, их составление и обсуждение, выработка композиционных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оме уроков развития речи, работу над созданием речевых произведений учащихся следует проводить систе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диционная методика не направлена на формирование коммуникативной потребности, мотивацию к овладению и пользованию разнообразными речевыми средствами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ти  знают o них, но не умеют использовать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новационные методики совмещают виды работ, формирующих коммуникативные компетенции (требование анализа, сравнения явлений, обоснование, аргументирование, обобщ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ь - это сложнейшая человеческая деятельность, это творческая деятельность, включающая в себя умение наблюдать, мыслить, фантазировать, а также слушать и слышать; прежде всего выучивается говорить тот, кому есть что сказать, поэтом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обходимо учить детей не техническому оформлению высказываний, а речевому мышлению, речевому творчеству, а также адекватному восприятию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новационные методики делают уроки русского языка интереснее, ярче. Самостоятельный поиск решения, активная мыслительная деятельность способствуют повышению эффективности учеб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дача, которая стоит перед учите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ая организация уроков с использованием инновационных технологий требует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чтобы каждый ребенок был занят решением посильной для него задачи, так как при этом условии можно поддержать у него интерес к учению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этому перед учителем стоит задача: видеть в уроке не только учебно-воспитательную проблему, но и определить пути разрешения этой проблемы применительно к каждому ребенку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ифференцированный подход необходим на всех этапах усвоения знаний и ум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91520" cy="86364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спользование новых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новых технологий на уроке русского языка, уроке развития речи позволяет активизировать познавательные интересы учащихся, контролировать деятельность каждого, увеличить темп работы, решить сразу несколько задач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учить новый материал, закрепить, выполняя практическую работу, включающую разные виды упражнений, углубить знания, провести контроль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инновационных технологий на уроках русского языка показало, что меняется отношение учащихся к предмету, ребята не боятся проявлять свою инициативу в решении предлагаемых заданий, высказывать свое собственное мнение, стремятся овладеть программным материалом на более высоком уровне, чтобы справиться с задан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43280" y="1125000"/>
            <a:ext cx="5843520" cy="500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им образом, использование инновационных методик на уроках русского языка позволяет учащимся не только получать новые знания, создавать речевые произведения различных жанров, но и чувствовать собственную ответственность за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2627280" y="1844280"/>
            <a:ext cx="93672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 - 7 класса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продолжается работа над заложенными ранее умениями и в то же время начинается  работа над некоторыми новыми разновидностями коммуникативных навыков. В этот период усиливается внимание к компонентам речевой ситуации и к речевым жан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 Виды упражнений на уроках русского языка при обучении связной речи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6 -7 кла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ое значение на всех этапах обучения имеет развитие речи. Разнообразие тематики бесед, характера картин и наглядных материалов служит важным условием того, чтобы дети использовали широкий круг слов и речевых об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осстановление деформированн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з данных предложений составь рассказ, запиш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а собрала тонкие ве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я шла из школы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школьном саду обрезали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 заблестели зелёные лис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а девочка поставила их в вод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5f0fb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 Виды упражнений на уроках русского языка при обучении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5075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ление предложений из данных слов с добавлением любых других слов: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негурочка сочинение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чинение на тему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"Что бы я рассказал турецкому мальчику о зим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тавление аннотации художественного произведения или научно-популярной стат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ставление конспекта научно-популярной стат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исьмо по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красных лапках гусь тяжёл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умав плыть по лону 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упает бережно на лё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зит и падает; весё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ькает, вьётся первый сне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вездами падая на брег. (А. Пушк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08720" y="4149720"/>
            <a:ext cx="11019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читайте текст. Замените повторяющиеся слова синонимами. Запишите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умная из моих собак - это Жалька. Жалька всё ученье прошла, как будто её родители всему Жальку научили. Жалька играла со льдинкой. Вдруг Жальке что-то показалось и Жалька эту льдинку не подбросила, а лизнула. Так Жалька поняла, что вода бывает в жидком и твёрдо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ределение границ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читайте. Определите границы предлож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 реке плывёт лодка. И пл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огда деревья качали ветвями. Они тихо поскрип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Бобры перегородили протоку среди леса появилось красивое озе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ff"/>
                </a:solidFill>
                <a:latin typeface="Arial"/>
              </a:rPr>
              <a:t>Задания на срав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выполнения таких задан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научиться решать грамматические (орфографические и синтаксические) задачи по предмету и развитие аналитического мышления, коммуникативных способ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йдите общие и различные черты у выделенных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одяной, я водяной. Никто не водится со мной. Внутри меня вод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-ться, -ца)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то с таким води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-ться, -ц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читайте.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Сравни слова как части речи и части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адание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уществительное, корень, прилагательное, окончание, глагол, приставка, предлог, суффикс, местоим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дной строчке выпиши слова, 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означают части реч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на другой строчке - слова, которы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означают части сл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еники, решая эту задачу, выбирают правильный вариант написания слов, обосновывая свои суждения. При этом идут сравнение морфологического состава выделенных слов, анализ их с точки зрения фонетики и орфографии, наличия морфологических признаков и определение принадлежности слов к той или иной части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процессе выполнения задания формируются умения высказывать свое мнение и понимать чужое, искать позиции, объединяющие обе точки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792000"/>
          </a:xfrm>
          <a:prstGeom prst="rect">
            <a:avLst/>
          </a:prstGeom>
          <a:solidFill>
            <a:srgbClr val="a7eff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Группир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ель таких заданий состо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совершенствовании орфографической грамотности учеников и развитии умения устанавливать причинно-следственные связи между отдельными языковыми явлениями, находить обобщен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группируйте слова по определенному признаку. Предложите несколько вариантов группир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ядя, зевака, прадедушка, тетя, недоучка, плакса, прабабушка, сластена, старушка, зубр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результате предложенные слова групп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 наличию звонких, глухих согласных в начале сло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родам (существительные общего рода, мужского и женског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наличию орф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оличеству сл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16:22:15Z</dcterms:created>
  <dc:creator>админ</dc:creator>
  <dc:description/>
  <dc:language>en-US</dc:language>
  <cp:lastModifiedBy>админ</cp:lastModifiedBy>
  <dcterms:modified xsi:type="dcterms:W3CDTF">2018-07-10T13:38:44Z</dcterms:modified>
  <cp:revision>33</cp:revision>
  <dc:subject/>
  <dc:title>   Методы и приемы обучения коммуникативной деятельности учащихся  6 - 7 классов </dc:title>
</cp:coreProperties>
</file>