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CC6-791E-4D60-8A1E-3FD62567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AD1-EAAC-4BCC-8868-DB53C196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1AB-6872-4E8A-A90C-9F25CDD1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BEC-7A08-4A39-AC03-2ED989D8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9F9-5902-40E5-BE39-6B5826BC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F0D-5C44-4281-9A63-4B7928E3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208-D92F-477D-8D3C-5E69CE8A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B85-EE5C-4C1B-90D2-52FAFEE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EE5-4DD2-4B69-AE91-D110E49D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E3D-1385-4C1B-BD9A-A07BC1FB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BF1-8284-494A-B3C0-ED4A71A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802-D496-49C4-881A-34403F2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A737-CCC9-4926-9497-74DAC91C6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84692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етоды и приемы обучения коммуникативной деятельности учащихся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 - 7 класс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876640"/>
            <a:ext cx="6616800" cy="57636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БОУ «СШ №6» 10.11. 20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адание 2. Сгруппируйте слова по нескольким признакам одноврем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якиш_, плач_, молодеж_, приемыш, теч_, малыш_, брош_, кирпич_, царевич_, экипаж_, суш_, роскош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арианты выполнения задания, в которых ученики предлагают сгруппировать слова по трем признакам одновремен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по написанию (существительные с ь и без 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по родам (существительные мужского и женского род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по склонениям (существительные 2-го и 3-го склон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3324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уппировка как процесс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им образом, группировка протекает как процесс анализа, абстрагирования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отвлечения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обобщения, что развивает творческие способности школьников. По тому, как осуществляются группировки, можно судить не только о характере мыслительных процессов ученик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анализирующее наблюдение, обобщающее мышление и практические действия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но и о тех знаниях, которыми он оперир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85068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Задания на обобщ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Цель таких упражн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остоит в осмыслении понятия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«предмет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на грамматическом уровне, обобщении знаний на основе исследуемых объектов, в развитии уровня аналитико-синтети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пределите общее значение сгруппированных слов в каждой строчке и запишите обобщающе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рабрость, свежесть, широта, кривизна, глушь - ?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призна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одьба, просьба, стирка, чтение, работа - ?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процес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Задания на обоб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Как бы вы сказали одним словом о человеке: необщительный, скрытный, трудно сближающийся с другими людьми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Замкну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Замените одним словом: порицать, считать кого-либо неправым, несправедливым, виновным в чем-либо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 Осуждать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я такого характера обогащают словарный запас учащихся, конкретизируют абстрактное значение части речи, помогают ученикам осмыслить понятие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«предмет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же не на уровне бытовом, житейском, а на более высоком - грамматическом уро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122400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Задания на исключение лишнег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 предлагаемых вариантов зада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остоит в усвоении учащимися большого объема знаний языкового материала на основе установления связей между отдельными его элементами, явлениями, в развитии поэтапных операционных умений переноса знаний в другие области и построения доказательных монологических высказы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ика проведения такого вида задания общеизвестна. Но, в отличие от традиционной методики,  она имеет свои особенности: ученикам предлагается такой подбор слов, при котором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«лишним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может быть любое слово из четырех предложе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40464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з данного списка слов найдите четвертое лишне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на, клен, ясень, топ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арианты ответов учащих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с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хвойное дерево, остальные - ли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л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1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Ясен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начало - на гласную букву, у остальных - на согласную бу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лен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лово без орфограммы, у остальных - орфограмма «Безударная гласная в кор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с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существительное женского рода, остальные - мужск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с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уществительное 1-го склонения, остальные - 2-го скло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ченикам предлагается цепочка слов, в процессе работы надо исключать из нее постепенно по одному сло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956720" y="620640"/>
            <a:ext cx="742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сключите из цепочки лишние слова по какому-либо признаку так, чтобы в ней осталось только одно слово. Причину исключения каждого слова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лонны, костюм, рожь, объединить, какао, ш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арианты ответов учени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бъедини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это глагол, остальные - существи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акао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есклоняемое существительное среди существительных, другие - склоняе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лон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уществительное мн. ч., остальные - ед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стю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уществительное мужского рода, остальные - жен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ож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существительное 3-го склонения, школа - существительное 1-го скло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Arial"/>
              </a:rPr>
              <a:t>Задания на обобщ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и задания служат успешному усвоению знаний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 развитию монологической речи и мышления учащихся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ни создают благоприятные условия для выявления учеником связей грамматического и орфографического материала в процессе применения знаний в новых условиях: в условиях непривычной формулировки задания, оперирования новым языковым материалом, на который должен быть осуществлён перенос знаний, в условиях, требующих сделать самостоятельный вывод, обоб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. Учебная лингвистическая задач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 выполнения таких зада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остоит в освоении теоретического языкового материала на высоком уровне трудности с соблюдением меры трудности, в развитии умения последующего практического применения теории при анализе языковых явлений, а также в повышении речевой активности на основе сравнения, анализа и синтеза при описании изучаемого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 какой части речи относится выделенное слово?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Докажите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Спишите, расставляя знаки препинания в диалоге. Что создает комический эффект (почему смешно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овой! Который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й ваше благородь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вно 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а с полтора ваше благород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тимулирующ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ем предлагается выполнить стимулирующее задание, оцениваются результаты операций, поощряются правильные решения, анализируются ошибки. Если в структуре запрограммирован поэтапный контроль, то проанализировать выполнение, не допустив при этом ошибок, смогут и сами ученики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 этой целью им предлагается карточка №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рточка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Часовой - имя существительное, потому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 ...; 2) ...; 3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рточки самоконтрол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щие решение одного действия, готовятся заранее для каждого ученика. Ученик, который не смог выполнить первое действие, обращается самостоятельно к карточ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и с её помощью овладевает необходимым операционным ум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179280" y="136368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а) Неправильная мотивация на обучение в школе: </a:t>
            </a: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отбывание, уступка родителям, получение аттестата без усилий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б) разноуровневость  и беспорядочность знаний  учащихся в каждом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) психологические  особенности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г) проблемы с посещаемостью 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д)  длительный перерыв в обучении и пробелы в знаниях с начальной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е) надежды на освоение наук только в стенах шк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(  без поддержки в домашних условия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33360"/>
            <a:ext cx="8351640" cy="1008000"/>
          </a:xfrm>
          <a:prstGeom prst="rect">
            <a:avLst/>
          </a:prstGeom>
          <a:solidFill>
            <a:srgbClr val="85f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блемы формирования ключев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мпетенций у обучающихся 6 – 7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рточка № 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о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мя существительное, потому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ет предмет (кто?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мужскому роду, имеет морфологические призна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ется об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 смешно? Чем вызван комический эффек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едует ответ учеников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Такую же форму имеет прилагатель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ов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-ая, -ое), оно обозначает признак (какой?), изменяется по родам: часовой механизм, часовая фабрика, часовое устройство; в предложении выступает как определение»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мя существительное образовалось из имени прилагательн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обозначает человека, стоящего на часах (т.е. на пост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Давно ли?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жно понять двояко: как уточняющий врем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первый час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как относящийся к времени пребывания на посту часового. Спрашивающий имеет в виду первое, а отвечающий - второе. Этим вызван комический эфф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тимулирующ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апное решение этой задачи формирует у школьников умение  сопоставлять части речи, их морфологические признаки, использовать внутрипредметные связи для доказательства и самоконтроля. В основе этого задания -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емы сравнения, анализа и синтез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пособствующие развитию умения делать умозаключения, выявлять черты сходства и различия в изучаемых явл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ерминолог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т диктант  способствует обогащению  словарного запаса учащихся и усвоению литературных норм произношения слов. Так, на уроке на тему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Лексическое значение слова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могут быть предложены следующие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торы из пластинок, навешиваемые на окн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жалюз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итанность, глубокие познания человека в какой-либо области наук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эруди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ойной лист бумаги, соединяющий крышку переплета с самой книжкой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форзац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окупность наук, изучающих культуру народа, выраженную в языке и литературном творчеств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филология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Заключ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им образом, целенаправленное обучение связной речи в устной и письменной форме проводится в виде различных упражнений. Большое значение имеют синтаксические упражнения, аналитическая работа с различными текстами, их составление и обсуждение, выработка композиционных 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3324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096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оме уроков развития речи, работу над созданием речевых произведений учащихся следует проводить системат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адиционная методика не направлена на формирование коммуникативной потребности, мотивацию к овладению и пользованию разнообразными речевыми средствами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ети  знают o них, но не умеют использовать в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новационные методики совмещают виды работ, формирующих коммуникативные компетенции (требование анализа, сравнения явлений, обоснование, аргументирование, обобщ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чь - это сложнейшая человеческая деятельность, это творческая деятельность, включающая в себя умение наблюдать, мыслить, фантазировать, а также слушать и слышать; прежде всего выучивается говорить тот, кому есть что сказать, поэтому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обходимо учить детей не техническому оформлению высказываний, а речевому мышлению, речевому творчеству, а также адекватному восприятию чуж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новационные методики делают уроки русского языка интереснее, ярче. Самостоятельный поиск решения, активная мыслительная деятельность способствуют повышению эффективности учеб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дача, которая стоит перед учите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ьная организация уроков с использованием инновационных технологий требует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чтобы каждый ребенок был занят решением посильной для него задачи, так как при этом условии можно поддержать у него интерес к учению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оэтому перед учителем стоит задача: видеть в уроке не только учебно-воспитательную проблему, но и определить пути разрешения этой проблемы применительно к каждому ребенку.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ифференцированный подход необходим на всех этапах усвоения знаний и ум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86364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спользование новых техноло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ие новых технологий на уроке русского языка, уроке развития речи позволяет активизировать познавательные интересы учащихся, контролировать деятельность каждого, увеличить темп работы, решить сразу несколько задач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зучить новый материал, закрепить, выполняя практическую работу, включающую разные виды упражнений, углубить знания, провести контроль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ие инновационных технологий на уроках русского языка показало, что меняется отношение учащихся к предмету, ребята не боятся проявлять свою инициативу в решении предлагаемых заданий, высказывать свое собственное мнение, стремятся овладеть программным материалом на более высоком уровне, чтобы справиться с зада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43280" y="1125000"/>
            <a:ext cx="5843520" cy="500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ким образом, использование инновационных методик на уроках русского языка позволяет учащимся не только получать новые знания, создавать речевые произведения различных жанров, но и чувствовать собственную ответственность за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2173320" cy="217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V="1">
            <a:off x="2627280" y="1844280"/>
            <a:ext cx="93672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 - 7 класса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продолжается работа над заложенными ранее умениями и в то же время начинается  работа над некоторыми новыми разновидностями коммуникативных навыков. В этот период усиливается внимание к компонентам речевой ситуации и к речевым жанр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solidFill>
            <a:srgbClr val="a7eff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 Виды упражнений на уроках русского языка при обучении связной речи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6 -7 кла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ое значение на всех этапах обучения имеет развитие речи. Разнообразие тематики бесед, характера картин и наглядных материалов служит важным условием того, чтобы дети использовали широкий круг слов и речевых обор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сстановление деформированног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з данных предложений составь рассказ, запиш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а собрала тонкие ве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я шла из школы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школьном саду обрезали дере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ро заблестели зелёные лис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ма девочка поставила их в вод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 Виды упражнений на уроках русского языка при обучении связ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075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тавление предложений из данных слов с добавлением любых других слов: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негурочка сочинение пис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чинение на тем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"Что бы я рассказал турецкому мальчику о зиме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ставление аннотации художественного произведения или научно-популярной стат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ставление конспекта научно-популярной стат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исьмо по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красных лапках гусь тяжёл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умав плыть по лону в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упает бережно на лё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льзит и падает; весё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ькает, вьётся первый сне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ездами падая на брег. (А. Пушк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08720" y="4149720"/>
            <a:ext cx="110196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a7eff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читайте текст. Замените повторяющиеся слова синонимами. Запишите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умная из моих собак - это Жалька. Жалька всё ученье прошла, как будто её родители всему Жальку научили. Жалька играла со льдинкой. Вдруг Жальке что-то показалось и Жалька эту льдинку не подбросила, а лизнула. Так Жалька поняла, что вода бывает в жидком и твёрдом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ределение границ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читайте. Определите границы предложе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 реке плывёт лодка. И п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огда деревья качали ветвями. Они тихо поскрип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Бобры перегородили протоку среди леса появилось красивое озе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a7eff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Arial"/>
              </a:rPr>
              <a:t>Задания на 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 выполнения таких задан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научиться решать грамматические (орфографические и синтаксические) задачи по предмету и развитие аналитического мышления, коммуникативных способ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йдите общие и различные черты у выделенн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водяной, я водяной. Никто не водится со мной. Внутри меня вод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-ться, -ца)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что с таким вод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-ться, -ц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читайте.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Сравни слова как части речи и части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дание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уществительное, корень, прилагательное, окончание, глагол, приставка, предлог, суффикс, местоим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дной строчке выпиши слова, которы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бозначают части реч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на другой строчке - слова, которы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бозначают части сло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ники, решая эту задачу, выбирают правильный вариант написания слов, обосновывая свои суждения. При этом идут сравнение морфологического состава выделенных слов, анализ их с точки зрения фонетики и орфографии, наличия морфологических признаков и определение принадлежности слов к той или иной части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процессе выполнения задания формируются умения высказывать свое мнение и понимать чужое, искать позиции, объединяющие обе точки 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792000"/>
          </a:xfrm>
          <a:prstGeom prst="rect">
            <a:avLst/>
          </a:prstGeom>
          <a:solidFill>
            <a:srgbClr val="a7eff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Группиров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 таких заданий состои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совершенствовании орфографической грамотности учеников и развитии умения устанавливать причинно-следственные связи между отдельными языковыми явлениями, находить обобщенн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группируйте слова по определенному признаку. Предложите несколько вариантов группир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ядя, зевака, прадедушка, тетя, недоучка, плакса, прабабушка, сластена, старушка, зубр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результате предложенные слова группир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 наличию звонких, глухих согласных в начале сл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родам (существительные общего рода, мужского и женског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наличию орф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оличеству с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8T16:22:15Z</dcterms:created>
  <dc:creator>админ</dc:creator>
  <dc:description/>
  <dc:language>en-US</dc:language>
  <cp:lastModifiedBy>админ</cp:lastModifiedBy>
  <dcterms:modified xsi:type="dcterms:W3CDTF">2018-07-10T13:38:44Z</dcterms:modified>
  <cp:revision>33</cp:revision>
  <dc:subject/>
  <dc:title>   Методы и приемы обучения коммуникативной деятельности учащихся  6 - 7 классов </dc:title>
</cp:coreProperties>
</file>