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631B-94F6-49A2-B869-B06AE4429D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AF25-0D7B-4019-9D53-6A3CFE2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E192-77AA-4650-A527-2C8185D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AB23-FA4C-40DD-8E63-5216D89CB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2C3C1-81D1-471E-89F4-BD9A02CC5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DFDB6-583C-4F46-B486-C0B28C24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ED451-F5FA-48E6-AADE-146D829F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0485C-DA20-4630-AE7B-B92E2719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93D3C-6F9C-424A-8F63-F2C62F39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B1F71-F82E-4148-B790-C55673DF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693FD-7C98-4F0B-97AF-639627D3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D6BE-0A4B-409E-BBEE-779C342E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CE2C8-79A7-4AA1-BDA3-56A353CF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DCB66-2BE8-4C70-966C-DF9E939C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837BB-74D5-4040-9071-7B73393F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81E19-308A-45DC-8894-A94D736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F5C3-E53D-43FB-A0D2-FE83681E2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1CAB-D6AD-4269-AECF-690750B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9491-A797-45D5-B521-FF33FA3F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56CD-826E-441A-8D22-8DEE9942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6D12-B5FD-4155-9180-613E264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26C6-2F17-4381-A881-306D615C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1CF1-AC45-439A-A761-3D64A84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1B21-00B5-4C23-AA4D-99D6FE9F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D4EA81-F7C9-4607-92C9-EC6710A851B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.6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88B396D-5993-46A5-AABF-90F8777696F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13000"/>
            <a:ext cx="914400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овательная ситуац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речевого творчества средством придумывания сказок по ана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 рассказ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ческий рассказ на основе воображения 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овые технологии (лэпбу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3360"/>
            <a:ext cx="9144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тие речев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1979640" y="3429000"/>
            <a:ext cx="1293840" cy="971640"/>
            <a:chOff x="1979640" y="3429000"/>
            <a:chExt cx="1293840" cy="97164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1979640" y="3429000"/>
              <a:ext cx="12938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979640" y="3645000"/>
              <a:ext cx="12222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Щу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2360" y="3429000"/>
            <a:ext cx="1293840" cy="971640"/>
            <a:chOff x="252360" y="3429000"/>
            <a:chExt cx="1293840" cy="97164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252360" y="3429000"/>
              <a:ext cx="12938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52360" y="3645000"/>
              <a:ext cx="122256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олотая рыб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640" y="1557360"/>
            <a:ext cx="2349720" cy="1641600"/>
            <a:chOff x="539640" y="1557360"/>
            <a:chExt cx="2349720" cy="1641600"/>
          </a:xfrm>
        </p:grpSpPr>
        <p:pic>
          <p:nvPicPr>
            <p:cNvPr id="94" name="" descr=""/>
            <p:cNvPicPr/>
            <p:nvPr/>
          </p:nvPicPr>
          <p:blipFill>
            <a:blip r:embed="rId5"/>
            <a:stretch/>
          </p:blipFill>
          <p:spPr>
            <a:xfrm>
              <a:off x="539640" y="1557360"/>
              <a:ext cx="234972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49440" y="2119320"/>
              <a:ext cx="21589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аревна лягу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156360" y="1557360"/>
            <a:ext cx="2349360" cy="1641600"/>
            <a:chOff x="6156360" y="1557360"/>
            <a:chExt cx="2349360" cy="1641600"/>
          </a:xfrm>
        </p:grpSpPr>
        <p:pic>
          <p:nvPicPr>
            <p:cNvPr id="97" name="" descr=""/>
            <p:cNvPicPr/>
            <p:nvPr/>
          </p:nvPicPr>
          <p:blipFill>
            <a:blip r:embed="rId6"/>
            <a:stretch/>
          </p:blipFill>
          <p:spPr>
            <a:xfrm>
              <a:off x="6156360" y="1557360"/>
              <a:ext cx="234936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00720" y="2133720"/>
              <a:ext cx="215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т в сапог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708360" y="1628640"/>
            <a:ext cx="1511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569880" y="1557360"/>
            <a:ext cx="2317680" cy="1619280"/>
            <a:chOff x="569880" y="1557360"/>
            <a:chExt cx="2317680" cy="1619280"/>
          </a:xfrm>
        </p:grpSpPr>
        <p:grpSp>
          <p:nvGrpSpPr>
            <p:cNvPr id="101" name=""/>
            <p:cNvGrpSpPr/>
            <p:nvPr/>
          </p:nvGrpSpPr>
          <p:grpSpPr>
            <a:xfrm>
              <a:off x="569880" y="1557360"/>
              <a:ext cx="2317680" cy="1619280"/>
              <a:chOff x="569880" y="1557360"/>
              <a:chExt cx="2317680" cy="1619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9880" y="1557360"/>
                <a:ext cx="2317680" cy="16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433520" y="1700280"/>
                <a:ext cx="501480" cy="13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8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858960" y="249228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52360" y="3429000"/>
            <a:ext cx="1293840" cy="971640"/>
            <a:chOff x="252360" y="3429000"/>
            <a:chExt cx="1293840" cy="971640"/>
          </a:xfrm>
        </p:grpSpPr>
        <p:grpSp>
          <p:nvGrpSpPr>
            <p:cNvPr id="106" name=""/>
            <p:cNvGrpSpPr/>
            <p:nvPr/>
          </p:nvGrpSpPr>
          <p:grpSpPr>
            <a:xfrm>
              <a:off x="252360" y="3429000"/>
              <a:ext cx="1293840" cy="971640"/>
              <a:chOff x="252360" y="3429000"/>
              <a:chExt cx="1293840" cy="9716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2360" y="342900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684360" y="357336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95280" y="386064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012000" y="3500280"/>
            <a:ext cx="1293840" cy="971640"/>
            <a:chOff x="6012000" y="3500280"/>
            <a:chExt cx="1293840" cy="971640"/>
          </a:xfrm>
        </p:grpSpPr>
        <p:grpSp>
          <p:nvGrpSpPr>
            <p:cNvPr id="111" name=""/>
            <p:cNvGrpSpPr/>
            <p:nvPr/>
          </p:nvGrpSpPr>
          <p:grpSpPr>
            <a:xfrm>
              <a:off x="6012000" y="3500280"/>
              <a:ext cx="1293840" cy="971640"/>
              <a:chOff x="6012000" y="3500280"/>
              <a:chExt cx="1293840" cy="9716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12000" y="350028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443640" y="364500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56360" y="393228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56360" y="1557360"/>
            <a:ext cx="2317680" cy="1619280"/>
            <a:chOff x="6156360" y="1557360"/>
            <a:chExt cx="2317680" cy="1619280"/>
          </a:xfrm>
        </p:grpSpPr>
        <p:grpSp>
          <p:nvGrpSpPr>
            <p:cNvPr id="116" name=""/>
            <p:cNvGrpSpPr/>
            <p:nvPr/>
          </p:nvGrpSpPr>
          <p:grpSpPr>
            <a:xfrm>
              <a:off x="6156360" y="1557360"/>
              <a:ext cx="2317680" cy="1619280"/>
              <a:chOff x="6156360" y="1557360"/>
              <a:chExt cx="2317680" cy="16192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156360" y="1557360"/>
                <a:ext cx="2317680" cy="161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7093080" y="1700280"/>
                <a:ext cx="501480" cy="13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8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372360" y="263700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79640" y="3429000"/>
            <a:ext cx="1293840" cy="971640"/>
            <a:chOff x="1979640" y="3429000"/>
            <a:chExt cx="1293840" cy="971640"/>
          </a:xfrm>
        </p:grpSpPr>
        <p:grpSp>
          <p:nvGrpSpPr>
            <p:cNvPr id="121" name=""/>
            <p:cNvGrpSpPr/>
            <p:nvPr/>
          </p:nvGrpSpPr>
          <p:grpSpPr>
            <a:xfrm>
              <a:off x="1979640" y="3429000"/>
              <a:ext cx="1293840" cy="971640"/>
              <a:chOff x="1979640" y="3429000"/>
              <a:chExt cx="1293840" cy="97164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979640" y="342900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2411280" y="357336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124000" y="386064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667640" y="3500280"/>
            <a:ext cx="1293840" cy="971640"/>
            <a:chOff x="7667640" y="3500280"/>
            <a:chExt cx="1293840" cy="971640"/>
          </a:xfrm>
        </p:grpSpPr>
        <p:grpSp>
          <p:nvGrpSpPr>
            <p:cNvPr id="126" name=""/>
            <p:cNvGrpSpPr/>
            <p:nvPr/>
          </p:nvGrpSpPr>
          <p:grpSpPr>
            <a:xfrm>
              <a:off x="7667640" y="3500280"/>
              <a:ext cx="1293840" cy="971640"/>
              <a:chOff x="7667640" y="3500280"/>
              <a:chExt cx="1293840" cy="971640"/>
            </a:xfrm>
          </p:grpSpPr>
          <p:pic>
            <p:nvPicPr>
              <p:cNvPr id="12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67640" y="3500280"/>
                <a:ext cx="12938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101080" y="3645000"/>
                <a:ext cx="43020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812000" y="3932280"/>
              <a:ext cx="4302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800" spc="-1" strike="noStrike">
                  <a:solidFill>
                    <a:srgbClr val="0070c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211640" y="1844640"/>
            <a:ext cx="647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69880" y="1557360"/>
            <a:ext cx="2319480" cy="162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7720" y="2104920"/>
            <a:ext cx="2016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казка «По щучьему велен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51640" y="1557360"/>
            <a:ext cx="231912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704920" y="2151000"/>
            <a:ext cx="2256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казка о рыбаке и рыбк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419640" y="167652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16360" y="1996920"/>
            <a:ext cx="1008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реча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419640" y="2933640"/>
            <a:ext cx="1800000" cy="1257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726000" y="3378240"/>
            <a:ext cx="1187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б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3419640" y="419112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83160" y="4343400"/>
            <a:ext cx="1187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лотая щ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общих жел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3419640" y="5450040"/>
            <a:ext cx="1800000" cy="1257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8560" y="5892840"/>
            <a:ext cx="935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151000"/>
            <a:ext cx="432000" cy="308160"/>
          </a:xfrm>
          <a:prstGeom prst="leftArrow">
            <a:avLst>
              <a:gd name="adj1" fmla="val 50000"/>
              <a:gd name="adj2" fmla="val 35047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8960" y="2151000"/>
            <a:ext cx="457200" cy="352440"/>
          </a:xfrm>
          <a:prstGeom prst="rightArrow">
            <a:avLst>
              <a:gd name="adj1" fmla="val 50000"/>
              <a:gd name="adj2" fmla="val 32431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36920" y="1698480"/>
            <a:ext cx="1798560" cy="1255680"/>
            <a:chOff x="3436920" y="1698480"/>
            <a:chExt cx="1798560" cy="1255680"/>
          </a:xfrm>
        </p:grpSpPr>
        <p:pic>
          <p:nvPicPr>
            <p:cNvPr id="149" name="" descr=""/>
            <p:cNvPicPr/>
            <p:nvPr/>
          </p:nvPicPr>
          <p:blipFill>
            <a:blip r:embed="rId9"/>
            <a:stretch/>
          </p:blipFill>
          <p:spPr>
            <a:xfrm>
              <a:off x="3436920" y="1698480"/>
              <a:ext cx="1798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084560" y="191772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419640" y="2903400"/>
            <a:ext cx="1798560" cy="1255680"/>
            <a:chOff x="3419640" y="2903400"/>
            <a:chExt cx="1798560" cy="1255680"/>
          </a:xfrm>
        </p:grpSpPr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3419640" y="2903400"/>
              <a:ext cx="1798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67280" y="312264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103640" y="2631960"/>
            <a:ext cx="43200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6920" y="4191120"/>
            <a:ext cx="1798560" cy="1255680"/>
            <a:chOff x="3436920" y="4191120"/>
            <a:chExt cx="1798560" cy="1255680"/>
          </a:xfrm>
        </p:grpSpPr>
        <p:pic>
          <p:nvPicPr>
            <p:cNvPr id="156" name="" descr=""/>
            <p:cNvPicPr/>
            <p:nvPr/>
          </p:nvPicPr>
          <p:blipFill>
            <a:blip r:embed="rId11"/>
            <a:stretch/>
          </p:blipFill>
          <p:spPr>
            <a:xfrm>
              <a:off x="3436920" y="4191120"/>
              <a:ext cx="17985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084560" y="441000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121280" y="397836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419640" y="5460840"/>
            <a:ext cx="1798560" cy="1256040"/>
            <a:chOff x="3419640" y="5460840"/>
            <a:chExt cx="1798560" cy="1256040"/>
          </a:xfrm>
        </p:grpSpPr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3419640" y="5460840"/>
              <a:ext cx="179856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067280" y="5680080"/>
              <a:ext cx="40320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140360" y="529740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665520" y="1339920"/>
            <a:ext cx="1944720" cy="1357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252360" y="278136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3781440" y="2781360"/>
            <a:ext cx="1741320" cy="1216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862680" y="278136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252360" y="397512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767040" y="3997440"/>
            <a:ext cx="1741680" cy="121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6900840" y="3975120"/>
            <a:ext cx="1741680" cy="121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4840" y="3081240"/>
            <a:ext cx="1295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земное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54480" y="1819440"/>
            <a:ext cx="779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л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71880" y="3065400"/>
            <a:ext cx="1360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одное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21520" y="3049560"/>
            <a:ext cx="12240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бесное ц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83120" y="4191120"/>
            <a:ext cx="1079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а кло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а ш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ьмин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блем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2627280" y="523404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4024440" y="522756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5435640" y="5234040"/>
            <a:ext cx="1225440" cy="85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43200" y="5506920"/>
            <a:ext cx="9954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йд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33880" y="5508720"/>
            <a:ext cx="1008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45080" y="5400720"/>
            <a:ext cx="1008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ой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3"/>
          <a:stretch/>
        </p:blipFill>
        <p:spPr>
          <a:xfrm>
            <a:off x="5040360" y="204156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5033880" y="457524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5"/>
          <a:stretch/>
        </p:blipFill>
        <p:spPr>
          <a:xfrm>
            <a:off x="4122720" y="6075360"/>
            <a:ext cx="1028880" cy="719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133880" y="6249960"/>
            <a:ext cx="934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6480" y="378468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18240" y="3784680"/>
            <a:ext cx="43200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920" y="351144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67120" y="354348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351144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570564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2480" y="565632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62640" y="566892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rcRect l="0" t="21571" r="3844" b="0"/>
            <a:stretch/>
          </p:blipFill>
          <p:spPr>
            <a:xfrm>
              <a:off x="0" y="1285920"/>
              <a:ext cx="9142560" cy="55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rcRect l="1538" t="0" r="3862" b="0"/>
            <a:stretch/>
          </p:blipFill>
          <p:spPr>
            <a:xfrm>
              <a:off x="0" y="0"/>
              <a:ext cx="9142560" cy="13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665520" y="1339920"/>
            <a:ext cx="1944720" cy="1357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е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781440" y="2781360"/>
            <a:ext cx="1741320" cy="1216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1008000"/>
            <a:ext cx="1741320" cy="1216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ка «Пиноки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767040" y="3997440"/>
            <a:ext cx="1741680" cy="121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35760" y="1447920"/>
            <a:ext cx="1741320" cy="1216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ка «Бурати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олотой ключ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4840" y="3081240"/>
            <a:ext cx="129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54480" y="1819440"/>
            <a:ext cx="779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71880" y="3065400"/>
            <a:ext cx="1360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ий друз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83120" y="4319640"/>
            <a:ext cx="107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ий вр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2627280" y="523404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4024440" y="5227560"/>
            <a:ext cx="1225440" cy="855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435640" y="5234040"/>
            <a:ext cx="1225440" cy="855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743200" y="5400720"/>
            <a:ext cx="9954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т-бараб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33880" y="5388120"/>
            <a:ext cx="1008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са-караб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45080" y="5400720"/>
            <a:ext cx="100800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вой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1"/>
          <a:stretch/>
        </p:blipFill>
        <p:spPr>
          <a:xfrm>
            <a:off x="5033880" y="457524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2"/>
          <a:stretch/>
        </p:blipFill>
        <p:spPr>
          <a:xfrm>
            <a:off x="4122720" y="6075360"/>
            <a:ext cx="102888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33880" y="6249960"/>
            <a:ext cx="9349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92720" y="252576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920" y="3511440"/>
            <a:ext cx="43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67120" y="35434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3511440"/>
            <a:ext cx="43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570564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92480" y="5656320"/>
            <a:ext cx="432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62640" y="5668920"/>
            <a:ext cx="431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365720" y="1600200"/>
            <a:ext cx="434880" cy="965160"/>
            <a:chOff x="4365720" y="1600200"/>
            <a:chExt cx="434880" cy="965160"/>
          </a:xfrm>
        </p:grpSpPr>
        <p:sp>
          <p:nvSpPr>
            <p:cNvPr id="225" name=""/>
            <p:cNvSpPr/>
            <p:nvPr/>
          </p:nvSpPr>
          <p:spPr>
            <a:xfrm>
              <a:off x="4365720" y="1600200"/>
              <a:ext cx="4348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392720" y="3822840"/>
            <a:ext cx="431640" cy="425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92720" y="496260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92720" y="5910120"/>
            <a:ext cx="431640" cy="425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6e6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