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4ED99-9370-4C9E-8F00-53FC1174DC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AFF8D-E00A-4491-8EEE-BD6377BB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6691C-9727-4E04-B9B3-37645767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14A26-49E0-4243-8796-FFE1C54C64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F02D2A-ED06-4549-8ADA-F281EFDA02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281D3-6373-4466-9CA3-C9332CD2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AC182F-D960-452B-96F6-BDA27F17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38DB30-ADEC-46E3-8824-F2FFBB28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41B06-C996-49B5-B7B8-28F5DB739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7320A-EB76-4308-A7DD-601AFD4FC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F3F938-14F0-42ED-BFB2-2D83536F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AD889-CB65-416D-8BF2-6F8204CF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884AAA-4ABE-4539-94B2-C8DA4CAD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A80B94-759D-40BD-B06A-89E6DF07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1D32EF-FFB5-4EB2-890E-16816CA6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AC0633-5C38-41F1-AC98-F5051BAD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75F25A-F074-4A14-896C-E6D41D1127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2228A-2BFE-499D-8698-83E73536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5D758-4D1E-44A9-A339-9CA89C51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8CC48-F842-47FC-A69C-CCBE812E1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15051-FA2D-4C89-AE4E-284A8C392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1BA6E-432D-445A-AFF7-F7295A75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48EFF-BE3F-4B64-9806-FB167EB2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F3B65-A6B6-4054-AF88-E236D157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3.6.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91955BF-E29F-4E02-B156-BDC252548B86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3.6.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90E3FD8-57AE-4E0A-9BF4-20014566616B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413000"/>
            <a:ext cx="9144000" cy="27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зовательная ситуация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тие речевого творчества средством придумывания сказок по ана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ид рассказа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ворческий рассказ на основе воображения </a:t>
            </a:r>
            <a:br>
              <a:rPr sz="20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тод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гровые технологии (лэпбу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33360"/>
            <a:ext cx="914400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звитие речевого твор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pic>
          <p:nvPicPr>
            <p:cNvPr id="85" name="" descr=""/>
            <p:cNvPicPr/>
            <p:nvPr/>
          </p:nvPicPr>
          <p:blipFill>
            <a:blip r:embed="rId1"/>
            <a:srcRect l="0" t="21571" r="3844" b="0"/>
            <a:stretch/>
          </p:blipFill>
          <p:spPr>
            <a:xfrm>
              <a:off x="0" y="1285920"/>
              <a:ext cx="9142560" cy="557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rcRect l="1538" t="0" r="3862" b="0"/>
            <a:stretch/>
          </p:blipFill>
          <p:spPr>
            <a:xfrm>
              <a:off x="0" y="0"/>
              <a:ext cx="9142560" cy="136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" name=""/>
          <p:cNvGrpSpPr/>
          <p:nvPr/>
        </p:nvGrpSpPr>
        <p:grpSpPr>
          <a:xfrm>
            <a:off x="1979640" y="3429000"/>
            <a:ext cx="1293840" cy="971640"/>
            <a:chOff x="1979640" y="3429000"/>
            <a:chExt cx="1293840" cy="971640"/>
          </a:xfrm>
        </p:grpSpPr>
        <p:pic>
          <p:nvPicPr>
            <p:cNvPr id="88" name="" descr=""/>
            <p:cNvPicPr/>
            <p:nvPr/>
          </p:nvPicPr>
          <p:blipFill>
            <a:blip r:embed="rId3"/>
            <a:stretch/>
          </p:blipFill>
          <p:spPr>
            <a:xfrm>
              <a:off x="1979640" y="3429000"/>
              <a:ext cx="1293840" cy="9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1979640" y="3645000"/>
              <a:ext cx="122220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Щу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252360" y="3429000"/>
            <a:ext cx="1293840" cy="971640"/>
            <a:chOff x="252360" y="3429000"/>
            <a:chExt cx="1293840" cy="971640"/>
          </a:xfrm>
        </p:grpSpPr>
        <p:pic>
          <p:nvPicPr>
            <p:cNvPr id="91" name="" descr=""/>
            <p:cNvPicPr/>
            <p:nvPr/>
          </p:nvPicPr>
          <p:blipFill>
            <a:blip r:embed="rId4"/>
            <a:stretch/>
          </p:blipFill>
          <p:spPr>
            <a:xfrm>
              <a:off x="252360" y="3429000"/>
              <a:ext cx="1293840" cy="9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252360" y="3645000"/>
              <a:ext cx="1222560" cy="5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Золотая рыб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39640" y="1557360"/>
            <a:ext cx="2349720" cy="1641600"/>
            <a:chOff x="539640" y="1557360"/>
            <a:chExt cx="2349720" cy="1641600"/>
          </a:xfrm>
        </p:grpSpPr>
        <p:pic>
          <p:nvPicPr>
            <p:cNvPr id="94" name="" descr=""/>
            <p:cNvPicPr/>
            <p:nvPr/>
          </p:nvPicPr>
          <p:blipFill>
            <a:blip r:embed="rId5"/>
            <a:stretch/>
          </p:blipFill>
          <p:spPr>
            <a:xfrm>
              <a:off x="539640" y="1557360"/>
              <a:ext cx="2349720" cy="164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649440" y="2119320"/>
              <a:ext cx="215892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Царевна лягуш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6156360" y="1557360"/>
            <a:ext cx="2349360" cy="1641600"/>
            <a:chOff x="6156360" y="1557360"/>
            <a:chExt cx="2349360" cy="1641600"/>
          </a:xfrm>
        </p:grpSpPr>
        <p:pic>
          <p:nvPicPr>
            <p:cNvPr id="97" name="" descr=""/>
            <p:cNvPicPr/>
            <p:nvPr/>
          </p:nvPicPr>
          <p:blipFill>
            <a:blip r:embed="rId6"/>
            <a:stretch/>
          </p:blipFill>
          <p:spPr>
            <a:xfrm>
              <a:off x="6156360" y="1557360"/>
              <a:ext cx="2349360" cy="164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6300720" y="2133720"/>
              <a:ext cx="2158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Кот в сапога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3708360" y="1628640"/>
            <a:ext cx="1511280" cy="151128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569880" y="1557360"/>
            <a:ext cx="2317680" cy="1619280"/>
            <a:chOff x="569880" y="1557360"/>
            <a:chExt cx="2317680" cy="1619280"/>
          </a:xfrm>
        </p:grpSpPr>
        <p:grpSp>
          <p:nvGrpSpPr>
            <p:cNvPr id="101" name=""/>
            <p:cNvGrpSpPr/>
            <p:nvPr/>
          </p:nvGrpSpPr>
          <p:grpSpPr>
            <a:xfrm>
              <a:off x="569880" y="1557360"/>
              <a:ext cx="2317680" cy="1619280"/>
              <a:chOff x="569880" y="1557360"/>
              <a:chExt cx="2317680" cy="1619280"/>
            </a:xfrm>
          </p:grpSpPr>
          <p:pic>
            <p:nvPicPr>
              <p:cNvPr id="10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69880" y="1557360"/>
                <a:ext cx="2317680" cy="161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>
                <a:off x="1433520" y="1700280"/>
                <a:ext cx="501480" cy="130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ru-RU" sz="80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858960" y="2492280"/>
              <a:ext cx="43020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800" spc="-1" strike="noStrike">
                  <a:solidFill>
                    <a:srgbClr val="0070c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52360" y="3429000"/>
            <a:ext cx="1293840" cy="971640"/>
            <a:chOff x="252360" y="3429000"/>
            <a:chExt cx="1293840" cy="971640"/>
          </a:xfrm>
        </p:grpSpPr>
        <p:grpSp>
          <p:nvGrpSpPr>
            <p:cNvPr id="106" name=""/>
            <p:cNvGrpSpPr/>
            <p:nvPr/>
          </p:nvGrpSpPr>
          <p:grpSpPr>
            <a:xfrm>
              <a:off x="252360" y="3429000"/>
              <a:ext cx="1293840" cy="971640"/>
              <a:chOff x="252360" y="3429000"/>
              <a:chExt cx="1293840" cy="971640"/>
            </a:xfrm>
          </p:grpSpPr>
          <p:pic>
            <p:nvPicPr>
              <p:cNvPr id="107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52360" y="3429000"/>
                <a:ext cx="1293840" cy="97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>
                <a:off x="684360" y="3573360"/>
                <a:ext cx="430200" cy="63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ru-RU" sz="36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395280" y="3860640"/>
              <a:ext cx="43020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800" spc="-1" strike="noStrike">
                  <a:solidFill>
                    <a:srgbClr val="0070c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6012000" y="3500280"/>
            <a:ext cx="1293840" cy="971640"/>
            <a:chOff x="6012000" y="3500280"/>
            <a:chExt cx="1293840" cy="971640"/>
          </a:xfrm>
        </p:grpSpPr>
        <p:grpSp>
          <p:nvGrpSpPr>
            <p:cNvPr id="111" name=""/>
            <p:cNvGrpSpPr/>
            <p:nvPr/>
          </p:nvGrpSpPr>
          <p:grpSpPr>
            <a:xfrm>
              <a:off x="6012000" y="3500280"/>
              <a:ext cx="1293840" cy="971640"/>
              <a:chOff x="6012000" y="3500280"/>
              <a:chExt cx="1293840" cy="971640"/>
            </a:xfrm>
          </p:grpSpPr>
          <p:pic>
            <p:nvPicPr>
              <p:cNvPr id="11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012000" y="3500280"/>
                <a:ext cx="1293840" cy="97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6443640" y="3645000"/>
                <a:ext cx="430200" cy="63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ru-RU" sz="36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156360" y="3932280"/>
              <a:ext cx="43020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800" spc="-1" strike="noStrike">
                  <a:solidFill>
                    <a:srgbClr val="0070c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156360" y="1557360"/>
            <a:ext cx="2317680" cy="1619280"/>
            <a:chOff x="6156360" y="1557360"/>
            <a:chExt cx="2317680" cy="1619280"/>
          </a:xfrm>
        </p:grpSpPr>
        <p:grpSp>
          <p:nvGrpSpPr>
            <p:cNvPr id="116" name=""/>
            <p:cNvGrpSpPr/>
            <p:nvPr/>
          </p:nvGrpSpPr>
          <p:grpSpPr>
            <a:xfrm>
              <a:off x="6156360" y="1557360"/>
              <a:ext cx="2317680" cy="1619280"/>
              <a:chOff x="6156360" y="1557360"/>
              <a:chExt cx="2317680" cy="1619280"/>
            </a:xfrm>
          </p:grpSpPr>
          <p:pic>
            <p:nvPicPr>
              <p:cNvPr id="117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156360" y="1557360"/>
                <a:ext cx="2317680" cy="161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" name=""/>
              <p:cNvSpPr/>
              <p:nvPr/>
            </p:nvSpPr>
            <p:spPr>
              <a:xfrm>
                <a:off x="7093080" y="1700280"/>
                <a:ext cx="501480" cy="130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ru-RU" sz="80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6372360" y="2637000"/>
              <a:ext cx="43020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800" spc="-1" strike="noStrike">
                  <a:solidFill>
                    <a:srgbClr val="0070c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979640" y="3429000"/>
            <a:ext cx="1293840" cy="971640"/>
            <a:chOff x="1979640" y="3429000"/>
            <a:chExt cx="1293840" cy="971640"/>
          </a:xfrm>
        </p:grpSpPr>
        <p:grpSp>
          <p:nvGrpSpPr>
            <p:cNvPr id="121" name=""/>
            <p:cNvGrpSpPr/>
            <p:nvPr/>
          </p:nvGrpSpPr>
          <p:grpSpPr>
            <a:xfrm>
              <a:off x="1979640" y="3429000"/>
              <a:ext cx="1293840" cy="971640"/>
              <a:chOff x="1979640" y="3429000"/>
              <a:chExt cx="1293840" cy="971640"/>
            </a:xfrm>
          </p:grpSpPr>
          <p:pic>
            <p:nvPicPr>
              <p:cNvPr id="12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1979640" y="3429000"/>
                <a:ext cx="1293840" cy="97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"/>
              <p:cNvSpPr/>
              <p:nvPr/>
            </p:nvSpPr>
            <p:spPr>
              <a:xfrm>
                <a:off x="2411280" y="3573360"/>
                <a:ext cx="430200" cy="63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ru-RU" sz="36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2124000" y="3860640"/>
              <a:ext cx="43020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800" spc="-1" strike="noStrike">
                  <a:solidFill>
                    <a:srgbClr val="0070c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7667640" y="3500280"/>
            <a:ext cx="1293840" cy="971640"/>
            <a:chOff x="7667640" y="3500280"/>
            <a:chExt cx="1293840" cy="971640"/>
          </a:xfrm>
        </p:grpSpPr>
        <p:grpSp>
          <p:nvGrpSpPr>
            <p:cNvPr id="126" name=""/>
            <p:cNvGrpSpPr/>
            <p:nvPr/>
          </p:nvGrpSpPr>
          <p:grpSpPr>
            <a:xfrm>
              <a:off x="7667640" y="3500280"/>
              <a:ext cx="1293840" cy="971640"/>
              <a:chOff x="7667640" y="3500280"/>
              <a:chExt cx="1293840" cy="971640"/>
            </a:xfrm>
          </p:grpSpPr>
          <p:pic>
            <p:nvPicPr>
              <p:cNvPr id="127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667640" y="3500280"/>
                <a:ext cx="1293840" cy="97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8101080" y="3645000"/>
                <a:ext cx="430200" cy="63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ru-RU" sz="36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812000" y="3932280"/>
              <a:ext cx="43020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800" spc="-1" strike="noStrike">
                  <a:solidFill>
                    <a:srgbClr val="0070c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4211640" y="1844640"/>
            <a:ext cx="64764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47483648">
                                      <p:cBhvr>
                                        <p:cTn id="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1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47483648">
                                      <p:cBhvr>
                                        <p:cTn id="3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dur="indefinite" fill="hold">
                      <p:stCondLst>
                        <p:cond delay="indefinite"/>
                      </p:stCondLst>
                      <p:childTnLst>
                        <p:par>
                          <p:cTn id="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rcRect l="0" t="21571" r="3844" b="0"/>
            <a:stretch/>
          </p:blipFill>
          <p:spPr>
            <a:xfrm>
              <a:off x="0" y="1285920"/>
              <a:ext cx="9142560" cy="557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2"/>
            <a:srcRect l="1538" t="0" r="3862" b="0"/>
            <a:stretch/>
          </p:blipFill>
          <p:spPr>
            <a:xfrm>
              <a:off x="0" y="0"/>
              <a:ext cx="9142560" cy="1365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69880" y="1557360"/>
            <a:ext cx="2319480" cy="16207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47720" y="2104920"/>
            <a:ext cx="2016000" cy="5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казка «По щучьему велению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5651640" y="1557360"/>
            <a:ext cx="2319120" cy="16207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704920" y="2151000"/>
            <a:ext cx="22564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Сказка о рыбаке и рыбк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3419640" y="1676520"/>
            <a:ext cx="1800000" cy="12571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816360" y="1996920"/>
            <a:ext cx="100800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треча геро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3419640" y="2933640"/>
            <a:ext cx="1800000" cy="12574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726000" y="3378240"/>
            <a:ext cx="11872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ыба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7"/>
          <a:stretch/>
        </p:blipFill>
        <p:spPr>
          <a:xfrm>
            <a:off x="3419640" y="4191120"/>
            <a:ext cx="1800000" cy="1257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683160" y="4343400"/>
            <a:ext cx="118728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олотая щу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 общих жел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8"/>
          <a:stretch/>
        </p:blipFill>
        <p:spPr>
          <a:xfrm>
            <a:off x="3419640" y="5450040"/>
            <a:ext cx="1800000" cy="12571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868560" y="5892840"/>
            <a:ext cx="9352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нец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19640" y="2151000"/>
            <a:ext cx="432000" cy="308160"/>
          </a:xfrm>
          <a:prstGeom prst="leftArrow">
            <a:avLst>
              <a:gd name="adj1" fmla="val 50000"/>
              <a:gd name="adj2" fmla="val 35047"/>
            </a:avLst>
          </a:prstGeom>
          <a:gradFill rotWithShape="0">
            <a:gsLst>
              <a:gs pos="0">
                <a:srgbClr val="a6e6ff"/>
              </a:gs>
              <a:gs pos="100000">
                <a:srgbClr val="e6f7ff"/>
              </a:gs>
            </a:gsLst>
            <a:lin ang="16200000"/>
          </a:gradFill>
          <a:ln w="9360">
            <a:solidFill>
              <a:srgbClr val="46aac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928960" y="2151000"/>
            <a:ext cx="457200" cy="352440"/>
          </a:xfrm>
          <a:prstGeom prst="rightArrow">
            <a:avLst>
              <a:gd name="adj1" fmla="val 50000"/>
              <a:gd name="adj2" fmla="val 32431"/>
            </a:avLst>
          </a:prstGeom>
          <a:gradFill rotWithShape="0">
            <a:gsLst>
              <a:gs pos="0">
                <a:srgbClr val="a6e6ff"/>
              </a:gs>
              <a:gs pos="100000">
                <a:srgbClr val="e6f7ff"/>
              </a:gs>
            </a:gsLst>
            <a:lin ang="16200000"/>
          </a:gradFill>
          <a:ln w="9360">
            <a:solidFill>
              <a:srgbClr val="46aac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36920" y="1698480"/>
            <a:ext cx="1798560" cy="1255680"/>
            <a:chOff x="3436920" y="1698480"/>
            <a:chExt cx="1798560" cy="1255680"/>
          </a:xfrm>
        </p:grpSpPr>
        <p:pic>
          <p:nvPicPr>
            <p:cNvPr id="149" name="" descr=""/>
            <p:cNvPicPr/>
            <p:nvPr/>
          </p:nvPicPr>
          <p:blipFill>
            <a:blip r:embed="rId9"/>
            <a:stretch/>
          </p:blipFill>
          <p:spPr>
            <a:xfrm>
              <a:off x="3436920" y="1698480"/>
              <a:ext cx="179856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4084560" y="1917720"/>
              <a:ext cx="403200" cy="91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5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419640" y="2903400"/>
            <a:ext cx="1798560" cy="1255680"/>
            <a:chOff x="3419640" y="2903400"/>
            <a:chExt cx="1798560" cy="1255680"/>
          </a:xfrm>
        </p:grpSpPr>
        <p:pic>
          <p:nvPicPr>
            <p:cNvPr id="152" name="" descr=""/>
            <p:cNvPicPr/>
            <p:nvPr/>
          </p:nvPicPr>
          <p:blipFill>
            <a:blip r:embed="rId10"/>
            <a:stretch/>
          </p:blipFill>
          <p:spPr>
            <a:xfrm>
              <a:off x="3419640" y="2903400"/>
              <a:ext cx="179856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067280" y="3122640"/>
              <a:ext cx="403200" cy="91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5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103640" y="2631960"/>
            <a:ext cx="432000" cy="4255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a6e6ff"/>
              </a:gs>
              <a:gs pos="100000">
                <a:srgbClr val="e6f7ff"/>
              </a:gs>
            </a:gsLst>
            <a:lin ang="16200000"/>
          </a:gradFill>
          <a:ln w="9360">
            <a:solidFill>
              <a:srgbClr val="46aac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436920" y="4191120"/>
            <a:ext cx="1798560" cy="1255680"/>
            <a:chOff x="3436920" y="4191120"/>
            <a:chExt cx="1798560" cy="1255680"/>
          </a:xfrm>
        </p:grpSpPr>
        <p:pic>
          <p:nvPicPr>
            <p:cNvPr id="156" name="" descr=""/>
            <p:cNvPicPr/>
            <p:nvPr/>
          </p:nvPicPr>
          <p:blipFill>
            <a:blip r:embed="rId11"/>
            <a:stretch/>
          </p:blipFill>
          <p:spPr>
            <a:xfrm>
              <a:off x="3436920" y="4191120"/>
              <a:ext cx="179856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4084560" y="4410000"/>
              <a:ext cx="403200" cy="91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5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4121280" y="3978360"/>
            <a:ext cx="431640" cy="4255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a6e6ff"/>
              </a:gs>
              <a:gs pos="100000">
                <a:srgbClr val="e6f7ff"/>
              </a:gs>
            </a:gsLst>
            <a:lin ang="16200000"/>
          </a:gradFill>
          <a:ln w="9360">
            <a:solidFill>
              <a:srgbClr val="46aac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419640" y="5460840"/>
            <a:ext cx="1798560" cy="1256040"/>
            <a:chOff x="3419640" y="5460840"/>
            <a:chExt cx="1798560" cy="1256040"/>
          </a:xfrm>
        </p:grpSpPr>
        <p:pic>
          <p:nvPicPr>
            <p:cNvPr id="160" name="" descr=""/>
            <p:cNvPicPr/>
            <p:nvPr/>
          </p:nvPicPr>
          <p:blipFill>
            <a:blip r:embed="rId12"/>
            <a:stretch/>
          </p:blipFill>
          <p:spPr>
            <a:xfrm>
              <a:off x="3419640" y="5460840"/>
              <a:ext cx="1798560" cy="12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067280" y="5680080"/>
              <a:ext cx="403200" cy="91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5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4140360" y="5297400"/>
            <a:ext cx="431640" cy="4255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a6e6ff"/>
              </a:gs>
              <a:gs pos="100000">
                <a:srgbClr val="e6f7ff"/>
              </a:gs>
            </a:gsLst>
            <a:lin ang="16200000"/>
          </a:gradFill>
          <a:ln w="9360">
            <a:solidFill>
              <a:srgbClr val="46aac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*1.125000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out">
                                      <p:cBhvr additive="repl">
                                        <p:cTn id="5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*1.125000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out">
                                      <p:cBhvr additive="repl">
                                        <p:cTn id="6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*1.125000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out">
                                      <p:cBhvr additive="repl">
                                        <p:cTn id="6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*1.125000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out">
                                      <p:cBhvr additive="repl">
                                        <p:cTn id="7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rcRect l="0" t="21571" r="3844" b="0"/>
            <a:stretch/>
          </p:blipFill>
          <p:spPr>
            <a:xfrm>
              <a:off x="0" y="1285920"/>
              <a:ext cx="9142560" cy="557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2"/>
            <a:srcRect l="1538" t="0" r="3862" b="0"/>
            <a:stretch/>
          </p:blipFill>
          <p:spPr>
            <a:xfrm>
              <a:off x="0" y="0"/>
              <a:ext cx="9142560" cy="1365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3665520" y="1339920"/>
            <a:ext cx="1944720" cy="13572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252360" y="2781360"/>
            <a:ext cx="1741680" cy="12160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3781440" y="2781360"/>
            <a:ext cx="1741320" cy="12160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>
            <a:off x="6862680" y="2781360"/>
            <a:ext cx="1741680" cy="12160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7"/>
          <a:stretch/>
        </p:blipFill>
        <p:spPr>
          <a:xfrm>
            <a:off x="252360" y="3975120"/>
            <a:ext cx="1741680" cy="1216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8"/>
          <a:stretch/>
        </p:blipFill>
        <p:spPr>
          <a:xfrm>
            <a:off x="3767040" y="3997440"/>
            <a:ext cx="1741680" cy="1216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9"/>
          <a:stretch/>
        </p:blipFill>
        <p:spPr>
          <a:xfrm>
            <a:off x="6900840" y="3975120"/>
            <a:ext cx="1741680" cy="12160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74840" y="3081240"/>
            <a:ext cx="129528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земное ца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54480" y="1819440"/>
            <a:ext cx="7794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л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71880" y="3065400"/>
            <a:ext cx="136044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водное ца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121520" y="3049560"/>
            <a:ext cx="122400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бесное ца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83120" y="4191120"/>
            <a:ext cx="10792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ба клоу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ба ша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ьмино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блем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0"/>
          <a:stretch/>
        </p:blipFill>
        <p:spPr>
          <a:xfrm>
            <a:off x="2627280" y="5234040"/>
            <a:ext cx="1225440" cy="8557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1"/>
          <a:stretch/>
        </p:blipFill>
        <p:spPr>
          <a:xfrm>
            <a:off x="4024440" y="5227560"/>
            <a:ext cx="1225440" cy="8557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2"/>
          <a:stretch/>
        </p:blipFill>
        <p:spPr>
          <a:xfrm>
            <a:off x="5435640" y="5234040"/>
            <a:ext cx="1225440" cy="8557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743200" y="5506920"/>
            <a:ext cx="9954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сейд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33880" y="5508720"/>
            <a:ext cx="100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пту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45080" y="5400720"/>
            <a:ext cx="1008000" cy="5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вой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3"/>
          <a:stretch/>
        </p:blipFill>
        <p:spPr>
          <a:xfrm>
            <a:off x="5040360" y="2041560"/>
            <a:ext cx="608040" cy="6080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4"/>
          <a:stretch/>
        </p:blipFill>
        <p:spPr>
          <a:xfrm>
            <a:off x="5033880" y="4575240"/>
            <a:ext cx="608040" cy="6080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5"/>
          <a:stretch/>
        </p:blipFill>
        <p:spPr>
          <a:xfrm>
            <a:off x="4122720" y="6075360"/>
            <a:ext cx="1028880" cy="7192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133880" y="6249960"/>
            <a:ext cx="9349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06480" y="3784680"/>
            <a:ext cx="431640" cy="4255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a6e6ff"/>
              </a:gs>
              <a:gs pos="100000">
                <a:srgbClr val="e6f7ff"/>
              </a:gs>
            </a:gsLst>
            <a:lin ang="16200000"/>
          </a:gradFill>
          <a:ln w="9360">
            <a:solidFill>
              <a:srgbClr val="46aac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518240" y="3784680"/>
            <a:ext cx="432000" cy="4255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a6e6ff"/>
              </a:gs>
              <a:gs pos="100000">
                <a:srgbClr val="e6f7ff"/>
              </a:gs>
            </a:gsLst>
            <a:lin ang="16200000"/>
          </a:gradFill>
          <a:ln w="9360">
            <a:solidFill>
              <a:srgbClr val="46aac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5920" y="3511440"/>
            <a:ext cx="43164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67120" y="3543480"/>
            <a:ext cx="4320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020000" y="3511440"/>
            <a:ext cx="43164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627280" y="5705640"/>
            <a:ext cx="4320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92480" y="5656320"/>
            <a:ext cx="4320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462640" y="5668920"/>
            <a:ext cx="43164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pic>
          <p:nvPicPr>
            <p:cNvPr id="197" name="" descr=""/>
            <p:cNvPicPr/>
            <p:nvPr/>
          </p:nvPicPr>
          <p:blipFill>
            <a:blip r:embed="rId1"/>
            <a:srcRect l="0" t="21571" r="3844" b="0"/>
            <a:stretch/>
          </p:blipFill>
          <p:spPr>
            <a:xfrm>
              <a:off x="0" y="1285920"/>
              <a:ext cx="9142560" cy="557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2"/>
            <a:srcRect l="1538" t="0" r="3862" b="0"/>
            <a:stretch/>
          </p:blipFill>
          <p:spPr>
            <a:xfrm>
              <a:off x="0" y="0"/>
              <a:ext cx="9142560" cy="136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"/>
          <p:cNvSpPr/>
          <p:nvPr/>
        </p:nvSpPr>
        <p:spPr>
          <a:xfrm>
            <a:off x="3665520" y="1339920"/>
            <a:ext cx="1944720" cy="13572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еч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о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3781440" y="2781360"/>
            <a:ext cx="1741320" cy="12160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863640" y="1008000"/>
            <a:ext cx="1741320" cy="12160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азка «Пинокио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3767040" y="3997440"/>
            <a:ext cx="1741680" cy="12160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35760" y="1447920"/>
            <a:ext cx="1741320" cy="12160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азка «Бурати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золотой ключи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4840" y="3081240"/>
            <a:ext cx="1295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254480" y="1819440"/>
            <a:ext cx="7794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71880" y="3065400"/>
            <a:ext cx="136044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щий друз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083120" y="4319640"/>
            <a:ext cx="1079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щий вра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8"/>
          <a:stretch/>
        </p:blipFill>
        <p:spPr>
          <a:xfrm>
            <a:off x="2627280" y="5234040"/>
            <a:ext cx="1225440" cy="8557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9"/>
          <a:stretch/>
        </p:blipFill>
        <p:spPr>
          <a:xfrm>
            <a:off x="4024440" y="5227560"/>
            <a:ext cx="1225440" cy="8557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0"/>
          <a:stretch/>
        </p:blipFill>
        <p:spPr>
          <a:xfrm>
            <a:off x="5435640" y="5234040"/>
            <a:ext cx="1225440" cy="8557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743200" y="5400720"/>
            <a:ext cx="995400" cy="5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т-бараба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133880" y="5388120"/>
            <a:ext cx="1008000" cy="5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иса-караба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45080" y="5400720"/>
            <a:ext cx="1008000" cy="5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вой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1"/>
          <a:stretch/>
        </p:blipFill>
        <p:spPr>
          <a:xfrm>
            <a:off x="5033880" y="4575240"/>
            <a:ext cx="608040" cy="6080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2"/>
          <a:stretch/>
        </p:blipFill>
        <p:spPr>
          <a:xfrm>
            <a:off x="4122720" y="6075360"/>
            <a:ext cx="1028880" cy="7192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133880" y="6249960"/>
            <a:ext cx="9349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92720" y="2525760"/>
            <a:ext cx="431640" cy="4255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a6e6ff"/>
              </a:gs>
              <a:gs pos="100000">
                <a:srgbClr val="e6f7ff"/>
              </a:gs>
            </a:gsLst>
            <a:lin ang="16200000"/>
          </a:gradFill>
          <a:ln w="9360">
            <a:solidFill>
              <a:srgbClr val="46aac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5920" y="3511440"/>
            <a:ext cx="43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67120" y="3543480"/>
            <a:ext cx="4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20000" y="3511440"/>
            <a:ext cx="43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627280" y="5705640"/>
            <a:ext cx="4320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092480" y="5656320"/>
            <a:ext cx="4320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462640" y="5668920"/>
            <a:ext cx="43164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365720" y="1600200"/>
            <a:ext cx="434880" cy="965160"/>
            <a:chOff x="4365720" y="1600200"/>
            <a:chExt cx="434880" cy="965160"/>
          </a:xfrm>
        </p:grpSpPr>
        <p:sp>
          <p:nvSpPr>
            <p:cNvPr id="225" name=""/>
            <p:cNvSpPr/>
            <p:nvPr/>
          </p:nvSpPr>
          <p:spPr>
            <a:xfrm>
              <a:off x="4365720" y="1600200"/>
              <a:ext cx="4348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4392720" y="3822840"/>
            <a:ext cx="431640" cy="4251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a6e6ff"/>
              </a:gs>
              <a:gs pos="100000">
                <a:srgbClr val="e6f7ff"/>
              </a:gs>
            </a:gsLst>
            <a:lin ang="16200000"/>
          </a:gradFill>
          <a:ln w="9360">
            <a:solidFill>
              <a:srgbClr val="46aac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392720" y="4962600"/>
            <a:ext cx="431640" cy="4255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a6e6ff"/>
              </a:gs>
              <a:gs pos="100000">
                <a:srgbClr val="e6f7ff"/>
              </a:gs>
            </a:gsLst>
            <a:lin ang="16200000"/>
          </a:gradFill>
          <a:ln w="9360">
            <a:solidFill>
              <a:srgbClr val="46aac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392720" y="5910120"/>
            <a:ext cx="431640" cy="4255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a6e6ff"/>
              </a:gs>
              <a:gs pos="100000">
                <a:srgbClr val="e6f7ff"/>
              </a:gs>
            </a:gsLst>
            <a:lin ang="16200000"/>
          </a:gradFill>
          <a:ln w="9360">
            <a:solidFill>
              <a:srgbClr val="46aac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