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3F9-0D04-4C45-93F1-4FD53028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3B5-F97C-4571-B266-CA0B00F8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4FC-687D-40A6-B07C-3C6B0F53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B64-318A-4D11-BF3F-9947FB17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69A-D56D-4DC4-9FA5-4DF496D3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D6E-1607-4E51-9E54-EF4EDDFD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D10-B9D5-435F-9258-E5EDC636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005-7318-4F72-BE2F-72D719AB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5E7-9CAD-4AE2-8F28-A68B1726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585-1F21-4867-8052-E6D13CF0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E53-13FF-4BCD-A15F-81C211C4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9A5-564F-4ECE-A742-00B599AC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A5D1-F61B-4950-B3DB-CEBBFD05C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loody-surgeon.blog.ru/" TargetMode="External"/><Relationship Id="rId2" Type="http://schemas.openxmlformats.org/officeDocument/2006/relationships/hyperlink" Target="http://www.yarfoto.ru/klipart67.htm" TargetMode="External"/><Relationship Id="rId3" Type="http://schemas.openxmlformats.org/officeDocument/2006/relationships/hyperlink" Target="http://dutsadok.com.ua/publ/ljudi/malchik/1-1-0-122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ИСЬМА И РАЗВИТИЯ РЕЧ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КЛАСС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ОПИСАНИЕ ЗВОНКИХ И ГЛУХИХ СОГЛАСНЫХ НА КОНЦЕ СЛОВА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42920" y="40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ченко О.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Администратор\Рабочий стол\Новая папка\332295_html_m51f2664c.png"/>
          <p:cNvPicPr/>
          <p:nvPr/>
        </p:nvPicPr>
        <p:blipFill>
          <a:blip r:embed="rId1"/>
          <a:stretch/>
        </p:blipFill>
        <p:spPr>
          <a:xfrm>
            <a:off x="2500200" y="1214280"/>
            <a:ext cx="4000680" cy="4286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50044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Д У .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Парные согласные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Самые опасны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Слово смело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Calibri"/>
              </a:rPr>
              <a:t>изменяй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Рядом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Calibri"/>
              </a:rPr>
              <a:t>гласный подставляй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428760" y="28728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Учимся подбирать провероч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D:\мама\разные картинки\картинки-фото\1987.gif"/>
          <p:cNvPicPr/>
          <p:nvPr/>
        </p:nvPicPr>
        <p:blipFill>
          <a:blip r:embed="rId1"/>
          <a:stretch/>
        </p:blipFill>
        <p:spPr>
          <a:xfrm rot="20214600">
            <a:off x="5492880" y="3920760"/>
            <a:ext cx="1780920" cy="17812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500040" y="2643120"/>
            <a:ext cx="571680" cy="57168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071720" y="2643120"/>
            <a:ext cx="571320" cy="57168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1643040" y="2643120"/>
            <a:ext cx="571680" cy="57168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4"/>
          <p:cNvSpPr/>
          <p:nvPr/>
        </p:nvSpPr>
        <p:spPr>
          <a:xfrm>
            <a:off x="1643040" y="2643120"/>
            <a:ext cx="571680" cy="57168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6"/>
          <p:cNvSpPr/>
          <p:nvPr/>
        </p:nvSpPr>
        <p:spPr>
          <a:xfrm>
            <a:off x="928800" y="20001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d1cc"/>
          </a:solidFill>
          <a:ln w="25560">
            <a:solidFill>
              <a:srgbClr val="d2a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7"/>
          <p:cNvSpPr/>
          <p:nvPr/>
        </p:nvSpPr>
        <p:spPr>
          <a:xfrm>
            <a:off x="1571760" y="20001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d1cc"/>
          </a:solidFill>
          <a:ln w="25560">
            <a:solidFill>
              <a:srgbClr val="d2a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0"/>
          <p:cNvSpPr/>
          <p:nvPr/>
        </p:nvSpPr>
        <p:spPr>
          <a:xfrm>
            <a:off x="428760" y="3643200"/>
            <a:ext cx="1571400" cy="42876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У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1"/>
          <p:cNvSpPr/>
          <p:nvPr/>
        </p:nvSpPr>
        <p:spPr>
          <a:xfrm>
            <a:off x="428760" y="4357800"/>
            <a:ext cx="1785960" cy="42840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У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2"/>
          <p:cNvSpPr/>
          <p:nvPr/>
        </p:nvSpPr>
        <p:spPr>
          <a:xfrm>
            <a:off x="428760" y="5072040"/>
            <a:ext cx="1785960" cy="42876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У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ьная выноска 27"/>
          <p:cNvSpPr/>
          <p:nvPr/>
        </p:nvSpPr>
        <p:spPr>
          <a:xfrm>
            <a:off x="6429240" y="2571840"/>
            <a:ext cx="2071800" cy="857160"/>
          </a:xfrm>
          <a:prstGeom prst="wedgeEllipseCallout">
            <a:avLst>
              <a:gd name="adj1" fmla="val -14990"/>
              <a:gd name="adj2" fmla="val 95439"/>
            </a:avLst>
          </a:prstGeom>
          <a:solidFill>
            <a:srgbClr val="e6e97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ОДУМАЙ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8"/>
          <p:cNvSpPr/>
          <p:nvPr/>
        </p:nvSpPr>
        <p:spPr>
          <a:xfrm>
            <a:off x="428760" y="5786280"/>
            <a:ext cx="2071440" cy="42876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ЕТ  Д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далее 29">
            <a:hlinkClick r:id="" action="ppaction://hlinkshowjump?jump=nextslide"/>
          </p:cNvPr>
          <p:cNvSpPr/>
          <p:nvPr/>
        </p:nvSpPr>
        <p:spPr>
          <a:xfrm>
            <a:off x="8286840" y="628668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26442" y="10800"/>
                </a:lnTo>
                <a:lnTo>
                  <a:pt x="12429" y="17806"/>
                </a:lnTo>
                <a:close/>
              </a:path>
            </a:pathLst>
          </a:custGeom>
          <a:solidFill>
            <a:srgbClr val="cb77bf"/>
          </a:solidFill>
          <a:ln w="2556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32"/>
          <p:cNvSpPr/>
          <p:nvPr/>
        </p:nvSpPr>
        <p:spPr>
          <a:xfrm>
            <a:off x="500040" y="4000680"/>
            <a:ext cx="107172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33"/>
          <p:cNvSpPr/>
          <p:nvPr/>
        </p:nvSpPr>
        <p:spPr>
          <a:xfrm>
            <a:off x="500040" y="4714920"/>
            <a:ext cx="121464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4"/>
          <p:cNvSpPr/>
          <p:nvPr/>
        </p:nvSpPr>
        <p:spPr>
          <a:xfrm>
            <a:off x="500040" y="6143760"/>
            <a:ext cx="164304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ed71d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b1947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b1947"/>
                                      </p:to>
                                    </p:animClr>
                                    <p:set>
                                      <p:cBhvr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D:\мама\разные картинки\картинки-фото\1987.gif"/>
          <p:cNvPicPr/>
          <p:nvPr/>
        </p:nvPicPr>
        <p:blipFill>
          <a:blip r:embed="rId1"/>
          <a:stretch/>
        </p:blipFill>
        <p:spPr>
          <a:xfrm>
            <a:off x="7572240" y="28584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1928880" y="21636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4c2c"/>
                </a:solidFill>
                <a:latin typeface="Times New Roman"/>
                <a:ea typeface="Calibri"/>
              </a:rPr>
              <a:t>ВСТАВЬ  НУЖНУЮ  БУКВУ  В  СЛО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4c2c"/>
                </a:solidFill>
                <a:latin typeface="Times New Roman"/>
                <a:ea typeface="Calibri"/>
              </a:rPr>
              <a:t>КЛИКНИ  МЫШКОЙ  НА  БУК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1000080" y="214308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26c0"/>
                </a:solidFill>
                <a:latin typeface="Calibri"/>
              </a:rPr>
              <a:t>МОРО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2932200" y="185724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З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928960" y="26449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997920" y="392904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ХОЛО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2789280" y="357192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2"/>
          <p:cNvSpPr/>
          <p:nvPr/>
        </p:nvSpPr>
        <p:spPr>
          <a:xfrm>
            <a:off x="2860560" y="450072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3"/>
          <p:cNvSpPr/>
          <p:nvPr/>
        </p:nvSpPr>
        <p:spPr>
          <a:xfrm>
            <a:off x="5011200" y="2143080"/>
            <a:ext cx="17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УГРО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5010120" y="392904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АЛЫ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6860880" y="1785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6"/>
          <p:cNvSpPr/>
          <p:nvPr/>
        </p:nvSpPr>
        <p:spPr>
          <a:xfrm>
            <a:off x="6860880" y="2571840"/>
            <a:ext cx="4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7"/>
          <p:cNvSpPr/>
          <p:nvPr/>
        </p:nvSpPr>
        <p:spPr>
          <a:xfrm>
            <a:off x="7076160" y="35719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8"/>
          <p:cNvSpPr/>
          <p:nvPr/>
        </p:nvSpPr>
        <p:spPr>
          <a:xfrm>
            <a:off x="7076160" y="442908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7929720" y="6072120"/>
            <a:ext cx="857160" cy="428760"/>
          </a:xfrm>
          <a:custGeom>
            <a:avLst/>
            <a:gdLst>
              <a:gd name="textAreaLeft" fmla="*/ 27720 w 857160"/>
              <a:gd name="textAreaRight" fmla="*/ 829440 w 8571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5" y="3794"/>
                </a:moveTo>
                <a:lnTo>
                  <a:pt x="28588" y="10800"/>
                </a:lnTo>
                <a:lnTo>
                  <a:pt x="14575" y="17806"/>
                </a:lnTo>
                <a:close/>
              </a:path>
            </a:pathLst>
          </a:custGeom>
          <a:solidFill>
            <a:srgbClr val="bcb0b4"/>
          </a:solidFill>
          <a:ln w="2556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3429000" y="55018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СНЕ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0"/>
          <p:cNvSpPr/>
          <p:nvPr/>
        </p:nvSpPr>
        <p:spPr>
          <a:xfrm>
            <a:off x="4931640" y="507204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2"/>
          <p:cNvSpPr/>
          <p:nvPr/>
        </p:nvSpPr>
        <p:spPr>
          <a:xfrm>
            <a:off x="4932360" y="5786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D:\мама\разные картинки\картинки-фото\83e6d734402b.png"/>
          <p:cNvPicPr/>
          <p:nvPr/>
        </p:nvPicPr>
        <p:blipFill>
          <a:blip r:embed="rId2"/>
          <a:stretch/>
        </p:blipFill>
        <p:spPr>
          <a:xfrm>
            <a:off x="214200" y="4478400"/>
            <a:ext cx="17146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07587 0.03519 E">
                                      <p:cBhvr>
                                        <p:cTn id="7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84 -0.01481 L -0.07586 0.03774 E">
                                      <p:cBhvr>
                                        <p:cTn id="8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06944 0.0456 E">
                                      <p:cBhvr>
                                        <p:cTn id="9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-0.08559 -0.07731 E">
                                      <p:cBhvr>
                                        <p:cTn id="10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07587 0.05996 E">
                                      <p:cBhvr>
                                        <p:cTn id="12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8215200" y="6286680"/>
            <a:ext cx="714600" cy="357120"/>
          </a:xfrm>
          <a:custGeom>
            <a:avLst/>
            <a:gdLst>
              <a:gd name="textAreaLeft" fmla="*/ 23040 w 714600"/>
              <a:gd name="textAreaRight" fmla="*/ 691560 w 7146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cb0b4"/>
          </a:solidFill>
          <a:ln w="2556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D:\мама\разные картинки\картинки-фото\1987.gif"/>
          <p:cNvPicPr/>
          <p:nvPr/>
        </p:nvPicPr>
        <p:blipFill>
          <a:blip r:embed="rId1"/>
          <a:stretch/>
        </p:blipFill>
        <p:spPr>
          <a:xfrm>
            <a:off x="7715160" y="14292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1082880" y="171468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ЕРБЛЮ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213880" y="357192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ГОЛУ__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1154160" y="3571920"/>
            <a:ext cx="21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ДВЕ__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5212440" y="171468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ЖИРА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3360960" y="135720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3360960" y="221472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0"/>
          <p:cNvSpPr/>
          <p:nvPr/>
        </p:nvSpPr>
        <p:spPr>
          <a:xfrm>
            <a:off x="3360960" y="321480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1"/>
          <p:cNvSpPr/>
          <p:nvPr/>
        </p:nvSpPr>
        <p:spPr>
          <a:xfrm>
            <a:off x="3360960" y="385776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7146720" y="121428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7146720" y="2071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6"/>
          <p:cNvSpPr/>
          <p:nvPr/>
        </p:nvSpPr>
        <p:spPr>
          <a:xfrm>
            <a:off x="7218000" y="3929040"/>
            <a:ext cx="4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7"/>
          <p:cNvSpPr/>
          <p:nvPr/>
        </p:nvSpPr>
        <p:spPr>
          <a:xfrm>
            <a:off x="7218000" y="3071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D:\мама\разные картинки\картинки-фото\83e6d734402b.png"/>
          <p:cNvPicPr/>
          <p:nvPr/>
        </p:nvPicPr>
        <p:blipFill>
          <a:blip r:embed="rId2"/>
          <a:stretch/>
        </p:blipFill>
        <p:spPr>
          <a:xfrm>
            <a:off x="214200" y="4071960"/>
            <a:ext cx="18622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94 0.00301 L -0.07535 0.03449 E">
                                      <p:cBhvr>
                                        <p:cTn id="13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94 -0.00532 L -0.09114 0.03681 E">
                                      <p:cBhvr>
                                        <p:cTn id="14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394 L -0.08906 -0.05902 E">
                                      <p:cBhvr>
                                        <p:cTn id="14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-0.1085 0.06805 E">
                                      <p:cBhvr>
                                        <p:cTn id="15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214280" y="873000"/>
            <a:ext cx="70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Calibri"/>
              </a:rPr>
              <a:t>Сне… глубок – го… хоро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Calibri"/>
              </a:rPr>
              <a:t>Береги но… в большой моро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4214880" y="3357720"/>
            <a:ext cx="2357280" cy="500040"/>
          </a:xfrm>
          <a:prstGeom prst="roundRect">
            <a:avLst>
              <a:gd name="adj" fmla="val 16667"/>
            </a:avLst>
          </a:prstGeom>
          <a:solidFill>
            <a:srgbClr val="e1d1cc"/>
          </a:solidFill>
          <a:ln w="25560">
            <a:solidFill>
              <a:srgbClr val="8c16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071880" y="4361760"/>
            <a:ext cx="55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26c0"/>
                </a:solidFill>
                <a:latin typeface="Times New Roman"/>
                <a:ea typeface="Calibri"/>
              </a:rPr>
              <a:t>Сне</a:t>
            </a: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г</a:t>
            </a:r>
            <a:r>
              <a:rPr b="0" lang="ru-RU" sz="2800" spc="-1" strike="noStrike">
                <a:solidFill>
                  <a:srgbClr val="8926c0"/>
                </a:solidFill>
                <a:latin typeface="Times New Roman"/>
                <a:ea typeface="Calibri"/>
              </a:rPr>
              <a:t> глубок – го</a:t>
            </a: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д</a:t>
            </a:r>
            <a:r>
              <a:rPr b="0" lang="ru-RU" sz="2800" spc="-1" strike="noStrike">
                <a:solidFill>
                  <a:srgbClr val="8926c0"/>
                </a:solidFill>
                <a:latin typeface="Times New Roman"/>
                <a:ea typeface="Calibri"/>
              </a:rPr>
              <a:t> хоро</a:t>
            </a: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26c0"/>
                </a:solidFill>
                <a:latin typeface="Times New Roman"/>
                <a:ea typeface="Calibri"/>
              </a:rPr>
              <a:t>Береги но</a:t>
            </a: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ru-RU" sz="2800" spc="-1" strike="noStrike">
                <a:solidFill>
                  <a:srgbClr val="8926c0"/>
                </a:solidFill>
                <a:latin typeface="Times New Roman"/>
                <a:ea typeface="Calibri"/>
              </a:rPr>
              <a:t> в большой моро</a:t>
            </a: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з</a:t>
            </a:r>
            <a:r>
              <a:rPr b="0" lang="ru-RU" sz="2800" spc="-1" strike="noStrike">
                <a:solidFill>
                  <a:srgbClr val="8926c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D:\мама\разные картинки\картинки-фото\office-pencil4.gif"/>
          <p:cNvPicPr/>
          <p:nvPr/>
        </p:nvPicPr>
        <p:blipFill>
          <a:blip r:embed="rId1"/>
          <a:stretch/>
        </p:blipFill>
        <p:spPr>
          <a:xfrm>
            <a:off x="7358040" y="357120"/>
            <a:ext cx="1214640" cy="1506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D:\мама\разные картинки\картинки-фото\1988.gif"/>
          <p:cNvPicPr/>
          <p:nvPr/>
        </p:nvPicPr>
        <p:blipFill>
          <a:blip r:embed="rId2"/>
          <a:stretch/>
        </p:blipFill>
        <p:spPr>
          <a:xfrm rot="20610000">
            <a:off x="428760" y="3642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4" name="Управляющая кнопка: назад 8">
            <a:hlinkClick r:id="rId3" action="ppaction://hlinksldjump"/>
          </p:cNvPr>
          <p:cNvSpPr/>
          <p:nvPr/>
        </p:nvSpPr>
        <p:spPr>
          <a:xfrm>
            <a:off x="7929720" y="6072120"/>
            <a:ext cx="785520" cy="357120"/>
          </a:xfrm>
          <a:custGeom>
            <a:avLst/>
            <a:gdLst>
              <a:gd name="textAreaLeft" fmla="*/ 23040 w 785520"/>
              <a:gd name="textAreaRight" fmla="*/ 762480 w 785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7485" h="21600">
                <a:moveTo>
                  <a:pt x="0" y="0"/>
                </a:moveTo>
                <a:lnTo>
                  <a:pt x="47485" y="0"/>
                </a:lnTo>
                <a:lnTo>
                  <a:pt x="47485" y="21600"/>
                </a:lnTo>
                <a:lnTo>
                  <a:pt x="0" y="21600"/>
                </a:lnTo>
                <a:close/>
              </a:path>
              <a:path fill="lightenLess" w="47485" h="21600">
                <a:moveTo>
                  <a:pt x="0" y="0"/>
                </a:moveTo>
                <a:lnTo>
                  <a:pt x="47485" y="0"/>
                </a:lnTo>
                <a:lnTo>
                  <a:pt x="46085" y="1400"/>
                </a:lnTo>
                <a:lnTo>
                  <a:pt x="1400" y="1400"/>
                </a:lnTo>
                <a:close/>
              </a:path>
              <a:path fill="darken" w="47485" h="21600">
                <a:moveTo>
                  <a:pt x="47485" y="0"/>
                </a:moveTo>
                <a:lnTo>
                  <a:pt x="47485" y="21600"/>
                </a:lnTo>
                <a:lnTo>
                  <a:pt x="46085" y="20200"/>
                </a:lnTo>
                <a:lnTo>
                  <a:pt x="46085" y="1400"/>
                </a:lnTo>
                <a:close/>
              </a:path>
              <a:path fill="darkenLess" w="47485" h="21600">
                <a:moveTo>
                  <a:pt x="47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85" y="20200"/>
                </a:lnTo>
                <a:close/>
              </a:path>
              <a:path fill="lighten" w="47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85" h="21600">
                <a:moveTo>
                  <a:pt x="16736" y="10800"/>
                </a:moveTo>
                <a:lnTo>
                  <a:pt x="30749" y="3794"/>
                </a:lnTo>
                <a:lnTo>
                  <a:pt x="30749" y="17806"/>
                </a:lnTo>
                <a:close/>
              </a:path>
            </a:pathLst>
          </a:custGeom>
          <a:solidFill>
            <a:srgbClr val="e1d1cc"/>
          </a:solidFill>
          <a:ln w="25560">
            <a:solidFill>
              <a:srgbClr val="8c16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57120" y="5731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c4b3b"/>
                </a:solidFill>
                <a:latin typeface="Calibri"/>
                <a:ea typeface="Calibri"/>
              </a:rPr>
              <a:t>Источ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428760" y="55008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Calibri"/>
                <a:hlinkClick r:id="rId1"/>
              </a:rPr>
              <a:t>http://bloody-surgeon.blog.ru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428760" y="4857840"/>
            <a:ext cx="60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Calibri"/>
                <a:hlinkClick r:id="rId2"/>
              </a:rPr>
              <a:t>http://www.yarfoto.ru/klipart67.ht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428760" y="1357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Calibri"/>
                <a:hlinkClick r:id="rId3"/>
              </a:rPr>
              <a:t>http://dutsadok.com.ua/publ/ljudi/malchik/1-1-0-12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500040" y="20001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dutsadok.com.ua/publ/ljudi/malchik/1-1-0-13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500040" y="25718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gif-smail.ucoz.ru/photo/knigi_kartinki/0_5a306_39a8cde_xl/52-0-131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428760" y="35002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liveinternet.ru/users/dizign_for_you/tags/%EA%E0%ED%F6%E5%EB%FF%F0%E8%FF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428760" y="428616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nifiga-sebe.ru/index.php?newsid=85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5:13:58Z</dcterms:created>
  <dc:creator>SamLab.ws</dc:creator>
  <dc:description/>
  <dc:language>en-US</dc:language>
  <cp:lastModifiedBy>2.7</cp:lastModifiedBy>
  <dcterms:modified xsi:type="dcterms:W3CDTF">2015-10-22T11:49:02Z</dcterms:modified>
  <cp:revision>136</cp:revision>
  <dc:subject/>
  <dc:title>Правописание парных согласных в корне слова</dc:title>
</cp:coreProperties>
</file>