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4.jpeg" ContentType="image/jpeg"/>
  <Override PartName="/ppt/media/image23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41.jpeg" ContentType="image/jpeg"/>
  <Override PartName="/ppt/media/image1.png" ContentType="image/png"/>
  <Override PartName="/ppt/media/image25.jpeg" ContentType="image/jpeg"/>
  <Override PartName="/ppt/media/image2.png" ContentType="image/png"/>
  <Override PartName="/ppt/media/image10.jpeg" ContentType="image/jpeg"/>
  <Override PartName="/ppt/media/image43.jpeg" ContentType="image/jpeg"/>
  <Override PartName="/ppt/media/image5.png" ContentType="image/png"/>
  <Override PartName="/ppt/media/image35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37.jpeg" ContentType="image/jpeg"/>
  <Override PartName="/ppt/media/image45.png" ContentType="image/png"/>
  <Override PartName="/ppt/media/image44.jpeg" ContentType="image/jpeg"/>
  <Override PartName="/ppt/media/image7.jpeg" ContentType="image/jpeg"/>
  <Override PartName="/ppt/media/image38.jpeg" ContentType="image/jpeg"/>
  <Override PartName="/ppt/media/image8.jpeg" ContentType="image/jpeg"/>
  <Override PartName="/ppt/media/image39.jpeg" ContentType="image/jpeg"/>
  <Override PartName="/ppt/media/image40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29.jpeg" ContentType="image/jpeg"/>
  <Override PartName="/ppt/media/image3.wmf" ContentType="image/x-wmf"/>
  <Override PartName="/ppt/media/image1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0B8A81-75BC-4D64-91DB-E2F320A789E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0240" cy="19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2720" indent="0">
              <a:spcBef>
                <a:spcPts val="799"/>
              </a:spcBef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8640"/>
                <a:tab algn="l" pos="5047920"/>
                <a:tab algn="l" pos="5497200"/>
                <a:tab algn="l" pos="5946480"/>
                <a:tab algn="l" pos="6395760"/>
                <a:tab algn="l" pos="6845040"/>
                <a:tab algn="l" pos="7294320"/>
                <a:tab algn="l" pos="7743600"/>
                <a:tab algn="l" pos="8192880"/>
                <a:tab algn="l" pos="864216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727080"/>
            <a:ext cx="8220240" cy="19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2720" indent="0">
              <a:spcBef>
                <a:spcPts val="799"/>
              </a:spcBef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8640"/>
                <a:tab algn="l" pos="5047920"/>
                <a:tab algn="l" pos="5497200"/>
                <a:tab algn="l" pos="5946480"/>
                <a:tab algn="l" pos="6395760"/>
                <a:tab algn="l" pos="6845040"/>
                <a:tab algn="l" pos="7294320"/>
                <a:tab algn="l" pos="7743600"/>
                <a:tab algn="l" pos="8192880"/>
                <a:tab algn="l" pos="864216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1B37E4-A147-4448-8440-533A88CD0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19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2720" indent="0">
              <a:spcBef>
                <a:spcPts val="799"/>
              </a:spcBef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8640"/>
                <a:tab algn="l" pos="5047920"/>
                <a:tab algn="l" pos="5497200"/>
                <a:tab algn="l" pos="5946480"/>
                <a:tab algn="l" pos="6395760"/>
                <a:tab algn="l" pos="6845040"/>
                <a:tab algn="l" pos="7294320"/>
                <a:tab algn="l" pos="7743600"/>
                <a:tab algn="l" pos="8192880"/>
                <a:tab algn="l" pos="864216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19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2720" indent="0">
              <a:spcBef>
                <a:spcPts val="799"/>
              </a:spcBef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8640"/>
                <a:tab algn="l" pos="5047920"/>
                <a:tab algn="l" pos="5497200"/>
                <a:tab algn="l" pos="5946480"/>
                <a:tab algn="l" pos="6395760"/>
                <a:tab algn="l" pos="6845040"/>
                <a:tab algn="l" pos="7294320"/>
                <a:tab algn="l" pos="7743600"/>
                <a:tab algn="l" pos="8192880"/>
                <a:tab algn="l" pos="864216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727080"/>
            <a:ext cx="4011120" cy="19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2720" indent="0">
              <a:spcBef>
                <a:spcPts val="799"/>
              </a:spcBef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8640"/>
                <a:tab algn="l" pos="5047920"/>
                <a:tab algn="l" pos="5497200"/>
                <a:tab algn="l" pos="5946480"/>
                <a:tab algn="l" pos="6395760"/>
                <a:tab algn="l" pos="6845040"/>
                <a:tab algn="l" pos="7294320"/>
                <a:tab algn="l" pos="7743600"/>
                <a:tab algn="l" pos="8192880"/>
                <a:tab algn="l" pos="864216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9200" y="3727080"/>
            <a:ext cx="4011120" cy="19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2720" indent="0">
              <a:spcBef>
                <a:spcPts val="799"/>
              </a:spcBef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8640"/>
                <a:tab algn="l" pos="5047920"/>
                <a:tab algn="l" pos="5497200"/>
                <a:tab algn="l" pos="5946480"/>
                <a:tab algn="l" pos="6395760"/>
                <a:tab algn="l" pos="6845040"/>
                <a:tab algn="l" pos="7294320"/>
                <a:tab algn="l" pos="7743600"/>
                <a:tab algn="l" pos="8192880"/>
                <a:tab algn="l" pos="864216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F85A27-9369-4564-929D-CE28B6593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6720" cy="19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2720" indent="0">
              <a:spcBef>
                <a:spcPts val="799"/>
              </a:spcBef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8640"/>
                <a:tab algn="l" pos="5047920"/>
                <a:tab algn="l" pos="5497200"/>
                <a:tab algn="l" pos="5946480"/>
                <a:tab algn="l" pos="6395760"/>
                <a:tab algn="l" pos="6845040"/>
                <a:tab algn="l" pos="7294320"/>
                <a:tab algn="l" pos="7743600"/>
                <a:tab algn="l" pos="8192880"/>
                <a:tab algn="l" pos="864216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6760" y="1600200"/>
            <a:ext cx="2646720" cy="19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2720" indent="0">
              <a:spcBef>
                <a:spcPts val="799"/>
              </a:spcBef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8640"/>
                <a:tab algn="l" pos="5047920"/>
                <a:tab algn="l" pos="5497200"/>
                <a:tab algn="l" pos="5946480"/>
                <a:tab algn="l" pos="6395760"/>
                <a:tab algn="l" pos="6845040"/>
                <a:tab algn="l" pos="7294320"/>
                <a:tab algn="l" pos="7743600"/>
                <a:tab algn="l" pos="8192880"/>
                <a:tab algn="l" pos="864216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5960" y="1600200"/>
            <a:ext cx="2646720" cy="19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2720" indent="0">
              <a:spcBef>
                <a:spcPts val="799"/>
              </a:spcBef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8640"/>
                <a:tab algn="l" pos="5047920"/>
                <a:tab algn="l" pos="5497200"/>
                <a:tab algn="l" pos="5946480"/>
                <a:tab algn="l" pos="6395760"/>
                <a:tab algn="l" pos="6845040"/>
                <a:tab algn="l" pos="7294320"/>
                <a:tab algn="l" pos="7743600"/>
                <a:tab algn="l" pos="8192880"/>
                <a:tab algn="l" pos="864216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727080"/>
            <a:ext cx="2646720" cy="19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2720" indent="0">
              <a:spcBef>
                <a:spcPts val="799"/>
              </a:spcBef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8640"/>
                <a:tab algn="l" pos="5047920"/>
                <a:tab algn="l" pos="5497200"/>
                <a:tab algn="l" pos="5946480"/>
                <a:tab algn="l" pos="6395760"/>
                <a:tab algn="l" pos="6845040"/>
                <a:tab algn="l" pos="7294320"/>
                <a:tab algn="l" pos="7743600"/>
                <a:tab algn="l" pos="8192880"/>
                <a:tab algn="l" pos="864216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6760" y="3727080"/>
            <a:ext cx="2646720" cy="19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2720" indent="0">
              <a:spcBef>
                <a:spcPts val="799"/>
              </a:spcBef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8640"/>
                <a:tab algn="l" pos="5047920"/>
                <a:tab algn="l" pos="5497200"/>
                <a:tab algn="l" pos="5946480"/>
                <a:tab algn="l" pos="6395760"/>
                <a:tab algn="l" pos="6845040"/>
                <a:tab algn="l" pos="7294320"/>
                <a:tab algn="l" pos="7743600"/>
                <a:tab algn="l" pos="8192880"/>
                <a:tab algn="l" pos="864216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5960" y="3727080"/>
            <a:ext cx="2646720" cy="19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2720" indent="0">
              <a:spcBef>
                <a:spcPts val="799"/>
              </a:spcBef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8640"/>
                <a:tab algn="l" pos="5047920"/>
                <a:tab algn="l" pos="5497200"/>
                <a:tab algn="l" pos="5946480"/>
                <a:tab algn="l" pos="6395760"/>
                <a:tab algn="l" pos="6845040"/>
                <a:tab algn="l" pos="7294320"/>
                <a:tab algn="l" pos="7743600"/>
                <a:tab algn="l" pos="8192880"/>
                <a:tab algn="l" pos="864216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A6C02F-CA9C-4C4E-B038-AC615FF2855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024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2720" indent="0" algn="ctr">
              <a:spcBef>
                <a:spcPts val="799"/>
              </a:spcBef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8640"/>
                <a:tab algn="l" pos="5047920"/>
                <a:tab algn="l" pos="5497200"/>
                <a:tab algn="l" pos="5946480"/>
                <a:tab algn="l" pos="6395760"/>
                <a:tab algn="l" pos="6845040"/>
                <a:tab algn="l" pos="7294320"/>
                <a:tab algn="l" pos="7743600"/>
                <a:tab algn="l" pos="8192880"/>
                <a:tab algn="l" pos="864216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DCE420-11FC-4493-896E-ECC2D6DF4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0240" cy="40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2720" indent="0">
              <a:spcBef>
                <a:spcPts val="799"/>
              </a:spcBef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8640"/>
                <a:tab algn="l" pos="5047920"/>
                <a:tab algn="l" pos="5497200"/>
                <a:tab algn="l" pos="5946480"/>
                <a:tab algn="l" pos="6395760"/>
                <a:tab algn="l" pos="6845040"/>
                <a:tab algn="l" pos="7294320"/>
                <a:tab algn="l" pos="7743600"/>
                <a:tab algn="l" pos="8192880"/>
                <a:tab algn="l" pos="864216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B748C3-102F-4C3A-A80C-816EB01E8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40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2720" indent="0">
              <a:spcBef>
                <a:spcPts val="799"/>
              </a:spcBef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8640"/>
                <a:tab algn="l" pos="5047920"/>
                <a:tab algn="l" pos="5497200"/>
                <a:tab algn="l" pos="5946480"/>
                <a:tab algn="l" pos="6395760"/>
                <a:tab algn="l" pos="6845040"/>
                <a:tab algn="l" pos="7294320"/>
                <a:tab algn="l" pos="7743600"/>
                <a:tab algn="l" pos="8192880"/>
                <a:tab algn="l" pos="864216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40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2720" indent="0">
              <a:spcBef>
                <a:spcPts val="799"/>
              </a:spcBef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8640"/>
                <a:tab algn="l" pos="5047920"/>
                <a:tab algn="l" pos="5497200"/>
                <a:tab algn="l" pos="5946480"/>
                <a:tab algn="l" pos="6395760"/>
                <a:tab algn="l" pos="6845040"/>
                <a:tab algn="l" pos="7294320"/>
                <a:tab algn="l" pos="7743600"/>
                <a:tab algn="l" pos="8192880"/>
                <a:tab algn="l" pos="864216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299581-BF01-4B20-AC30-26E967E58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04F675-51AC-470A-9F1A-E8EBF61A0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0240" cy="52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2720" indent="-342720" algn="ctr">
              <a:spcBef>
                <a:spcPts val="799"/>
              </a:spcBef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8640"/>
                <a:tab algn="l" pos="5047920"/>
                <a:tab algn="l" pos="5497200"/>
                <a:tab algn="l" pos="5946480"/>
                <a:tab algn="l" pos="6395760"/>
                <a:tab algn="l" pos="6845040"/>
                <a:tab algn="l" pos="7294320"/>
                <a:tab algn="l" pos="7743600"/>
                <a:tab algn="l" pos="8192880"/>
                <a:tab algn="l" pos="864216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FA283D-6940-4A96-9B73-A6AAAF18C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19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2720" indent="0">
              <a:spcBef>
                <a:spcPts val="799"/>
              </a:spcBef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8640"/>
                <a:tab algn="l" pos="5047920"/>
                <a:tab algn="l" pos="5497200"/>
                <a:tab algn="l" pos="5946480"/>
                <a:tab algn="l" pos="6395760"/>
                <a:tab algn="l" pos="6845040"/>
                <a:tab algn="l" pos="7294320"/>
                <a:tab algn="l" pos="7743600"/>
                <a:tab algn="l" pos="8192880"/>
                <a:tab algn="l" pos="864216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40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2720" indent="0">
              <a:spcBef>
                <a:spcPts val="799"/>
              </a:spcBef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8640"/>
                <a:tab algn="l" pos="5047920"/>
                <a:tab algn="l" pos="5497200"/>
                <a:tab algn="l" pos="5946480"/>
                <a:tab algn="l" pos="6395760"/>
                <a:tab algn="l" pos="6845040"/>
                <a:tab algn="l" pos="7294320"/>
                <a:tab algn="l" pos="7743600"/>
                <a:tab algn="l" pos="8192880"/>
                <a:tab algn="l" pos="864216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727080"/>
            <a:ext cx="4011120" cy="19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2720" indent="0">
              <a:spcBef>
                <a:spcPts val="799"/>
              </a:spcBef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8640"/>
                <a:tab algn="l" pos="5047920"/>
                <a:tab algn="l" pos="5497200"/>
                <a:tab algn="l" pos="5946480"/>
                <a:tab algn="l" pos="6395760"/>
                <a:tab algn="l" pos="6845040"/>
                <a:tab algn="l" pos="7294320"/>
                <a:tab algn="l" pos="7743600"/>
                <a:tab algn="l" pos="8192880"/>
                <a:tab algn="l" pos="864216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FC95A6-E093-474D-A892-5EBC03B72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40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2720" indent="0">
              <a:spcBef>
                <a:spcPts val="799"/>
              </a:spcBef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8640"/>
                <a:tab algn="l" pos="5047920"/>
                <a:tab algn="l" pos="5497200"/>
                <a:tab algn="l" pos="5946480"/>
                <a:tab algn="l" pos="6395760"/>
                <a:tab algn="l" pos="6845040"/>
                <a:tab algn="l" pos="7294320"/>
                <a:tab algn="l" pos="7743600"/>
                <a:tab algn="l" pos="8192880"/>
                <a:tab algn="l" pos="864216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19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2720" indent="0">
              <a:spcBef>
                <a:spcPts val="799"/>
              </a:spcBef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8640"/>
                <a:tab algn="l" pos="5047920"/>
                <a:tab algn="l" pos="5497200"/>
                <a:tab algn="l" pos="5946480"/>
                <a:tab algn="l" pos="6395760"/>
                <a:tab algn="l" pos="6845040"/>
                <a:tab algn="l" pos="7294320"/>
                <a:tab algn="l" pos="7743600"/>
                <a:tab algn="l" pos="8192880"/>
                <a:tab algn="l" pos="864216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9200" y="3727080"/>
            <a:ext cx="4011120" cy="19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2720" indent="0">
              <a:spcBef>
                <a:spcPts val="799"/>
              </a:spcBef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8640"/>
                <a:tab algn="l" pos="5047920"/>
                <a:tab algn="l" pos="5497200"/>
                <a:tab algn="l" pos="5946480"/>
                <a:tab algn="l" pos="6395760"/>
                <a:tab algn="l" pos="6845040"/>
                <a:tab algn="l" pos="7294320"/>
                <a:tab algn="l" pos="7743600"/>
                <a:tab algn="l" pos="8192880"/>
                <a:tab algn="l" pos="864216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0E9666-C92E-405C-A3E6-5C0DA2841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19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2720" indent="0">
              <a:spcBef>
                <a:spcPts val="799"/>
              </a:spcBef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8640"/>
                <a:tab algn="l" pos="5047920"/>
                <a:tab algn="l" pos="5497200"/>
                <a:tab algn="l" pos="5946480"/>
                <a:tab algn="l" pos="6395760"/>
                <a:tab algn="l" pos="6845040"/>
                <a:tab algn="l" pos="7294320"/>
                <a:tab algn="l" pos="7743600"/>
                <a:tab algn="l" pos="8192880"/>
                <a:tab algn="l" pos="864216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19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2720" indent="0">
              <a:spcBef>
                <a:spcPts val="799"/>
              </a:spcBef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8640"/>
                <a:tab algn="l" pos="5047920"/>
                <a:tab algn="l" pos="5497200"/>
                <a:tab algn="l" pos="5946480"/>
                <a:tab algn="l" pos="6395760"/>
                <a:tab algn="l" pos="6845040"/>
                <a:tab algn="l" pos="7294320"/>
                <a:tab algn="l" pos="7743600"/>
                <a:tab algn="l" pos="8192880"/>
                <a:tab algn="l" pos="864216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727080"/>
            <a:ext cx="8220240" cy="19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2720" indent="0">
              <a:spcBef>
                <a:spcPts val="799"/>
              </a:spcBef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8640"/>
                <a:tab algn="l" pos="5047920"/>
                <a:tab algn="l" pos="5497200"/>
                <a:tab algn="l" pos="5946480"/>
                <a:tab algn="l" pos="6395760"/>
                <a:tab algn="l" pos="6845040"/>
                <a:tab algn="l" pos="7294320"/>
                <a:tab algn="l" pos="7743600"/>
                <a:tab algn="l" pos="8192880"/>
                <a:tab algn="l" pos="864216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72A6D6-58CD-438D-BE3F-8BEFA2506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9ed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0240" cy="40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2720" indent="0">
              <a:spcBef>
                <a:spcPts val="799"/>
              </a:spcBef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8640"/>
                <a:tab algn="l" pos="5047920"/>
                <a:tab algn="l" pos="5497200"/>
                <a:tab algn="l" pos="5946480"/>
                <a:tab algn="l" pos="6395760"/>
                <a:tab algn="l" pos="6845040"/>
                <a:tab algn="l" pos="7294320"/>
                <a:tab algn="l" pos="7743600"/>
                <a:tab algn="l" pos="8192880"/>
                <a:tab algn="l" pos="86421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742680" indent="-285480">
              <a:spcBef>
                <a:spcPts val="697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55520"/>
                <a:tab algn="l" pos="604800"/>
                <a:tab algn="l" pos="1054080"/>
                <a:tab algn="l" pos="1503360"/>
                <a:tab algn="l" pos="1952280"/>
                <a:tab algn="l" pos="2401560"/>
                <a:tab algn="l" pos="2850840"/>
                <a:tab algn="l" pos="3300120"/>
                <a:tab algn="l" pos="3749400"/>
                <a:tab algn="l" pos="4198680"/>
                <a:tab algn="l" pos="4647960"/>
                <a:tab algn="l" pos="5097240"/>
                <a:tab algn="l" pos="5546520"/>
                <a:tab algn="l" pos="5995800"/>
                <a:tab algn="l" pos="6445080"/>
                <a:tab algn="l" pos="6894360"/>
                <a:tab algn="l" pos="7343640"/>
                <a:tab algn="l" pos="7792920"/>
                <a:tab algn="l" pos="8242200"/>
                <a:tab algn="l" pos="869148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98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04480"/>
                <a:tab algn="l" pos="653760"/>
                <a:tab algn="l" pos="1103040"/>
                <a:tab algn="l" pos="1552320"/>
                <a:tab algn="l" pos="2001600"/>
                <a:tab algn="l" pos="2450880"/>
                <a:tab algn="l" pos="2900160"/>
                <a:tab algn="l" pos="3349440"/>
                <a:tab algn="l" pos="3798720"/>
                <a:tab algn="l" pos="4248000"/>
                <a:tab algn="l" pos="4697280"/>
                <a:tab algn="l" pos="5146560"/>
                <a:tab algn="l" pos="5595840"/>
                <a:tab algn="l" pos="6045120"/>
                <a:tab algn="l" pos="6494400"/>
                <a:tab algn="l" pos="6943680"/>
                <a:tab algn="l" pos="7392960"/>
                <a:tab algn="l" pos="7842240"/>
                <a:tab algn="l" pos="8291160"/>
                <a:tab algn="l" pos="87404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96560"/>
                <a:tab algn="l" pos="645840"/>
                <a:tab algn="l" pos="1095120"/>
                <a:tab algn="l" pos="1544400"/>
                <a:tab algn="l" pos="1993680"/>
                <a:tab algn="l" pos="2442960"/>
                <a:tab algn="l" pos="2892240"/>
                <a:tab algn="l" pos="3341520"/>
                <a:tab algn="l" pos="3790800"/>
                <a:tab algn="l" pos="4240080"/>
                <a:tab algn="l" pos="4689360"/>
                <a:tab algn="l" pos="5138640"/>
                <a:tab algn="l" pos="5587920"/>
                <a:tab algn="l" pos="6037200"/>
                <a:tab algn="l" pos="6486480"/>
                <a:tab algn="l" pos="6935760"/>
                <a:tab algn="l" pos="7385040"/>
                <a:tab algn="l" pos="7833960"/>
                <a:tab algn="l" pos="8283240"/>
                <a:tab algn="l" pos="87325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8640"/>
                <a:tab algn="l" pos="637920"/>
                <a:tab algn="l" pos="1087200"/>
                <a:tab algn="l" pos="1536480"/>
                <a:tab algn="l" pos="1985760"/>
                <a:tab algn="l" pos="2435040"/>
                <a:tab algn="l" pos="2884320"/>
                <a:tab algn="l" pos="3333600"/>
                <a:tab algn="l" pos="3782880"/>
                <a:tab algn="l" pos="4232160"/>
                <a:tab algn="l" pos="4681440"/>
                <a:tab algn="l" pos="5130720"/>
                <a:tab algn="l" pos="5580000"/>
                <a:tab algn="l" pos="6029280"/>
                <a:tab algn="l" pos="6478560"/>
                <a:tab algn="l" pos="6927840"/>
                <a:tab algn="l" pos="7376760"/>
                <a:tab algn="l" pos="7826040"/>
                <a:tab algn="l" pos="8275320"/>
                <a:tab algn="l" pos="8724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8640"/>
                <a:tab algn="l" pos="637920"/>
                <a:tab algn="l" pos="1087200"/>
                <a:tab algn="l" pos="1536480"/>
                <a:tab algn="l" pos="1985760"/>
                <a:tab algn="l" pos="2435040"/>
                <a:tab algn="l" pos="2884320"/>
                <a:tab algn="l" pos="3333600"/>
                <a:tab algn="l" pos="3782880"/>
                <a:tab algn="l" pos="4232160"/>
                <a:tab algn="l" pos="4681440"/>
                <a:tab algn="l" pos="5130720"/>
                <a:tab algn="l" pos="5580000"/>
                <a:tab algn="l" pos="6029280"/>
                <a:tab algn="l" pos="6478560"/>
                <a:tab algn="l" pos="6927840"/>
                <a:tab algn="l" pos="7376760"/>
                <a:tab algn="l" pos="7826040"/>
                <a:tab algn="l" pos="8275320"/>
                <a:tab algn="l" pos="8724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8640"/>
                <a:tab algn="l" pos="637920"/>
                <a:tab algn="l" pos="1087200"/>
                <a:tab algn="l" pos="1536480"/>
                <a:tab algn="l" pos="1985760"/>
                <a:tab algn="l" pos="2435040"/>
                <a:tab algn="l" pos="2884320"/>
                <a:tab algn="l" pos="3333600"/>
                <a:tab algn="l" pos="3782880"/>
                <a:tab algn="l" pos="4232160"/>
                <a:tab algn="l" pos="4681440"/>
                <a:tab algn="l" pos="5130720"/>
                <a:tab algn="l" pos="5580000"/>
                <a:tab algn="l" pos="6029280"/>
                <a:tab algn="l" pos="6478560"/>
                <a:tab algn="l" pos="6927840"/>
                <a:tab algn="l" pos="7376760"/>
                <a:tab algn="l" pos="7826040"/>
                <a:tab algn="l" pos="8275320"/>
                <a:tab algn="l" pos="8724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24000" cy="35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000" spc="-1" strike="noStrike">
                <a:solidFill>
                  <a:srgbClr val="000000"/>
                </a:solidFill>
                <a:latin typeface="Monotype Corsiva"/>
              </a:defRPr>
            </a:lvl1pPr>
          </a:lstStyle>
          <a:p>
            <a:pPr indent="0">
              <a:buNone/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&lt;date/time&gt;</a:t>
            </a:r>
            <a:endParaRPr b="0" lang="ru-RU" sz="2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ru-RU" sz="2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24360" cy="35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000" spc="-1" strike="noStrike">
                <a:solidFill>
                  <a:srgbClr val="000000"/>
                </a:solidFill>
                <a:latin typeface="Monotype Corsiva"/>
              </a:defRPr>
            </a:lvl1pPr>
          </a:lstStyle>
          <a:p>
            <a:pPr indent="0">
              <a:buNone/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673E481-333F-47E9-90F2-F879C5245CFB}" type="slidenum"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&lt;number&gt;</a:t>
            </a:fld>
            <a:endParaRPr b="0" lang="ru-RU" sz="20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5.png"/><Relationship Id="rId3" Type="http://schemas.openxmlformats.org/officeDocument/2006/relationships/image" Target="../media/image4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9ed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5145120" y="2852640"/>
            <a:ext cx="3664080" cy="290844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1940040"/>
            <a:ext cx="3929040" cy="33163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87280" y="287280"/>
            <a:ext cx="864072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3600"/>
            </a:br>
            <a:r>
              <a:rPr b="1" lang="ru-RU" sz="3200" spc="-1" strike="noStrike">
                <a:solidFill>
                  <a:srgbClr val="002060"/>
                </a:solidFill>
                <a:latin typeface="Monotype Corsiva"/>
                <a:ea typeface="Microsoft YaHei"/>
              </a:rPr>
              <a:t>«Приобщение детей старшего дошкольного возраста к народным и семейным традициям, праздникам и обычаям»</a:t>
            </a:r>
            <a:endParaRPr b="0" lang="ru-RU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4" name=""/>
          <p:cNvSpPr/>
          <p:nvPr/>
        </p:nvSpPr>
        <p:spPr>
          <a:xfrm>
            <a:off x="71280" y="5040360"/>
            <a:ext cx="356400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2720" indent="-333360" algn="ctr">
              <a:lnSpc>
                <a:spcPct val="100000"/>
              </a:lnSpc>
              <a:spcBef>
                <a:spcPts val="697"/>
              </a:spcBef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 </a:t>
            </a:r>
            <a:r>
              <a:rPr b="1" lang="ru-RU" sz="2800" spc="-1" strike="noStrike">
                <a:solidFill>
                  <a:srgbClr val="1f497d"/>
                </a:solidFill>
                <a:latin typeface="Arial"/>
                <a:ea typeface="Microsoft YaHei"/>
              </a:rPr>
              <a:t>Выполнила:</a:t>
            </a:r>
            <a:endParaRPr b="0" lang="ru-RU" sz="2800" spc="-1" strike="noStrike">
              <a:solidFill>
                <a:srgbClr val="000000"/>
              </a:solidFill>
              <a:latin typeface="Monotype Corsiva"/>
            </a:endParaRPr>
          </a:p>
          <a:p>
            <a:pPr marL="342720" indent="-333360" algn="ctr">
              <a:lnSpc>
                <a:spcPct val="100000"/>
              </a:lnSpc>
              <a:spcBef>
                <a:spcPts val="697"/>
              </a:spcBef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Arial"/>
                <a:ea typeface="Microsoft YaHei"/>
              </a:rPr>
              <a:t> </a:t>
            </a:r>
            <a:r>
              <a:rPr b="1" lang="ru-RU" sz="2800" spc="-1" strike="noStrike">
                <a:solidFill>
                  <a:srgbClr val="1f497d"/>
                </a:solidFill>
                <a:latin typeface="Arial"/>
                <a:ea typeface="Microsoft YaHei"/>
              </a:rPr>
              <a:t>Николаева Ирина  Анатольевна                                                                                                                                </a:t>
            </a:r>
            <a:endParaRPr b="0" lang="ru-RU" sz="2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5" name=""/>
          <p:cNvSpPr/>
          <p:nvPr/>
        </p:nvSpPr>
        <p:spPr>
          <a:xfrm>
            <a:off x="6084720" y="5300640"/>
            <a:ext cx="280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Times New Roman"/>
                <a:ea typeface="Arial"/>
              </a:rPr>
              <a:t> </a:t>
            </a:r>
            <a:r>
              <a:rPr b="0" lang="ru-RU" sz="1200" spc="-1" strike="noStrike">
                <a:solidFill>
                  <a:srgbClr val="000066"/>
                </a:solidFill>
                <a:latin typeface="Times New Roman"/>
                <a:ea typeface="Arial"/>
              </a:rPr>
              <a:t> </a:t>
            </a:r>
            <a:endParaRPr b="0" lang="ru-RU" sz="12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6" name=""/>
          <p:cNvSpPr/>
          <p:nvPr/>
        </p:nvSpPr>
        <p:spPr>
          <a:xfrm>
            <a:off x="3203640" y="6237360"/>
            <a:ext cx="259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600" spc="-1" strike="noStrike">
                <a:solidFill>
                  <a:srgbClr val="002060"/>
                </a:solidFill>
                <a:latin typeface="Calibri"/>
                <a:ea typeface="Arial"/>
              </a:rPr>
              <a:t>             </a:t>
            </a:r>
            <a:endParaRPr b="0" lang="ru-RU" sz="16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9ed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468360" y="260280"/>
            <a:ext cx="8229600" cy="70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ru-RU" sz="2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11" name=""/>
          <p:cNvSpPr/>
          <p:nvPr/>
        </p:nvSpPr>
        <p:spPr>
          <a:xfrm>
            <a:off x="1511280" y="-960480"/>
            <a:ext cx="26668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spcBef>
                <a:spcPts val="1199"/>
              </a:spcBef>
              <a:spcAft>
                <a:spcPts val="998"/>
              </a:spcAft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Monotype Corsiva"/>
              </a:rPr>
              <a:t>ями наблюдается рост духовно-нравстве</a:t>
            </a:r>
            <a:endParaRPr b="0" lang="ru-RU" sz="1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spcBef>
                <a:spcPts val="1199"/>
              </a:spcBef>
              <a:spcAft>
                <a:spcPts val="998"/>
              </a:spcAft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12" name=""/>
          <p:cNvSpPr/>
          <p:nvPr/>
        </p:nvSpPr>
        <p:spPr>
          <a:xfrm>
            <a:off x="1944720" y="128520"/>
            <a:ext cx="575928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  <a:spcAft>
                <a:spcPts val="998"/>
              </a:spcAft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600" spc="-1" strike="noStrike">
                <a:solidFill>
                  <a:srgbClr val="0000ff"/>
                </a:solidFill>
                <a:latin typeface="Arial Black"/>
              </a:rPr>
              <a:t>Увлекательные занятия.</a:t>
            </a:r>
            <a:endParaRPr b="0" lang="ru-RU" sz="26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998"/>
              </a:spcAft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26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360360" y="809640"/>
            <a:ext cx="3808440" cy="214308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3121200" y="2160720"/>
            <a:ext cx="2143080" cy="28573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144360" y="4608360"/>
            <a:ext cx="3808440" cy="21434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4"/>
          <a:stretch/>
        </p:blipFill>
        <p:spPr>
          <a:xfrm>
            <a:off x="5262480" y="647640"/>
            <a:ext cx="3808440" cy="28576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5"/>
          <a:stretch/>
        </p:blipFill>
        <p:spPr>
          <a:xfrm>
            <a:off x="5256360" y="4552920"/>
            <a:ext cx="380844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9ed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428760" y="142920"/>
            <a:ext cx="822960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2500"/>
            </a:br>
            <a:endParaRPr b="0" lang="ru-RU" sz="25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19" name=""/>
          <p:cNvSpPr/>
          <p:nvPr/>
        </p:nvSpPr>
        <p:spPr>
          <a:xfrm>
            <a:off x="3857760" y="1928880"/>
            <a:ext cx="507204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ru-RU" sz="2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20" name=""/>
          <p:cNvSpPr/>
          <p:nvPr/>
        </p:nvSpPr>
        <p:spPr>
          <a:xfrm>
            <a:off x="144360" y="216000"/>
            <a:ext cx="8712360" cy="43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  <a:spcAft>
                <a:spcPts val="998"/>
              </a:spcAft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нашем детском саду стало уже хорошей традицией отмечать  праздники,   Это помогает детям лучше ориентироваться во временных понятиях, понимать зависимость деятельности людей от природных условий, цикличность народного календаря из года в год повторяет эти праздники и события, помогает детям усваивать данный материал, постепенно усложняя и углубляя его: Золотая осень, Рождество, Масленица и многие другие.</a:t>
            </a:r>
            <a:endParaRPr b="0" lang="ru-RU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998"/>
              </a:spcAft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936720" y="2016000"/>
            <a:ext cx="727236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9ed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366840" y="216000"/>
            <a:ext cx="4457520" cy="33336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4896000" y="3600360"/>
            <a:ext cx="3887640" cy="30243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216000" y="4319640"/>
            <a:ext cx="3600360" cy="22320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111640" y="431640"/>
            <a:ext cx="3888000" cy="17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  <a:spcAft>
                <a:spcPts val="998"/>
              </a:spcAft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600" spc="-1" strike="noStrike">
                <a:solidFill>
                  <a:srgbClr val="0000ff"/>
                </a:solidFill>
                <a:latin typeface="Arial Black"/>
              </a:rPr>
              <a:t>Русская-народная ярмарка.</a:t>
            </a:r>
            <a:endParaRPr b="0" lang="ru-RU" sz="26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998"/>
              </a:spcAft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2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26" name=""/>
          <p:cNvSpPr/>
          <p:nvPr/>
        </p:nvSpPr>
        <p:spPr>
          <a:xfrm>
            <a:off x="287280" y="3755880"/>
            <a:ext cx="3959280" cy="10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  <a:spcAft>
                <a:spcPts val="998"/>
              </a:spcAft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 Black"/>
              </a:rPr>
              <a:t>Россия — Родина для всех!</a:t>
            </a:r>
            <a:endParaRPr b="0" lang="ru-RU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998"/>
              </a:spcAft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8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9ed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87280" y="171360"/>
            <a:ext cx="6105600" cy="371628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474840" y="287280"/>
            <a:ext cx="377316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ru-RU" sz="2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29" name=""/>
          <p:cNvSpPr/>
          <p:nvPr/>
        </p:nvSpPr>
        <p:spPr>
          <a:xfrm>
            <a:off x="5327640" y="3887640"/>
            <a:ext cx="3656160" cy="283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Я подарок маме </a:t>
            </a:r>
            <a:endParaRPr b="0" lang="ru-RU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Начал рисовать, </a:t>
            </a:r>
            <a:endParaRPr b="0" lang="ru-RU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Выглянуло солнце </a:t>
            </a:r>
            <a:endParaRPr b="0" lang="ru-RU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И зовёт гулять… </a:t>
            </a:r>
            <a:endParaRPr b="0" lang="ru-RU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Солнце, Солнце, </a:t>
            </a:r>
            <a:endParaRPr b="0" lang="ru-RU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Не сердись! </a:t>
            </a:r>
            <a:endParaRPr b="0" lang="ru-RU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Лучше рядышком садись. </a:t>
            </a:r>
            <a:endParaRPr b="0" lang="ru-RU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Мамин праздник раз в году, </a:t>
            </a:r>
            <a:endParaRPr b="0" lang="ru-RU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Нарисую и пойду! Ладно?</a:t>
            </a:r>
            <a:endParaRPr b="0" lang="ru-RU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30" name=""/>
          <p:cNvSpPr/>
          <p:nvPr/>
        </p:nvSpPr>
        <p:spPr>
          <a:xfrm>
            <a:off x="360360" y="4221000"/>
            <a:ext cx="3656160" cy="283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600" spc="-1" strike="noStrike">
                <a:solidFill>
                  <a:srgbClr val="0000ff"/>
                </a:solidFill>
                <a:latin typeface="Arial Black"/>
              </a:rPr>
              <a:t>День матери.</a:t>
            </a: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ru-RU" sz="20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9ed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4991040" y="863640"/>
            <a:ext cx="379260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2720" indent="-333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ial Black"/>
                <a:ea typeface="Times New Roman"/>
              </a:rPr>
              <a:t>Эту истину знаю от роду. </a:t>
            </a:r>
            <a:endParaRPr b="0" lang="ru-RU" sz="1800" spc="-1" strike="noStrike">
              <a:solidFill>
                <a:srgbClr val="000000"/>
              </a:solidFill>
              <a:latin typeface="Monotype Corsiva"/>
            </a:endParaRPr>
          </a:p>
          <a:p>
            <a:pPr marL="342720" indent="-333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ial Black"/>
                <a:ea typeface="Times New Roman"/>
              </a:rPr>
              <a:t>И её никогда не таю:</a:t>
            </a:r>
            <a:endParaRPr b="0" lang="ru-RU" sz="1800" spc="-1" strike="noStrike">
              <a:solidFill>
                <a:srgbClr val="000000"/>
              </a:solidFill>
              <a:latin typeface="Monotype Corsiva"/>
            </a:endParaRPr>
          </a:p>
          <a:p>
            <a:pPr marL="342720" indent="-333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ial Black"/>
                <a:ea typeface="Times New Roman"/>
              </a:rPr>
              <a:t>Кто не любит родную природу,</a:t>
            </a:r>
            <a:endParaRPr b="0" lang="ru-RU" sz="1800" spc="-1" strike="noStrike">
              <a:solidFill>
                <a:srgbClr val="000000"/>
              </a:solidFill>
              <a:latin typeface="Monotype Corsiva"/>
            </a:endParaRPr>
          </a:p>
          <a:p>
            <a:pPr marL="342720" indent="-333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ial Black"/>
                <a:ea typeface="Times New Roman"/>
              </a:rPr>
              <a:t>Тот не любит Отчизну свою.</a:t>
            </a:r>
            <a:endParaRPr b="0" lang="ru-RU" sz="1800" spc="-1" strike="noStrike">
              <a:solidFill>
                <a:srgbClr val="000000"/>
              </a:solidFill>
              <a:latin typeface="Monotype Corsiva"/>
            </a:endParaRPr>
          </a:p>
          <a:p>
            <a:pPr marL="342720" indent="-333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464000" y="3672000"/>
            <a:ext cx="4464000" cy="29527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216000" y="576360"/>
            <a:ext cx="4176720" cy="28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9ed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457200" y="571680"/>
            <a:ext cx="8229600" cy="84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ru-RU" sz="2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35" name=""/>
          <p:cNvSpPr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ru-RU" sz="20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55600" y="1079640"/>
            <a:ext cx="4280040" cy="280800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3959280" y="3887640"/>
            <a:ext cx="5111640" cy="28800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5040360" y="884160"/>
            <a:ext cx="4392720" cy="17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  <a:spcAft>
                <a:spcPts val="998"/>
              </a:spcAft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600" spc="-1" strike="noStrike">
                <a:solidFill>
                  <a:srgbClr val="0000ff"/>
                </a:solidFill>
                <a:latin typeface="Arial Black"/>
              </a:rPr>
              <a:t> </a:t>
            </a:r>
            <a:r>
              <a:rPr b="0" lang="ru-RU" sz="2600" spc="-1" strike="noStrike">
                <a:solidFill>
                  <a:srgbClr val="0000ff"/>
                </a:solidFill>
                <a:latin typeface="Arial Black"/>
              </a:rPr>
              <a:t>«Калядки»</a:t>
            </a:r>
            <a:endParaRPr b="0" lang="ru-RU" sz="26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998"/>
              </a:spcAft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26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9ed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4759200" y="4265640"/>
            <a:ext cx="4025880" cy="24303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150840" y="4319640"/>
            <a:ext cx="4097160" cy="23763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4896000" y="1312920"/>
            <a:ext cx="3887640" cy="235908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4"/>
          <a:stretch/>
        </p:blipFill>
        <p:spPr>
          <a:xfrm>
            <a:off x="222120" y="1273320"/>
            <a:ext cx="3808440" cy="254160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2160720" y="415800"/>
            <a:ext cx="62640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  <a:spcAft>
                <a:spcPts val="998"/>
              </a:spcAft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600" spc="-1" strike="noStrike">
                <a:solidFill>
                  <a:srgbClr val="0000ff"/>
                </a:solidFill>
                <a:latin typeface="Arial Black"/>
              </a:rPr>
              <a:t> </a:t>
            </a:r>
            <a:r>
              <a:rPr b="0" lang="ru-RU" sz="2600" spc="-1" strike="noStrike">
                <a:solidFill>
                  <a:srgbClr val="0000ff"/>
                </a:solidFill>
                <a:latin typeface="Arial Black"/>
              </a:rPr>
              <a:t>Масленица пришла!</a:t>
            </a:r>
            <a:endParaRPr b="0" lang="ru-RU" sz="26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998"/>
              </a:spcAft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26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9ed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5904000" y="792000"/>
            <a:ext cx="3311280" cy="21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  <a:spcAft>
                <a:spcPts val="998"/>
              </a:spcAft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600" spc="-1" strike="noStrike">
                <a:solidFill>
                  <a:srgbClr val="0000ff"/>
                </a:solidFill>
                <a:latin typeface="Arial Black"/>
              </a:rPr>
              <a:t>Интересные развлечения!</a:t>
            </a:r>
            <a:endParaRPr b="0" lang="ru-RU" sz="26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998"/>
              </a:spcAft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26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200480" y="3168720"/>
            <a:ext cx="4654440" cy="334656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431640" y="431640"/>
            <a:ext cx="495324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9ed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44360" y="3600360"/>
            <a:ext cx="5112000" cy="309744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4416480" y="254160"/>
            <a:ext cx="4367160" cy="320184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576360" y="863640"/>
            <a:ext cx="338436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spcAft>
                <a:spcPts val="998"/>
              </a:spcAft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600" spc="-1" strike="noStrike">
                <a:solidFill>
                  <a:srgbClr val="0000ff"/>
                </a:solidFill>
                <a:latin typeface="Arial Black"/>
              </a:rPr>
              <a:t>День победы!</a:t>
            </a:r>
            <a:endParaRPr b="0" lang="ru-RU" sz="26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spcAft>
                <a:spcPts val="998"/>
              </a:spcAft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 Black"/>
              </a:rPr>
              <a:t>Песня «Катюша»</a:t>
            </a:r>
            <a:endParaRPr b="0" lang="ru-RU" sz="18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spcAft>
                <a:spcPts val="998"/>
              </a:spcAft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8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9ed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1295280" y="503280"/>
            <a:ext cx="6767640" cy="21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spcAft>
                <a:spcPts val="998"/>
              </a:spcAft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600" spc="-1" strike="noStrike">
                <a:solidFill>
                  <a:srgbClr val="0000ff"/>
                </a:solidFill>
                <a:latin typeface="Arial Black"/>
              </a:rPr>
              <a:t>Никто не забыт, ничто не забыто!</a:t>
            </a:r>
            <a:endParaRPr b="0" lang="ru-RU" sz="26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spcAft>
                <a:spcPts val="998"/>
              </a:spcAft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26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327640" y="1511280"/>
            <a:ext cx="3355920" cy="446400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431640" y="2376360"/>
            <a:ext cx="46087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9ed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68360" y="260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 Black"/>
                <a:ea typeface="Microsoft YaHei"/>
              </a:rPr>
              <a:t>АКТУАЛЬНОСТЬ</a:t>
            </a:r>
            <a:r>
              <a:rPr b="1" lang="ru-RU" sz="2400" spc="-1" strike="noStrike">
                <a:solidFill>
                  <a:srgbClr val="0000ff"/>
                </a:solidFill>
                <a:latin typeface="Arial Black"/>
                <a:ea typeface="Microsoft YaHei"/>
              </a:rPr>
              <a:t> </a:t>
            </a:r>
            <a:endParaRPr b="0" lang="ru-RU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81000"/>
            <a:ext cx="8229600" cy="51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ru-RU" sz="2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9" name=""/>
          <p:cNvSpPr/>
          <p:nvPr/>
        </p:nvSpPr>
        <p:spPr>
          <a:xfrm>
            <a:off x="287280" y="1152360"/>
            <a:ext cx="8805960" cy="64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  <a:spcAft>
                <a:spcPts val="998"/>
              </a:spcAft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Актуальность данной темы заключается в том, что воспитывая в детях любовь к Родине и национальным традициям, как можно раньше, у них формируются духовно-нравственные качества, развивается личность ребенка.Народное творчество раскрывает перед дошкольниками дверь в мир прекрасного и доброго, что влияет на формирование музыкальных способностей и духовно- нравственных качеств детей. Не случайно во всех странах мира народному творчеству, приобщению дошкольников к национальной культуре, к традициям — отводится важная роль в формировании личности ребенка, сохранению и укреплению национальной культуры. Для успешной работы в данном направлении важна система и последовательность по воспитанию положительного отношения дошкольников к духовно-нравственным ценностям. Важно развивать творческие способности дошкольников, его личностные и духовно-нравственные качества.</a:t>
            </a:r>
            <a:endParaRPr b="0" lang="ru-RU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998"/>
              </a:spcAft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998"/>
              </a:spcAft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998"/>
              </a:spcAft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20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9ed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826920" y="333360"/>
            <a:ext cx="6178680" cy="521496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500040" y="3376440"/>
            <a:ext cx="8504280" cy="299412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>
            <a:off x="500040" y="3376440"/>
            <a:ext cx="8504280" cy="299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9ed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82760" y="863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  <a:ea typeface="Microsoft YaHei"/>
              </a:rPr>
              <a:t>Цель самообразования: </a:t>
            </a:r>
            <a:endParaRPr b="0" lang="ru-RU" sz="18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Повысить профессиональный уровень знаний для приобщения детей старшего дошкольного возраста к народным и семейным традициям в условиях ФГОС ДО.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Microsoft YaHei"/>
              </a:rPr>
              <a:t>   </a:t>
            </a:r>
            <a:br>
              <a:rPr sz="2400"/>
            </a:br>
            <a:endParaRPr b="0" lang="ru-RU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1" name=""/>
          <p:cNvSpPr/>
          <p:nvPr/>
        </p:nvSpPr>
        <p:spPr>
          <a:xfrm>
            <a:off x="360360" y="2808360"/>
            <a:ext cx="83520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ru-RU" sz="20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9468000" y="3753000"/>
            <a:ext cx="457200" cy="1062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835200" y="1925640"/>
            <a:ext cx="7084800" cy="53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  <a:spcAft>
                <a:spcPts val="998"/>
              </a:spcAft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Задачи:</a:t>
            </a:r>
            <a:endParaRPr b="0" lang="ru-RU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998"/>
              </a:spcAft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1.Воспитывать у детей интерес и любовь к русской национальной культуре</a:t>
            </a:r>
            <a:endParaRPr b="0" lang="ru-RU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998"/>
              </a:spcAft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2. Создать условия для самостоятельного отражения полученных знаний, умений детьми.</a:t>
            </a:r>
            <a:endParaRPr b="0" lang="ru-RU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998"/>
              </a:spcAft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3. Привлечь родителей в воспитательно-образовательный процесс              </a:t>
            </a:r>
            <a:endParaRPr b="0" lang="ru-RU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998"/>
              </a:spcAft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4.Использовать окружающий социум.                                              </a:t>
            </a:r>
            <a:endParaRPr b="0" lang="ru-RU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998"/>
              </a:spcAft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5.Создать систему работы, по приобщению детей к истокам русской народной культуры.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endParaRPr b="0" lang="ru-RU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998"/>
              </a:spcAft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8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9ed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79280" y="0"/>
            <a:ext cx="8785440" cy="19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Monotype Corsiva"/>
                <a:ea typeface="Microsoft YaHei"/>
              </a:rPr>
              <a:t>«Патриотическое воспитание дошкольников»</a:t>
            </a:r>
            <a:br>
              <a:rPr sz="3600"/>
            </a:br>
            <a:endParaRPr b="0" lang="ru-RU" sz="3600" spc="-1" strike="noStrike">
              <a:solidFill>
                <a:srgbClr val="000000"/>
              </a:solidFill>
              <a:latin typeface="Monotype Corsiva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285840" y="1430280"/>
            <a:ext cx="8570880" cy="5143680"/>
            <a:chOff x="285840" y="1430280"/>
            <a:chExt cx="8570880" cy="5143680"/>
          </a:xfrm>
        </p:grpSpPr>
        <p:sp>
          <p:nvSpPr>
            <p:cNvPr id="56" name=""/>
            <p:cNvSpPr/>
            <p:nvPr/>
          </p:nvSpPr>
          <p:spPr>
            <a:xfrm flipH="1" flipV="1">
              <a:off x="3030480" y="2949480"/>
              <a:ext cx="914400" cy="66384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ru-RU" sz="20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36760" y="1906560"/>
              <a:ext cx="1952640" cy="1181160"/>
            </a:xfrm>
            <a:prstGeom prst="ellipse">
              <a:avLst/>
            </a:prstGeom>
            <a:solidFill>
              <a:srgbClr val="ff99cc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8920"/>
                  <a:tab algn="l" pos="898200"/>
                  <a:tab algn="l" pos="1347480"/>
                  <a:tab algn="l" pos="1796760"/>
                  <a:tab algn="l" pos="2246040"/>
                  <a:tab algn="l" pos="2695320"/>
                  <a:tab algn="l" pos="3144600"/>
                  <a:tab algn="l" pos="3593880"/>
                  <a:tab algn="l" pos="4043160"/>
                  <a:tab algn="l" pos="449244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i="1" lang="ru-RU" sz="1400" spc="-1" strike="noStrike">
                  <a:solidFill>
                    <a:srgbClr val="000000"/>
                  </a:solidFill>
                  <a:latin typeface="Arial"/>
                </a:rPr>
                <a:t>Проведение</a:t>
              </a:r>
              <a:endParaRPr b="0" lang="ru-RU" sz="1400" spc="-1" strike="noStrike">
                <a:solidFill>
                  <a:srgbClr val="000000"/>
                </a:solidFill>
                <a:latin typeface="Monotype Corsiv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8920"/>
                  <a:tab algn="l" pos="898200"/>
                  <a:tab algn="l" pos="1347480"/>
                  <a:tab algn="l" pos="1796760"/>
                  <a:tab algn="l" pos="2246040"/>
                  <a:tab algn="l" pos="2695320"/>
                  <a:tab algn="l" pos="3144600"/>
                  <a:tab algn="l" pos="3593880"/>
                  <a:tab algn="l" pos="4043160"/>
                  <a:tab algn="l" pos="449244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i="1" lang="ru-RU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i="1" lang="ru-RU" sz="1400" spc="-1" strike="noStrike">
                  <a:solidFill>
                    <a:srgbClr val="000000"/>
                  </a:solidFill>
                  <a:latin typeface="Arial"/>
                </a:rPr>
                <a:t>патриотических </a:t>
              </a:r>
              <a:endParaRPr b="0" lang="ru-RU" sz="1400" spc="-1" strike="noStrike">
                <a:solidFill>
                  <a:srgbClr val="000000"/>
                </a:solidFill>
                <a:latin typeface="Monotype Corsiv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8920"/>
                  <a:tab algn="l" pos="898200"/>
                  <a:tab algn="l" pos="1347480"/>
                  <a:tab algn="l" pos="1796760"/>
                  <a:tab algn="l" pos="2246040"/>
                  <a:tab algn="l" pos="2695320"/>
                  <a:tab algn="l" pos="3144600"/>
                  <a:tab algn="l" pos="3593880"/>
                  <a:tab algn="l" pos="4043160"/>
                  <a:tab algn="l" pos="449244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i="1" lang="ru-RU" sz="1400" spc="-1" strike="noStrike">
                  <a:solidFill>
                    <a:srgbClr val="000000"/>
                  </a:solidFill>
                  <a:latin typeface="Arial"/>
                </a:rPr>
                <a:t>праздников</a:t>
              </a:r>
              <a:endParaRPr b="0" lang="ru-RU" sz="1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 flipV="1">
              <a:off x="2212560" y="3807000"/>
              <a:ext cx="1398600" cy="15696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ru-RU" sz="20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5840" y="3114720"/>
              <a:ext cx="1950840" cy="1181160"/>
            </a:xfrm>
            <a:prstGeom prst="ellipse">
              <a:avLst/>
            </a:prstGeom>
            <a:solidFill>
              <a:srgbClr val="ff9900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8920"/>
                  <a:tab algn="l" pos="898200"/>
                  <a:tab algn="l" pos="1347480"/>
                  <a:tab algn="l" pos="1796760"/>
                  <a:tab algn="l" pos="2246040"/>
                  <a:tab algn="l" pos="2695320"/>
                  <a:tab algn="l" pos="3144600"/>
                  <a:tab algn="l" pos="3593880"/>
                  <a:tab algn="l" pos="4043160"/>
                  <a:tab algn="l" pos="449244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i="1" lang="ru-RU" sz="1400" spc="-1" strike="noStrike">
                  <a:solidFill>
                    <a:srgbClr val="000000"/>
                  </a:solidFill>
                  <a:latin typeface="Arial"/>
                </a:rPr>
                <a:t>Экскурсии</a:t>
              </a:r>
              <a:endParaRPr b="0" lang="ru-RU" sz="1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60" name=""/>
            <p:cNvSpPr/>
            <p:nvPr/>
          </p:nvSpPr>
          <p:spPr>
            <a:xfrm flipH="1">
              <a:off x="2498400" y="4363920"/>
              <a:ext cx="1228680" cy="4176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ru-RU" sz="20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2560" y="4491000"/>
              <a:ext cx="1951200" cy="1181160"/>
            </a:xfrm>
            <a:prstGeom prst="ellipse">
              <a:avLst/>
            </a:prstGeom>
            <a:solidFill>
              <a:srgbClr val="0000ff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8920"/>
                  <a:tab algn="l" pos="898200"/>
                  <a:tab algn="l" pos="1347480"/>
                  <a:tab algn="l" pos="1796760"/>
                  <a:tab algn="l" pos="2246040"/>
                  <a:tab algn="l" pos="2695320"/>
                  <a:tab algn="l" pos="3144600"/>
                  <a:tab algn="l" pos="3593880"/>
                  <a:tab algn="l" pos="4043160"/>
                  <a:tab algn="l" pos="449244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i="1" lang="ru-RU" sz="1400" spc="-1" strike="noStrike">
                  <a:solidFill>
                    <a:srgbClr val="000000"/>
                  </a:solidFill>
                  <a:latin typeface="Arial"/>
                </a:rPr>
                <a:t>Занятия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ru-RU" sz="1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>
              <a:off x="3749760" y="4624560"/>
              <a:ext cx="488880" cy="79524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ru-RU" sz="20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441520" y="5391000"/>
              <a:ext cx="1951200" cy="1181160"/>
            </a:xfrm>
            <a:prstGeom prst="ellipse">
              <a:avLst/>
            </a:prstGeom>
            <a:solidFill>
              <a:srgbClr val="ff6600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8920"/>
                  <a:tab algn="l" pos="898200"/>
                  <a:tab algn="l" pos="1347480"/>
                  <a:tab algn="l" pos="1796760"/>
                  <a:tab algn="l" pos="2246040"/>
                  <a:tab algn="l" pos="2695320"/>
                  <a:tab algn="l" pos="3144600"/>
                  <a:tab algn="l" pos="3593880"/>
                  <a:tab algn="l" pos="4043160"/>
                  <a:tab algn="l" pos="449244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i="1" lang="ru-RU" sz="1400" spc="-1" strike="noStrike">
                  <a:solidFill>
                    <a:srgbClr val="000000"/>
                  </a:solidFill>
                  <a:latin typeface="Arial"/>
                </a:rPr>
                <a:t>Участия </a:t>
              </a:r>
              <a:endParaRPr b="0" lang="ru-RU" sz="1400" spc="-1" strike="noStrike">
                <a:solidFill>
                  <a:srgbClr val="000000"/>
                </a:solidFill>
                <a:latin typeface="Monotype Corsiv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8920"/>
                  <a:tab algn="l" pos="898200"/>
                  <a:tab algn="l" pos="1347480"/>
                  <a:tab algn="l" pos="1796760"/>
                  <a:tab algn="l" pos="2246040"/>
                  <a:tab algn="l" pos="2695320"/>
                  <a:tab algn="l" pos="3144600"/>
                  <a:tab algn="l" pos="3593880"/>
                  <a:tab algn="l" pos="4043160"/>
                  <a:tab algn="l" pos="449244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i="1" lang="ru-RU" sz="1400" spc="-1" strike="noStrike">
                  <a:solidFill>
                    <a:srgbClr val="000000"/>
                  </a:solidFill>
                  <a:latin typeface="Arial"/>
                </a:rPr>
                <a:t>в конкурсах</a:t>
              </a:r>
              <a:endParaRPr b="0" lang="ru-RU" sz="1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908600" y="4624560"/>
              <a:ext cx="473040" cy="7920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ru-RU" sz="20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741920" y="5392800"/>
              <a:ext cx="1950840" cy="1181160"/>
            </a:xfrm>
            <a:prstGeom prst="ellipse">
              <a:avLst/>
            </a:prstGeom>
            <a:solidFill>
              <a:srgbClr val="ff00ff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8920"/>
                  <a:tab algn="l" pos="898200"/>
                  <a:tab algn="l" pos="1347480"/>
                  <a:tab algn="l" pos="1796760"/>
                  <a:tab algn="l" pos="2246040"/>
                  <a:tab algn="l" pos="2695320"/>
                  <a:tab algn="l" pos="3144600"/>
                  <a:tab algn="l" pos="3593880"/>
                  <a:tab algn="l" pos="4043160"/>
                  <a:tab algn="l" pos="449244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i="1" lang="ru-RU" sz="1400" spc="-1" strike="noStrike">
                  <a:solidFill>
                    <a:srgbClr val="000000"/>
                  </a:solidFill>
                  <a:latin typeface="Arial"/>
                </a:rPr>
                <a:t>Детские проекты</a:t>
              </a:r>
              <a:endParaRPr b="0" lang="ru-RU" sz="1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421240" y="4362480"/>
              <a:ext cx="1209600" cy="4176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ru-RU" sz="20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505560" y="4494240"/>
              <a:ext cx="1952640" cy="1181160"/>
            </a:xfrm>
            <a:prstGeom prst="ellipse">
              <a:avLst/>
            </a:prstGeom>
            <a:solidFill>
              <a:srgbClr val="00ccff">
                <a:alpha val="98000"/>
              </a:srgbClr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8920"/>
                  <a:tab algn="l" pos="898200"/>
                  <a:tab algn="l" pos="1347480"/>
                  <a:tab algn="l" pos="1796760"/>
                  <a:tab algn="l" pos="2246040"/>
                  <a:tab algn="l" pos="2695320"/>
                  <a:tab algn="l" pos="3144600"/>
                  <a:tab algn="l" pos="3593880"/>
                  <a:tab algn="l" pos="4043160"/>
                  <a:tab algn="l" pos="449244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i="1" lang="ru-RU" sz="1400" spc="-1" strike="noStrike">
                  <a:solidFill>
                    <a:srgbClr val="000000"/>
                  </a:solidFill>
                  <a:latin typeface="Arial"/>
                </a:rPr>
                <a:t>Спортивные</a:t>
              </a:r>
              <a:endParaRPr b="0" lang="ru-RU" sz="1400" spc="-1" strike="noStrike">
                <a:solidFill>
                  <a:srgbClr val="000000"/>
                </a:solidFill>
                <a:latin typeface="Monotype Corsiv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8920"/>
                  <a:tab algn="l" pos="898200"/>
                  <a:tab algn="l" pos="1347480"/>
                  <a:tab algn="l" pos="1796760"/>
                  <a:tab algn="l" pos="2246040"/>
                  <a:tab algn="l" pos="2695320"/>
                  <a:tab algn="l" pos="3144600"/>
                  <a:tab algn="l" pos="3593880"/>
                  <a:tab algn="l" pos="4043160"/>
                  <a:tab algn="l" pos="449244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i="1" lang="ru-RU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i="1" lang="ru-RU" sz="1400" spc="-1" strike="noStrike">
                  <a:solidFill>
                    <a:srgbClr val="000000"/>
                  </a:solidFill>
                  <a:latin typeface="Arial"/>
                </a:rPr>
                <a:t>праздники</a:t>
              </a:r>
              <a:endParaRPr b="0" lang="ru-RU" sz="1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>
              <a:off x="5535720" y="3804840"/>
              <a:ext cx="1376280" cy="15732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ru-RU" sz="20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905520" y="3119400"/>
              <a:ext cx="1951200" cy="1181160"/>
            </a:xfrm>
            <a:prstGeom prst="ellipse">
              <a:avLst/>
            </a:prstGeom>
            <a:solidFill>
              <a:srgbClr val="ffff00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8920"/>
                  <a:tab algn="l" pos="898200"/>
                  <a:tab algn="l" pos="1347480"/>
                  <a:tab algn="l" pos="1796760"/>
                  <a:tab algn="l" pos="2246040"/>
                  <a:tab algn="l" pos="2695320"/>
                  <a:tab algn="l" pos="3144600"/>
                  <a:tab algn="l" pos="3593880"/>
                  <a:tab algn="l" pos="4043160"/>
                  <a:tab algn="l" pos="449244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i="1" lang="ru-RU" sz="1400" spc="-1" strike="noStrike">
                  <a:solidFill>
                    <a:srgbClr val="000000"/>
                  </a:solidFill>
                  <a:latin typeface="Arial"/>
                </a:rPr>
                <a:t>Выставки</a:t>
              </a:r>
              <a:endParaRPr b="0" lang="ru-RU" sz="1400" spc="-1" strike="noStrike">
                <a:solidFill>
                  <a:srgbClr val="000000"/>
                </a:solidFill>
                <a:latin typeface="Monotype Corsiv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8920"/>
                  <a:tab algn="l" pos="898200"/>
                  <a:tab algn="l" pos="1347480"/>
                  <a:tab algn="l" pos="1796760"/>
                  <a:tab algn="l" pos="2246040"/>
                  <a:tab algn="l" pos="2695320"/>
                  <a:tab algn="l" pos="3144600"/>
                  <a:tab algn="l" pos="3593880"/>
                  <a:tab algn="l" pos="4043160"/>
                  <a:tab algn="l" pos="449244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i="1" lang="ru-RU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i="1" lang="ru-RU" sz="1400" spc="-1" strike="noStrike">
                  <a:solidFill>
                    <a:srgbClr val="000000"/>
                  </a:solidFill>
                  <a:latin typeface="Arial"/>
                </a:rPr>
                <a:t>детских работ</a:t>
              </a:r>
              <a:endParaRPr b="0" lang="ru-RU" sz="1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70" name=""/>
            <p:cNvSpPr/>
            <p:nvPr/>
          </p:nvSpPr>
          <p:spPr>
            <a:xfrm flipV="1">
              <a:off x="5199120" y="2949480"/>
              <a:ext cx="895320" cy="66384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ru-RU" sz="20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757840" y="1908000"/>
              <a:ext cx="1951200" cy="1181160"/>
            </a:xfrm>
            <a:prstGeom prst="ellipse">
              <a:avLst/>
            </a:prstGeom>
            <a:solidFill>
              <a:srgbClr val="cc9900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8920"/>
                  <a:tab algn="l" pos="898200"/>
                  <a:tab algn="l" pos="1347480"/>
                  <a:tab algn="l" pos="1796760"/>
                  <a:tab algn="l" pos="2246040"/>
                  <a:tab algn="l" pos="2695320"/>
                  <a:tab algn="l" pos="3144600"/>
                  <a:tab algn="l" pos="3593880"/>
                  <a:tab algn="l" pos="4043160"/>
                  <a:tab algn="l" pos="449244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i="1" lang="ru-RU" sz="1400" spc="-1" strike="noStrike">
                  <a:solidFill>
                    <a:srgbClr val="000000"/>
                  </a:solidFill>
                  <a:latin typeface="Arial"/>
                </a:rPr>
                <a:t>Театрализованные</a:t>
              </a:r>
              <a:endParaRPr b="0" lang="ru-RU" sz="1400" spc="-1" strike="noStrike">
                <a:solidFill>
                  <a:srgbClr val="000000"/>
                </a:solidFill>
                <a:latin typeface="Monotype Corsiv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8920"/>
                  <a:tab algn="l" pos="898200"/>
                  <a:tab algn="l" pos="1347480"/>
                  <a:tab algn="l" pos="1796760"/>
                  <a:tab algn="l" pos="2246040"/>
                  <a:tab algn="l" pos="2695320"/>
                  <a:tab algn="l" pos="3144600"/>
                  <a:tab algn="l" pos="3593880"/>
                  <a:tab algn="l" pos="4043160"/>
                  <a:tab algn="l" pos="449244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i="1" lang="ru-RU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i="1" lang="ru-RU" sz="1400" spc="-1" strike="noStrike">
                  <a:solidFill>
                    <a:srgbClr val="000000"/>
                  </a:solidFill>
                  <a:latin typeface="Arial"/>
                </a:rPr>
                <a:t>представления</a:t>
              </a:r>
              <a:endParaRPr b="0" lang="ru-RU" sz="1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72" name=""/>
            <p:cNvSpPr/>
            <p:nvPr/>
          </p:nvSpPr>
          <p:spPr>
            <a:xfrm flipV="1">
              <a:off x="4572000" y="2609640"/>
              <a:ext cx="0" cy="8650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ru-RU" sz="20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592440" y="1430280"/>
              <a:ext cx="1951200" cy="1181160"/>
            </a:xfrm>
            <a:prstGeom prst="ellipse">
              <a:avLst/>
            </a:prstGeom>
            <a:solidFill>
              <a:srgbClr val="1af224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8920"/>
                  <a:tab algn="l" pos="898200"/>
                  <a:tab algn="l" pos="1347480"/>
                  <a:tab algn="l" pos="1796760"/>
                  <a:tab algn="l" pos="2246040"/>
                  <a:tab algn="l" pos="2695320"/>
                  <a:tab algn="l" pos="3144600"/>
                  <a:tab algn="l" pos="3593880"/>
                  <a:tab algn="l" pos="4043160"/>
                  <a:tab algn="l" pos="449244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i="1" lang="ru-RU" sz="1400" spc="-1" strike="noStrike">
                  <a:solidFill>
                    <a:srgbClr val="000000"/>
                  </a:solidFill>
                  <a:latin typeface="Arial"/>
                </a:rPr>
                <a:t>досуги</a:t>
              </a:r>
              <a:endParaRPr b="0" lang="ru-RU" sz="1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592440" y="3475080"/>
              <a:ext cx="1951200" cy="1181160"/>
            </a:xfrm>
            <a:prstGeom prst="ellipse">
              <a:avLst/>
            </a:prstGeom>
            <a:solidFill>
              <a:srgbClr val="00ffff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8920"/>
                  <a:tab algn="l" pos="898200"/>
                  <a:tab algn="l" pos="1347480"/>
                  <a:tab algn="l" pos="1796760"/>
                  <a:tab algn="l" pos="2246040"/>
                  <a:tab algn="l" pos="2695320"/>
                  <a:tab algn="l" pos="3144600"/>
                  <a:tab algn="l" pos="3593880"/>
                  <a:tab algn="l" pos="4043160"/>
                  <a:tab algn="l" pos="449244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i="1" lang="ru-RU" sz="1800" spc="-1" strike="noStrike">
                  <a:solidFill>
                    <a:srgbClr val="cc0000"/>
                  </a:solidFill>
                  <a:latin typeface="Arial"/>
                </a:rPr>
                <a:t>Формы работы</a:t>
              </a:r>
              <a:endParaRPr b="0" lang="ru-RU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pic>
          <p:nvPicPr>
            <p:cNvPr id="75" name="" descr=""/>
            <p:cNvPicPr/>
            <p:nvPr/>
          </p:nvPicPr>
          <p:blipFill>
            <a:blip r:embed="rId1"/>
            <a:stretch/>
          </p:blipFill>
          <p:spPr>
            <a:xfrm>
              <a:off x="5581800" y="3233880"/>
              <a:ext cx="1215720" cy="1647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6" name=""/>
          <p:cNvSpPr/>
          <p:nvPr/>
        </p:nvSpPr>
        <p:spPr>
          <a:xfrm>
            <a:off x="808200" y="13604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ru-RU" sz="20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9ed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539640" y="0"/>
            <a:ext cx="8229600" cy="12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ru-RU" sz="2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8" name=""/>
          <p:cNvSpPr/>
          <p:nvPr/>
        </p:nvSpPr>
        <p:spPr>
          <a:xfrm>
            <a:off x="6192720" y="431640"/>
            <a:ext cx="2880000" cy="2160720"/>
          </a:xfrm>
          <a:prstGeom prst="rect">
            <a:avLst/>
          </a:prstGeom>
          <a:blipFill rotWithShape="0">
            <a:blip r:embed="rId1"/>
            <a:srcRect/>
            <a:tile tx="0" ty="0" sx="106821" sy="106765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ru-RU" sz="2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9" name=""/>
          <p:cNvSpPr/>
          <p:nvPr/>
        </p:nvSpPr>
        <p:spPr>
          <a:xfrm>
            <a:off x="3672000" y="1214280"/>
            <a:ext cx="162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 Black"/>
                <a:ea typeface="Arial"/>
              </a:rPr>
              <a:t>Моя Родина</a:t>
            </a:r>
            <a:endParaRPr b="0" lang="ru-RU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80" name=""/>
          <p:cNvSpPr/>
          <p:nvPr/>
        </p:nvSpPr>
        <p:spPr>
          <a:xfrm>
            <a:off x="2952720" y="1782720"/>
            <a:ext cx="3095640" cy="18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Родина – это город, в котором живет человек, и улица, на которой стоит его дом, деревце под окном, и пение птички: </a:t>
            </a:r>
            <a:endParaRPr b="0" lang="ru-RU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90000"/>
              </a:lnSpc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все это Родина.</a:t>
            </a:r>
            <a:endParaRPr b="0" lang="ru-RU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150840" y="4176720"/>
            <a:ext cx="3160800" cy="237636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216000" y="216000"/>
            <a:ext cx="2303280" cy="23032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5767560" y="3959280"/>
            <a:ext cx="316044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9ed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Arial Black"/>
                <a:ea typeface="Microsoft YaHei"/>
              </a:rPr>
              <a:t>Наши музеи </a:t>
            </a:r>
            <a:br>
              <a:rPr sz="2600"/>
            </a:br>
            <a:endParaRPr b="0" lang="ru-RU" sz="26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366840" y="792000"/>
            <a:ext cx="3808440" cy="28576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824360" y="3767040"/>
            <a:ext cx="3808440" cy="285768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4830840" y="792000"/>
            <a:ext cx="3808440" cy="28576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431640" y="3743280"/>
            <a:ext cx="380844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9ed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ru-RU" sz="2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90" name=""/>
          <p:cNvSpPr/>
          <p:nvPr/>
        </p:nvSpPr>
        <p:spPr>
          <a:xfrm>
            <a:off x="611280" y="3246480"/>
            <a:ext cx="302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ru-RU" sz="2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91" name=""/>
          <p:cNvSpPr/>
          <p:nvPr/>
        </p:nvSpPr>
        <p:spPr>
          <a:xfrm>
            <a:off x="684360" y="3860640"/>
            <a:ext cx="41749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ru-RU" sz="20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287280" y="1152360"/>
            <a:ext cx="3600360" cy="26640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5256360" y="3959280"/>
            <a:ext cx="3671640" cy="27352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2120" y="3959280"/>
            <a:ext cx="3665520" cy="26686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5256360" y="1008000"/>
            <a:ext cx="3671640" cy="273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295280" y="227160"/>
            <a:ext cx="7272360" cy="10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  <a:spcAft>
                <a:spcPts val="998"/>
              </a:spcAft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 Black"/>
              </a:rPr>
              <a:t>Наши музеи пополнились новыми экспонатами</a:t>
            </a:r>
            <a:endParaRPr b="0" lang="ru-RU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998"/>
              </a:spcAft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8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9ed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ru-RU" sz="2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98" name=""/>
          <p:cNvSpPr/>
          <p:nvPr/>
        </p:nvSpPr>
        <p:spPr>
          <a:xfrm>
            <a:off x="611280" y="3246480"/>
            <a:ext cx="302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ru-RU" sz="2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99" name=""/>
          <p:cNvSpPr/>
          <p:nvPr/>
        </p:nvSpPr>
        <p:spPr>
          <a:xfrm>
            <a:off x="684360" y="3860640"/>
            <a:ext cx="41749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ru-RU" sz="20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87280" y="1152360"/>
            <a:ext cx="3600360" cy="26640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5256360" y="3959280"/>
            <a:ext cx="3671640" cy="273528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222120" y="3959280"/>
            <a:ext cx="3665520" cy="26686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4"/>
          <a:stretch/>
        </p:blipFill>
        <p:spPr>
          <a:xfrm>
            <a:off x="5256360" y="1008000"/>
            <a:ext cx="3671640" cy="273528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1295280" y="227160"/>
            <a:ext cx="7272360" cy="10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  <a:spcAft>
                <a:spcPts val="998"/>
              </a:spcAft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 Black"/>
              </a:rPr>
              <a:t>Наши музеи пополнились новыми экспонатами</a:t>
            </a:r>
            <a:endParaRPr b="0" lang="ru-RU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998"/>
              </a:spcAft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8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9ed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728720" y="287280"/>
            <a:ext cx="698364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  <a:spcAft>
                <a:spcPts val="998"/>
              </a:spcAft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600" spc="-1" strike="noStrike">
                <a:solidFill>
                  <a:srgbClr val="0000ff"/>
                </a:solidFill>
                <a:latin typeface="Arial Black"/>
              </a:rPr>
              <a:t>Мы рисуем и лепим.</a:t>
            </a:r>
            <a:endParaRPr b="0" lang="ru-RU" sz="26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998"/>
              </a:spcAft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26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896000" y="936720"/>
            <a:ext cx="4151160" cy="259236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4824360" y="3816360"/>
            <a:ext cx="4176720" cy="28083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654120" y="3622680"/>
            <a:ext cx="3809880" cy="300204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647640" y="936720"/>
            <a:ext cx="381636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10T21:39:29Z</dcterms:created>
  <dc:creator/>
  <dc:description/>
  <dc:language>en-US</dc:language>
  <cp:lastModifiedBy/>
  <dcterms:modified xsi:type="dcterms:W3CDTF">2018-07-10T22:31:25Z</dcterms:modified>
  <cp:revision>58</cp:revision>
  <dc:subject/>
  <dc:title>ДЕПАРТАМЕНТ  ОБРАЗОВАНИЯ  ГОРОДА  МОСКВЫ   ЗАПАДНОЕ  ОКРУЖНОЕ  УПРАВЛЕНИЕ  ОБРАЗОВАНИЯ   ГОСУДАРСТВЕННОЕ   БЮДЖЕТНОЕ ОБРАЗОВАТЕЛЬНОЕ  УЧРЕЖДЕНИЕ   ДЕТСКИЙ  САД  КОМБИНИРОВАННОГО  ВИДА  № 1757   119633, Москва, ул. Приречная д. 9 корп. 1                                                                    тел./факс 731-44-55</dc:title>
</cp:coreProperties>
</file>