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4A23-34D2-4699-9075-4335F9E2D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08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56B4-B557-4101-B9E9-39C8423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EF6B-64F4-4D86-8FF4-32F62B8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7791-B232-4D0B-8B75-5672765C74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F3F8-3EE6-409E-875C-F2BE3A5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52A8-E5B0-417F-9ED4-0A14630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F211-3B92-4E1D-9060-9F3E561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4274-72B4-4B84-B6BB-380B3661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4762-550C-4077-A646-B21FAC71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203E-45FF-4091-935F-7B801F4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0523-2D2F-4F4D-9D29-E0D771A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3F72-0A9D-4A1C-B4F2-E9646B0B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D7BF8F-DA82-423D-9781-A8D80D26DE11}" type="slidenum"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45120" y="2852640"/>
            <a:ext cx="3664080" cy="2908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940040"/>
            <a:ext cx="3929040" cy="331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7280" y="287280"/>
            <a:ext cx="864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Microsoft YaHei"/>
              </a:rPr>
              <a:t>«Приобщение детей старшего дошкольного возраста к народным и семейным традициям, праздникам и обычаям»</a:t>
            </a:r>
            <a:endParaRPr b="0" lang="ru-RU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71280" y="5040360"/>
            <a:ext cx="356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2720" indent="-333360" algn="ctr">
              <a:lnSpc>
                <a:spcPct val="100000"/>
              </a:lnSpc>
              <a:spcBef>
                <a:spcPts val="697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Выполнила:</a:t>
            </a: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 algn="ctr">
              <a:lnSpc>
                <a:spcPct val="100000"/>
              </a:lnSpc>
              <a:spcBef>
                <a:spcPts val="697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Николаева Ирина  Анатольевна                                                                                                                                </a:t>
            </a: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5300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endParaRPr b="0" lang="ru-RU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623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            </a:t>
            </a:r>
            <a:endParaRPr b="0" lang="ru-RU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60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"/>
          <p:cNvSpPr/>
          <p:nvPr/>
        </p:nvSpPr>
        <p:spPr>
          <a:xfrm>
            <a:off x="1511280" y="-960480"/>
            <a:ext cx="266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</a:rPr>
              <a:t>ями наблюдается рост духовно-нравстве</a:t>
            </a:r>
            <a:endParaRPr b="0" lang="ru-RU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"/>
          <p:cNvSpPr/>
          <p:nvPr/>
        </p:nvSpPr>
        <p:spPr>
          <a:xfrm>
            <a:off x="1944720" y="128520"/>
            <a:ext cx="5759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Увлекательные занятия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809640"/>
            <a:ext cx="380844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121200" y="216072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44360" y="4608360"/>
            <a:ext cx="3808440" cy="214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62480" y="64764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256360" y="4552920"/>
            <a:ext cx="3808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8760" y="1429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endParaRPr b="0" lang="ru-RU" sz="25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"/>
          <p:cNvSpPr/>
          <p:nvPr/>
        </p:nvSpPr>
        <p:spPr>
          <a:xfrm>
            <a:off x="3857760" y="1928880"/>
            <a:ext cx="5072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"/>
          <p:cNvSpPr/>
          <p:nvPr/>
        </p:nvSpPr>
        <p:spPr>
          <a:xfrm>
            <a:off x="144360" y="216000"/>
            <a:ext cx="8712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етском саду стало уже хорошей традицией отмечать  праздники,   Это помогает детям лучше ориентироваться во временных понятиях, понимать зависимость деятельности людей от природных условий, цикличность народного календаря из года в год повторяет эти праздники и события, помогает детям усваивать данный материал, постепенно усложняя и углубляя его: Золотая осень, Рождество, Масленица и многие другие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36720" y="2016000"/>
            <a:ext cx="727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6840" y="216000"/>
            <a:ext cx="4457520" cy="3333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96000" y="360036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16000" y="4319640"/>
            <a:ext cx="3600360" cy="223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11640" y="431640"/>
            <a:ext cx="3888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Русская-народная ярмарка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"/>
          <p:cNvSpPr/>
          <p:nvPr/>
        </p:nvSpPr>
        <p:spPr>
          <a:xfrm>
            <a:off x="287280" y="3755880"/>
            <a:ext cx="3959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Россия — Родина для всех!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280" y="171360"/>
            <a:ext cx="6105600" cy="371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4840" y="287280"/>
            <a:ext cx="377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"/>
          <p:cNvSpPr/>
          <p:nvPr/>
        </p:nvSpPr>
        <p:spPr>
          <a:xfrm>
            <a:off x="5327640" y="3887640"/>
            <a:ext cx="365616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Я подарок маме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чал рисовать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глянуло солнце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зовёт гулять…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лнце, Солнце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 сердись!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учше рядышком садись.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мин праздник раз в году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исую и пойду! Ладно?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4221000"/>
            <a:ext cx="365616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День матери.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991040" y="863640"/>
            <a:ext cx="3792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Эту истину знаю от роду.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И её никогда не таю: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Кто не любит родную природу,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Тот не любит Отчизну свою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64000" y="367200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6000" y="576360"/>
            <a:ext cx="417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5600" y="1079640"/>
            <a:ext cx="4280040" cy="280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9280" y="3887640"/>
            <a:ext cx="5111640" cy="288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040360" y="884160"/>
            <a:ext cx="4392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«Калядки»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9200" y="4265640"/>
            <a:ext cx="4025880" cy="243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0840" y="4319640"/>
            <a:ext cx="409716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96000" y="1312920"/>
            <a:ext cx="3887640" cy="235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22120" y="1273320"/>
            <a:ext cx="3808440" cy="2541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60720" y="415800"/>
            <a:ext cx="626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Масленица пришла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904000" y="792000"/>
            <a:ext cx="3311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Интересные развлечения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200480" y="3168720"/>
            <a:ext cx="4654440" cy="334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4953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3600360"/>
            <a:ext cx="5112000" cy="309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6480" y="254160"/>
            <a:ext cx="4367160" cy="320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6360" y="863640"/>
            <a:ext cx="338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День победы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Песня «Катюша»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503280"/>
            <a:ext cx="67676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Никто не забыт, ничто не забыто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27640" y="1511280"/>
            <a:ext cx="3355920" cy="446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1640" y="2376360"/>
            <a:ext cx="460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АКТУАЛЬНОСТЬ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8100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1152360"/>
            <a:ext cx="8805960" cy="64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уальность данной темы заключается в том, что воспитывая в детях любовь к Родине и национальным традициям, как можно раньше, у них формируются духовно-нравственные качества, развивается личность ребенка.Народное творчество раскрывает перед дошкольниками дверь в мир прекрасного и доброго, что влияет на формирование музыкальных способностей и духовно- нравственных качеств детей. Не случайно во всех странах мира народному творчеству, приобщению дошкольников к национальной культуре, к традициям — отводится важная роль в формировании личности ребенка, сохранению и укреплению национальной культуры. Для успешной работы в данном направлении важна система и последовательность по воспитанию положительного отношения дошкольников к духовно-нравственным ценностям. Важно развивать творческие способности дошкольников, его личностные и духовно-нравственные качества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178680" cy="5214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040" y="3376440"/>
            <a:ext cx="8504280" cy="2994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0040" y="3376440"/>
            <a:ext cx="85042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2760" y="863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Microsoft YaHei"/>
              </a:rPr>
              <a:t>Цель самообразования: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ысить профессиональный уровень знаний для приобщения детей старшего дошкольного возраста к народным и семейным традициям в условиях ФГОС Д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2808360"/>
            <a:ext cx="8352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468000" y="3753000"/>
            <a:ext cx="457200" cy="10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5200" y="1925640"/>
            <a:ext cx="708480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дачи: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Воспитывать у детей интерес и любовь к русской национальной культуре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Создать условия для самостоятельного отражения полученных знаний, умений детьми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Привлечь родителей в воспитательно-образовательный процесс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Использовать окружающий социум.                                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5.Создать систему работы, по приобщению детей к истокам русской народной культуры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0"/>
            <a:ext cx="87854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Microsoft YaHei"/>
              </a:rPr>
              <a:t>«Патриотическое воспитание дошкольников»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5840" y="1430280"/>
            <a:ext cx="8570880" cy="5143680"/>
            <a:chOff x="285840" y="1430280"/>
            <a:chExt cx="8570880" cy="5143680"/>
          </a:xfrm>
        </p:grpSpPr>
        <p:sp>
          <p:nvSpPr>
            <p:cNvPr id="56" name=""/>
            <p:cNvSpPr/>
            <p:nvPr/>
          </p:nvSpPr>
          <p:spPr>
            <a:xfrm flipH="1" flipV="1">
              <a:off x="3030480" y="2949480"/>
              <a:ext cx="914400" cy="6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36760" y="1906560"/>
              <a:ext cx="1952640" cy="1181160"/>
            </a:xfrm>
            <a:prstGeom prst="ellipse">
              <a:avLst/>
            </a:prstGeom>
            <a:solidFill>
              <a:srgbClr val="ff99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оведени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атриотических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аздников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212560" y="3807000"/>
              <a:ext cx="1398600" cy="156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3114720"/>
              <a:ext cx="1950840" cy="1181160"/>
            </a:xfrm>
            <a:prstGeom prst="ellipse">
              <a:avLst/>
            </a:prstGeom>
            <a:solidFill>
              <a:srgbClr val="ff99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Экскурси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498400" y="4363920"/>
              <a:ext cx="1228680" cy="41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2560" y="4491000"/>
              <a:ext cx="1951200" cy="1181160"/>
            </a:xfrm>
            <a:prstGeom prst="ellipse">
              <a:avLst/>
            </a:prstGeom>
            <a:solidFill>
              <a:srgbClr val="0000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Занят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749760" y="4624560"/>
              <a:ext cx="488880" cy="795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1520" y="5391000"/>
              <a:ext cx="1951200" cy="1181160"/>
            </a:xfrm>
            <a:prstGeom prst="ellipse">
              <a:avLst/>
            </a:prstGeom>
            <a:solidFill>
              <a:srgbClr val="ff66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Участия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 конкурсах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8600" y="4624560"/>
              <a:ext cx="473040" cy="79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1920" y="5392800"/>
              <a:ext cx="1950840" cy="1181160"/>
            </a:xfrm>
            <a:prstGeom prst="ellipse">
              <a:avLst/>
            </a:prstGeom>
            <a:solidFill>
              <a:srgbClr val="ff00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тские проекты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21240" y="4362480"/>
              <a:ext cx="1209600" cy="41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5560" y="4494240"/>
              <a:ext cx="1952640" cy="1181160"/>
            </a:xfrm>
            <a:prstGeom prst="ellipse">
              <a:avLst/>
            </a:prstGeom>
            <a:solidFill>
              <a:srgbClr val="00ccff">
                <a:alpha val="98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Спортивны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аздник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535720" y="3804840"/>
              <a:ext cx="1376280" cy="15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05520" y="3119400"/>
              <a:ext cx="1951200" cy="1181160"/>
            </a:xfrm>
            <a:prstGeom prst="ellipse">
              <a:avLst/>
            </a:prstGeom>
            <a:solidFill>
              <a:srgbClr val="ffff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ставк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тских работ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199120" y="2949480"/>
              <a:ext cx="895320" cy="6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1908000"/>
              <a:ext cx="1951200" cy="1181160"/>
            </a:xfrm>
            <a:prstGeom prst="ellipse">
              <a:avLst/>
            </a:prstGeom>
            <a:solidFill>
              <a:srgbClr val="cc99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Театрализованны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я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572000" y="2609640"/>
              <a:ext cx="0" cy="86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2440" y="1430280"/>
              <a:ext cx="1951200" cy="1181160"/>
            </a:xfrm>
            <a:prstGeom prst="ellipse">
              <a:avLst/>
            </a:prstGeom>
            <a:solidFill>
              <a:srgbClr val="1af224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осуг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92440" y="3475080"/>
              <a:ext cx="1951200" cy="1181160"/>
            </a:xfrm>
            <a:prstGeom prst="ellipse">
              <a:avLst/>
            </a:prstGeom>
            <a:solidFill>
              <a:srgbClr val="00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Arial"/>
                </a:rPr>
                <a:t>Формы работы</a:t>
              </a:r>
              <a:endParaRPr b="0" lang="ru-RU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581800" y="3233880"/>
              <a:ext cx="1215720" cy="164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80820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6192720" y="431640"/>
            <a:ext cx="2880000" cy="2160720"/>
          </a:xfrm>
          <a:prstGeom prst="rect">
            <a:avLst/>
          </a:prstGeom>
          <a:blipFill rotWithShape="0">
            <a:blip r:embed="rId1"/>
            <a:srcRect/>
            <a:tile tx="0" ty="0" sx="106821" sy="106765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3672000" y="1214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  <a:ea typeface="Arial"/>
              </a:rPr>
              <a:t>Моя Родина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1782720"/>
            <a:ext cx="30956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одина – это город, в котором живет человек, и улица, на которой стоит его дом, деревце под окном, и пение птички: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се это Родина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0840" y="4176720"/>
            <a:ext cx="316080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6000" y="21600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767560" y="3959280"/>
            <a:ext cx="316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Наши музеи 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6840" y="7920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24360" y="376704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30840" y="7920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1640" y="3743280"/>
            <a:ext cx="380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2464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60640"/>
            <a:ext cx="4174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7280" y="1152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2120" y="3959280"/>
            <a:ext cx="3665520" cy="2668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56360" y="1008000"/>
            <a:ext cx="367164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227160"/>
            <a:ext cx="7272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Наши музеи пополнились новыми экспонатами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2464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860640"/>
            <a:ext cx="4174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7280" y="1152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22120" y="3959280"/>
            <a:ext cx="3665520" cy="2668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256360" y="1008000"/>
            <a:ext cx="3671640" cy="273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227160"/>
            <a:ext cx="7272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Наши музеи пополнились новыми экспонатами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28720" y="287280"/>
            <a:ext cx="6983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Мы рисуем и лепим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96000" y="936720"/>
            <a:ext cx="4151160" cy="25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24360" y="381636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4120" y="3622680"/>
            <a:ext cx="3809880" cy="3002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7640" y="93672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21:39:29Z</dcterms:created>
  <dc:creator/>
  <dc:description/>
  <dc:language>en-US</dc:language>
  <cp:lastModifiedBy/>
  <dcterms:modified xsi:type="dcterms:W3CDTF">2018-07-10T22:31:25Z</dcterms:modified>
  <cp:revision>58</cp:revision>
  <dc:subject/>
  <dc:title>ДЕПАРТАМЕНТ  ОБРАЗОВАНИЯ  ГОРОДА  МОСКВЫ   ЗАПАДНОЕ  ОКРУЖНОЕ  УПРАВЛЕНИЕ  ОБРАЗОВАНИЯ   ГОСУДАРСТВЕННОЕ   БЮДЖЕТНОЕ ОБРАЗОВАТЕЛЬНОЕ  УЧРЕЖДЕНИЕ   ДЕТСКИЙ  САД  КОМБИНИРОВАННОГО  ВИДА  № 1757   119633, Москва, ул. Приречная д. 9 корп. 1                                                                    тел./факс 731-44-55</dc:title>
</cp:coreProperties>
</file>