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C8D-FBC9-492D-BBD4-86A369D9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33D-8060-4E3E-B36E-DE0A23C6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B32-49D9-48CA-87F2-6D94BC57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61D-5542-40CF-BF43-52D63379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3BA-68CA-4D90-97AB-50312F60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CCB-D360-41EC-AA15-00103D2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45F-2E9F-4ED9-97F3-ADDD1D8B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37F-4A47-4702-BC8B-89DB4A65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851-3296-4A11-83C1-1DC9176A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28A-5578-4A5C-AD72-BE249CAA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33D-50E4-452F-B26F-986C622A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577-3CAC-4BAB-8803-3022D57A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5AC2-0CF7-4AB1-9500-394CE5A25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ossita.ru/help.php?lnwv=bufufmi/img-926283.jpg" TargetMode="External"/><Relationship Id="rId3" Type="http://schemas.openxmlformats.org/officeDocument/2006/relationships/hyperlink" Target="http://www.rossita.ru/help.php?lnwv=bufufmi/img-926283.jpg" TargetMode="External"/><Relationship Id="rId4" Type="http://schemas.openxmlformats.org/officeDocument/2006/relationships/hyperlink" Target="http://www.rossita.ru/help.php?lnwv=bufufmi/img-926283.jpg" TargetMode="External"/><Relationship Id="rId5" Type="http://schemas.openxmlformats.org/officeDocument/2006/relationships/hyperlink" Target="http://iv-frpsuhologia.ucoz.ru/_2.jpg" TargetMode="External"/><Relationship Id="rId6" Type="http://schemas.openxmlformats.org/officeDocument/2006/relationships/hyperlink" Target="https://im2-tub-ru.yandex.net/i?id=0025a5619315caa176c3f147ac1baddc&amp;n=24" TargetMode="External"/><Relationship Id="rId7" Type="http://schemas.openxmlformats.org/officeDocument/2006/relationships/hyperlink" Target="http://www.doski.ru/i/28/05/2280596.jpg" TargetMode="External"/><Relationship Id="rId8" Type="http://schemas.openxmlformats.org/officeDocument/2006/relationships/hyperlink" Target="http://www.classifieds24.ru/images/1464/1463896/large_1.jpg" TargetMode="External"/><Relationship Id="rId9" Type="http://schemas.openxmlformats.org/officeDocument/2006/relationships/hyperlink" Target="http://gigabaza.ru/doc/65055.html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79995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инар</a:t>
            </a:r>
            <a:r>
              <a:rPr b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Современный урок 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</a:t>
            </a: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 аспекте реализации ФГОС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539640" y="5013360"/>
            <a:ext cx="806472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тупление на МО  слове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1523880" y="0"/>
            <a:ext cx="687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80880" y="1371600"/>
            <a:ext cx="861084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446480" cy="1308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8920" y="1341000"/>
            <a:ext cx="8272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онный   момен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ерка выполнения д/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готовка к работе на основном этапе (актуализация, целеполагание, мотивац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вместное открытие и применение зн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троль и самоконтро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рекция знаний и способов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флексия. Итог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1000080" y="404640"/>
            <a:ext cx="7929720" cy="6426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alibri"/>
                <a:ea typeface="Arial Unicode MS"/>
              </a:rPr>
              <a:t>Структура уро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324000" y="148428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ировать, корректирова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2"/>
          <a:srcRect l="-2503" t="0" r="0" b="4743"/>
          <a:stretch/>
        </p:blipFill>
        <p:spPr>
          <a:xfrm>
            <a:off x="6659640" y="3860640"/>
            <a:ext cx="1847880" cy="2160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21607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11"/>
          <p:cNvGrpSpPr/>
          <p:nvPr/>
        </p:nvGrpSpPr>
        <p:grpSpPr>
          <a:xfrm>
            <a:off x="179280" y="2133720"/>
            <a:ext cx="8748720" cy="3951000"/>
            <a:chOff x="179280" y="2133720"/>
            <a:chExt cx="8748720" cy="3951000"/>
          </a:xfrm>
        </p:grpSpPr>
        <p:pic>
          <p:nvPicPr>
            <p:cNvPr id="71" name="Picture 5" descr=""/>
            <p:cNvPicPr/>
            <p:nvPr/>
          </p:nvPicPr>
          <p:blipFill>
            <a:blip r:embed="rId2"/>
            <a:stretch/>
          </p:blipFill>
          <p:spPr>
            <a:xfrm>
              <a:off x="7218720" y="2565720"/>
              <a:ext cx="6825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Стрелка вниз 14"/>
            <p:cNvSpPr/>
            <p:nvPr/>
          </p:nvSpPr>
          <p:spPr>
            <a:xfrm>
              <a:off x="4211640" y="2592360"/>
              <a:ext cx="519120" cy="957240"/>
            </a:xfrm>
            <a:prstGeom prst="downArrow">
              <a:avLst>
                <a:gd name="adj1" fmla="val 50000"/>
                <a:gd name="adj2" fmla="val 49992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Стрелка вниз 13"/>
            <p:cNvSpPr/>
            <p:nvPr/>
          </p:nvSpPr>
          <p:spPr>
            <a:xfrm>
              <a:off x="1287360" y="2606760"/>
              <a:ext cx="519120" cy="957240"/>
            </a:xfrm>
            <a:prstGeom prst="downArrow">
              <a:avLst>
                <a:gd name="adj1" fmla="val 50000"/>
                <a:gd name="adj2" fmla="val 49992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Скругленный прямоугольник 4"/>
            <p:cNvSpPr/>
            <p:nvPr/>
          </p:nvSpPr>
          <p:spPr>
            <a:xfrm>
              <a:off x="394920" y="2133720"/>
              <a:ext cx="828216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ая цель – создание условий для деятельности учащихся, направленной на формирование УУД</a:t>
              </a:r>
              <a:r>
                <a:rPr b="1" lang="en-US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Овал 8"/>
            <p:cNvSpPr/>
            <p:nvPr/>
          </p:nvSpPr>
          <p:spPr>
            <a:xfrm>
              <a:off x="179280" y="3564000"/>
              <a:ext cx="2736720" cy="2520720"/>
            </a:xfrm>
            <a:prstGeom prst="ellips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ЧЕМУ УЧ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НОВЛЕНИЕ СОДЕРЖ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Овал 9"/>
            <p:cNvSpPr/>
            <p:nvPr/>
          </p:nvSpPr>
          <p:spPr>
            <a:xfrm>
              <a:off x="3166920" y="3564000"/>
              <a:ext cx="2736720" cy="2520720"/>
            </a:xfrm>
            <a:prstGeom prst="ellips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ДЛЯ ЧЕГО УЧ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НОВЛЕНИЕ ЦЕЛЕЙ 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Овал 10"/>
            <p:cNvSpPr/>
            <p:nvPr/>
          </p:nvSpPr>
          <p:spPr>
            <a:xfrm>
              <a:off x="6191280" y="3564000"/>
              <a:ext cx="2736720" cy="2520720"/>
            </a:xfrm>
            <a:prstGeom prst="ellips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КАК УЧИТЬ?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НОВЛЕНИЕ ТЕХНОЛОГИЙ 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4"/>
          <p:cNvSpPr/>
          <p:nvPr/>
        </p:nvSpPr>
        <p:spPr>
          <a:xfrm>
            <a:off x="303120" y="3656160"/>
            <a:ext cx="280836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381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Группа 2"/>
          <p:cNvGrpSpPr/>
          <p:nvPr/>
        </p:nvGrpSpPr>
        <p:grpSpPr>
          <a:xfrm>
            <a:off x="826920" y="1969920"/>
            <a:ext cx="8085240" cy="4205160"/>
            <a:chOff x="826920" y="1969920"/>
            <a:chExt cx="8085240" cy="4205160"/>
          </a:xfrm>
        </p:grpSpPr>
        <p:sp>
          <p:nvSpPr>
            <p:cNvPr id="80" name="Стрелка углом 16"/>
            <p:cNvSpPr/>
            <p:nvPr/>
          </p:nvSpPr>
          <p:spPr>
            <a:xfrm flipV="1" rot="16200000">
              <a:off x="6246720" y="4112280"/>
              <a:ext cx="1548000" cy="2158920"/>
            </a:xfrm>
            <a:custGeom>
              <a:avLst/>
              <a:gdLst/>
              <a:ahLst/>
              <a:rect l="l" t="t" r="r" b="b"/>
              <a:pathLst>
                <a:path w="1547885" h="2159000">
                  <a:moveTo>
                    <a:pt x="0" y="2159000"/>
                  </a:moveTo>
                  <a:lnTo>
                    <a:pt x="0" y="870685"/>
                  </a:lnTo>
                  <a:lnTo>
                    <a:pt x="0" y="870685"/>
                  </a:lnTo>
                  <a:arcTo wR="677200" hR="677200" stAng="-10799995" swAng="5400000"/>
                  <a:lnTo>
                    <a:pt x="1160914" y="193486"/>
                  </a:lnTo>
                  <a:lnTo>
                    <a:pt x="1160914" y="0"/>
                  </a:lnTo>
                  <a:lnTo>
                    <a:pt x="1547885" y="386971"/>
                  </a:lnTo>
                  <a:lnTo>
                    <a:pt x="1160914" y="773943"/>
                  </a:lnTo>
                  <a:lnTo>
                    <a:pt x="1160914" y="580457"/>
                  </a:lnTo>
                  <a:lnTo>
                    <a:pt x="677200" y="580457"/>
                  </a:lnTo>
                  <a:lnTo>
                    <a:pt x="677200" y="580457"/>
                  </a:lnTo>
                  <a:arcTo wR="290228" hR="290228" stAng="-5400000" swAng="-5400000"/>
                  <a:lnTo>
                    <a:pt x="386971" y="2159000"/>
                  </a:lnTo>
                  <a:close/>
                </a:path>
              </a:pathLst>
            </a:cu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0800000"/>
            </a:gradFill>
            <a:ln w="28440">
              <a:solidFill>
                <a:srgbClr val="00206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Скругленный прямоугольник 7"/>
            <p:cNvSpPr/>
            <p:nvPr/>
          </p:nvSpPr>
          <p:spPr>
            <a:xfrm>
              <a:off x="3144600" y="5403960"/>
              <a:ext cx="280836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3816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РЕД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Выгнутая вверх стрелка 14"/>
            <p:cNvSpPr/>
            <p:nvPr/>
          </p:nvSpPr>
          <p:spPr>
            <a:xfrm flipH="1">
              <a:off x="826920" y="1969920"/>
              <a:ext cx="7079040" cy="1685880"/>
            </a:xfrm>
            <a:custGeom>
              <a:avLst/>
              <a:gdLst>
                <a:gd name="textAreaLeft" fmla="*/ 1612080 w 7079040"/>
                <a:gd name="textAreaRight" fmla="*/ 5257080 w 7079040"/>
                <a:gd name="textAreaTop" fmla="*/ 225720 h 1685880"/>
                <a:gd name="textAreaBottom" fmla="*/ 1460160 h 168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836" hR="21600" stAng="10800000" swAng="5400000"/>
                  <a:lnTo>
                    <a:pt x="11122" y="0"/>
                  </a:lnTo>
                  <a:arcTo wR="9836" hR="21600" stAng="-5400000" swAng="3626709"/>
                  <a:lnTo>
                    <a:pt x="21288" y="16200"/>
                  </a:lnTo>
                  <a:lnTo>
                    <a:pt x="20314" y="21600"/>
                  </a:lnTo>
                  <a:lnTo>
                    <a:pt x="18716" y="16200"/>
                  </a:lnTo>
                  <a:lnTo>
                    <a:pt x="19359" y="16200"/>
                  </a:lnTo>
                  <a:arcTo wR="9836" hR="21600" stAng="-1773291" swAng="-3524183"/>
                  <a:lnTo>
                    <a:pt x="10479" y="46"/>
                  </a:lnTo>
                  <a:arcTo wR="9836" hR="21600" stAng="-5502526" swAng="-5297474"/>
                  <a:close/>
                </a:path>
                <a:path fill="darkenLess" w="21600" h="21600">
                  <a:moveTo>
                    <a:pt x="0" y="21600"/>
                  </a:moveTo>
                  <a:arcTo wR="9836" hR="21600" stAng="10800000" swAng="5400000"/>
                  <a:lnTo>
                    <a:pt x="9836" y="0"/>
                  </a:lnTo>
                  <a:arcTo wR="9836" hR="21600" stAng="-5400000" swAng="102526"/>
                  <a:lnTo>
                    <a:pt x="10479" y="46"/>
                  </a:lnTo>
                  <a:arcTo wR="9836" hR="21600" stAng="-5502526" swAng="-5297474"/>
                  <a:close/>
                </a:path>
              </a:pathLst>
            </a:cu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Стрелка углом 13"/>
            <p:cNvSpPr/>
            <p:nvPr/>
          </p:nvSpPr>
          <p:spPr>
            <a:xfrm flipV="1">
              <a:off x="1115640" y="4374360"/>
              <a:ext cx="1995480" cy="1800360"/>
            </a:xfrm>
            <a:custGeom>
              <a:avLst/>
              <a:gdLst/>
              <a:ahLst/>
              <a:rect l="l" t="t" r="r" b="b"/>
              <a:pathLst>
                <a:path w="1995487" h="1800309">
                  <a:moveTo>
                    <a:pt x="0" y="1800309"/>
                  </a:moveTo>
                  <a:lnTo>
                    <a:pt x="0" y="1012674"/>
                  </a:lnTo>
                  <a:lnTo>
                    <a:pt x="0" y="1012674"/>
                  </a:lnTo>
                  <a:arcTo wR="787635" hR="787635" stAng="-10799996" swAng="5400000"/>
                  <a:lnTo>
                    <a:pt x="1545410" y="225039"/>
                  </a:lnTo>
                  <a:lnTo>
                    <a:pt x="1545410" y="0"/>
                  </a:lnTo>
                  <a:lnTo>
                    <a:pt x="1995487" y="450077"/>
                  </a:lnTo>
                  <a:lnTo>
                    <a:pt x="1545410" y="900155"/>
                  </a:lnTo>
                  <a:lnTo>
                    <a:pt x="1545410" y="675116"/>
                  </a:lnTo>
                  <a:lnTo>
                    <a:pt x="787635" y="675116"/>
                  </a:lnTo>
                  <a:lnTo>
                    <a:pt x="787635" y="675116"/>
                  </a:lnTo>
                  <a:arcTo wR="337558" hR="337558" stAng="-5400000" swAng="-5400000"/>
                  <a:lnTo>
                    <a:pt x="450077" y="1800309"/>
                  </a:lnTo>
                  <a:close/>
                </a:path>
              </a:pathLst>
            </a:cu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00206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Овал 5"/>
            <p:cNvSpPr/>
            <p:nvPr/>
          </p:nvSpPr>
          <p:spPr>
            <a:xfrm>
              <a:off x="3201840" y="2781000"/>
              <a:ext cx="2751120" cy="2494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УРО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Скругленный прямоугольник 8"/>
            <p:cNvSpPr/>
            <p:nvPr/>
          </p:nvSpPr>
          <p:spPr>
            <a:xfrm>
              <a:off x="6103800" y="3654360"/>
              <a:ext cx="2808360" cy="74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3816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ПОСО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Прямоугольник 1"/>
          <p:cNvSpPr/>
          <p:nvPr/>
        </p:nvSpPr>
        <p:spPr>
          <a:xfrm>
            <a:off x="1553400" y="1197000"/>
            <a:ext cx="60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03b"/>
                </a:solidFill>
                <a:latin typeface="Times New Roman"/>
                <a:ea typeface="Times New Roman"/>
              </a:rPr>
              <a:t>Алгоритм разработк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51832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ификация типов урока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М.И. Махмуто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395280" y="242100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изучения нового материа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совершенствования ЗУ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обобщения и систематизации зн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контроля ЗУ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коррекции ЗУ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бинированный уро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2"/>
          <a:srcRect l="-2503" t="0" r="0" b="4743"/>
          <a:stretch/>
        </p:blipFill>
        <p:spPr>
          <a:xfrm>
            <a:off x="7346880" y="4437000"/>
            <a:ext cx="14796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трелка вниз 2"/>
          <p:cNvSpPr/>
          <p:nvPr/>
        </p:nvSpPr>
        <p:spPr>
          <a:xfrm>
            <a:off x="4211640" y="2887560"/>
            <a:ext cx="519120" cy="957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10"/>
          <p:cNvSpPr/>
          <p:nvPr/>
        </p:nvSpPr>
        <p:spPr>
          <a:xfrm>
            <a:off x="4211640" y="4284720"/>
            <a:ext cx="519120" cy="985680"/>
          </a:xfrm>
          <a:prstGeom prst="down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2649600" y="2379600"/>
            <a:ext cx="36208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381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8"/>
          <p:cNvSpPr/>
          <p:nvPr/>
        </p:nvSpPr>
        <p:spPr>
          <a:xfrm>
            <a:off x="2138400" y="5286240"/>
            <a:ext cx="4895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381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7"/>
          <p:cNvSpPr/>
          <p:nvPr/>
        </p:nvSpPr>
        <p:spPr>
          <a:xfrm>
            <a:off x="2681280" y="3860640"/>
            <a:ext cx="36306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381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9" descr=""/>
          <p:cNvPicPr/>
          <p:nvPr/>
        </p:nvPicPr>
        <p:blipFill>
          <a:blip r:embed="rId2"/>
          <a:srcRect l="-2503" t="0" r="0" b="4743"/>
          <a:stretch/>
        </p:blipFill>
        <p:spPr>
          <a:xfrm>
            <a:off x="6300720" y="3213000"/>
            <a:ext cx="2617920" cy="30607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-20520" y="1314360"/>
            <a:ext cx="91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 определения структуры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1484280"/>
          <a:ext cx="8640720" cy="4759200"/>
        </p:xfrm>
        <a:graphic>
          <a:graphicData uri="http://schemas.openxmlformats.org/drawingml/2006/table">
            <a:tbl>
              <a:tblPr/>
              <a:tblGrid>
                <a:gridCol w="693720"/>
                <a:gridCol w="6559560"/>
                <a:gridCol w="1387440"/>
              </a:tblGrid>
              <a:tr h="47304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Структура урока изучения нового матери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74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 урока. Мотивация учебной деятельности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усвоение новых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ая проверка пони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закре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домашнего задания и инструкта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</a:t>
                      </a:r>
                      <a:r>
                        <a:rPr b="1" lang="en-US" sz="2400" spc="-1" strike="noStrike">
                          <a:solidFill>
                            <a:srgbClr val="2d12a2"/>
                          </a:solidFill>
                          <a:latin typeface="Times New Roman"/>
                          <a:ea typeface="Times New Roman"/>
                        </a:rPr>
                        <a:t>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1"/>
          <p:cNvSpPr/>
          <p:nvPr/>
        </p:nvSpPr>
        <p:spPr>
          <a:xfrm>
            <a:off x="2319480" y="281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692280"/>
          <a:ext cx="8712000" cy="6134040"/>
        </p:xfrm>
        <a:graphic>
          <a:graphicData uri="http://schemas.openxmlformats.org/drawingml/2006/table">
            <a:tbl>
              <a:tblPr/>
              <a:tblGrid>
                <a:gridCol w="687240"/>
                <a:gridCol w="6718320"/>
                <a:gridCol w="1306440"/>
              </a:tblGrid>
              <a:tr h="56340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Структура урока совершенствования  З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2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домашнего задания. Актуализация опорных знаний и умений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28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темы и цели урока. Мотивация учебной деятельности учащих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392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закрепление в знакомой ситуации (типовые) в изменённой ситуации (конструктивны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28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ое применение и добывание знаний в новой ситуации </a:t>
                      </a:r>
                      <a:r>
                        <a:rPr b="1" lang="en-US" sz="2400" spc="-1" strike="noStrike">
                          <a:solidFill>
                            <a:srgbClr val="2d12a2"/>
                          </a:solidFill>
                          <a:latin typeface="Times New Roman"/>
                          <a:ea typeface="Times New Roman"/>
                        </a:rPr>
                        <a:t>(проблемные задан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домашнего задания и инструкта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3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</a:t>
                      </a:r>
                      <a:r>
                        <a:rPr b="1" lang="en-US" sz="2400" spc="-1" strike="noStrike">
                          <a:solidFill>
                            <a:srgbClr val="2d12a2"/>
                          </a:solidFill>
                          <a:latin typeface="Times New Roman"/>
                          <a:ea typeface="Times New Roman"/>
                        </a:rPr>
                        <a:t>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907920"/>
          <a:ext cx="8785440" cy="5902200"/>
        </p:xfrm>
        <a:graphic>
          <a:graphicData uri="http://schemas.openxmlformats.org/drawingml/2006/table">
            <a:tbl>
              <a:tblPr/>
              <a:tblGrid>
                <a:gridCol w="717480"/>
                <a:gridCol w="6969240"/>
                <a:gridCol w="1098720"/>
              </a:tblGrid>
              <a:tr h="4539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Структура урока обобщения и систематизации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0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 урока. Мотивация учебной деятельности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36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 и систематизация знаний. Воспроизведение на новом уровне (переформулированные вопрос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знаний и умений в новой 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0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усвоения, обсуждение допущенных ошибок и их коррекц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выв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</a:t>
                      </a:r>
                      <a:r>
                        <a:rPr b="1" lang="en-US" sz="2400" spc="-1" strike="noStrike">
                          <a:solidFill>
                            <a:srgbClr val="2d12a2"/>
                          </a:solidFill>
                          <a:latin typeface="Times New Roman"/>
                          <a:ea typeface="Times New Roman"/>
                        </a:rPr>
                        <a:t>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2319480" y="2286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341360"/>
          <a:ext cx="8616960" cy="5040000"/>
        </p:xfrm>
        <a:graphic>
          <a:graphicData uri="http://schemas.openxmlformats.org/drawingml/2006/table">
            <a:tbl>
              <a:tblPr/>
              <a:tblGrid>
                <a:gridCol w="691920"/>
                <a:gridCol w="6540480"/>
                <a:gridCol w="1384560"/>
              </a:tblGrid>
              <a:tr h="7214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Структура урока контроля З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10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 урока. Мотивация учебной деятельности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04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ложение содержания контрольной или проверочн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72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работы учащими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72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967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615520" cy="12952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alibri"/>
              </a:rPr>
              <a:t>Главная задача учителей сегод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362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и переходе на ФГОС нам сегодня предстоит </a:t>
            </a: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"учить учиться"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детей, а не давать им знания. Кроме того, ФГОС предполагает и по - новому оценивать детей. Оценку надо выставлять </a:t>
            </a: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не за знания, а за приобретённые и усвоенные действия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Перед учителями встает вопрос: как это дела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ля того чтобы приблизиться к решению задач, обозначенных новым стандартом, можно решать многие методические проблемы при обучении, но урок остается уроком! Поэтому наша встреча на заседании МО посвящена современному уро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1413000"/>
          <a:ext cx="8496000" cy="4922640"/>
        </p:xfrm>
        <a:graphic>
          <a:graphicData uri="http://schemas.openxmlformats.org/drawingml/2006/table">
            <a:tbl>
              <a:tblPr/>
              <a:tblGrid>
                <a:gridCol w="682560"/>
                <a:gridCol w="6448320"/>
                <a:gridCol w="1365120"/>
              </a:tblGrid>
              <a:tr h="55692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Структура урока коррекции З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148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 урока. Мотивация учебной деятельности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61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типичных ошибок и пробелов в знаниях и умениях, и рекомендации по их устранен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учащимися работы над ошиб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5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1"/>
          <p:cNvSpPr/>
          <p:nvPr/>
        </p:nvSpPr>
        <p:spPr>
          <a:xfrm>
            <a:off x="2319480" y="302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260280"/>
          <a:ext cx="8640720" cy="5624280"/>
        </p:xfrm>
        <a:graphic>
          <a:graphicData uri="http://schemas.openxmlformats.org/drawingml/2006/table">
            <a:tbl>
              <a:tblPr/>
              <a:tblGrid>
                <a:gridCol w="693720"/>
                <a:gridCol w="6559560"/>
                <a:gridCol w="1387440"/>
              </a:tblGrid>
              <a:tr h="46872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 Структура комбинированного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3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 урока. Мотивация учебной деятельности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9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усвоение новых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ая проверка пони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9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закре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3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усвоения, обсуждение допущенных ошибок и их коррекц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домашнего задания и инструкта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4400" y="1341360"/>
            <a:ext cx="9144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п мотивации к учеб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179280" y="2133720"/>
            <a:ext cx="6337440" cy="38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отивац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овокупность процессов, побуждающих учащихся к деятельности. В основе мотивации лежат факторы, определяющие движение к поставленной цели и влияющие на активность или пассивность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"/>
          <p:cNvPicPr/>
          <p:nvPr/>
        </p:nvPicPr>
        <p:blipFill>
          <a:blip r:embed="rId2"/>
          <a:srcRect l="-2503" t="0" r="0" b="4743"/>
          <a:stretch/>
        </p:blipFill>
        <p:spPr>
          <a:xfrm>
            <a:off x="6886440" y="3645000"/>
            <a:ext cx="190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Мотивация к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ают мотивацию к изучению материала, развивают умение прогнозировать задания </a:t>
            </a: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«Верные–неверные утверждения», «Прогнозирование»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спользуя прием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«Верные-неверные утверждения»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едлагаю  детям утверждения по изученной теме. Например, на уроке русского языка по теме </a:t>
            </a: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«Грамматическая основа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а стадии вызова даю задание   выполнить тест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“Верные – неверные утверждения”: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Слово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ПУНКТУАЦ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роисходит от лат. слова PUNCTUM – запятая. (НЕТ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Среди знаков препинания есть знаки завершения, разделения, присоединения. (НЕТ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Словосочетания изучает синтаксис ( ДА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Словосочетание состоит из двух слов – главного и зависимого (ДА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Зависимое слово связывается с главным только по смыслу (НЕТ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ВЕСЁЛЫЙ ПРАЗДНИК – это словосоч. (ДА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РИСОВАТЬ В АЛЬБОМЕ – это тоже словосоч. (ДА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ПРИШЛИ ГОСТИ – это тоже словосоч. (НЕТ)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- Почему последнее утверждение неверно? Чем является сочетание слов “ПРИШЛИ ГОСТИ”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2"/>
          <a:stretch/>
        </p:blipFill>
        <p:spPr>
          <a:xfrm>
            <a:off x="119160" y="1268280"/>
            <a:ext cx="2724120" cy="32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59680" cy="651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0000"/>
                </a:solidFill>
                <a:latin typeface="Calibri"/>
              </a:rPr>
              <a:t>Например:</a:t>
            </a:r>
            <a:br>
              <a:rPr sz="3500"/>
            </a:b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составьте краткий рассказ </a:t>
            </a: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о  Наталье Савишне </a:t>
            </a: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по готовому синквейну:</a:t>
            </a:r>
            <a:br>
              <a:rPr sz="3100"/>
            </a:br>
            <a:br>
              <a:rPr sz="35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Наталья Савишна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Бескорыстная, верная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Преданная, отказалась, жалеет</a:t>
            </a:r>
            <a:br>
              <a:rPr sz="29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Вся жизнь ее была любовь и самопожертвование»</a:t>
            </a:r>
            <a:br>
              <a:rPr sz="24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«Чудесное создание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210"/>
                </a:solidFill>
                <a:latin typeface="Calibri"/>
              </a:rPr>
              <a:t>«Прогнозирован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Упражнение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«Прогнозирование»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можно использовать, например, на уроках литературы, когда учащимся предлагается спрогнозировать дальнейшие действия героя в сложной для него ситуации, в ситуации морального, нравственного выбор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333360"/>
            <a:ext cx="9325080" cy="684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Литература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меет особое значение для формирования морально-ценностной позиции учащихся. Поэтому очень важно организовать ориентацию учащихся на поступок героя и его нравственное содержание. Для формирования коммуникативных УУД рекомендую использовать приемы, направленные на осмысление содержания текста: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Чтение с остановками», «Чтение с пометками», «Составление кластера», «Составление синквейна»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ример, на этапе постановки учебных задач на уроке по тем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.Ю.ЛЕРМОНТОВ. «БОРОДИНО». ИСТОРИЧЕСКАЯ ОСНОВА И ПАТРИОТИЧЕСКИЙ ПАФОС СТИХОТВОР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а экране показаны  сло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Сраже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Стихотворе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Великая Отечественная войн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Кутузов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Пушкин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Лермонтов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Наполеон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Отечественная войн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 Французы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Русск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Поэт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Смел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Трус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Патриотиз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724280"/>
            <a:ext cx="5327640" cy="2133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даю вопросы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Чем памятен для нашей истории 1812 год?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Какие слова потреб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сегодняшнего урока?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О чем мы сегодня будем говорить на уроке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8920" y="1125360"/>
            <a:ext cx="8534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пример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ьте краткий рассказ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  Гринёве и Швабрине по готовому синквейн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рине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брый, благородны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бит, защищает, не нарушае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явил мужество и верность присяг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28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Швабрин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честный, жестоки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жёт, обманывает, предаё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меняет долгу дворянина, переходит на сторону Пугачё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7960" y="115560"/>
            <a:ext cx="8963280" cy="10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квейны учеников 8 класса по произведению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С. Пушкина «Капитанская дочка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79280" y="1281240"/>
            <a:ext cx="6639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Palatino Linotype"/>
              </a:rPr>
              <a:t>Гри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й,честный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ивает, не нарушает, любит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качества: доброта, благородство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нность.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62360" y="4621320"/>
            <a:ext cx="6077160" cy="1922760"/>
          </a:xfrm>
          <a:prstGeom prst="rect">
            <a:avLst/>
          </a:prstGeom>
          <a:solidFill>
            <a:srgbClr val="99f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вабр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ий,нечестный.</a:t>
            </a:r>
            <a:br>
              <a:rPr sz="24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рушает, лжёт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ёт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чувство презрения, негодования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880520" y="2997360"/>
            <a:ext cx="4074480" cy="2288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Palatino Linotype"/>
              </a:rPr>
              <a:t>Гринев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й, преданный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еет, защищает, любит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ережет честь смолоду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612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alibri"/>
              </a:rPr>
              <a:t>Гринев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Добрый, благородный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Любит, защищает, не нарушает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Проявил мужество и верность присяге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3100"/>
            </a:br>
            <a:br>
              <a:rPr sz="3100"/>
            </a:br>
            <a:r>
              <a:rPr b="1" lang="en-US" sz="3100" spc="-1" strike="noStrike">
                <a:solidFill>
                  <a:srgbClr val="ff0000"/>
                </a:solidFill>
                <a:latin typeface="Calibri"/>
              </a:rPr>
              <a:t>Швабрин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Своекорыстный, жестокий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Лжет, подличает, предает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Играет роль антагониста Гринева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715160" cy="6476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40"/>
                </a:solidFill>
                <a:latin typeface="Calibri"/>
              </a:rPr>
              <a:t>         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Кредо успешного педаго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осредственный учитель излагает. Хороший учитель объясняет. Выдающийся учитель показывает. Великий учитель вдохновляет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ильям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Уор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981080" cy="1735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2700360" y="4149720"/>
            <a:ext cx="335448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Метод проектов при изуче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39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ах литературы целесообразным считаю использовать метод проектов при изучении обзорных тем, так как это один из самых трудных разделов литературного курса. С их помощью знания учащихся о крупных явлениях отечественной литературы складываются в систему, что помогает им сформировать целостное представление об истории русской литературы в её движении и развитии. В ходе работы над проектом  ученики смогут овладеть всеми ключевыми компетенциями школьника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• коммуникативной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• культуроведческой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• информационной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• языковой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сследовательской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что позволит им не только успешно выдержать выпускные испытания, но и стать востребованными специалистами, занять достойное место в обществе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6"/>
          <p:cNvSpPr/>
          <p:nvPr/>
        </p:nvSpPr>
        <p:spPr>
          <a:xfrm>
            <a:off x="179280" y="1628640"/>
            <a:ext cx="6408720" cy="482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учёбы с жизн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глядность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е современных образовательных технологий, ИК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изация познавательной деятельност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е заданий игрового характера, физкультмин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14400" y="907920"/>
            <a:ext cx="9144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ти повышения мотив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179280" y="836640"/>
            <a:ext cx="8785440" cy="119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п актуализации знаний и                       фиксации затруд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4"/>
          <p:cNvSpPr/>
          <p:nvPr/>
        </p:nvSpPr>
        <p:spPr>
          <a:xfrm>
            <a:off x="250920" y="2133720"/>
            <a:ext cx="5905440" cy="38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210"/>
                </a:solidFill>
                <a:latin typeface="Times New Roman"/>
                <a:ea typeface="Times New Roman"/>
              </a:rPr>
              <a:t>Приё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лстые и тонкие вопросы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Кластер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Согласен – не согласен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>
            <a:off x="179280" y="836640"/>
            <a:ext cx="8785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п рефлек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379440" y="1557360"/>
            <a:ext cx="6064200" cy="331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210"/>
                </a:solidFill>
                <a:latin typeface="Times New Roman"/>
                <a:ea typeface="Times New Roman"/>
              </a:rPr>
              <a:t>Рефлексия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лат.)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ращение назад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- самоанализ деятельности и её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4" descr=""/>
          <p:cNvPicPr/>
          <p:nvPr/>
        </p:nvPicPr>
        <p:blipFill>
          <a:blip r:embed="rId2"/>
          <a:srcRect l="50002" t="0" r="0" b="12133"/>
          <a:stretch/>
        </p:blipFill>
        <p:spPr>
          <a:xfrm>
            <a:off x="5443560" y="2095560"/>
            <a:ext cx="1528920" cy="14302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"/>
          <p:cNvPicPr/>
          <p:nvPr/>
        </p:nvPicPr>
        <p:blipFill>
          <a:blip r:embed="rId3"/>
          <a:srcRect l="0" t="0" r="50002" b="11690"/>
          <a:stretch/>
        </p:blipFill>
        <p:spPr>
          <a:xfrm>
            <a:off x="1979640" y="2095560"/>
            <a:ext cx="1528560" cy="1438200"/>
          </a:xfrm>
          <a:prstGeom prst="rect">
            <a:avLst/>
          </a:prstGeom>
          <a:ln w="0">
            <a:noFill/>
          </a:ln>
        </p:spPr>
      </p:pic>
      <p:sp>
        <p:nvSpPr>
          <p:cNvPr id="140" name="Овал 13"/>
          <p:cNvSpPr/>
          <p:nvPr/>
        </p:nvSpPr>
        <p:spPr>
          <a:xfrm>
            <a:off x="2843280" y="2565360"/>
            <a:ext cx="3313080" cy="15447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ЭМОЦИОНАЛЬНОГО СОСТОЯНИЯ И НА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179280" y="1341360"/>
            <a:ext cx="8785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рефлек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2"/>
          <p:cNvSpPr/>
          <p:nvPr/>
        </p:nvSpPr>
        <p:spPr>
          <a:xfrm>
            <a:off x="530280" y="3533760"/>
            <a:ext cx="3313080" cy="1546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ДЕЯТЕЛЬНОСТИ 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14"/>
          <p:cNvSpPr/>
          <p:nvPr/>
        </p:nvSpPr>
        <p:spPr>
          <a:xfrm>
            <a:off x="5292720" y="3432240"/>
            <a:ext cx="3311640" cy="1546200"/>
          </a:xfrm>
          <a:prstGeom prst="ellipse">
            <a:avLst/>
          </a:prstGeom>
          <a:solidFill>
            <a:srgbClr val="99fa0a"/>
          </a:soli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СОДЕРЖАНИЯ УЧЕБ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7" descr=""/>
          <p:cNvPicPr/>
          <p:nvPr/>
        </p:nvPicPr>
        <p:blipFill>
          <a:blip r:embed="rId4"/>
          <a:stretch/>
        </p:blipFill>
        <p:spPr>
          <a:xfrm>
            <a:off x="179280" y="4797360"/>
            <a:ext cx="2160720" cy="15955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5"/>
          <a:stretch/>
        </p:blipFill>
        <p:spPr>
          <a:xfrm>
            <a:off x="7272360" y="4203720"/>
            <a:ext cx="187164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324000" y="148428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У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ировать, корректировать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2"/>
          <a:srcRect l="-2503" t="0" r="0" b="4743"/>
          <a:stretch/>
        </p:blipFill>
        <p:spPr>
          <a:xfrm>
            <a:off x="6300720" y="3213000"/>
            <a:ext cx="2617920" cy="30607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7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21607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ные 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0" y="28335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www.rossita.ru/help.php?lnwv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=bufufmi/img-926283.jp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iv-frpsuhologia.ucoz.ru/_2.jp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s://im2-tub-ru.yandex.net/i?id=0025a5619315caa176c3f147ac1baddc&amp;n=2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doski.ru/i/28/05/2280596.jp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мудрая 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www.classifieds24.ru/images/1464/1463896/large_1.jp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0" y="2340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gigabaza.ru/doc/65055.htm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типы и структуры  ур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овременный взгляд на ур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ичностно-ориентирован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0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еятельност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0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омпетентност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Характеристика изменений в деятельности педагога, работающего по ФГ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1341360"/>
          <a:ext cx="8785440" cy="11598480"/>
        </p:xfrm>
        <a:graphic>
          <a:graphicData uri="http://schemas.openxmlformats.org/drawingml/2006/table">
            <a:tbl>
              <a:tblPr/>
              <a:tblGrid>
                <a:gridCol w="1944720"/>
                <a:gridCol w="2808360"/>
                <a:gridCol w="403236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Предмет изме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Традиционная деятельность учител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Деятельность учителя, работающего по ФГ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к уро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пользуется жестко структурированным конспектом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одготовке к уроку учитель использует учебник и методические рекоменд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пользуется планом урока, предоставляющим ему свободу в выборе форм и приемов об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использует учебник и методические рекомендации, интернет-ресурсы, материалы колле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ые этапы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яснение и закрепление учебного материала. Большое количество времени занимает речь учи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стоятельная деятельность обучающихся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(более половины времени урока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3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ная цель учителя на ур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петь выполнить все, что запланирова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овать деятельность дет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поиску и обработке информаци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бщению способов действ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новке учебной задач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8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ирование заданий для обучающихся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пределение деятельности де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ировки: </a:t>
                      </a:r>
                      <a:r>
                        <a:rPr b="1" lang="en-US" sz="1800" spc="-1" strike="noStrike">
                          <a:solidFill>
                            <a:srgbClr val="2d12a2"/>
                          </a:solidFill>
                          <a:latin typeface="Calibri"/>
                        </a:rPr>
                        <a:t>решите, спишите, сравните, найдите, выпишите, выполните и т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Формулировки: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оанализируйте, докажите </a:t>
                      </a:r>
                      <a:r>
                        <a:rPr b="1" lang="en-US" sz="1800" spc="-1" strike="noStrike">
                          <a:solidFill>
                            <a:srgbClr val="fc3210"/>
                          </a:solidFill>
                          <a:latin typeface="Calibri"/>
                        </a:rPr>
                        <a:t>(объясните)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равните, выразите символом, создайте схему, продолжите, обобщите </a:t>
                      </a:r>
                      <a:r>
                        <a:rPr b="1" lang="en-US" sz="1800" spc="-1" strike="noStrike">
                          <a:solidFill>
                            <a:srgbClr val="fc3210"/>
                          </a:solidFill>
                          <a:latin typeface="Calibri"/>
                        </a:rPr>
                        <a:t>(сделайте вывод)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ыберите решение или способ решения, исследуйте и т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имущественно фронтальна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овая и 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1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ы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ется учителем. Выставки работ обуч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оценка – оценка учи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ется обучающимися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(дети изготавливают учебный материал, проводят презентаци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т динамики результатов обучения детей относительно самих себя.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ценка промежуточных результатов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865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Изменения  в деятельности педагога, работающего по ФГ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 век информационных технологий, перед педагогами 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стоит другая цель – перейти от «школы памяти» к «школе развития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Вместо передачи суммы знаний на первое место вышло развитие личности учащегося на основе освоения универсальный учебных действий (УУД)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сновным методом обучения становится продуктивный. </a:t>
            </a: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Современный урок становится развивающим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Перед учителем стоит задача обучить умению добывать знания, он создает проблемные ситуации для открытия учениками нового знания и практического ум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8636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Изменения в деятельности педагога, работающего по ФГО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лавное отличие современного урока от традиционного - цель. Определить цели современного урока учителю помогают ключевые фразы: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«Мы будем наблюдать и сравнивать…», «Мы будем размышлять…» (о том, что знаем и пока не знаем), «Мы будем обсуждать…» (найденные проблемы), «Мы будем искать…» (решение проблемы), «Мы сами назовем то, что… (узнали нового)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Характер взаимодействия учителя и ученика становится демократичным, в отличие от традиционного урока, который всегда был авторитарным. Еще одним существенным отличием современного урока от традиционного являются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групповые технолог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Задача учител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– научить учащихся работать в коллективе, взаимодействовать друг с другом, слышать одноклассников, высказывать свое мнение, корректировать высказывания свои и товарищей, анализировать, делать вы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333360"/>
            <a:ext cx="8785440" cy="6524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На современном уроке учащиеся не должны быть просто слушателями. Их главной задачей становится деятельность,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а педагог выступает в роли «режиссера»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и обладает такими качествами как доброжелательность, терпение, принятие всех детей, понимание того, что дети не ошибаются, а пробуют, ищут новое, поощряет малый успех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Необходимо перейти 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от объяснительно-иллюстративного метода обучения к проблемному обучению, применять групповые, интегративные технологии, технологию развития критического мышления.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Помощниками на уроке должны стать компьютеры и цифровые образовательные ресурс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Методологической основой ФГОС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истемно-деятельностный подхо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который нацелен на развитие личности, формирование гражданской идентичности. Так как основной формой организации обучения является урок, то учителю необходимо знать принципы построения урока, примерную типологию уроков и критерии оценивания урока в рамках системно-деятельностного подхо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18:57:22Z</dcterms:created>
  <dc:creator>я</dc:creator>
  <dc:description/>
  <dc:language>en-US</dc:language>
  <cp:lastModifiedBy>админ</cp:lastModifiedBy>
  <dcterms:modified xsi:type="dcterms:W3CDTF">2018-07-10T15:01:48Z</dcterms:modified>
  <cp:revision>59</cp:revision>
  <dc:subject/>
  <dc:title>Мастер-класс «Современный урок в условиях внедрения ФГОС»</dc:title>
</cp:coreProperties>
</file>