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BCE-AD67-48BE-B15C-3E2562AD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1C2-5F7D-48D7-96CC-E439C497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4E0-85CF-4550-8F3C-51FA1B0C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E64-BAB7-4152-B845-26A28D1C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97B-B44B-4AFF-9CD8-AF3BD57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5FA-7206-460D-8E1B-7C5C89CA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BB0-D0AD-48C4-A237-BD2581FB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500-92AF-4884-9F11-02B732AB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2C3-46F2-4027-B18B-0279CCA2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605-3FAF-430C-AB74-1C219E91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EFA-BC6C-4323-9491-2AECD15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90E-C404-4CC2-85D4-E488D55A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11D0-E9BC-408E-B675-6C52A1AC9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4672080" y="1353960"/>
            <a:ext cx="4395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1f4e79"/>
                </a:solidFill>
                <a:latin typeface="Monotype Corsiva"/>
                <a:ea typeface="Tahoma"/>
              </a:rPr>
              <a:t>Повторение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1f4e79"/>
                </a:solidFill>
                <a:latin typeface="Monotype Corsiva"/>
                <a:ea typeface="Tahoma"/>
              </a:rPr>
              <a:t>8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93760" y="141120"/>
            <a:ext cx="8435880" cy="77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о точек употребите один из паронимов, данных в скоб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школьников … (пришла - зашла) в музей на лекцию. Мы все завтра … (придем - выйдем) на стадион, чтобы посмотреть игру своей любимой команды. Перед подвигом защитников Отечества мы (преклоняем - склоняем) голову. Мы так давно не виделись, что вначале я его даже не (узнал - признал). На голове отца (одета -  надета) меховая шап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293760" y="141120"/>
            <a:ext cx="843588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значение фразеологизмов, какое слово является ключевым для всех устойчивых словосочет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й не разольешь, как в воду опущенный, толочь воду в ступе, носить воду решетом, седьмая вода на киселе, воды не замутит, набрал в рот воды, как в воду глядел, как две капли воды, прошли огонь и воду, концы в воду, как рыба в воде, вилами по воде писано, как с гуся вода, как в воду кануть, вывести на чистую воду, выйти сухим из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5 предложений с фразеологизм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3483000" y="631800"/>
            <a:ext cx="5499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слова и скажите, сколько букв и сколько звуков в каждом слове. Почему в одних словах букв больше, чем звуков, а в других меньш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, стал, сталь, краями, семья, семя, сильный, смелые, пенка, пенька, бьются, приехать, мой, моя, касса, бюр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3570120" y="141120"/>
            <a:ext cx="4440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транскрипцию сл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, тетрадь, веранда, бригада, воин, солдат,   бюро, даль, история, направо, брошюра, парашют, рассчитать, цыган,    щавель, экзамен, юла, чувствовать, чересчур, турист, филология, граммат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3570120" y="141120"/>
            <a:ext cx="4440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ите к указанным словам однокоренные, чтобы в них обнаружилось чередование гласных и согласных в кор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а, берег, снег, блеск, свет, лицо, испечь, брызгать, собирать, рассмешить, холод, вы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3570120" y="141120"/>
            <a:ext cx="4440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письменный морфемный разбор данных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та, воссоединение, допоздна (читать), недалекий, пылесос, съездить, налево (повернуть), трубопровод, черноморский (флот), вороний (кри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570120" y="141120"/>
            <a:ext cx="51595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 приведенные слова по графам таблицы (неизменяемые/ изменяемы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, скромнее, быстро, земля, знойно, играючи, играя, красив, конечно, лето, мать, навсегда, можно, нарочно, нельзя, фойе, шесть, семеро, краснеющий, около, купаный, красный, пог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3570120" y="141120"/>
            <a:ext cx="5159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те новые слова только с помощью пристав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еть, стуч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, хо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, клад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енный, мыт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3570120" y="141120"/>
            <a:ext cx="5159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несколько примеров слов, образованны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ставочным способо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уффиксальным способом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ставочно-суффиксальным способом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пособом с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293760" y="141120"/>
            <a:ext cx="8435880" cy="68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 в тексте слова, к которым можно подобрать антонимы.  Запишите получившиеся антонимические пар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рая моя судьба послала мне столько замечательных людей, что их хватило бы на сотню таких, как я. Это не значит, что все они были моими друзьями или приятелями, но разве и простое знакомство с уникальными людьми, с их удивительными рассказами – не подарок? (Ю. Даниэль)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6-03-20T19:53:45Z</dcterms:modified>
  <cp:revision>28</cp:revision>
  <dc:subject/>
  <dc:title>Презентация PowerPoint</dc:title>
</cp:coreProperties>
</file>