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F4A-EE45-4CD2-BFB9-B954FC02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830-36B4-4BD7-B2E0-48492E0F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43E-F6DF-4146-ACC4-EBE64F44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FB83-5E0F-4C71-9F30-01DDCEB9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2612-3014-42C3-8434-FF27DEF2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A8AE-EAE7-483E-B30F-C317F7F9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52FB-CA1B-46B7-B2B5-1BBD7B57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BC3F-BE22-41E1-A707-1B3ADA15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A803-49FF-4C00-B880-926FB94F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3953-32B8-4C24-B819-DA55C6D4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4BCE-F68B-4208-8C3B-A2E51F4A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E14-DADC-43C6-B5FA-CF16B426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A3D9-477C-4AC2-9829-A8A0D5E5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B8AF-2A74-435E-88A7-8700246B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69D8-A3DE-457A-9875-93B291E8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9AB3-214C-4061-8C4E-7317DE6D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066C-60F6-402F-A3FA-5EC55500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FB206-78DA-4F48-8162-BA486A99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59695-4016-4420-B825-79231689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277B0-2F4B-45D1-B600-32156FCE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B4886-2E11-4243-AEA0-CE070AB9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6CFD0-281C-400A-A568-6EFAE528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D044-7556-4E16-A9F4-5DBA2461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2B0D3-EFB7-44DE-B0B5-D0D5CB42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A7657-9DAA-4C23-96E6-9AB9C0B7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9C001-EF8C-4D3C-B620-128D6D3A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093D-CBAB-4779-A0F8-23921D68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96E4-FD09-4015-BD94-EC9C0E6B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232CF-22BD-4EF2-9F89-9E73F9C3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1B02B-4F89-4602-9FE9-1FD6E2CC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53B-20C3-4BCD-9D35-5224F0E3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BB18-B2C8-48D2-96B2-46A95020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A83-0534-4CDE-8AD9-DC204273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646-B914-4F5D-9B7B-CF29A6F2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CF21-EA81-4932-B278-2C0CA4A9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07C-F31C-47BE-B4D8-4B52158C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6910-B9BB-4339-A0FC-6317D37C9B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4195-129F-4763-9411-32C9825CC40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2885-78BE-456C-BD5E-F132B68BA87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2421000"/>
            <a:ext cx="7921440" cy="3960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Comic Sans MS"/>
              </a:rPr>
              <a:t>     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Comic Sans MS"/>
              </a:rPr>
              <a:t>Иллюстрация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Comic Sans MS"/>
              </a:rPr>
              <a:t>           к басне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«Ворона и Лисица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з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ревнегреческий баснописец VI века до нашей эры. Древнейшие басенные сюжеты появились в греческой литературе ёщё в VI–VII веке нашей эры, но окончательное оформление жанра устной басни относили к VI в. до н. э. и приписывали народному мудрецу Эзопу. Легенды говорят, что Эзоп жил в Древней Греции на острове Самос. Он был рабом, безобразным горбуном. Но благодаря своему уму, Эзоп добился свободы. Он написал много сборников, тексты их видоизменялись и свободно перерабатывались, до нас дошло свыше 100 рукопис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Жан де Лафонте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лся в парижской ораторианской семинарии. В 1647 г. в 26 лет отправился в Париж с намерением посвятить себя литературной деят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1680 г. он издал двенадцать книг Басен, а  в 1683 г. был избран членом Французской Академии. Великий французский поэт, баснописец в своей творческой деятельности обращается к басне не сразу, сначала писал героические поэмы, стих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XVII веке Жан де Лафонтен пишет развёрнутые, полные жизни, действий, остроумные повествования. Лафонтен в баснях опирается на народную мудрость, стремится передать взгляд простого человека, его басни замечательны своим разнообраз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лександр Петрович Суморо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одился в Москве в известной дворянской семье. До 15 лет обучался и воспитывался до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1732–1740 г. учился в Сухопутном шляхетском корпусе, где начал писать стих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.П.Сумороков утвердил в русской поэзии жанр басни. Он смело вводит в свои произведения народные выражения, послови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Склад басни должен быть шутлив» – пишет Сумороков. Для баснописца характерна резкость сатирических красок, страстность обличения ненавистных ему поро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ас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4102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небольшое по размеру произведение, чаще всего в стихотворной форме. В басне обязательно должно быть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учение, сове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что надо делать и чего не надо) ил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насмеш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д каким-нибудь дурным глупым поступ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сня немного похожа на сказку: в ней обычно действуют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не люди, а звер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ли даж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ещ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4" descr="1287419201_1[1]"/>
          <p:cNvPicPr/>
          <p:nvPr/>
        </p:nvPicPr>
        <p:blipFill>
          <a:blip r:embed="rId1"/>
          <a:stretch/>
        </p:blipFill>
        <p:spPr>
          <a:xfrm>
            <a:off x="5172120" y="1557360"/>
            <a:ext cx="30463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ллюстрации к басням И.А.Крылова художника Рачева Евгения Михайлович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1a9111d4a505[1]"/>
          <p:cNvPicPr/>
          <p:nvPr/>
        </p:nvPicPr>
        <p:blipFill>
          <a:blip r:embed="rId1"/>
          <a:stretch/>
        </p:blipFill>
        <p:spPr>
          <a:xfrm>
            <a:off x="2340000" y="1628640"/>
            <a:ext cx="3960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арианты пейзаж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4" descr="1"/>
          <p:cNvPicPr/>
          <p:nvPr/>
        </p:nvPicPr>
        <p:blipFill>
          <a:blip r:embed="rId1"/>
          <a:stretch/>
        </p:blipFill>
        <p:spPr>
          <a:xfrm>
            <a:off x="826920" y="2276640"/>
            <a:ext cx="2322720" cy="3097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2"/>
          <p:cNvPicPr/>
          <p:nvPr/>
        </p:nvPicPr>
        <p:blipFill>
          <a:blip r:embed="rId2"/>
          <a:stretch/>
        </p:blipFill>
        <p:spPr>
          <a:xfrm>
            <a:off x="5877000" y="2276640"/>
            <a:ext cx="2324160" cy="3097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3"/>
          <p:cNvPicPr/>
          <p:nvPr/>
        </p:nvPicPr>
        <p:blipFill>
          <a:blip r:embed="rId3"/>
          <a:stretch/>
        </p:blipFill>
        <p:spPr>
          <a:xfrm>
            <a:off x="3348000" y="2276640"/>
            <a:ext cx="2322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хема рисования лисиц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8" descr="Копия IMG_7188"/>
          <p:cNvPicPr/>
          <p:nvPr/>
        </p:nvPicPr>
        <p:blipFill>
          <a:blip r:embed="rId1"/>
          <a:stretch/>
        </p:blipFill>
        <p:spPr>
          <a:xfrm>
            <a:off x="1116000" y="1844640"/>
            <a:ext cx="6912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хема рисования воро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IMG_7190"/>
          <p:cNvPicPr/>
          <p:nvPr/>
        </p:nvPicPr>
        <p:blipFill>
          <a:blip r:embed="rId1"/>
          <a:stretch/>
        </p:blipFill>
        <p:spPr>
          <a:xfrm>
            <a:off x="1042920" y="1484280"/>
            <a:ext cx="6985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Лисица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умная, коварная, лукавая, хитрая, быстра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4" descr="IMG_7191"/>
          <p:cNvPicPr/>
          <p:nvPr/>
        </p:nvPicPr>
        <p:blipFill>
          <a:blip r:embed="rId1"/>
          <a:stretch/>
        </p:blipFill>
        <p:spPr>
          <a:xfrm>
            <a:off x="1047600" y="198108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IMG_7194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Ворона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ажная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лупая, самоуверенная, падкая на ле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Копия IMG_7192"/>
          <p:cNvPicPr/>
          <p:nvPr/>
        </p:nvPicPr>
        <p:blipFill>
          <a:blip r:embed="rId1"/>
          <a:stretch/>
        </p:blipFill>
        <p:spPr>
          <a:xfrm>
            <a:off x="1047600" y="198108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Копия IMG_7193"/>
          <p:cNvPicPr/>
          <p:nvPr/>
        </p:nvPicPr>
        <p:blipFill>
          <a:blip r:embed="rId2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краской – сероватая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Повадкой – вороватая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Крикунья хрипловатая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Известная персона. Кто она?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5" descr="Картинка 3 из 124615"/>
          <p:cNvPicPr/>
          <p:nvPr/>
        </p:nvPicPr>
        <p:blipFill>
          <a:blip r:embed="rId1"/>
          <a:stretch/>
        </p:blipFill>
        <p:spPr>
          <a:xfrm>
            <a:off x="2411280" y="3213000"/>
            <a:ext cx="4356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ставление компози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4" descr="Копия IMG_7195"/>
          <p:cNvPicPr/>
          <p:nvPr/>
        </p:nvPicPr>
        <p:blipFill>
          <a:blip r:embed="rId1"/>
          <a:stretch/>
        </p:blipFill>
        <p:spPr>
          <a:xfrm>
            <a:off x="971640" y="1557360"/>
            <a:ext cx="3240000" cy="4535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IMG_7196"/>
          <p:cNvPicPr/>
          <p:nvPr/>
        </p:nvPicPr>
        <p:blipFill>
          <a:blip r:embed="rId2"/>
          <a:stretch/>
        </p:blipFill>
        <p:spPr>
          <a:xfrm>
            <a:off x="5003640" y="1557360"/>
            <a:ext cx="324180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тские рисун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8" descr="рисунки басня 004"/>
          <p:cNvPicPr/>
          <p:nvPr/>
        </p:nvPicPr>
        <p:blipFill>
          <a:blip r:embed="rId1"/>
          <a:stretch/>
        </p:blipFill>
        <p:spPr>
          <a:xfrm>
            <a:off x="1332000" y="1341360"/>
            <a:ext cx="3082680" cy="2313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рисунки басня 011"/>
          <p:cNvPicPr/>
          <p:nvPr/>
        </p:nvPicPr>
        <p:blipFill>
          <a:blip r:embed="rId2"/>
          <a:stretch/>
        </p:blipFill>
        <p:spPr>
          <a:xfrm>
            <a:off x="4716360" y="1413000"/>
            <a:ext cx="3016440" cy="2262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рисунки басня 005"/>
          <p:cNvPicPr/>
          <p:nvPr/>
        </p:nvPicPr>
        <p:blipFill>
          <a:blip r:embed="rId3"/>
          <a:stretch/>
        </p:blipFill>
        <p:spPr>
          <a:xfrm>
            <a:off x="844560" y="3860640"/>
            <a:ext cx="2054160" cy="2737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рисунки басня 009"/>
          <p:cNvPicPr/>
          <p:nvPr/>
        </p:nvPicPr>
        <p:blipFill>
          <a:blip r:embed="rId4"/>
          <a:stretch/>
        </p:blipFill>
        <p:spPr>
          <a:xfrm>
            <a:off x="6156360" y="386064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рисунки басня 010"/>
          <p:cNvPicPr/>
          <p:nvPr/>
        </p:nvPicPr>
        <p:blipFill>
          <a:blip r:embed="rId5"/>
          <a:stretch/>
        </p:blipFill>
        <p:spPr>
          <a:xfrm>
            <a:off x="3492360" y="3860640"/>
            <a:ext cx="20304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называются рисунки в книга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то рисует иллюстрации в книга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чего нужны книжные иллюстра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жно ли одного и того же героя изобразить по-разном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репродукциями какого художника вы сегодня познакомилис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35280" y="1267920"/>
            <a:ext cx="7308720" cy="11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апа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ис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исиц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мама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м – нора у них, не яма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ам темно и тесновато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о зато всегда лисят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Картинка 168 из 122477"/>
          <p:cNvPicPr/>
          <p:nvPr/>
        </p:nvPicPr>
        <p:blipFill>
          <a:blip r:embed="rId1"/>
          <a:stretch/>
        </p:blipFill>
        <p:spPr>
          <a:xfrm>
            <a:off x="1908000" y="3213000"/>
            <a:ext cx="5112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7126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тела ворона по-над морем, смотрит: рак ползет — хап его! И понесла в лес, чтобы, усевшись где-нибудь на ветке, хорошенько закусить. Видит рак, что приходится пропадать, и говорит вороне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 Эй, ворона, ворона! Знал я твоего отца и твою мать – славные были люди!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Угу! –  ответила ворона, не раскрывая рт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И братьев и сестер твоих знаю: что за добрые были люди!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Угу!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Да все же хоть они и хорошие люди, а тебе не ровня. Мне сдается, что разумнее тебя никого нет на свет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нравились эти речи вороне; каркнула она во весь рот и упустила рака в мор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5" descr="Картинка 2 из 10038"/>
          <p:cNvPicPr/>
          <p:nvPr/>
        </p:nvPicPr>
        <p:blipFill>
          <a:blip r:embed="rId1"/>
          <a:stretch/>
        </p:blipFill>
        <p:spPr>
          <a:xfrm>
            <a:off x="4859280" y="836640"/>
            <a:ext cx="2021040" cy="1441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Картинка 238 из 2052"/>
          <p:cNvPicPr/>
          <p:nvPr/>
        </p:nvPicPr>
        <p:blipFill>
          <a:blip r:embed="rId2"/>
          <a:stretch/>
        </p:blipFill>
        <p:spPr>
          <a:xfrm>
            <a:off x="1619280" y="476280"/>
            <a:ext cx="1670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Times New Roman"/>
              </a:rPr>
              <a:t>Литературные жан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339640" y="1981080"/>
            <a:ext cx="61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гад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ихотвор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каз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Басн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асня «Ворона и Лисиц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9" descr="Картинка 42 из 2611"/>
          <p:cNvPicPr/>
          <p:nvPr/>
        </p:nvPicPr>
        <p:blipFill>
          <a:blip r:embed="rId1"/>
          <a:stretch/>
        </p:blipFill>
        <p:spPr>
          <a:xfrm>
            <a:off x="2268360" y="1341360"/>
            <a:ext cx="4094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мятник Ивану Андреевичу Крылову в Летнем саду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р – Клодт П. 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Krilov_2[1]"/>
          <p:cNvPicPr/>
          <p:nvPr/>
        </p:nvPicPr>
        <p:blipFill>
          <a:blip r:embed="rId1"/>
          <a:stretch/>
        </p:blipFill>
        <p:spPr>
          <a:xfrm>
            <a:off x="2598840" y="1700280"/>
            <a:ext cx="3727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ртрет Крылова И.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26[1]"/>
          <p:cNvPicPr/>
          <p:nvPr/>
        </p:nvPicPr>
        <p:blipFill>
          <a:blip r:embed="rId1"/>
          <a:stretch/>
        </p:blipFill>
        <p:spPr>
          <a:xfrm>
            <a:off x="2536920" y="1557360"/>
            <a:ext cx="3956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99640" y="1989000"/>
            <a:ext cx="6913800" cy="30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зо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ан де Лафонт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маро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ександр Петрови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68360" y="549360"/>
            <a:ext cx="1041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роме Крылова были и другие баснописцы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торые написали басню о Вороне и Лисиц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8-07-10T18:22:48Z</dcterms:modified>
  <cp:revision>17</cp:revision>
  <dc:subject/>
  <dc:title>PowerPoint Presentation</dc:title>
</cp:coreProperties>
</file>