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D20-B9D9-4F57-AC7D-B9D097E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2CF-E848-49CC-A130-7051FE07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686-0B72-4653-9333-F74E497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8B0-8347-4924-9769-D2710146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117A-8511-456B-8A7A-B73ABC74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1E3B-F456-45B7-BF53-1F67BD17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B675-0629-4F4A-94B0-BEB9D340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E615-D72C-4C00-AB33-487E20FA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893-0BF2-4F1F-8E16-B42A884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DAC-939D-49F9-B67C-63DB160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ED2C-5389-4193-8006-3054698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7B5-0D59-4572-9B55-E663D7A3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BA6B-0079-4068-9C96-603DDD0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EAA-8E2C-4986-93B0-3D41938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C69C-3223-4D07-8BC6-8A203A6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18AC-3572-4295-94E3-96D82EFE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A24-F4D4-4D02-9512-EA1E65B7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D905-0F6B-4949-A349-743E77CD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FA05-4C86-49CC-A80B-07ECE612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6765-3CCA-4FD6-B8A9-0B0A1A14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22F3-8182-4AE2-BE5F-78A00AB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2E4E-68FB-4FD7-93C7-A60346F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461-D481-4F6D-A38A-771E3449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4813-934E-4BC0-BF0F-D12A9CB3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4E1D-ABF4-49A4-8B12-609EB69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E495-4895-42A9-AA02-3641257B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23E2-159A-4898-A1CD-FDBB70B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1E09-F3E9-4DD8-8BD7-58259C1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2606-C51C-4308-9427-FB35D952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E960-B5AF-4791-A3B8-89005255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1A1-8772-41C4-8D0E-C07D92B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C32-B8DC-48C5-93C2-50AEFE8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3AF-59D6-463D-BF84-6CC968BB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C7A-F1B4-4B87-9B9E-FC0AE80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9AC-F8C9-42A2-AA07-829976E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237-9BC9-4B9D-8408-8F8FC16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70A-BE54-4133-9CF6-AA7E0FC76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E0C-D15D-4097-B98B-C7BCA4D0B64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3E9-3018-40D2-9707-DDCE411005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7921440" cy="3960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 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Иллюстрация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        к басне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«Ворона и Лисица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з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ревнегреческий баснописец VI века до нашей эры. Древнейшие басенные сюжеты появились в греческой литературе ёщё в VI–VII веке нашей эры, но окончательное оформление жанра устной басни относили к VI в. до н. э. и приписывали народному мудрецу Эзопу. Легенды говорят, что Эзоп жил в Древней Греции на острове Самос. Он был рабом, безобразным горбуном. Но благодаря своему уму, Эзоп добился свободы. Он написал много сборников, тексты их видоизменялись и свободно перерабатывались, до нас дошло свыше 100 рукопис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ан де Лафонте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лся в парижской ораторианской семинарии. В 1647 г. в 26 лет отправился в Париж с намерением посвятить себя литературн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680 г. он издал двенадцать книг Басен, а  в 1683 г. был избран членом Французской Академии. Великий французский поэт, баснописец в своей творческой деятельности обращается к басне не сразу, сначала писал героические поэмы,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XVII веке Жан де Лафонтен пишет развёрнутые, полные жизни, действий, остроумные повествования. Лафонтен в баснях опирается на народную мудрость, стремится передать взгляд простого человека, его басни замечательны своим разнообраз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лександр Петрович Суморо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ился в Москве в известной дворянской семье. До 15 лет обучался и воспитывался д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732–1740 г. учился в Сухопутном шляхетском корпусе, где начал писать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.П.Сумороков утвердил в русской поэзии жанр басни. Он смело вводит в свои произведения народные выражения, послов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клад басни должен быть шутлив» – пишет Сумороков. Для баснописца характерна резкость сатирических красок, страстность обличения ненавистных ему пор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с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4102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небольшое по размеру произведение, чаще всего в стихотворной форме. В басне обязательно должно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учение,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что надо делать и чего не надо) ил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смеш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д каким-нибудь дурным глупым поступ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сня немного похожа на сказку: в ней обычно действуют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 люди, а звер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даж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ещ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1287419201_1[1]"/>
          <p:cNvPicPr/>
          <p:nvPr/>
        </p:nvPicPr>
        <p:blipFill>
          <a:blip r:embed="rId1"/>
          <a:stretch/>
        </p:blipFill>
        <p:spPr>
          <a:xfrm>
            <a:off x="5172120" y="1557360"/>
            <a:ext cx="30463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ллюстрации к басням И.А.Крылова художника Рачева Евгения Михайлови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1a9111d4a505[1]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рианты пейза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1"/>
          <p:cNvPicPr/>
          <p:nvPr/>
        </p:nvPicPr>
        <p:blipFill>
          <a:blip r:embed="rId1"/>
          <a:stretch/>
        </p:blipFill>
        <p:spPr>
          <a:xfrm>
            <a:off x="826920" y="2276640"/>
            <a:ext cx="2322720" cy="309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"/>
          <p:cNvPicPr/>
          <p:nvPr/>
        </p:nvPicPr>
        <p:blipFill>
          <a:blip r:embed="rId2"/>
          <a:stretch/>
        </p:blipFill>
        <p:spPr>
          <a:xfrm>
            <a:off x="5877000" y="2276640"/>
            <a:ext cx="2324160" cy="3097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3"/>
          <p:cNvPicPr/>
          <p:nvPr/>
        </p:nvPicPr>
        <p:blipFill>
          <a:blip r:embed="rId3"/>
          <a:stretch/>
        </p:blipFill>
        <p:spPr>
          <a:xfrm>
            <a:off x="3348000" y="2276640"/>
            <a:ext cx="232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хема рисования лис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8" descr="Копия IMG_7188"/>
          <p:cNvPicPr/>
          <p:nvPr/>
        </p:nvPicPr>
        <p:blipFill>
          <a:blip r:embed="rId1"/>
          <a:stretch/>
        </p:blipFill>
        <p:spPr>
          <a:xfrm>
            <a:off x="1116000" y="1844640"/>
            <a:ext cx="69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хема рисования в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IMG_7190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Лисиц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умная, коварная, лукавая, хитр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IMG_7191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G_7194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орон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ажна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упая, самоуверенная, падкая на ле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Копия IMG_7192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Копия IMG_7193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краской – сероватая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Повадкой – вороватая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Крикунья хрипловатая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Известная персона. Кто она?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Картинка 3 из 124615"/>
          <p:cNvPicPr/>
          <p:nvPr/>
        </p:nvPicPr>
        <p:blipFill>
          <a:blip r:embed="rId1"/>
          <a:stretch/>
        </p:blipFill>
        <p:spPr>
          <a:xfrm>
            <a:off x="2411280" y="3213000"/>
            <a:ext cx="4356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ставление компози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Копия IMG_7195"/>
          <p:cNvPicPr/>
          <p:nvPr/>
        </p:nvPicPr>
        <p:blipFill>
          <a:blip r:embed="rId1"/>
          <a:stretch/>
        </p:blipFill>
        <p:spPr>
          <a:xfrm>
            <a:off x="971640" y="1557360"/>
            <a:ext cx="3240000" cy="453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G_7196"/>
          <p:cNvPicPr/>
          <p:nvPr/>
        </p:nvPicPr>
        <p:blipFill>
          <a:blip r:embed="rId2"/>
          <a:stretch/>
        </p:blipFill>
        <p:spPr>
          <a:xfrm>
            <a:off x="5003640" y="1557360"/>
            <a:ext cx="32418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ские рису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8" descr="рисунки басня 004"/>
          <p:cNvPicPr/>
          <p:nvPr/>
        </p:nvPicPr>
        <p:blipFill>
          <a:blip r:embed="rId1"/>
          <a:stretch/>
        </p:blipFill>
        <p:spPr>
          <a:xfrm>
            <a:off x="1332000" y="1341360"/>
            <a:ext cx="3082680" cy="231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рисунки басня 011"/>
          <p:cNvPicPr/>
          <p:nvPr/>
        </p:nvPicPr>
        <p:blipFill>
          <a:blip r:embed="rId2"/>
          <a:stretch/>
        </p:blipFill>
        <p:spPr>
          <a:xfrm>
            <a:off x="4716360" y="1413000"/>
            <a:ext cx="3016440" cy="226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рисунки басня 005"/>
          <p:cNvPicPr/>
          <p:nvPr/>
        </p:nvPicPr>
        <p:blipFill>
          <a:blip r:embed="rId3"/>
          <a:stretch/>
        </p:blipFill>
        <p:spPr>
          <a:xfrm>
            <a:off x="844560" y="3860640"/>
            <a:ext cx="2054160" cy="2737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рисунки басня 009"/>
          <p:cNvPicPr/>
          <p:nvPr/>
        </p:nvPicPr>
        <p:blipFill>
          <a:blip r:embed="rId4"/>
          <a:stretch/>
        </p:blipFill>
        <p:spPr>
          <a:xfrm>
            <a:off x="6156360" y="386064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рисунки басня 010"/>
          <p:cNvPicPr/>
          <p:nvPr/>
        </p:nvPicPr>
        <p:blipFill>
          <a:blip r:embed="rId5"/>
          <a:stretch/>
        </p:blipFill>
        <p:spPr>
          <a:xfrm>
            <a:off x="3492360" y="3860640"/>
            <a:ext cx="20304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называются рисунки в книг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 рисует иллюстрации в книг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чего нужны книжные иллюстр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но ли одного и того же героя изобразить по-разно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репродукциями какого художника вы сегодня познакомили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5280" y="1267920"/>
            <a:ext cx="730872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па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сиц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мам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м – нора у них, не ям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м темно и тесновато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 зато всегда лисят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Картинка 168 из 122477"/>
          <p:cNvPicPr/>
          <p:nvPr/>
        </p:nvPicPr>
        <p:blipFill>
          <a:blip r:embed="rId1"/>
          <a:stretch/>
        </p:blipFill>
        <p:spPr>
          <a:xfrm>
            <a:off x="1908000" y="3213000"/>
            <a:ext cx="511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7126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тела ворона по-над морем, смотрит: рак ползет — хап его! И понесла в лес, чтобы, усевшись где-нибудь на ветке, хорошенько закусить. Видит рак, что приходится пропадать, и говорит вороне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 Эй, ворона, ворона! Знал я твоего отца и твою мать – славные были люди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гу! –  ответила ворона, не раскрывая рт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И братьев и сестер твоих знаю: что за добрые были люди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гу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а все же хоть они и хорошие люди, а тебе не ровня. Мне сдается, что разумнее тебя никого нет на све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равились эти речи вороне; каркнула она во весь рот и упустила рака в мор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Картинка 2 из 10038"/>
          <p:cNvPicPr/>
          <p:nvPr/>
        </p:nvPicPr>
        <p:blipFill>
          <a:blip r:embed="rId1"/>
          <a:stretch/>
        </p:blipFill>
        <p:spPr>
          <a:xfrm>
            <a:off x="4859280" y="836640"/>
            <a:ext cx="2021040" cy="144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Картинка 238 из 2052"/>
          <p:cNvPicPr/>
          <p:nvPr/>
        </p:nvPicPr>
        <p:blipFill>
          <a:blip r:embed="rId2"/>
          <a:stretch/>
        </p:blipFill>
        <p:spPr>
          <a:xfrm>
            <a:off x="1619280" y="476280"/>
            <a:ext cx="1670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Times New Roman"/>
              </a:rPr>
              <a:t>Литературные жан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39640" y="19810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ас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сня «Ворона и Лисиц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Картинка 42 из 2611"/>
          <p:cNvPicPr/>
          <p:nvPr/>
        </p:nvPicPr>
        <p:blipFill>
          <a:blip r:embed="rId1"/>
          <a:stretch/>
        </p:blipFill>
        <p:spPr>
          <a:xfrm>
            <a:off x="2268360" y="1341360"/>
            <a:ext cx="4094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мятник Ивану Андреевичу Крылову в Летнем саду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 – Клодт П. 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Krilov_2[1]"/>
          <p:cNvPicPr/>
          <p:nvPr/>
        </p:nvPicPr>
        <p:blipFill>
          <a:blip r:embed="rId1"/>
          <a:stretch/>
        </p:blipFill>
        <p:spPr>
          <a:xfrm>
            <a:off x="2598840" y="1700280"/>
            <a:ext cx="372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ртрет Крылова И.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26[1]"/>
          <p:cNvPicPr/>
          <p:nvPr/>
        </p:nvPicPr>
        <p:blipFill>
          <a:blip r:embed="rId1"/>
          <a:stretch/>
        </p:blipFill>
        <p:spPr>
          <a:xfrm>
            <a:off x="2536920" y="1557360"/>
            <a:ext cx="3956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6913800" cy="30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н де Лафонт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ма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ксандр Петрови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68360" y="549360"/>
            <a:ext cx="104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оме Крылова были и другие баснописц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торые написали басню о Вороне и Лисиц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2:48Z</dcterms:modified>
  <cp:revision>17</cp:revision>
  <dc:subject/>
  <dc:title>PowerPoint Presentation</dc:title>
</cp:coreProperties>
</file>