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gif" ContentType="image/gif"/>
  <Override PartName="/ppt/media/image3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85EEA-D83F-4754-9D4F-AF0076102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F8607-4583-4458-ADE7-155A60880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F591DB-4B50-49FD-A2C6-BF46578DA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601CAE-DCFA-4F56-9DD2-9AA5385F1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ubTitle"/>
          </p:nvPr>
        </p:nvSpPr>
        <p:spPr>
          <a:xfrm>
            <a:off x="857160" y="609480"/>
            <a:ext cx="7407360" cy="62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AD214E-6E66-4783-AB32-EA669E7DB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BB86BC-36D4-4AB6-AD71-B322EE09B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AA1ADB-7764-4108-ADC1-3ADEABC95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95408E-B205-42CA-93B2-4C0276EC4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D5A7F3-B250-4585-9312-7F6102C50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BC53E4-56E5-44B4-9233-DB0A447C5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336024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586368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85680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78" name="PlaceHolder 6"/>
          <p:cNvSpPr>
            <a:spLocks noGrp="1"/>
          </p:cNvSpPr>
          <p:nvPr>
            <p:ph/>
          </p:nvPr>
        </p:nvSpPr>
        <p:spPr>
          <a:xfrm>
            <a:off x="336024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79" name="PlaceHolder 7"/>
          <p:cNvSpPr>
            <a:spLocks noGrp="1"/>
          </p:cNvSpPr>
          <p:nvPr>
            <p:ph/>
          </p:nvPr>
        </p:nvSpPr>
        <p:spPr>
          <a:xfrm>
            <a:off x="586368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5BBDA5-F08D-48B6-8657-741BD450B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8BFD2E-4B6A-42E9-A60B-BF946BDCD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E0E2F-B272-4B96-A5EB-9A3258621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subTitle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D44CAA-7A16-4641-AB03-DDC3E12DD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359ED5-CDAB-4C85-9CBF-E47EFAF68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806787-8075-4726-AB97-9C541E583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3ECA15-7425-4CD0-A9C8-F8167E48D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ubTitle"/>
          </p:nvPr>
        </p:nvSpPr>
        <p:spPr>
          <a:xfrm>
            <a:off x="857160" y="609480"/>
            <a:ext cx="7407360" cy="62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3FE9F4-E06A-492D-9BA9-CBD4229AC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F9AB88-57AF-4EF9-B2A7-9E3C1E60A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1AB5AF-3AB0-4D73-A162-D469B73D8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7E0BF8-4305-4CB2-B105-AF801A594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23A6A2-5F04-4A6C-84EE-5B94F7691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BFBBA1-8A77-44DE-994E-8664F8453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6024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86368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5680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6024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86368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A1E3A-1F35-433B-AA99-FE3D3377A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336024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86368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85680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20" name="PlaceHolder 6"/>
          <p:cNvSpPr>
            <a:spLocks noGrp="1"/>
          </p:cNvSpPr>
          <p:nvPr>
            <p:ph/>
          </p:nvPr>
        </p:nvSpPr>
        <p:spPr>
          <a:xfrm>
            <a:off x="336024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21" name="PlaceHolder 7"/>
          <p:cNvSpPr>
            <a:spLocks noGrp="1"/>
          </p:cNvSpPr>
          <p:nvPr>
            <p:ph/>
          </p:nvPr>
        </p:nvSpPr>
        <p:spPr>
          <a:xfrm>
            <a:off x="586368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20595B-286B-4F07-B45D-12F63C831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61285D-2C57-43EF-9A53-85D518ED1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8B8771-AF9F-41D8-BAD6-E7F7EAA22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0A7E26-262B-4C7C-B5A1-265C00FE5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382094-A687-448A-BACE-E4ABEE5F6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BB793F-C6CC-4F74-A79A-6766853A6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857160" y="609480"/>
            <a:ext cx="7407360" cy="62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72F2F7-D9E9-48BA-B105-867C586CD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AC37E8-6C3E-48CA-AE8E-AAD00591D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058DB4-A77A-45B4-BF4C-48A61D41A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AF58DB-5B61-4195-BB13-C5518CBE3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43DF8-A1C3-4623-B268-D644D95DD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F54CE2-5DDB-4A9D-BB08-17DFA210A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091352-838A-4F34-BF60-B9F7AB4A5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336024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86368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85680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62" name="PlaceHolder 6"/>
          <p:cNvSpPr>
            <a:spLocks noGrp="1"/>
          </p:cNvSpPr>
          <p:nvPr>
            <p:ph/>
          </p:nvPr>
        </p:nvSpPr>
        <p:spPr>
          <a:xfrm>
            <a:off x="336024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63" name="PlaceHolder 7"/>
          <p:cNvSpPr>
            <a:spLocks noGrp="1"/>
          </p:cNvSpPr>
          <p:nvPr>
            <p:ph/>
          </p:nvPr>
        </p:nvSpPr>
        <p:spPr>
          <a:xfrm>
            <a:off x="586368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3B5BE4-1567-442E-A7E1-930EF792D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2B1B44-F597-49AD-A3FF-D8949B3F1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41D30B-302D-44E5-AF44-DA3B30F83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7C836D-4FD4-4B22-B4ED-30B38D33C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866A77-D326-4919-BA82-975D56064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9EF969-630A-400F-902C-DA0687EEC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857160" y="609480"/>
            <a:ext cx="7407360" cy="62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4EEF6D-5B9D-47CC-AFBE-52FEA33FC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7C6932-1D4F-4881-8042-A4E6C1B9C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34C4F-DC8E-4BE6-A956-070B5DD07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8BB4DD-DBE0-4B33-90B7-FF4EC5128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484B11-C9AE-4840-9FE4-AB376CEC2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47B1C0-E5D5-4793-831B-BF526B83C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9308D7-8754-40D4-BD85-EC455FC5A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36024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586368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85680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36024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586368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31B6AC-18E0-4CA2-BB5E-5EB374F96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BF0F0-DECF-4AB9-942D-6DF88F788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C937E-A041-4318-B01F-4608A4287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CDCFB-C28E-45E9-95D0-AD7A1D0AD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57160" y="609480"/>
            <a:ext cx="7407360" cy="62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377CC-C2C5-4180-AFF7-13B0F2B16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B06FA-F277-4956-9083-351906625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DD91D-04A5-4D35-A4FE-1DC07C428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862BF-71C4-4CEC-965B-D9225B66D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C5CBC-AE38-4E02-9B77-4EF080F5E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404E7-F134-40A3-BD3E-8EB9E0C76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2E206-3654-4F2E-A247-41CC0CFFE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6024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86368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5680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6024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86368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1211E-0EB8-4D70-84BB-21D4B7B85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75441E-5A88-48CC-B56C-F361670DE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749DE2-FA4B-480E-8817-71EF3CCED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1A11A7-6C7B-4332-9037-D8436072F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B878EC-49BE-4030-8F26-BED0B780F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1A8D7F-8AF2-4417-B030-2D6CF207F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09E97-AEB5-4B4D-9D6C-07A687DC4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857160" y="609480"/>
            <a:ext cx="7407360" cy="62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026610-CC87-467C-9F20-8244C2406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DACAEF-02A6-4A0B-AD2E-27BCF363D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0DE2C6-3041-454D-8612-AF91A1FBF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2DC2E8-110B-453D-A68D-83149E22C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2582C9-DDE0-4577-81FE-A18FFF40E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FD73BE-561F-4AE7-8E4C-592FD0ECB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36024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86368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85680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36024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586368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CEF059-7606-45AD-8E85-1CB6EB46B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105EFA-28C5-4D0E-B258-8A15B4847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FF8AE4-A1FE-4881-821D-5C6D3471B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7499A6-278C-45E4-A8B4-9F82AAC99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0B32C-D6C5-4CA0-8501-1FD78F9BB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294255-A4A4-4E4F-9971-A2608F407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869124-ECE1-46AC-B6D0-6016969D0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857160" y="609480"/>
            <a:ext cx="7407360" cy="62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E88D84-9123-4FB4-9FEB-179F70CCD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70C7C2-879A-4F00-A54B-6787E176C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2C87BF-5959-48B1-8338-C11BE84AD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28EA3F-E8C3-4BB6-BEE4-F9D537418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5CFC59-5680-42A3-BA53-C5ACBEF28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2F6927-8428-4E16-993F-92A2EC9BD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36024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86368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85680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36024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86368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25C1D2-BBCA-45C7-A709-709DE4A6B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7BB2FB-501E-4C01-A04E-653083179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72EB9-2404-48A4-8C8B-417F8B3E5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740F5A-092F-49EA-8FFB-7AAD14282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310987-A31A-4F02-BCB7-42E452B7F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726C6D-D4E1-4DA8-9994-3C8A4B689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54C951-B0BC-41D5-B6BF-E6385FA23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857160" y="609480"/>
            <a:ext cx="7407360" cy="62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297FFA-DADE-421E-AE9D-C1AD65EFF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1C7D6A-680A-4BF1-B32C-777092B91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9541A6-699F-45D3-934B-C4937B9FB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B7C75D-15E8-4805-B498-81018D662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38F84D-5184-4F9B-9E66-0FE26151C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370528-796B-4AA8-A524-8C69DD834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57160" y="609480"/>
            <a:ext cx="7407360" cy="62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19DB7-5D52-4BE4-9CD7-E13D88050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36024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86368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85680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36024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586368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03F4A2-4978-4FB0-BC81-8F81663DB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781E44-5F81-4587-BB08-4E24BC564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CE5FC6-804A-43B8-A9C8-A2005DDB1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6437D0-D961-4402-9CD4-557DA8B2D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C996AA-A1A2-4216-8E4E-782830D98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FBAF6B-9B60-4BFC-A0BA-224272B81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857160" y="609480"/>
            <a:ext cx="7407360" cy="62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55074C-F53E-45AF-B20E-B930719C7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9B81B3-D08E-4E9C-AD52-E4F351F4F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60E892-5363-4E15-8793-6E64937B7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7EE3CB-C7BC-4609-944C-5DC98B386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1D738-8416-453A-B9A0-17DE3E5DA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40B345-1497-4598-A9A8-25DE929A3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4B1805-2D48-425A-813E-E0943D690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36024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86368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85680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36024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86368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E994C9-7B01-4E68-8C00-C01332FEF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7903B8-1566-440A-ABE6-EBA5DB413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F283A1-7FDA-445C-8FFA-DD3515035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182D95-1242-4382-A5F7-854360656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D01DA0-E48E-4CDD-A656-2B6E3316E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81F633-C5BB-4881-87BC-B5C13EFF7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857160" y="609480"/>
            <a:ext cx="7407360" cy="62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DA8F0B-2CFD-4AD1-AB0A-CF14F37CA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66BCC7-AC9C-4007-A6B8-BCAF0044F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1F553-2008-429F-BE9E-8FD448134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0659A5-6CAB-4671-BD24-E10C32B80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4791E4-BE00-4419-B6F2-0479130DB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4596C2-4771-4CB0-B3AE-EB8F45591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9172C9-7BD5-485A-BD06-B77DD48C1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36024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86368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85680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/>
          </p:nvPr>
        </p:nvSpPr>
        <p:spPr>
          <a:xfrm>
            <a:off x="336024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95" name="PlaceHolder 7"/>
          <p:cNvSpPr>
            <a:spLocks noGrp="1"/>
          </p:cNvSpPr>
          <p:nvPr>
            <p:ph/>
          </p:nvPr>
        </p:nvSpPr>
        <p:spPr>
          <a:xfrm>
            <a:off x="586368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391D15-C470-4594-B4D9-2BD5F695B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0E42A7-B363-474A-B1DA-8AEEAB68D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90079A-A3DF-49E5-B75B-9102D8936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718263-BE86-480B-B2B8-66110B02D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EACFA1-582A-4381-811B-1C1C0A4A5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3A5450-0BC1-4DE6-BB7A-00A767737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EF1AB-CACE-463E-81A0-354BF3E84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ubTitle"/>
          </p:nvPr>
        </p:nvSpPr>
        <p:spPr>
          <a:xfrm>
            <a:off x="857160" y="609480"/>
            <a:ext cx="7407360" cy="62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808EFB-CC0E-4823-8108-DA1759A7E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4F4164-83DB-4756-9167-1F1A92133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7781A7-A79E-4C2A-A57D-DBBDB3190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EF0BDB-1C95-4794-AA24-046A8403D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9551AF-E434-4F73-AE50-982EAC72C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3DCE96-20B4-4720-A288-2B268B678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336024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586368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85680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/>
          </p:nvPr>
        </p:nvSpPr>
        <p:spPr>
          <a:xfrm>
            <a:off x="336024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37" name="PlaceHolder 7"/>
          <p:cNvSpPr>
            <a:spLocks noGrp="1"/>
          </p:cNvSpPr>
          <p:nvPr>
            <p:ph/>
          </p:nvPr>
        </p:nvSpPr>
        <p:spPr>
          <a:xfrm>
            <a:off x="586368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A5B76B-E43B-4E8E-B928-75B0D15EE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2B3587-4B3F-422A-BBBC-4E5C09E56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ubTitle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1AF593-C4CA-42BB-BF3E-9B444DB28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30D7FF-F1F4-4AD5-931A-0F5AEA5FB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b7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182520" y="182520"/>
            <a:ext cx="8778960" cy="649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a6b727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Click to edit the outline text format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con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Thir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our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4" marL="91908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if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5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ix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6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ven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856800" y="6224760"/>
            <a:ext cx="174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962080" y="6224760"/>
            <a:ext cx="3538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85F87-8419-4D68-8B20-A22359117436}" type="slidenum">
              <a:rPr b="0" lang="ru-RU" sz="1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b7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6"/>
          <p:cNvSpPr/>
          <p:nvPr/>
        </p:nvSpPr>
        <p:spPr>
          <a:xfrm>
            <a:off x="182520" y="182520"/>
            <a:ext cx="8778960" cy="649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a6b727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Click to edit the outline text format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con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Thir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our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4" marL="91908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if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5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ix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6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ven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 type="dt" idx="28"/>
          </p:nvPr>
        </p:nvSpPr>
        <p:spPr>
          <a:xfrm>
            <a:off x="856800" y="6224760"/>
            <a:ext cx="174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6b7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6b72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 type="ftr" idx="29"/>
          </p:nvPr>
        </p:nvSpPr>
        <p:spPr>
          <a:xfrm>
            <a:off x="2962080" y="6224760"/>
            <a:ext cx="3538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 type="sldNum" idx="30"/>
          </p:nvPr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6b7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6C344-D750-400A-811C-FD6CCD58E4A5}" type="slidenum">
              <a:rPr b="0" lang="ru-RU" sz="1000" spc="-1" strike="noStrike">
                <a:solidFill>
                  <a:srgbClr val="a6b72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b7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6"/>
          <p:cNvSpPr/>
          <p:nvPr/>
        </p:nvSpPr>
        <p:spPr>
          <a:xfrm>
            <a:off x="182520" y="182520"/>
            <a:ext cx="8778960" cy="649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a6b727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Click to edit the outline text format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con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Thir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our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4" marL="91908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if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5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ix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6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ven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 type="dt" idx="31"/>
          </p:nvPr>
        </p:nvSpPr>
        <p:spPr>
          <a:xfrm>
            <a:off x="856800" y="6224760"/>
            <a:ext cx="174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6b7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6b72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 type="ftr" idx="32"/>
          </p:nvPr>
        </p:nvSpPr>
        <p:spPr>
          <a:xfrm>
            <a:off x="2962080" y="6224760"/>
            <a:ext cx="3538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 type="sldNum" idx="33"/>
          </p:nvPr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6b7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10CF0-6468-4AA6-9B20-7CD77E723645}" type="slidenum">
              <a:rPr b="0" lang="ru-RU" sz="1000" spc="-1" strike="noStrike">
                <a:solidFill>
                  <a:srgbClr val="a6b72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b7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6"/>
          <p:cNvSpPr/>
          <p:nvPr/>
        </p:nvSpPr>
        <p:spPr>
          <a:xfrm>
            <a:off x="182520" y="182520"/>
            <a:ext cx="8778960" cy="649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a6b727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Click to edit the outline text format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con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Thir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our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4" marL="91908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if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5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ix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6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ven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dt" idx="34"/>
          </p:nvPr>
        </p:nvSpPr>
        <p:spPr>
          <a:xfrm>
            <a:off x="856800" y="6224760"/>
            <a:ext cx="174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6b7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6b72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ftr" idx="35"/>
          </p:nvPr>
        </p:nvSpPr>
        <p:spPr>
          <a:xfrm>
            <a:off x="2962080" y="6224760"/>
            <a:ext cx="3538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sldNum" idx="36"/>
          </p:nvPr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6b7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4C68B-E170-414D-9664-C6C08A2FFFED}" type="slidenum">
              <a:rPr b="0" lang="ru-RU" sz="1000" spc="-1" strike="noStrike">
                <a:solidFill>
                  <a:srgbClr val="a6b72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b7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6"/>
          <p:cNvSpPr/>
          <p:nvPr/>
        </p:nvSpPr>
        <p:spPr>
          <a:xfrm>
            <a:off x="182520" y="182520"/>
            <a:ext cx="8778960" cy="6492960"/>
          </a:xfrm>
          <a:prstGeom prst="rect">
            <a:avLst/>
          </a:prstGeom>
          <a:solidFill>
            <a:srgbClr val="a6b727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Straight Connector 7"/>
          <p:cNvSpPr/>
          <p:nvPr/>
        </p:nvSpPr>
        <p:spPr>
          <a:xfrm>
            <a:off x="1484280" y="3733920"/>
            <a:ext cx="6172200" cy="0"/>
          </a:xfrm>
          <a:prstGeom prst="line">
            <a:avLst/>
          </a:prstGeom>
          <a:ln w="10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a6b727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Click to edit the outline text format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con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Thir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our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4" marL="91908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if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5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ix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6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ven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856800" y="6224760"/>
            <a:ext cx="174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2962080" y="6224760"/>
            <a:ext cx="3538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7A71B-255D-428B-8C13-C9037F0C4894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b7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6"/>
          <p:cNvSpPr/>
          <p:nvPr/>
        </p:nvSpPr>
        <p:spPr>
          <a:xfrm>
            <a:off x="182520" y="182520"/>
            <a:ext cx="8778960" cy="649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a6b727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Click to edit the outline text format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con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Thir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our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4" marL="91908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if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5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ix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6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ven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856800" y="6224760"/>
            <a:ext cx="174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6b7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6b72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962080" y="6224760"/>
            <a:ext cx="3538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6b7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26AB0-99F0-4460-ADE4-1A2D1A1E798F}" type="slidenum">
              <a:rPr b="0" lang="ru-RU" sz="1000" spc="-1" strike="noStrike">
                <a:solidFill>
                  <a:srgbClr val="a6b72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b7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6"/>
          <p:cNvSpPr/>
          <p:nvPr/>
        </p:nvSpPr>
        <p:spPr>
          <a:xfrm>
            <a:off x="182520" y="182520"/>
            <a:ext cx="8778960" cy="649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Straight Connector 6"/>
          <p:cNvSpPr/>
          <p:nvPr/>
        </p:nvSpPr>
        <p:spPr>
          <a:xfrm>
            <a:off x="1486080" y="4021200"/>
            <a:ext cx="6172200" cy="0"/>
          </a:xfrm>
          <a:prstGeom prst="line">
            <a:avLst/>
          </a:prstGeom>
          <a:ln w="10080">
            <a:solidFill>
              <a:srgbClr val="a6b7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a6b727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Click to edit the outline text format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con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Thir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our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4" marL="91908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if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5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ix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6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ven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856800" y="6224760"/>
            <a:ext cx="174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6b7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6b72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962080" y="6224760"/>
            <a:ext cx="3538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6b7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892BE-EE9E-4094-99F7-BEE25D37CF86}" type="slidenum">
              <a:rPr b="0" lang="ru-RU" sz="1000" spc="-1" strike="noStrike">
                <a:solidFill>
                  <a:srgbClr val="a6b72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b7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6"/>
          <p:cNvSpPr/>
          <p:nvPr/>
        </p:nvSpPr>
        <p:spPr>
          <a:xfrm>
            <a:off x="182520" y="182520"/>
            <a:ext cx="8778960" cy="649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a6b727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Click to edit the outline text format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con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Thir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our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4" marL="91908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if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5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ix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6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ven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3"/>
          </p:nvPr>
        </p:nvSpPr>
        <p:spPr>
          <a:xfrm>
            <a:off x="856800" y="6224760"/>
            <a:ext cx="174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6b7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6b72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4"/>
          </p:nvPr>
        </p:nvSpPr>
        <p:spPr>
          <a:xfrm>
            <a:off x="2962080" y="6224760"/>
            <a:ext cx="3538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5"/>
          </p:nvPr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6b7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E4125-B5AC-4F57-BB0D-CABA5F388DFC}" type="slidenum">
              <a:rPr b="0" lang="ru-RU" sz="1000" spc="-1" strike="noStrike">
                <a:solidFill>
                  <a:srgbClr val="a6b72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b7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6"/>
          <p:cNvSpPr/>
          <p:nvPr/>
        </p:nvSpPr>
        <p:spPr>
          <a:xfrm>
            <a:off x="182520" y="182520"/>
            <a:ext cx="8778960" cy="649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a6b727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Click to edit the outline text format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con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Thir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our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4" marL="91908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if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5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ix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6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ven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856800" y="6224760"/>
            <a:ext cx="174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6b7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6b72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2962080" y="6224760"/>
            <a:ext cx="3538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6b7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1F347-4197-4273-B6D3-4E9ACFE761E8}" type="slidenum">
              <a:rPr b="0" lang="ru-RU" sz="1000" spc="-1" strike="noStrike">
                <a:solidFill>
                  <a:srgbClr val="a6b72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b7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6"/>
          <p:cNvSpPr/>
          <p:nvPr/>
        </p:nvSpPr>
        <p:spPr>
          <a:xfrm>
            <a:off x="182520" y="182520"/>
            <a:ext cx="8778960" cy="649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a6b727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Click to edit the outline text format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con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Thir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our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4" marL="91908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if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5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ix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6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ven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9"/>
          </p:nvPr>
        </p:nvSpPr>
        <p:spPr>
          <a:xfrm>
            <a:off x="856800" y="6224760"/>
            <a:ext cx="174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6b7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6b72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ftr" idx="20"/>
          </p:nvPr>
        </p:nvSpPr>
        <p:spPr>
          <a:xfrm>
            <a:off x="2962080" y="6224760"/>
            <a:ext cx="3538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sldNum" idx="21"/>
          </p:nvPr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6b7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9D240-AFE8-433B-B63A-EC7CBC90874F}" type="slidenum">
              <a:rPr b="0" lang="ru-RU" sz="1000" spc="-1" strike="noStrike">
                <a:solidFill>
                  <a:srgbClr val="a6b72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b7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6"/>
          <p:cNvSpPr/>
          <p:nvPr/>
        </p:nvSpPr>
        <p:spPr>
          <a:xfrm>
            <a:off x="182520" y="182520"/>
            <a:ext cx="8778960" cy="649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a6b727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Click to edit the outline text format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con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Thir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our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4" marL="91908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if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5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ix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6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ven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dt" idx="22"/>
          </p:nvPr>
        </p:nvSpPr>
        <p:spPr>
          <a:xfrm>
            <a:off x="856800" y="6224760"/>
            <a:ext cx="174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6b7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6b72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 type="ftr" idx="23"/>
          </p:nvPr>
        </p:nvSpPr>
        <p:spPr>
          <a:xfrm>
            <a:off x="2962080" y="6224760"/>
            <a:ext cx="3538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 type="sldNum" idx="24"/>
          </p:nvPr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6b7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DC969-3D3A-4D10-8096-24BD0BD32175}" type="slidenum">
              <a:rPr b="0" lang="ru-RU" sz="1000" spc="-1" strike="noStrike">
                <a:solidFill>
                  <a:srgbClr val="a6b72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b7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6"/>
          <p:cNvSpPr/>
          <p:nvPr/>
        </p:nvSpPr>
        <p:spPr>
          <a:xfrm>
            <a:off x="182520" y="182520"/>
            <a:ext cx="8778960" cy="649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a6b727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Click to edit the outline text format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con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Thir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our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4" marL="91908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if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5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ix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6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ven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 type="dt" idx="25"/>
          </p:nvPr>
        </p:nvSpPr>
        <p:spPr>
          <a:xfrm>
            <a:off x="856800" y="6224760"/>
            <a:ext cx="174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6b7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6b72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 type="ftr" idx="26"/>
          </p:nvPr>
        </p:nvSpPr>
        <p:spPr>
          <a:xfrm>
            <a:off x="2962080" y="6224760"/>
            <a:ext cx="3538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 type="sldNum" idx="27"/>
          </p:nvPr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6b7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B5FE8-091F-40A8-883A-9DB0367C74CC}" type="slidenum">
              <a:rPr b="0" lang="ru-RU" sz="1000" spc="-1" strike="noStrike">
                <a:solidFill>
                  <a:srgbClr val="a6b72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39640" y="471600"/>
            <a:ext cx="7772400" cy="1900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Интерактивные формы работы </a:t>
            </a:r>
            <a:br>
              <a:rPr sz="3600"/>
            </a:br>
            <a:r>
              <a:rPr b="1" i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 родителями воспитанников в ДОУ»</a:t>
            </a:r>
            <a:endParaRPr b="0" lang="en-US" sz="36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2195640" y="4941360"/>
            <a:ext cx="6400800" cy="112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ила Огнева О.В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pic>
        <p:nvPicPr>
          <p:cNvPr id="508" name="Рисунок 4" descr=""/>
          <p:cNvPicPr/>
          <p:nvPr/>
        </p:nvPicPr>
        <p:blipFill>
          <a:blip r:embed="rId1"/>
          <a:stretch/>
        </p:blipFill>
        <p:spPr>
          <a:xfrm>
            <a:off x="684360" y="2371680"/>
            <a:ext cx="5181480" cy="39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Прямоугольник 1"/>
          <p:cNvSpPr/>
          <p:nvPr/>
        </p:nvSpPr>
        <p:spPr>
          <a:xfrm>
            <a:off x="1042920" y="336600"/>
            <a:ext cx="70581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, serif"/>
              </a:rPr>
              <a:t> 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, serif"/>
              </a:rPr>
              <a:t>Индивидуальные собеседования.</a:t>
            </a:r>
            <a:r>
              <a:rPr b="0" lang="ru-RU" sz="1800" spc="-1" strike="noStrike">
                <a:solidFill>
                  <a:srgbClr val="000000"/>
                </a:solidFill>
                <a:latin typeface="Times New Roman, serif"/>
              </a:rPr>
              <a:t> Собеседования планируются проводить по мере надобности. Родители заранее оповещаются о времени собеседования, можно оформить пригласительные. Учитель тщательно готовится к собеседованию: собирает данные о ребёнке, проводит тесты, анкеты, готовит рабочие, контрольные тетради. На собеседование приходят родители или родитель со своим ребёнком. В течение запланированных 40-50 минут учитель беседует с родителями, все вместе проверяют состояние тетрадей, учебников, дневника. Во время собеседования можно проверить ЗУН учащегося, отметить отставания или похвалить за успехи. В собеседовании главная роль отводится родителю, учитель же фиксирует его предложения, замеч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Прямоугольник 1"/>
          <p:cNvSpPr/>
          <p:nvPr/>
        </p:nvSpPr>
        <p:spPr>
          <a:xfrm>
            <a:off x="1042920" y="1197000"/>
            <a:ext cx="69138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есс – конференция с родителями. Эту форму работы мы предлагаем проводить в конце или начале учебного года. Пресс-конференция от обычного собрания отличается тем, что на неё можно пригласить учителей предметников, психолога, завучей, директора школы с тем, чтобы они ответили на интересующие родителей вопросы. Это собрание проводится в форме вопросов и ответ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3" name="Рисунок 2" descr=""/>
          <p:cNvPicPr/>
          <p:nvPr/>
        </p:nvPicPr>
        <p:blipFill>
          <a:blip r:embed="rId1"/>
          <a:stretch/>
        </p:blipFill>
        <p:spPr>
          <a:xfrm>
            <a:off x="1692360" y="3143160"/>
            <a:ext cx="4173480" cy="31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Прямоугольник 2"/>
          <p:cNvSpPr/>
          <p:nvPr/>
        </p:nvSpPr>
        <p:spPr>
          <a:xfrm>
            <a:off x="755640" y="1628640"/>
            <a:ext cx="72723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RobotoRegular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RobotoRegular"/>
              </a:rPr>
              <a:t>Привлечение родителей к образовательному процессу через проектную деятельность. Привлечение родителей к созданию позитивного микросоциума, в котором каждый его участник (взрослый или ребенок) может реализовать себя в учебной деятельности, получить консультации, рекомендации специалистов ОУ, психолога, медицинского работн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5" name="Рисунок 3" descr=""/>
          <p:cNvPicPr/>
          <p:nvPr/>
        </p:nvPicPr>
        <p:blipFill>
          <a:blip r:embed="rId1"/>
          <a:stretch/>
        </p:blipFill>
        <p:spPr>
          <a:xfrm>
            <a:off x="1979640" y="3363840"/>
            <a:ext cx="388620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6" name="Рисунок 2" descr=""/>
          <p:cNvPicPr/>
          <p:nvPr/>
        </p:nvPicPr>
        <p:blipFill>
          <a:blip r:embed="rId1"/>
          <a:stretch/>
        </p:blipFill>
        <p:spPr>
          <a:xfrm>
            <a:off x="6227640" y="4508640"/>
            <a:ext cx="2606760" cy="1993680"/>
          </a:xfrm>
          <a:prstGeom prst="rect">
            <a:avLst/>
          </a:prstGeom>
          <a:ln w="0">
            <a:noFill/>
          </a:ln>
        </p:spPr>
      </p:pic>
      <p:sp>
        <p:nvSpPr>
          <p:cNvPr id="527" name="Прямоугольник 1"/>
          <p:cNvSpPr/>
          <p:nvPr/>
        </p:nvSpPr>
        <p:spPr>
          <a:xfrm>
            <a:off x="971640" y="404640"/>
            <a:ext cx="734544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ожительной стороной подобных форм является то, что участникам не навязывается готовая точка зрения, их вынуждают думать, искать собственный выход из сложившейся ситуа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емья и дошкольное учреждение – два важных института социализации детей. Их воспитательные функции различны, но для всестороннего развития ребенка необходимо их взаимодейств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заимодействие семьи и детского сада - это длительный процесс, долгий и кропотливый труд, требующий от педагогов и родителей терпения, творчества и взаимопонимания. В новых формах взаимодействия с родителями реализуется принцип партнерства, диалог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нообразие интерактивных форм взаимодействия с родителями, позволяет воспитателям значительно улучшить отношения с семьями, повысить педагогическую культуру родителей, расширить представления детей по различным образовательным областя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Прямоугольник 2"/>
          <p:cNvSpPr/>
          <p:nvPr/>
        </p:nvSpPr>
        <p:spPr>
          <a:xfrm>
            <a:off x="723960" y="1073160"/>
            <a:ext cx="75801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Times New Roman, serif"/>
              </a:rPr>
              <a:t>Интерактивный - означает</a:t>
            </a:r>
            <a:r>
              <a:rPr b="0" lang="ru-RU" sz="2400" spc="-1" strike="noStrike">
                <a:solidFill>
                  <a:srgbClr val="000000"/>
                </a:solidFill>
                <a:latin typeface="Times New Roman, serif"/>
              </a:rPr>
              <a:t> способность взаимодействовать или находится в режиме беседы, диалога с чем-либо (например, компьютером) или кем-либо (например, человеком)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, serif"/>
              </a:rPr>
              <a:t>Интерактивные методы воспитания обозначают воспитание через участие и взаимодействие. «Я слышу и забываю, я вижу и понимаю, 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, serif"/>
              </a:rPr>
              <a:t>я делаю и запоминаю</a:t>
            </a:r>
            <a:r>
              <a:rPr b="0" lang="ru-RU" sz="2400" spc="-1" strike="noStrike">
                <a:solidFill>
                  <a:srgbClr val="000000"/>
                </a:solidFill>
                <a:latin typeface="Times New Roman, serif"/>
              </a:rPr>
              <a:t>», говорится в китайской поговорке. Методология участия и взаимодействия полностью вовлекает в процесс воспит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0" name="Picture 6" descr="ÐÐ¾ÑÐ¾Ð¶ÐµÐµ Ð¸Ð·Ð¾Ð±ÑÐ°Ð¶ÐµÐ½Ð¸Ðµ"/>
          <p:cNvPicPr/>
          <p:nvPr/>
        </p:nvPicPr>
        <p:blipFill>
          <a:blip r:embed="rId1"/>
          <a:stretch/>
        </p:blipFill>
        <p:spPr>
          <a:xfrm>
            <a:off x="4775040" y="404640"/>
            <a:ext cx="3840480" cy="2880000"/>
          </a:xfrm>
          <a:prstGeom prst="rect">
            <a:avLst/>
          </a:prstGeom>
          <a:ln w="0">
            <a:noFill/>
          </a:ln>
        </p:spPr>
      </p:pic>
      <p:sp>
        <p:nvSpPr>
          <p:cNvPr id="511" name="Прямоугольник 1"/>
          <p:cNvSpPr/>
          <p:nvPr/>
        </p:nvSpPr>
        <p:spPr>
          <a:xfrm>
            <a:off x="395280" y="476280"/>
            <a:ext cx="77770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03f50"/>
                </a:solidFill>
                <a:latin typeface="Verdana"/>
              </a:rPr>
              <a:t>Цели интерактивного взаимодействия</a:t>
            </a:r>
            <a:r>
              <a:rPr b="0" lang="ru-RU" sz="1800" spc="-1" strike="noStrike">
                <a:solidFill>
                  <a:srgbClr val="303f50"/>
                </a:solidFill>
                <a:latin typeface="Verdana"/>
              </a:rPr>
              <a:t> могут быть различным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03f50"/>
                </a:solidFill>
                <a:latin typeface="Verdana"/>
              </a:rPr>
              <a:t>- обмен опыто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03f50"/>
                </a:solidFill>
                <a:latin typeface="Verdana"/>
              </a:rPr>
              <a:t>- выработка общего мне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03f50"/>
                </a:solidFill>
                <a:latin typeface="Verdana"/>
              </a:rPr>
              <a:t>- формирование умений, навык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03f50"/>
                </a:solidFill>
                <a:latin typeface="Verdana"/>
              </a:rPr>
              <a:t>- создание условия для диалог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03f50"/>
                </a:solidFill>
                <a:latin typeface="Verdana"/>
              </a:rPr>
              <a:t>- группового сплоче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03f50"/>
                </a:solidFill>
                <a:latin typeface="Verdana"/>
              </a:rPr>
              <a:t>- изменения психологической атмосфер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03f50"/>
                </a:solidFill>
                <a:latin typeface="Verdana"/>
              </a:rPr>
              <a:t>Самой </a:t>
            </a:r>
            <a:r>
              <a:rPr b="1" i="1" lang="ru-RU" sz="1800" spc="-1" strike="noStrike">
                <a:solidFill>
                  <a:srgbClr val="303f50"/>
                </a:solidFill>
                <a:latin typeface="Verdana"/>
              </a:rPr>
              <a:t>общей задачей педагога в интерактивной технологии</a:t>
            </a:r>
            <a:r>
              <a:rPr b="0" lang="ru-RU" sz="1800" spc="-1" strike="noStrike">
                <a:solidFill>
                  <a:srgbClr val="303f50"/>
                </a:solidFill>
                <a:latin typeface="Verdana"/>
              </a:rPr>
              <a:t> является фасилитация (поддержка, облегчение) - направление и помощь процессу обмена информацией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03f50"/>
                </a:solidFill>
                <a:latin typeface="Verdana"/>
              </a:rPr>
              <a:t>– </a:t>
            </a:r>
            <a:r>
              <a:rPr b="0" lang="ru-RU" sz="1800" spc="-1" strike="noStrike">
                <a:solidFill>
                  <a:srgbClr val="303f50"/>
                </a:solidFill>
                <a:latin typeface="Verdana"/>
              </a:rPr>
              <a:t>выявление многообразия точек зре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03f50"/>
                </a:solidFill>
                <a:latin typeface="Verdana"/>
              </a:rPr>
              <a:t>– </a:t>
            </a:r>
            <a:r>
              <a:rPr b="0" lang="ru-RU" sz="1800" spc="-1" strike="noStrike">
                <a:solidFill>
                  <a:srgbClr val="303f50"/>
                </a:solidFill>
                <a:latin typeface="Verdana"/>
              </a:rPr>
              <a:t>обращение к личному опыту участник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03f50"/>
                </a:solidFill>
                <a:latin typeface="Verdana"/>
              </a:rPr>
              <a:t>– </a:t>
            </a:r>
            <a:r>
              <a:rPr b="0" lang="ru-RU" sz="1800" spc="-1" strike="noStrike">
                <a:solidFill>
                  <a:srgbClr val="303f50"/>
                </a:solidFill>
                <a:latin typeface="Verdana"/>
              </a:rPr>
              <a:t>поддержка активности участник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03f50"/>
                </a:solidFill>
                <a:latin typeface="Verdana"/>
              </a:rPr>
              <a:t>– </a:t>
            </a:r>
            <a:r>
              <a:rPr b="0" lang="ru-RU" sz="1800" spc="-1" strike="noStrike">
                <a:solidFill>
                  <a:srgbClr val="303f50"/>
                </a:solidFill>
                <a:latin typeface="Verdana"/>
              </a:rPr>
              <a:t>соединение теории и практик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03f50"/>
                </a:solidFill>
                <a:latin typeface="Verdana"/>
              </a:rPr>
              <a:t>– </a:t>
            </a:r>
            <a:r>
              <a:rPr b="0" lang="ru-RU" sz="1800" spc="-1" strike="noStrike">
                <a:solidFill>
                  <a:srgbClr val="303f50"/>
                </a:solidFill>
                <a:latin typeface="Verdana"/>
              </a:rPr>
              <a:t>взаимообогащение опыта участник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03f50"/>
                </a:solidFill>
                <a:latin typeface="Verdana"/>
              </a:rPr>
              <a:t>– </a:t>
            </a:r>
            <a:r>
              <a:rPr b="0" lang="ru-RU" sz="1800" spc="-1" strike="noStrike">
                <a:solidFill>
                  <a:srgbClr val="303f50"/>
                </a:solidFill>
                <a:latin typeface="Verdana"/>
              </a:rPr>
              <a:t>облегчение восприятия, усвоения, взаимопонимания участник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03f50"/>
                </a:solidFill>
                <a:latin typeface="Verdana"/>
              </a:rPr>
              <a:t>– </a:t>
            </a:r>
            <a:r>
              <a:rPr b="0" lang="ru-RU" sz="1800" spc="-1" strike="noStrike">
                <a:solidFill>
                  <a:srgbClr val="303f50"/>
                </a:solidFill>
                <a:latin typeface="Verdana"/>
              </a:rPr>
              <a:t>поощрение творчества участник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Прямоугольник 1"/>
          <p:cNvSpPr/>
          <p:nvPr/>
        </p:nvSpPr>
        <p:spPr>
          <a:xfrm>
            <a:off x="754200" y="620640"/>
            <a:ext cx="712944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, serif"/>
              </a:rPr>
              <a:t>Интерактивные методы 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, serif"/>
              </a:rPr>
              <a:t>ломают традиционные стереотипы родительского собрания: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, serif"/>
              </a:rPr>
              <a:t> оно становится не просто местом, где сообщают оценки и собирают деньги на «классные нужды», а особым пространством, наделенным специфическим смыслом и содержанием. Их применение 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, serif"/>
              </a:rPr>
              <a:t>повышает готовность родителей к взаимодействию с психологом, педагогами и другими специалистами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, serif"/>
              </a:rPr>
              <a:t>. Специалист, организующий оригинальные, непривычные мероприятия, вызывает уважение и интере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3" name="Рисунок 2" descr=""/>
          <p:cNvPicPr/>
          <p:nvPr/>
        </p:nvPicPr>
        <p:blipFill>
          <a:blip r:embed="rId1"/>
          <a:stretch/>
        </p:blipFill>
        <p:spPr>
          <a:xfrm>
            <a:off x="2843280" y="3790800"/>
            <a:ext cx="3814560" cy="29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Прямоугольник 1"/>
          <p:cNvSpPr/>
          <p:nvPr/>
        </p:nvSpPr>
        <p:spPr>
          <a:xfrm>
            <a:off x="826920" y="1268280"/>
            <a:ext cx="75614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, serif"/>
              </a:rPr>
              <a:t>Интерактивные методы </a:t>
            </a:r>
            <a:r>
              <a:rPr b="1" lang="ru-RU" sz="1800" spc="-1" strike="noStrike">
                <a:solidFill>
                  <a:srgbClr val="000000"/>
                </a:solidFill>
                <a:latin typeface="Times New Roman, serif"/>
              </a:rPr>
              <a:t>выполняют и диагностическую функцию</a:t>
            </a:r>
            <a:r>
              <a:rPr b="0" lang="ru-RU" sz="1800" spc="-1" strike="noStrike">
                <a:solidFill>
                  <a:srgbClr val="000000"/>
                </a:solidFill>
                <a:latin typeface="Times New Roman, serif"/>
              </a:rPr>
              <a:t>, с их помощью проясняются родительские ожидания, представления, тревоги и страхи, причем, поскольку их диагностическая направленность для родителя неочевидна, то можно получить информацию, на которую значительно меньшее воздействие оказывает фактор социальной желательности.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, serif"/>
              </a:rPr>
              <a:t>Применение интерактивных методов </a:t>
            </a:r>
            <a:r>
              <a:rPr b="1" lang="ru-RU" sz="1800" spc="-1" strike="noStrike">
                <a:solidFill>
                  <a:srgbClr val="000000"/>
                </a:solidFill>
                <a:latin typeface="Times New Roman, serif"/>
              </a:rPr>
              <a:t>позволяет значительно углубить воздействие педагога на родителей</a:t>
            </a:r>
            <a:r>
              <a:rPr b="0" lang="ru-RU" sz="1800" spc="-1" strike="noStrike">
                <a:solidFill>
                  <a:srgbClr val="000000"/>
                </a:solidFill>
                <a:latin typeface="Times New Roman, serif"/>
              </a:rPr>
              <a:t>. Они получают опыт непосредственного проживания и отреагирования, что способствует интеграции психолого-педагогических знаний и навык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5" name="Picture 2" descr="ÐÐ°ÑÑÐ¸Ð½ÐºÐ¸ Ð¿Ð¾ Ð·Ð°Ð¿ÑÐ¾ÑÑ Ð¸Ð½ÑÐµÑÐ°ÐºÑÐ¸Ð²Ð½ÑÐµ ÑÐ¾ÑÐ¼Ñ ÑÐ¾ÑÑÑÐ´Ð½Ð¸ÑÐµÑÑÐ²Ð° Ñ ÑÐµÐ¼ÑÑÐ¹"/>
          <p:cNvPicPr/>
          <p:nvPr/>
        </p:nvPicPr>
        <p:blipFill>
          <a:blip r:embed="rId1"/>
          <a:stretch/>
        </p:blipFill>
        <p:spPr>
          <a:xfrm>
            <a:off x="684360" y="620640"/>
            <a:ext cx="7272360" cy="49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Прямоугольник 1"/>
          <p:cNvSpPr/>
          <p:nvPr/>
        </p:nvSpPr>
        <p:spPr>
          <a:xfrm>
            <a:off x="1700280" y="907920"/>
            <a:ext cx="58863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, serif"/>
              </a:rPr>
              <a:t>Самые активные формы работы - 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, serif"/>
              </a:rPr>
              <a:t>родительские собрания</a:t>
            </a:r>
            <a:r>
              <a:rPr b="1" lang="ru-RU" sz="1800" spc="-1" strike="noStrike">
                <a:solidFill>
                  <a:srgbClr val="000000"/>
                </a:solidFill>
                <a:latin typeface="Times New Roman, serif"/>
              </a:rPr>
              <a:t>, где родители являются не пассивными слушателями, а активными участниками разгово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, serif"/>
              </a:rPr>
              <a:t>На родительском собрании можно применять различные интерактивные методы: работа в мини-группах, дискуссии, деловые, ролевые, имитационные игры и д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7" name="Рисунок 2" descr=""/>
          <p:cNvPicPr/>
          <p:nvPr/>
        </p:nvPicPr>
        <p:blipFill>
          <a:blip r:embed="rId1"/>
          <a:stretch/>
        </p:blipFill>
        <p:spPr>
          <a:xfrm>
            <a:off x="469800" y="3357720"/>
            <a:ext cx="4173480" cy="31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Прямоугольник 1"/>
          <p:cNvSpPr/>
          <p:nvPr/>
        </p:nvSpPr>
        <p:spPr>
          <a:xfrm>
            <a:off x="971640" y="620640"/>
            <a:ext cx="72007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, serif"/>
              </a:rPr>
              <a:t>Следующая форма работы </a:t>
            </a:r>
            <a:r>
              <a:rPr b="1" lang="ru-RU" sz="1800" spc="-1" strike="noStrike">
                <a:solidFill>
                  <a:srgbClr val="000000"/>
                </a:solidFill>
                <a:latin typeface="Times New Roman, serif"/>
              </a:rPr>
              <a:t>– индивидуальные консультации.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, serif"/>
              </a:rPr>
              <a:t>Индивидуальные консультации особенно необходимы, когда учитель набирает класс. Готовясь к консультации, необходимо определить ряд вопросов, ответы на которые помогут планированию воспитательной работы с классом. Учитель должен дать возможность родителям рассказать ему всё то, что поможет в профессиональной работе с ребёнком: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, serif"/>
              </a:rPr>
              <a:t>•особенности здоровья ребёнка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, serif"/>
              </a:rPr>
              <a:t>•его увлечения, интересы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, serif"/>
              </a:rPr>
              <a:t>•предпочтения в общении в семье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, serif"/>
              </a:rPr>
              <a:t>•поведенческие реакции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, serif"/>
              </a:rPr>
              <a:t>•особенности характера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, serif"/>
              </a:rPr>
              <a:t>•мотивация учения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, serif"/>
              </a:rPr>
              <a:t>•моральные ценности семь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9" name="Рисунок 2" descr=""/>
          <p:cNvPicPr/>
          <p:nvPr/>
        </p:nvPicPr>
        <p:blipFill>
          <a:blip r:embed="rId1"/>
          <a:stretch/>
        </p:blipFill>
        <p:spPr>
          <a:xfrm>
            <a:off x="4427640" y="3341520"/>
            <a:ext cx="3989160" cy="305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Прямоугольник 1"/>
          <p:cNvSpPr/>
          <p:nvPr/>
        </p:nvSpPr>
        <p:spPr>
          <a:xfrm>
            <a:off x="1187280" y="765000"/>
            <a:ext cx="69138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, serif"/>
              </a:rPr>
              <a:t>Консультирование</a:t>
            </a:r>
            <a:r>
              <a:rPr b="0" lang="ru-RU" sz="1800" spc="-1" strike="noStrike">
                <a:solidFill>
                  <a:srgbClr val="000000"/>
                </a:solidFill>
                <a:latin typeface="Times New Roman, serif"/>
              </a:rPr>
              <a:t> семей учащихся по актуальным вопросам обучения детей у учителей-предметников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Open Sans"/>
              </a:rPr>
              <a:t>  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, serif"/>
              </a:rPr>
              <a:t>Информационно-просветительская и развивающая работа</a:t>
            </a:r>
            <a:r>
              <a:rPr b="0" lang="ru-RU" sz="1800" spc="-1" strike="noStrike">
                <a:solidFill>
                  <a:srgbClr val="000000"/>
                </a:solidFill>
                <a:latin typeface="Times New Roman, serif"/>
              </a:rPr>
              <a:t> через: проблемные тематические выступления, направленные на решение актуальных психолого-педагогических задач и способствующих повышению компетентности родителей, что необходимо для создания благоприятных условий развития и образования детей; психолого-педагогический всеобуч родителей, действующими лицами которого помимо педагога-психолога могут быть опытные педагоги и узкие специалисты. Данная форма взаимодействия с родительской общественностью позволяет использовать интерактивные методы психологического воздействия для обнаружения и корректировки пробелов знаний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5-20T06:19:32Z</dcterms:created>
  <dc:creator>Пользователь</dc:creator>
  <dc:description/>
  <dc:language>en-US</dc:language>
  <cp:lastModifiedBy>Домашний</cp:lastModifiedBy>
  <dcterms:modified xsi:type="dcterms:W3CDTF">2018-07-11T18:09:18Z</dcterms:modified>
  <cp:revision>52</cp:revision>
  <dc:subject/>
  <dc:title>"Интерактивные формы взаимодействия с родителями дошкольников "Играем вместе"</dc:title>
</cp:coreProperties>
</file>