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E2E4-8853-4811-9131-4C2B72E04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F2B-E659-4BE8-AC45-2778FCF1E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657CD8-2605-418A-9788-D2C17A7E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B56FEB-1C26-412F-B51C-E098943A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EFB0D6-C403-483A-8F38-490472B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83C14B-15A8-426F-AB92-441201D2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485C5-14B2-437A-9776-CCB29D66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A9EA15-68AD-41C8-85AF-AC601BDD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E11CE-B2F9-4BE8-B53F-595AEFC0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AB72D8-C804-4289-AFB8-FE99BB98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2E35BE-2343-48BC-A445-8D16035CF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066BB-E0A5-40C9-BCFC-40AF1EACA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EEC-FCA6-44DC-B50A-4517F4E36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19C51-5074-4FFB-B932-DB077E00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F3EB2B-29BC-4B88-901F-5C64A90EE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6890-4B0A-416F-9C6B-0DEFAADF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C125E-F8EB-4936-A0ED-F32E12F6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B20583-4B0D-4F10-A08A-6826F5A7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388E14-D5D2-4B46-8EFC-1A47D904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06978-AE5D-47BD-927A-8E86AA17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DAABFC-BC78-4CEA-BEF3-79C0371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0AB673-BFBB-4ADB-9116-09BC8B32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DABD03-C529-4CEE-B810-89F1253B6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57BA-7D9C-4B6B-B3E9-BC51F80ED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3FDBF-F66B-46C4-AFC1-FAAB89E9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3BD8A4-D1C1-444D-A213-93ECBBED2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8EA9D-E7AF-408D-8684-301EB75C5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FED7EC-7181-428F-91A4-3579A748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CCFF51-277F-49FF-B416-1376662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A7FC09-4CF0-4F9C-B8DB-E393CC61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1BD7B4-1D99-47A7-B7FE-3A3D175C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28C4B-4441-48BD-8F37-67BA4CE4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5DF4C-43BD-4A3A-A128-95067A33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159A91-E485-4142-830A-5E8898C5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20CE-3D96-410E-97F0-4E89E3087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34199-6AE0-4D8C-8066-DB2CD44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58AA2-A3DD-4269-B3CC-69A0B1228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2CBAE-13B6-49AA-A2FE-88D43AB07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AB331A-CECB-4AA8-BD41-801E7DBCC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C51D7-78FA-4316-97E1-ADAC805D0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F38F6-A854-41AD-85F7-1493931D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1523AE-8BEE-49B0-8789-BEA57EA8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FE4DE9-CEBE-4033-B7D4-3E2FB841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DF1AB5-1E96-42E5-825A-14FC306E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B5872-66C3-41E7-A06F-6D363E48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09AA-60A5-46C1-A489-8B1B62AB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9F39EC-084F-4F00-B418-6DD584BB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A4359F-7DA4-4DE4-BE4A-22E6488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B3A0FD-D92F-446D-95C6-24977A3B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6686B0-9FA0-4162-96AD-4D06DA1A8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760C8-CF49-49F9-B629-1E3B6D6C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D8E56-2D00-4D1F-AC69-C83E9E84D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F9AA-9F2B-4A6F-A5F7-6783C522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D1197-54E5-444E-AB50-CE33FA6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7DB5-4912-4B90-8E7E-C01A142F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AA91E-EAAD-4C69-B4D3-CC057815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5077-AB69-4EB8-8E37-C97DEE31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CF728-5385-4059-A39C-8E4B999E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8657E-6C3A-4233-B24C-DB83E61A7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402A-FF73-41AE-8FAF-4D284465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21D21-DFB4-4A66-AB28-87A3DB59E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B061-13CC-4761-A622-E831DA4FD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086C-0776-4664-B687-ED1C63AC9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DF96F-E07B-40AE-9EC8-BF2040F3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69D64-1AE4-46DE-A75C-A9DA863D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4DB25-2241-4C90-8FAC-7AA971FB8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9BC47-F105-4AB5-A2A9-6F873950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87A3-9B87-4DFA-A40D-DACCCD18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BE343-0161-4E35-AA0D-B1381FC9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F1A8C-DF7B-4BD7-9A52-63B7E641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6D8F7-5F0C-4E71-B220-3C4C2BD8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901C-95EC-4A28-B1FB-71256E08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DB330-89E4-420F-BFC1-43FF88C0A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689CE-6C91-480E-BC7B-753781D7E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5D2B-104C-4DE0-9522-1FA1E232D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72DE0-09E1-4AF9-9EBE-BEDCAE0D0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A7EDE-554A-4AF2-8078-2FC3719C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36E9E-0835-4FF4-B3A9-37971D0C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A243-6262-466F-ADFE-B24E6F26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DE91D-ED7D-4F04-9D2A-395AEE8BC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70BC9-A97E-4A70-A70A-0B7DBDE67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2690F-F40E-4EDF-A6B3-9078B08B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7744-61BC-4E0A-B6EE-CCA65591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48AC0-10DD-439B-A368-2570BB08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572B23-143C-42C1-BE17-27BBCBEA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A0F1-528A-4656-8C4D-D2D6CF6A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13389-2CDA-47E5-BC59-1D98BB11F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7CB78-9376-49B9-B066-B65A47D9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851BE-3144-4380-BE1F-18161A695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16C4A-0325-4B34-9E30-82E014BC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ED1EA-77B8-469D-A3EE-7D648D01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714E8-FDB1-4CA3-89DA-FE791204D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6A850-F296-44BD-A1B8-74D571CF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EF5EA-A608-46FE-B002-5F18B85A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F4FF-D527-4DC4-82AA-24BC2514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E06D9-A5FC-4515-B92B-86CD662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CFB1F5-ABC9-4AA3-A4FB-785454E92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61F51-EC4A-42B2-9A19-BD20DD5F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F00C9-23CD-4157-8143-E39B63A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3FF22-1E05-4D48-9B00-4026132DC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19CB-297C-45BB-B3CC-9DF829C5D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609AA-2A03-4C5C-8BA9-03A1472C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C056-0384-4A4A-8FC3-935437DD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8110C-5C02-4BF8-903E-EF07A8C87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2D9A9-142F-472C-B1B6-05C2E120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7FEA9-2C68-43A5-96CF-359759A3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1FC89-A22E-4D9C-9F75-B428DD93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72AB8-3569-4252-9794-BCA88E5C4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13905-7A21-413E-B0B1-15453DD2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7E56C-9EAA-4488-9E13-0F51A574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55D67F-E95F-4FCB-B526-74652B12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2EDA-1B8D-4845-BFBC-B5F6A3C9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1997-71C8-4166-BF46-EDDB5D83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DF912-D49A-45B1-BB95-1E7F72FF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05E70-F099-40F2-883B-2850EC335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F8630-206F-4C77-BC84-3D6AC6CA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5BFB1-EC47-47E9-9189-7570BFB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B7B56A-D30C-486B-9CC1-7E2265E4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079CA-2BB4-41B7-9B24-86E7A1F6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74772-A36A-4745-A778-D0A609CF2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780B91-8364-4DAD-8914-B3FE66E8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01212F-E446-4F7F-A5D9-16A07049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7B5-EE81-4015-9E1E-6C7B1DE1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980DF-7C50-48C6-B9D6-0192F875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267F96-41BF-4D61-99A6-A1835C35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41D1DE-CA82-45C4-A238-F64C9D6D3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FFD4-5F5F-4D69-96AF-DA7E83D0B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7A9B-050B-428E-A7A4-2F7076977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63081-A374-4571-B066-0A52F329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0A323-1FA6-465D-AEEE-10B760B1E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DBB4D-E414-4454-B635-9109F942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2787E8-74F9-445E-9A29-ACFF5751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5C2E6-C363-4636-84FF-C4CBA406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1106-2C56-4447-A290-E91F0161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57160" y="609480"/>
            <a:ext cx="7407360" cy="62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08FC38-1D85-4D5C-91D1-6CDA62D6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D1B99-C88A-44A2-AD14-129E621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02804E-37ED-485B-93FE-045F3AB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B5FB1-3AE2-4BDC-9732-8E826C21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56800" y="4166640"/>
            <a:ext cx="7404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062DF-6D83-41F5-8CA7-B46355E3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50840" y="205740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5680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50840" y="4166640"/>
            <a:ext cx="36129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0F774-2A9C-4378-B8E1-DC1A4B64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6024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863680" y="205740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5680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6024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863680" y="4166640"/>
            <a:ext cx="23839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36E32-81DD-4C27-BE12-B13CCC0BD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15C28-5803-4296-8D0F-E63BF575B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9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2DA1D4-CD7B-4FDF-98CC-FE11FD66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F49074-E137-4DBD-AACF-3B89507A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F186-2031-4BA5-9FE0-D1107E91B13F}" type="slidenum">
              <a:rPr b="0" lang="ru-RU" sz="10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dt" idx="28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ftr" idx="29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 type="sldNum" idx="30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85D3-C01E-49E1-8350-AFB83A7F9CB8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31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32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3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EA03-4ED0-4479-AB9F-4A7429017D6A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D2C-8716-45B8-BA7B-2A19AFB784DB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a6b727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traight Connector 7"/>
          <p:cNvSpPr/>
          <p:nvPr/>
        </p:nvSpPr>
        <p:spPr>
          <a:xfrm>
            <a:off x="1484280" y="3733920"/>
            <a:ext cx="6172200" cy="0"/>
          </a:xfrm>
          <a:prstGeom prst="line">
            <a:avLst/>
          </a:prstGeom>
          <a:ln w="10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A790-6DA8-4BB9-935A-E484016ACEF9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235FD-3EF3-44EE-80B6-6B114DC1661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traight Connector 6"/>
          <p:cNvSpPr/>
          <p:nvPr/>
        </p:nvSpPr>
        <p:spPr>
          <a:xfrm>
            <a:off x="1486080" y="4021200"/>
            <a:ext cx="6172200" cy="0"/>
          </a:xfrm>
          <a:prstGeom prst="line">
            <a:avLst/>
          </a:prstGeom>
          <a:ln w="10080">
            <a:solidFill>
              <a:srgbClr val="a6b7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DCA6-A952-46FD-B9AE-703CF3C09B34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4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5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9D6F-3E31-4E51-AABC-AB05008D62EA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756F6-00CD-4F6F-A5AB-421786E66ED4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15AC-BAC2-4E35-94E1-D28D04E75850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4FAB0-E965-44EC-929C-B67EB310D54F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6b7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182520" y="182520"/>
            <a:ext cx="8778960" cy="649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57160" y="609480"/>
            <a:ext cx="740736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a6b727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856800" y="2057400"/>
            <a:ext cx="7404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Click to edit the outline text format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1" marL="34308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con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2" marL="54756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Third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3" marL="754200" indent="-13680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our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4" marL="919080" indent="-136440">
              <a:lnSpc>
                <a:spcPct val="90000"/>
              </a:lnSpc>
              <a:spcBef>
                <a:spcPts val="1001"/>
              </a:spcBef>
              <a:buClr>
                <a:srgbClr val="a6b727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Fif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5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ix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  <a:p>
            <a:pPr lvl="6" marL="919080" indent="-13644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80000"/>
              <a:buFont typeface="Corbe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a6b727"/>
                </a:solidFill>
                <a:latin typeface="Corbel"/>
              </a:rPr>
              <a:t>Seventh Outline Level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856800" y="6224760"/>
            <a:ext cx="174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2962080" y="6224760"/>
            <a:ext cx="3538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6997680" y="6224760"/>
            <a:ext cx="127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6b7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5D1E-2317-483E-99A3-91D87B1CE156}" type="slidenum">
              <a:rPr b="0" lang="ru-RU" sz="1000" spc="-1" strike="noStrike">
                <a:solidFill>
                  <a:srgbClr val="a6b72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716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Интерактивные формы работы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родителями воспитанников в ДОУ»</a:t>
            </a:r>
            <a:endParaRPr b="0" lang="en-US" sz="3600" spc="-1" strike="noStrike">
              <a:solidFill>
                <a:srgbClr val="a6b727"/>
              </a:solidFill>
              <a:latin typeface="Corbe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2195640" y="4941360"/>
            <a:ext cx="640080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Огнева О.В.</a:t>
            </a:r>
            <a:endParaRPr b="0" lang="en-US" sz="2000" spc="-1" strike="noStrike">
              <a:solidFill>
                <a:srgbClr val="a6b727"/>
              </a:solidFill>
              <a:latin typeface="Corbel"/>
            </a:endParaRPr>
          </a:p>
        </p:txBody>
      </p:sp>
      <p:pic>
        <p:nvPicPr>
          <p:cNvPr id="508" name="Рисунок 4" descr=""/>
          <p:cNvPicPr/>
          <p:nvPr/>
        </p:nvPicPr>
        <p:blipFill>
          <a:blip r:embed="rId1"/>
          <a:stretch/>
        </p:blipFill>
        <p:spPr>
          <a:xfrm>
            <a:off x="684360" y="2371680"/>
            <a:ext cx="51814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Прямоугольник 1"/>
          <p:cNvSpPr/>
          <p:nvPr/>
        </p:nvSpPr>
        <p:spPr>
          <a:xfrm>
            <a:off x="1042920" y="336600"/>
            <a:ext cx="705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Индивидуальные собеседования.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Собеседования планируются проводить по мере надобности. Родители заранее оповещаются о времени собеседования, можно оформить пригласительные. Учитель тщательно готовится к собеседованию: собирает данные о ребёнке, проводит тесты, анкеты, готовит рабочие, контрольные тетради. На собеседование приходят родители или родитель со своим ребёнком. В течение запланированных 40-50 минут учитель беседует с родителями, все вместе проверяют состояние тетрадей, учебников, дневника. Во время собеседования можно проверить ЗУН учащегося, отметить отставания или похвалить за успехи. В собеседовании главная роль отводится родителю, учитель же фиксирует его предложения, замеч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1"/>
          <p:cNvSpPr/>
          <p:nvPr/>
        </p:nvSpPr>
        <p:spPr>
          <a:xfrm>
            <a:off x="1042920" y="1197000"/>
            <a:ext cx="691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есс – конференция с родителями. Эту форму работы мы предлагаем проводить в конце или начале учебного года. Пресс-конференция от обычного собрания отличается тем, что на неё можно пригласить учителей предметников, психолога, завучей, директора школы с тем, чтобы они ответили на интересующие родителей вопросы. Это собрание проводится в форме вопросов и отв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Рисунок 2" descr=""/>
          <p:cNvPicPr/>
          <p:nvPr/>
        </p:nvPicPr>
        <p:blipFill>
          <a:blip r:embed="rId1"/>
          <a:stretch/>
        </p:blipFill>
        <p:spPr>
          <a:xfrm>
            <a:off x="1692360" y="314316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Прямоугольник 2"/>
          <p:cNvSpPr/>
          <p:nvPr/>
        </p:nvSpPr>
        <p:spPr>
          <a:xfrm>
            <a:off x="755640" y="1628640"/>
            <a:ext cx="7272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RobotoRegular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RobotoRegular"/>
              </a:rPr>
              <a:t>Привлечение родителей к образовательному процессу через проектную деятельность. Привлечение родителей к созданию позитивного микросоциума, в котором каждый его участник (взрослый или ребенок) может реализовать себя в учебной деятельности, получить консультации, рекомендации специалистов ОУ, психолога, медицинского работ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3" descr=""/>
          <p:cNvPicPr/>
          <p:nvPr/>
        </p:nvPicPr>
        <p:blipFill>
          <a:blip r:embed="rId1"/>
          <a:stretch/>
        </p:blipFill>
        <p:spPr>
          <a:xfrm>
            <a:off x="1979640" y="3363840"/>
            <a:ext cx="3886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Рисунок 2" descr=""/>
          <p:cNvPicPr/>
          <p:nvPr/>
        </p:nvPicPr>
        <p:blipFill>
          <a:blip r:embed="rId1"/>
          <a:stretch/>
        </p:blipFill>
        <p:spPr>
          <a:xfrm>
            <a:off x="6227640" y="4508640"/>
            <a:ext cx="2606760" cy="1993680"/>
          </a:xfrm>
          <a:prstGeom prst="rect">
            <a:avLst/>
          </a:prstGeom>
          <a:ln w="0">
            <a:noFill/>
          </a:ln>
        </p:spPr>
      </p:pic>
      <p:sp>
        <p:nvSpPr>
          <p:cNvPr id="527" name="Прямоугольник 1"/>
          <p:cNvSpPr/>
          <p:nvPr/>
        </p:nvSpPr>
        <p:spPr>
          <a:xfrm>
            <a:off x="971640" y="404640"/>
            <a:ext cx="7345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жительной стороной подобных форм является то, что участникам не навязывается готовая точка зрения, их вынуждают думать, искать собственный выход из сложившейся сит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ья и дошкольное учреждение – два важных института социализации детей. Их воспитательные функции различны, но для всестороннего развития ребенка необходимо их взаимодейств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одействие семьи и детского сада - это длительный процесс, долгий и кропотливый труд, требующий от педагогов и родителей терпения, творчества и взаимопонимания. В новых формах взаимодействия с родителями реализуется принцип партнерства, диал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образие интерактивных форм взаимодействия с родителями, позволяет воспитателям значительно улучшить отношения с семьями, повысить педагогическую культуру родителей, расширить представления детей по различным образовательным облас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Прямоугольник 2"/>
          <p:cNvSpPr/>
          <p:nvPr/>
        </p:nvSpPr>
        <p:spPr>
          <a:xfrm>
            <a:off x="723960" y="1073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Интерактивный - означа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 способность взаимодействовать или находится в режиме беседы, диалога с чем-либо (например, компьютером) или кем-либо (например, человеком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Интерактивные методы воспитания обозначают воспитание через участие и взаимодействие. «Я слышу и забываю, я вижу и понимаю,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, serif"/>
              </a:rPr>
              <a:t>я делаю и запоминаю</a:t>
            </a:r>
            <a:r>
              <a:rPr b="0" lang="ru-RU" sz="2400" spc="-1" strike="noStrike">
                <a:solidFill>
                  <a:srgbClr val="000000"/>
                </a:solidFill>
                <a:latin typeface="Times New Roman, serif"/>
              </a:rPr>
              <a:t>», говорится в китайской поговорке. Методология участия и взаимодействия полностью вовлекает в процесс воспи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6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4775040" y="404640"/>
            <a:ext cx="3840480" cy="2880000"/>
          </a:xfrm>
          <a:prstGeom prst="rect">
            <a:avLst/>
          </a:prstGeom>
          <a:ln w="0">
            <a:noFill/>
          </a:ln>
        </p:spPr>
      </p:pic>
      <p:sp>
        <p:nvSpPr>
          <p:cNvPr id="511" name="Прямоугольник 1"/>
          <p:cNvSpPr/>
          <p:nvPr/>
        </p:nvSpPr>
        <p:spPr>
          <a:xfrm>
            <a:off x="395280" y="47628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03f50"/>
                </a:solidFill>
                <a:latin typeface="Verdana"/>
              </a:rPr>
              <a:t>Цели интерактивного взаимодействия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 могут быть различны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обмен опыто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выработка общего мн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формирование умений, навы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создание условия для диалог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группового сплоч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- изменения психологической атмосф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Самой </a:t>
            </a:r>
            <a:r>
              <a:rPr b="1" i="1" lang="ru-RU" sz="1800" spc="-1" strike="noStrike">
                <a:solidFill>
                  <a:srgbClr val="303f50"/>
                </a:solidFill>
                <a:latin typeface="Verdana"/>
              </a:rPr>
              <a:t>общей задачей педагога в интерактивной технологии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 является фасилитация (поддержка, облегчение) - направление и помощь процессу обмена информаци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выявление многообразия точек зр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обращение к личному опыту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поддержка активности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соединение теории и практи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взаимообогащение опыта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облегчение восприятия, усвоения, взаимопонимания участник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– </a:t>
            </a:r>
            <a:r>
              <a:rPr b="0" lang="ru-RU" sz="1800" spc="-1" strike="noStrike">
                <a:solidFill>
                  <a:srgbClr val="303f50"/>
                </a:solidFill>
                <a:latin typeface="Verdana"/>
              </a:rPr>
              <a:t>поощрение творчества участни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Прямоугольник 1"/>
          <p:cNvSpPr/>
          <p:nvPr/>
        </p:nvSpPr>
        <p:spPr>
          <a:xfrm>
            <a:off x="754200" y="620640"/>
            <a:ext cx="71294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Интерактивные методы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ломают традиционные стереотипы родительского собрания: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 оно становится не просто местом, где сообщают оценки и собирают деньги на «классные нужды», а особым пространством, наделенным специфическим смыслом и содержанием. Их применени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, serif"/>
              </a:rPr>
              <a:t>повышает готовность родителей к взаимодействию с психологом, педагогами и другими специалистами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, serif"/>
              </a:rPr>
              <a:t>. Специалист, организующий оригинальные, непривычные мероприятия, вызывает уважение и интер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Рисунок 2" descr=""/>
          <p:cNvPicPr/>
          <p:nvPr/>
        </p:nvPicPr>
        <p:blipFill>
          <a:blip r:embed="rId1"/>
          <a:stretch/>
        </p:blipFill>
        <p:spPr>
          <a:xfrm>
            <a:off x="2843280" y="3790800"/>
            <a:ext cx="3814560" cy="29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Прямоугольник 1"/>
          <p:cNvSpPr/>
          <p:nvPr/>
        </p:nvSpPr>
        <p:spPr>
          <a:xfrm>
            <a:off x="826920" y="1268280"/>
            <a:ext cx="7561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нтерактивные метод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выполняют и диагностическую функцию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, с их помощью проясняются родительские ожидания, представления, тревоги и страхи, причем, поскольку их диагностическая направленность для родителя неочевидна, то можно получить информацию, на которую значительно меньшее воздействие оказывает фактор социальной желательност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рименение интерактивных методов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позволяет значительно углубить воздействие педагога на родител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. Они получают опыт непосредственного проживания и отреагирования, что способствует интеграции психолого-педагогических знаний и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ÐÐ°ÑÑÐ¸Ð½ÐºÐ¸ Ð¿Ð¾ Ð·Ð°Ð¿ÑÐ¾ÑÑ Ð¸Ð½ÑÐµÑÐ°ÐºÑÐ¸Ð²Ð½ÑÐµ ÑÐ¾ÑÐ¼Ñ ÑÐ¾ÑÑÑÐ´Ð½Ð¸ÑÐµÑÑÐ²Ð° Ñ ÑÐµÐ¼ÑÑÐ¹"/>
          <p:cNvPicPr/>
          <p:nvPr/>
        </p:nvPicPr>
        <p:blipFill>
          <a:blip r:embed="rId1"/>
          <a:stretch/>
        </p:blipFill>
        <p:spPr>
          <a:xfrm>
            <a:off x="684360" y="620640"/>
            <a:ext cx="727236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Прямоугольник 1"/>
          <p:cNvSpPr/>
          <p:nvPr/>
        </p:nvSpPr>
        <p:spPr>
          <a:xfrm>
            <a:off x="1700280" y="907920"/>
            <a:ext cx="588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Самые активные формы работы - 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, serif"/>
              </a:rPr>
              <a:t>родительские собра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, где родители являются не пассивными слушателями, а активными участниками разго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На родительском собрании можно применять различные интерактивные методы: работа в мини-группах, дискуссии, деловые, ролевые, имитационные игры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2" descr=""/>
          <p:cNvPicPr/>
          <p:nvPr/>
        </p:nvPicPr>
        <p:blipFill>
          <a:blip r:embed="rId1"/>
          <a:stretch/>
        </p:blipFill>
        <p:spPr>
          <a:xfrm>
            <a:off x="469800" y="3357720"/>
            <a:ext cx="417348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Прямоугольник 1"/>
          <p:cNvSpPr/>
          <p:nvPr/>
        </p:nvSpPr>
        <p:spPr>
          <a:xfrm>
            <a:off x="971640" y="620640"/>
            <a:ext cx="7200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Следующая форма работы </a:t>
            </a:r>
            <a:r>
              <a:rPr b="1" lang="ru-RU" sz="1800" spc="-1" strike="noStrike">
                <a:solidFill>
                  <a:srgbClr val="000000"/>
                </a:solidFill>
                <a:latin typeface="Times New Roman, serif"/>
              </a:rPr>
              <a:t>– индивидуальные консультации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ндивидуальные консультации особенно необходимы, когда учитель набирает класс. Готовясь к консультации, необходимо определить ряд вопросов, ответы на которые помогут планированию воспитательной работы с классом. Учитель должен дать возможность родителям рассказать ему всё то, что поможет в профессиональной работе с ребёнком: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здоровья ребёнк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его увлечения, интересы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редпочтения в общении в семье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поведенческие реакции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особенности характера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мотивация учения;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•моральные ценности семь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2" descr=""/>
          <p:cNvPicPr/>
          <p:nvPr/>
        </p:nvPicPr>
        <p:blipFill>
          <a:blip r:embed="rId1"/>
          <a:stretch/>
        </p:blipFill>
        <p:spPr>
          <a:xfrm>
            <a:off x="4427640" y="3341520"/>
            <a:ext cx="3989160" cy="30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Прямоугольник 1"/>
          <p:cNvSpPr/>
          <p:nvPr/>
        </p:nvSpPr>
        <p:spPr>
          <a:xfrm>
            <a:off x="1187280" y="765000"/>
            <a:ext cx="6913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Консультирова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семей учащихся по актуальным вопросам обучения детей у учителей-предметников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Open Sans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, serif"/>
              </a:rPr>
              <a:t>Информационно-просветительская и развивающая рабо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 через: проблемные тематические выступления, направленные на решение актуальных психолого-педагогических задач и способствующих повышению компетентности родителей, что необходимо для создания благоприятных условий развития и образования детей; психолого-педагогический всеобуч родителей, действующими лицами которого помимо педагога-психолога могут быть опытные педагоги и узкие специалисты. Данная форма взаимодействия с родительской общественностью позволяет использовать интерактивные методы психологического воздействия для обнаружения и корректировки пробелов знаний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0T06:19:32Z</dcterms:created>
  <dc:creator>Пользователь</dc:creator>
  <dc:description/>
  <dc:language>en-US</dc:language>
  <cp:lastModifiedBy>Домашний</cp:lastModifiedBy>
  <dcterms:modified xsi:type="dcterms:W3CDTF">2018-07-11T18:09:18Z</dcterms:modified>
  <cp:revision>52</cp:revision>
  <dc:subject/>
  <dc:title>"Интерактивные формы взаимодействия с родителями дошкольников "Играем вместе"</dc:title>
</cp:coreProperties>
</file>