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FC9A-31B8-495D-BE09-0F92BC052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4D8D-9A20-455D-B6C1-5780EABB0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B28A-2490-401A-803D-AD634E45E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246C-BD96-4A39-BDAE-A0BAE0E59A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C2C4-EB08-414D-AF75-BCCA3259D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5F4-84CA-4595-9BA9-76F2F0AAA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B4F8-4AD1-4F1C-AB5B-27B0A9968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5A23-FF3C-4640-BFA0-95895D117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C15-C5EB-40CB-A083-FB5CA0671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7B4-028C-4EE3-8FAF-43CC6676E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DFB8-B889-4B90-8E45-AC3258BA7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482C-5D68-455E-9F31-B471CA663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50E-FE08-4C08-A308-8EAE7B92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B16-4C55-4697-A97E-51D3620B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1F0-CA91-4D47-B759-C00D02A6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53F-F8E5-49E4-8081-62536040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CAE-50C5-4237-BDDD-F647D2B5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588-4CF7-4DBB-BB67-3A3A482A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D1E-D2DE-4BE7-BC6B-80D38B9C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892-ED8B-464A-9F2B-9996FC73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0AB-8B06-4139-863D-CBFB4876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A7C-FE0C-4EC6-8C4F-15049D5A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75E-03DE-4D5C-9142-B199187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FDF-D454-47F2-824A-D1CADE5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5EC6-FD3A-49DB-B201-4C3D93647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49" name="Line 4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WordArt 8"/>
          <p:cNvSpPr txBox="1"/>
          <p:nvPr/>
        </p:nvSpPr>
        <p:spPr>
          <a:xfrm>
            <a:off x="1676520" y="2286000"/>
            <a:ext cx="586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582c00"/>
                  </a:solidFill>
                  <a:miter/>
                </a:ln>
                <a:solidFill>
                  <a:srgbClr val="e4c9ae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рядковые числительные</a:t>
            </a:r>
            <a:endParaRPr b="1" i="1" lang="en-US" sz="1800" spc="1" strike="noStrike">
              <a:ln w="25560">
                <a:solidFill>
                  <a:srgbClr val="582c00"/>
                </a:solidFill>
                <a:miter/>
              </a:ln>
              <a:solidFill>
                <a:srgbClr val="e4c9ae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4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28" name="Line 5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7"/>
          <p:cNvSpPr/>
          <p:nvPr/>
        </p:nvSpPr>
        <p:spPr>
          <a:xfrm>
            <a:off x="465840" y="152280"/>
            <a:ext cx="848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 числительные, оканчиваю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а -деся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600200"/>
          <a:ext cx="655344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42674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</a:t>
                      </a:r>
                      <a:r>
                        <a:rPr b="1" lang="ru-RU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</a:t>
                      </a:r>
                      <a:r>
                        <a:rPr b="1" lang="ru-RU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ru-RU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</a:t>
                      </a:r>
                      <a:r>
                        <a:rPr b="1" lang="ru-RU" sz="4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33" name="Line 5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7"/>
          <p:cNvSpPr/>
          <p:nvPr/>
        </p:nvSpPr>
        <p:spPr>
          <a:xfrm>
            <a:off x="718560" y="1689840"/>
            <a:ext cx="70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ьдесят                    пятидеся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20000" y="242172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идесяти                  пятидеся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720720" y="303156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идесяти                  пятидесят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5080" y="376308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ьдесят                     пятидеся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721800" y="50428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идесяти                   пятидеся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88320" y="4372920"/>
            <a:ext cx="72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ятьюдесятью             пятидесят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779400" y="152280"/>
            <a:ext cx="787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клонение порядковых и количеств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0"/>
          <p:cNvSpPr/>
          <p:nvPr/>
        </p:nvSpPr>
        <p:spPr>
          <a:xfrm>
            <a:off x="5943600" y="213372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1"/>
          <p:cNvSpPr/>
          <p:nvPr/>
        </p:nvSpPr>
        <p:spPr>
          <a:xfrm>
            <a:off x="5943600" y="289548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"/>
          <p:cNvSpPr/>
          <p:nvPr/>
        </p:nvSpPr>
        <p:spPr>
          <a:xfrm>
            <a:off x="5943600" y="3505320"/>
            <a:ext cx="3049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3"/>
          <p:cNvSpPr/>
          <p:nvPr/>
        </p:nvSpPr>
        <p:spPr>
          <a:xfrm>
            <a:off x="6019920" y="426708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6019920" y="480060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6095880" y="548640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6"/>
          <p:cNvSpPr/>
          <p:nvPr/>
        </p:nvSpPr>
        <p:spPr>
          <a:xfrm>
            <a:off x="2133720" y="213372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7"/>
          <p:cNvSpPr/>
          <p:nvPr/>
        </p:nvSpPr>
        <p:spPr>
          <a:xfrm>
            <a:off x="2133720" y="289548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2133720" y="3505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2209680" y="4267080"/>
            <a:ext cx="228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0"/>
          <p:cNvSpPr/>
          <p:nvPr/>
        </p:nvSpPr>
        <p:spPr>
          <a:xfrm>
            <a:off x="2133720" y="4800600"/>
            <a:ext cx="4572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2133720" y="548640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55" name="Line 8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9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2050920" y="152280"/>
            <a:ext cx="53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 числитель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канчивающиеся на -со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47920" y="1295280"/>
          <a:ext cx="6553080" cy="5029200"/>
        </p:xfrm>
        <a:graphic>
          <a:graphicData uri="http://schemas.openxmlformats.org/drawingml/2006/table">
            <a:tbl>
              <a:tblPr/>
              <a:tblGrid>
                <a:gridCol w="2286000"/>
                <a:gridCol w="42670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я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465840" y="152280"/>
            <a:ext cx="848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 числительные, оканчиваю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а -тысячный, -миллионный, -миллиар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280" y="1523880"/>
          <a:ext cx="8839440" cy="5029200"/>
        </p:xfrm>
        <a:graphic>
          <a:graphicData uri="http://schemas.openxmlformats.org/drawingml/2006/table">
            <a:tbl>
              <a:tblPr/>
              <a:tblGrid>
                <a:gridCol w="2590920"/>
                <a:gridCol w="6248520"/>
              </a:tblGrid>
              <a:tr h="60984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1368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вось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н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ли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яност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ли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 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лиар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5760">
                      <a:solidFill>
                        <a:srgbClr val="996633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000 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13680">
                      <a:solidFill>
                        <a:srgbClr val="996633"/>
                      </a:solidFill>
                    </a:lnL>
                    <a:lnR w="576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solidFill>
                      <a:srgbClr val="dfdebc"/>
                    </a:solidFill>
                  </a:tcPr>
                </a:tc>
                <a:tc>
                  <a:txBody>
                    <a:bodyPr lIns="90000" rIns="0" tIns="4680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</a:t>
                      </a: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лиар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996633"/>
                      </a:solidFill>
                    </a:lnL>
                    <a:lnR w="13680">
                      <a:solidFill>
                        <a:srgbClr val="996633"/>
                      </a:solidFill>
                    </a:lnR>
                    <a:lnT w="5760">
                      <a:solidFill>
                        <a:srgbClr val="996633"/>
                      </a:solidFill>
                    </a:lnT>
                    <a:lnB w="13680">
                      <a:solidFill>
                        <a:srgbClr val="9966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4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62" name="Line 5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7"/>
          <p:cNvSpPr/>
          <p:nvPr/>
        </p:nvSpPr>
        <p:spPr>
          <a:xfrm>
            <a:off x="388800" y="152280"/>
            <a:ext cx="839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разуйте от количественных числи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80880" y="225432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9,   28,   77,   14,  2000,   28 тыся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95 миллионов,  32 миллиар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3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67" name="Line 14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27"/>
          <p:cNvSpPr/>
          <p:nvPr/>
        </p:nvSpPr>
        <p:spPr>
          <a:xfrm>
            <a:off x="1127160" y="1752480"/>
            <a:ext cx="2895480" cy="3886200"/>
          </a:xfrm>
          <a:prstGeom prst="cube">
            <a:avLst>
              <a:gd name="adj" fmla="val 6560"/>
            </a:avLst>
          </a:prstGeom>
          <a:solidFill>
            <a:srgbClr val="fff0e1"/>
          </a:solidFill>
          <a:ln w="9360">
            <a:solidFill>
              <a:srgbClr val="9a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4347000" y="1752480"/>
            <a:ext cx="34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7"/>
          <p:cNvSpPr/>
          <p:nvPr/>
        </p:nvSpPr>
        <p:spPr>
          <a:xfrm>
            <a:off x="4349880" y="33526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раздником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ь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4350240" y="259092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ьм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822240" y="2057400"/>
            <a:ext cx="3033720" cy="3546360"/>
            <a:chOff x="822240" y="2057400"/>
            <a:chExt cx="3033720" cy="3546360"/>
          </a:xfrm>
        </p:grpSpPr>
        <p:sp>
          <p:nvSpPr>
            <p:cNvPr id="174" name="AutoShape 28"/>
            <p:cNvSpPr/>
            <p:nvPr/>
          </p:nvSpPr>
          <p:spPr>
            <a:xfrm>
              <a:off x="822240" y="2057400"/>
              <a:ext cx="3033720" cy="3546360"/>
            </a:xfrm>
            <a:prstGeom prst="parallelogram">
              <a:avLst>
                <a:gd name="adj" fmla="val 10065"/>
              </a:avLst>
            </a:prstGeom>
            <a:solidFill>
              <a:srgbClr val="fff0e1"/>
            </a:solidFill>
            <a:ln w="57240">
              <a:solidFill>
                <a:srgbClr val="9a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0000"/>
                  </a:solidFill>
                  <a:latin typeface="Arial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а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36" descr="IMG_0001"/>
            <p:cNvPicPr/>
            <p:nvPr/>
          </p:nvPicPr>
          <p:blipFill>
            <a:blip r:embed="rId1"/>
            <a:srcRect l="0" t="0" r="5123" b="0"/>
            <a:stretch/>
          </p:blipFill>
          <p:spPr>
            <a:xfrm>
              <a:off x="1679760" y="3699000"/>
              <a:ext cx="1295280" cy="6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40"/>
          <p:cNvGrpSpPr/>
          <p:nvPr/>
        </p:nvGrpSpPr>
        <p:grpSpPr>
          <a:xfrm>
            <a:off x="762120" y="2133720"/>
            <a:ext cx="3047760" cy="3352680"/>
            <a:chOff x="762120" y="2133720"/>
            <a:chExt cx="3047760" cy="3352680"/>
          </a:xfrm>
        </p:grpSpPr>
        <p:sp>
          <p:nvSpPr>
            <p:cNvPr id="177" name="AutoShape 29"/>
            <p:cNvSpPr/>
            <p:nvPr/>
          </p:nvSpPr>
          <p:spPr>
            <a:xfrm>
              <a:off x="762120" y="2133720"/>
              <a:ext cx="3047760" cy="3352680"/>
            </a:xfrm>
            <a:prstGeom prst="parallelogram">
              <a:avLst>
                <a:gd name="adj" fmla="val 11481"/>
              </a:avLst>
            </a:prstGeom>
            <a:solidFill>
              <a:srgbClr val="fff0e1"/>
            </a:solidFill>
            <a:ln w="57240">
              <a:solidFill>
                <a:srgbClr val="9a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0000"/>
                  </a:solidFill>
                  <a:latin typeface="Arial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арта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33" descr="j0281904"/>
            <p:cNvPicPr/>
            <p:nvPr/>
          </p:nvPicPr>
          <p:blipFill>
            <a:blip r:embed="rId2"/>
            <a:stretch/>
          </p:blipFill>
          <p:spPr>
            <a:xfrm>
              <a:off x="1676160" y="3581640"/>
              <a:ext cx="1139400" cy="10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AutoShape 34"/>
          <p:cNvSpPr/>
          <p:nvPr/>
        </p:nvSpPr>
        <p:spPr>
          <a:xfrm>
            <a:off x="1073160" y="1752480"/>
            <a:ext cx="2949480" cy="457200"/>
          </a:xfrm>
          <a:prstGeom prst="cube">
            <a:avLst>
              <a:gd name="adj" fmla="val 46180"/>
            </a:avLst>
          </a:prstGeom>
          <a:solidFill>
            <a:srgbClr val="993300"/>
          </a:solidFill>
          <a:ln w="9360">
            <a:solidFill>
              <a:srgbClr val="58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4349880" y="449568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ьмым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4346280" y="175248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4349160" y="3367080"/>
            <a:ext cx="42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раздником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я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4348800" y="2590920"/>
            <a:ext cx="42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здни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ято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4348800" y="452448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ятым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597960" y="152280"/>
            <a:ext cx="826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е числительные в названиях д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аздников, памятны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914400" y="1447920"/>
            <a:ext cx="7238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разряд числите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ределите их на три группы: простые, сложные и соста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 14, 1, 237, 100, 24,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80880" y="838080"/>
            <a:ext cx="90489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ые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, один, 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ые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надцать, одиннадц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ные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сти тридцать семь, двадцать четы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1371600"/>
          <a:ext cx="8686800" cy="4183200"/>
        </p:xfrm>
        <a:graphic>
          <a:graphicData uri="http://schemas.openxmlformats.org/drawingml/2006/table">
            <a:tbl>
              <a:tblPr/>
              <a:tblGrid>
                <a:gridCol w="761760"/>
                <a:gridCol w="2286000"/>
                <a:gridCol w="2133720"/>
                <a:gridCol w="2057400"/>
                <a:gridCol w="1447920"/>
              </a:tblGrid>
              <a:tr h="88884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ё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ё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ь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ь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дцат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ыр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ё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96"/>
          <p:cNvSpPr/>
          <p:nvPr/>
        </p:nvSpPr>
        <p:spPr>
          <a:xfrm>
            <a:off x="2216880" y="2286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рамматическ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58"/>
          <p:cNvGrpSpPr/>
          <p:nvPr/>
        </p:nvGrpSpPr>
        <p:grpSpPr>
          <a:xfrm>
            <a:off x="0" y="457200"/>
            <a:ext cx="8763120" cy="6400800"/>
            <a:chOff x="0" y="457200"/>
            <a:chExt cx="8763120" cy="6400800"/>
          </a:xfrm>
        </p:grpSpPr>
        <p:sp>
          <p:nvSpPr>
            <p:cNvPr id="57" name="Line 159"/>
            <p:cNvSpPr/>
            <p:nvPr/>
          </p:nvSpPr>
          <p:spPr>
            <a:xfrm>
              <a:off x="152640" y="4572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0"/>
            <p:cNvSpPr/>
            <p:nvPr/>
          </p:nvSpPr>
          <p:spPr>
            <a:xfrm>
              <a:off x="0" y="67057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37840" y="1905840"/>
            <a:ext cx="811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Мы поднимаемся на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звоним в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ую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варти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У меня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о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место в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о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ря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ят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утки идёт дожд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911240" y="228600"/>
            <a:ext cx="52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рфологические призна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х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62" name="Line 7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65" name="Line 5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0"/>
          <p:cNvSpPr/>
          <p:nvPr/>
        </p:nvSpPr>
        <p:spPr>
          <a:xfrm>
            <a:off x="304200" y="1950120"/>
            <a:ext cx="8992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Мы поднимаемся на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.р. ед.ч. в.п.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ж (м.р. ед.ч. в.п.) и звоним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у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ж.р. ед.ч. в.п.) квартиру (ж.р. ед.ч. в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 меня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.р. ед.ч. и.п.) место (с.р. ед.ч. и.п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.р. ед.ч. п.п.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у (м.р. ед.ч. п.п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ят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н.ч. в.п.) сутки (мн.ч. в.п.) идё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11240" y="228600"/>
            <a:ext cx="527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орфологические призна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рядковых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85800" y="12682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тупила студёная зима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чался второй ур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Зима в этом году суровая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математики второй.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Больной принял лекарств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ятый вышел из строя.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05320" y="472428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8088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интаксическая функция порядковых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7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73" name="Line 8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9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Line 10"/>
          <p:cNvSpPr/>
          <p:nvPr/>
        </p:nvSpPr>
        <p:spPr>
          <a:xfrm>
            <a:off x="5105520" y="34290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5105520" y="3505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876920" y="40384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4876920" y="4114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1295280" y="51055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1219320" y="5715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"/>
          <p:cNvGrpSpPr/>
          <p:nvPr/>
        </p:nvGrpSpPr>
        <p:grpSpPr>
          <a:xfrm>
            <a:off x="3657600" y="1828800"/>
            <a:ext cx="1828800" cy="76320"/>
            <a:chOff x="3657600" y="1828800"/>
            <a:chExt cx="1828800" cy="76320"/>
          </a:xfrm>
        </p:grpSpPr>
        <p:sp>
          <p:nvSpPr>
            <p:cNvPr id="82" name="AutoShape 17"/>
            <p:cNvSpPr/>
            <p:nvPr/>
          </p:nvSpPr>
          <p:spPr>
            <a:xfrm>
              <a:off x="3657600" y="18306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18"/>
            <p:cNvSpPr/>
            <p:nvPr/>
          </p:nvSpPr>
          <p:spPr>
            <a:xfrm rot="10800000">
              <a:off x="3806640" y="18306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9"/>
            <p:cNvSpPr/>
            <p:nvPr/>
          </p:nvSpPr>
          <p:spPr>
            <a:xfrm>
              <a:off x="3953520" y="182952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20"/>
            <p:cNvSpPr/>
            <p:nvPr/>
          </p:nvSpPr>
          <p:spPr>
            <a:xfrm rot="10800000">
              <a:off x="4102560" y="182988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21"/>
            <p:cNvSpPr/>
            <p:nvPr/>
          </p:nvSpPr>
          <p:spPr>
            <a:xfrm>
              <a:off x="4251600" y="18288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2"/>
            <p:cNvSpPr/>
            <p:nvPr/>
          </p:nvSpPr>
          <p:spPr>
            <a:xfrm rot="10800000">
              <a:off x="4401000" y="182916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23"/>
            <p:cNvSpPr/>
            <p:nvPr/>
          </p:nvSpPr>
          <p:spPr>
            <a:xfrm>
              <a:off x="4547160" y="18288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4"/>
            <p:cNvSpPr/>
            <p:nvPr/>
          </p:nvSpPr>
          <p:spPr>
            <a:xfrm rot="10800000">
              <a:off x="4696200" y="18288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25"/>
            <p:cNvSpPr/>
            <p:nvPr/>
          </p:nvSpPr>
          <p:spPr>
            <a:xfrm>
              <a:off x="4845600" y="182880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26"/>
            <p:cNvSpPr/>
            <p:nvPr/>
          </p:nvSpPr>
          <p:spPr>
            <a:xfrm rot="10800000">
              <a:off x="4994640" y="182916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27"/>
            <p:cNvSpPr/>
            <p:nvPr/>
          </p:nvSpPr>
          <p:spPr>
            <a:xfrm>
              <a:off x="5141520" y="183096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28"/>
            <p:cNvSpPr/>
            <p:nvPr/>
          </p:nvSpPr>
          <p:spPr>
            <a:xfrm rot="10800000">
              <a:off x="5290560" y="1830960"/>
              <a:ext cx="195840" cy="74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9"/>
          <p:cNvGrpSpPr/>
          <p:nvPr/>
        </p:nvGrpSpPr>
        <p:grpSpPr>
          <a:xfrm>
            <a:off x="2971800" y="2361960"/>
            <a:ext cx="1676160" cy="76320"/>
            <a:chOff x="2971800" y="2361960"/>
            <a:chExt cx="1676160" cy="76320"/>
          </a:xfrm>
        </p:grpSpPr>
        <p:sp>
          <p:nvSpPr>
            <p:cNvPr id="95" name="AutoShape 30"/>
            <p:cNvSpPr/>
            <p:nvPr/>
          </p:nvSpPr>
          <p:spPr>
            <a:xfrm>
              <a:off x="2971800" y="23641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1"/>
            <p:cNvSpPr/>
            <p:nvPr/>
          </p:nvSpPr>
          <p:spPr>
            <a:xfrm rot="10800000">
              <a:off x="3107880" y="236376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32"/>
            <p:cNvSpPr/>
            <p:nvPr/>
          </p:nvSpPr>
          <p:spPr>
            <a:xfrm>
              <a:off x="3243240" y="236304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33"/>
            <p:cNvSpPr/>
            <p:nvPr/>
          </p:nvSpPr>
          <p:spPr>
            <a:xfrm rot="10800000">
              <a:off x="3379320" y="236304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34"/>
            <p:cNvSpPr/>
            <p:nvPr/>
          </p:nvSpPr>
          <p:spPr>
            <a:xfrm>
              <a:off x="351648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35"/>
            <p:cNvSpPr/>
            <p:nvPr/>
          </p:nvSpPr>
          <p:spPr>
            <a:xfrm rot="10800000">
              <a:off x="365292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6"/>
            <p:cNvSpPr/>
            <p:nvPr/>
          </p:nvSpPr>
          <p:spPr>
            <a:xfrm>
              <a:off x="378720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37"/>
            <p:cNvSpPr/>
            <p:nvPr/>
          </p:nvSpPr>
          <p:spPr>
            <a:xfrm rot="10800000">
              <a:off x="3923280" y="236196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38"/>
            <p:cNvSpPr/>
            <p:nvPr/>
          </p:nvSpPr>
          <p:spPr>
            <a:xfrm>
              <a:off x="406080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9"/>
            <p:cNvSpPr/>
            <p:nvPr/>
          </p:nvSpPr>
          <p:spPr>
            <a:xfrm rot="10800000">
              <a:off x="4197240" y="23623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0"/>
            <p:cNvSpPr/>
            <p:nvPr/>
          </p:nvSpPr>
          <p:spPr>
            <a:xfrm>
              <a:off x="4331880" y="236448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41"/>
            <p:cNvSpPr/>
            <p:nvPr/>
          </p:nvSpPr>
          <p:spPr>
            <a:xfrm rot="10800000">
              <a:off x="4468320" y="2364120"/>
              <a:ext cx="179640" cy="73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152280" y="228600"/>
            <a:ext cx="8763120" cy="6400800"/>
            <a:chOff x="152280" y="228600"/>
            <a:chExt cx="8763120" cy="6400800"/>
          </a:xfrm>
        </p:grpSpPr>
        <p:sp>
          <p:nvSpPr>
            <p:cNvPr id="108" name="Line 5"/>
            <p:cNvSpPr/>
            <p:nvPr/>
          </p:nvSpPr>
          <p:spPr>
            <a:xfrm>
              <a:off x="304920" y="22860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"/>
            <p:cNvSpPr/>
            <p:nvPr/>
          </p:nvSpPr>
          <p:spPr>
            <a:xfrm>
              <a:off x="152280" y="647712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8" descr="j0319340"/>
          <p:cNvPicPr/>
          <p:nvPr/>
        </p:nvPicPr>
        <p:blipFill>
          <a:blip r:embed="rId1"/>
          <a:stretch/>
        </p:blipFill>
        <p:spPr>
          <a:xfrm>
            <a:off x="2514600" y="1371600"/>
            <a:ext cx="3917880" cy="3962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733920" y="25146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657600" y="259092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733920" y="274320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429000" y="2666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276720" y="27432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54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088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Лови мя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152280" y="304920"/>
            <a:ext cx="8763120" cy="6400800"/>
            <a:chOff x="152280" y="304920"/>
            <a:chExt cx="8763120" cy="6400800"/>
          </a:xfrm>
        </p:grpSpPr>
        <p:sp>
          <p:nvSpPr>
            <p:cNvPr id="118" name="Line 5"/>
            <p:cNvSpPr/>
            <p:nvPr/>
          </p:nvSpPr>
          <p:spPr>
            <a:xfrm>
              <a:off x="304920" y="304920"/>
              <a:ext cx="0" cy="640080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152280" y="6553440"/>
              <a:ext cx="8763120" cy="0"/>
            </a:xfrm>
            <a:prstGeom prst="line">
              <a:avLst/>
            </a:prstGeom>
            <a:ln w="76320">
              <a:solidFill>
                <a:srgbClr val="65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7"/>
          <p:cNvSpPr/>
          <p:nvPr/>
        </p:nvSpPr>
        <p:spPr>
          <a:xfrm>
            <a:off x="997200" y="304920"/>
            <a:ext cx="70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клонение порядковых числ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44120" y="1202400"/>
            <a:ext cx="67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17480" y="1934280"/>
            <a:ext cx="69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.п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42320" y="254376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742320" y="3275640"/>
            <a:ext cx="68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743760" y="4555080"/>
            <a:ext cx="67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724320" y="3885480"/>
            <a:ext cx="69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.п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вести тридцать восьм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ко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8T15:54:53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