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896-86A9-4E99-BA99-E5CEAFEEC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A57-627B-4C50-9D8A-E7AE2FD47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F78D-B771-4D7D-9BD5-E024B1AC4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96D-6555-4CA5-8C1F-49805EB39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009-6B4B-47E1-A7CE-DB35BE7F8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D7F-2C1B-4147-BB93-D4B0DF3ED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A247-A9DB-40A6-A3CC-E0475D2C2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73B8-7986-4B0A-B048-BD1A25C98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4C69-7481-4669-9D54-770FDAFFB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3A4-326E-4119-90D3-56D0DF076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E15-DBA3-479A-9D1B-2C0683F6C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E44-E4A2-428C-9278-7C4E4B156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26B-3517-4F3A-9C8C-AA33C440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E30-764F-4B49-B7D3-78A52A9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EB7-8EAA-46A7-817F-5F7B4E4E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732-643B-47A9-95D1-2F9D2AAE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DF3-E0A8-4B7C-BF67-8764AB05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D47-967D-4AC6-8D69-F561C5E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844-FC21-4FBD-A798-13B3633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1A7-11CB-4531-BCCC-A062ABF1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6FE-5C50-40A7-AB05-EF7AEFC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12E-495C-45B8-8AEE-0986046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0CC-5FC1-4E1B-BDA1-AC4328D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DA3-8883-4D35-A28C-6BDB276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F08-7725-4775-871C-665B3D40C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49" name="Line 4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WordArt 8"/>
          <p:cNvSpPr txBox="1"/>
          <p:nvPr/>
        </p:nvSpPr>
        <p:spPr>
          <a:xfrm>
            <a:off x="1676520" y="228600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582c00"/>
                  </a:solidFill>
                  <a:miter/>
                </a:ln>
                <a:solidFill>
                  <a:srgbClr val="e4c9a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ядковые числительные</a:t>
            </a:r>
            <a:endParaRPr b="1" i="1" lang="en-US" sz="1800" spc="1" strike="noStrike">
              <a:ln w="25560">
                <a:solidFill>
                  <a:srgbClr val="582c00"/>
                </a:solidFill>
                <a:miter/>
              </a:ln>
              <a:solidFill>
                <a:srgbClr val="e4c9a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28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7"/>
          <p:cNvSpPr/>
          <p:nvPr/>
        </p:nvSpPr>
        <p:spPr>
          <a:xfrm>
            <a:off x="465840" y="152280"/>
            <a:ext cx="84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оканчив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 -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600200"/>
          <a:ext cx="655344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42674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33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7"/>
          <p:cNvSpPr/>
          <p:nvPr/>
        </p:nvSpPr>
        <p:spPr>
          <a:xfrm>
            <a:off x="718560" y="1689840"/>
            <a:ext cx="70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десят                    пяти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20000" y="24217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пятидеся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720720" y="303156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пятидеся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080" y="37630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десят                     пяти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21800" y="50428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 пятидеся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88320" y="4372920"/>
            <a:ext cx="72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юдесятью             пятидеся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779400" y="152280"/>
            <a:ext cx="787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клонение порядковых и количеств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5943600" y="21337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5943600" y="28954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5943600" y="3505320"/>
            <a:ext cx="304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6019920" y="42670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6019920" y="480060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6095880" y="548640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2133720" y="21337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>
            <a:off x="2133720" y="28954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133720" y="3505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2133720" y="4800600"/>
            <a:ext cx="4572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2133720" y="548640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55" name="Line 8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2050920" y="152280"/>
            <a:ext cx="53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канчивающиеся на -со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7920" y="1295280"/>
          <a:ext cx="6553080" cy="5029200"/>
        </p:xfrm>
        <a:graphic>
          <a:graphicData uri="http://schemas.openxmlformats.org/drawingml/2006/table">
            <a:tbl>
              <a:tblPr/>
              <a:tblGrid>
                <a:gridCol w="2286000"/>
                <a:gridCol w="4267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65840" y="152280"/>
            <a:ext cx="84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оканчив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 -тысячный, -миллионный, -миллиар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1523880"/>
          <a:ext cx="8839440" cy="5029200"/>
        </p:xfrm>
        <a:graphic>
          <a:graphicData uri="http://schemas.openxmlformats.org/drawingml/2006/table">
            <a:tbl>
              <a:tblPr/>
              <a:tblGrid>
                <a:gridCol w="2590920"/>
                <a:gridCol w="6248520"/>
              </a:tblGrid>
              <a:tr h="60984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но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ар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00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ар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62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7"/>
          <p:cNvSpPr/>
          <p:nvPr/>
        </p:nvSpPr>
        <p:spPr>
          <a:xfrm>
            <a:off x="388800" y="152280"/>
            <a:ext cx="83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уйте от количественных числ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80880" y="22543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,   28,   77,   14,  2000,   28 тыся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95 миллионов,  32 миллиа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3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67" name="Line 14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27"/>
          <p:cNvSpPr/>
          <p:nvPr/>
        </p:nvSpPr>
        <p:spPr>
          <a:xfrm>
            <a:off x="1127160" y="1752480"/>
            <a:ext cx="2895480" cy="3886200"/>
          </a:xfrm>
          <a:prstGeom prst="cube">
            <a:avLst>
              <a:gd name="adj" fmla="val 6560"/>
            </a:avLst>
          </a:prstGeom>
          <a:solidFill>
            <a:srgbClr val="fff0e1"/>
          </a:solidFill>
          <a:ln w="9360">
            <a:solidFill>
              <a:srgbClr val="9a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4347000" y="1752480"/>
            <a:ext cx="34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4349880" y="33526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разднико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350240" y="259092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822240" y="2057400"/>
            <a:ext cx="3033720" cy="3546360"/>
            <a:chOff x="822240" y="2057400"/>
            <a:chExt cx="3033720" cy="3546360"/>
          </a:xfrm>
        </p:grpSpPr>
        <p:sp>
          <p:nvSpPr>
            <p:cNvPr id="174" name="AutoShape 28"/>
            <p:cNvSpPr/>
            <p:nvPr/>
          </p:nvSpPr>
          <p:spPr>
            <a:xfrm>
              <a:off x="822240" y="2057400"/>
              <a:ext cx="3033720" cy="3546360"/>
            </a:xfrm>
            <a:prstGeom prst="parallelogram">
              <a:avLst>
                <a:gd name="adj" fmla="val 10065"/>
              </a:avLst>
            </a:prstGeom>
            <a:solidFill>
              <a:srgbClr val="fff0e1"/>
            </a:solidFill>
            <a:ln w="57240">
              <a:solidFill>
                <a:srgbClr val="9a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а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36" descr="IMG_0001"/>
            <p:cNvPicPr/>
            <p:nvPr/>
          </p:nvPicPr>
          <p:blipFill>
            <a:blip r:embed="rId1"/>
            <a:srcRect l="0" t="0" r="5123" b="0"/>
            <a:stretch/>
          </p:blipFill>
          <p:spPr>
            <a:xfrm>
              <a:off x="1679760" y="3699000"/>
              <a:ext cx="129528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40"/>
          <p:cNvGrpSpPr/>
          <p:nvPr/>
        </p:nvGrpSpPr>
        <p:grpSpPr>
          <a:xfrm>
            <a:off x="762120" y="2133720"/>
            <a:ext cx="3047760" cy="3352680"/>
            <a:chOff x="762120" y="2133720"/>
            <a:chExt cx="3047760" cy="3352680"/>
          </a:xfrm>
        </p:grpSpPr>
        <p:sp>
          <p:nvSpPr>
            <p:cNvPr id="177" name="AutoShape 29"/>
            <p:cNvSpPr/>
            <p:nvPr/>
          </p:nvSpPr>
          <p:spPr>
            <a:xfrm>
              <a:off x="762120" y="2133720"/>
              <a:ext cx="3047760" cy="3352680"/>
            </a:xfrm>
            <a:prstGeom prst="parallelogram">
              <a:avLst>
                <a:gd name="adj" fmla="val 11481"/>
              </a:avLst>
            </a:prstGeom>
            <a:solidFill>
              <a:srgbClr val="fff0e1"/>
            </a:solidFill>
            <a:ln w="57240">
              <a:solidFill>
                <a:srgbClr val="9a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0000"/>
                  </a:solidFill>
                  <a:latin typeface="Arial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арта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33" descr="j0281904"/>
            <p:cNvPicPr/>
            <p:nvPr/>
          </p:nvPicPr>
          <p:blipFill>
            <a:blip r:embed="rId2"/>
            <a:stretch/>
          </p:blipFill>
          <p:spPr>
            <a:xfrm>
              <a:off x="1676160" y="3581640"/>
              <a:ext cx="1139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AutoShape 34"/>
          <p:cNvSpPr/>
          <p:nvPr/>
        </p:nvSpPr>
        <p:spPr>
          <a:xfrm>
            <a:off x="1073160" y="1752480"/>
            <a:ext cx="2949480" cy="457200"/>
          </a:xfrm>
          <a:prstGeom prst="cube">
            <a:avLst>
              <a:gd name="adj" fmla="val 46180"/>
            </a:avLst>
          </a:prstGeom>
          <a:solidFill>
            <a:srgbClr val="993300"/>
          </a:solidFill>
          <a:ln w="9360">
            <a:solidFill>
              <a:srgbClr val="5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4349880" y="44956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ым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4346280" y="17524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4349160" y="3367080"/>
            <a:ext cx="42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разднико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я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4348800" y="259092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ят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348800" y="452448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ятым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597960" y="152280"/>
            <a:ext cx="826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 в названиях д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аздников, памятны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914400" y="144792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разряд числ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ределите их на три группы: простые, сложные и соста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14, 1, 237, 100, 24,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80880" y="838080"/>
            <a:ext cx="90489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, один, 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надцать, одиннадц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н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сти тридцать семь, двадцать четы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371600"/>
          <a:ext cx="8686800" cy="4183200"/>
        </p:xfrm>
        <a:graphic>
          <a:graphicData uri="http://schemas.openxmlformats.org/drawingml/2006/table">
            <a:tbl>
              <a:tblPr/>
              <a:tblGrid>
                <a:gridCol w="761760"/>
                <a:gridCol w="2286000"/>
                <a:gridCol w="2133720"/>
                <a:gridCol w="2057400"/>
                <a:gridCol w="1447920"/>
              </a:tblGrid>
              <a:tr h="8888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ь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ь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2216880" y="2286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рамматическ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58"/>
          <p:cNvGrpSpPr/>
          <p:nvPr/>
        </p:nvGrpSpPr>
        <p:grpSpPr>
          <a:xfrm>
            <a:off x="0" y="457200"/>
            <a:ext cx="8763120" cy="6400800"/>
            <a:chOff x="0" y="457200"/>
            <a:chExt cx="8763120" cy="6400800"/>
          </a:xfrm>
        </p:grpSpPr>
        <p:sp>
          <p:nvSpPr>
            <p:cNvPr id="57" name="Line 159"/>
            <p:cNvSpPr/>
            <p:nvPr/>
          </p:nvSpPr>
          <p:spPr>
            <a:xfrm>
              <a:off x="152640" y="4572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0"/>
            <p:cNvSpPr/>
            <p:nvPr/>
          </p:nvSpPr>
          <p:spPr>
            <a:xfrm>
              <a:off x="0" y="67057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7840" y="1905840"/>
            <a:ext cx="811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Мы поднимаемся на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звоним в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ую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рти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У меня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есто в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я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утки идёт дож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11240" y="22860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рфологические при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62" name="Line 7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65" name="Line 5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0"/>
          <p:cNvSpPr/>
          <p:nvPr/>
        </p:nvSpPr>
        <p:spPr>
          <a:xfrm>
            <a:off x="304200" y="1950120"/>
            <a:ext cx="899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Мы поднимаемся на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.р. ед.ч. в.п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ж (м.р. ед.ч. в.п.) и звони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.р. ед.ч. в.п.) квартиру (ж.р. ед.ч. в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 меня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.р. ед.ч. и.п.) место (с.р. ед.ч. и.п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.р. ед.ч. п.п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у (м.р. ед.ч. п.п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н.ч. в.п.) сутки (мн.ч. в.п.) идё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11240" y="22860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рфологические при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1268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упила студёная зима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ался второй ур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Зима в этом году суров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математики второй.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Больной принял лек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ятый вышел из строя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05320" y="472428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8088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таксическая функция 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73" name="Line 8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>
            <a:off x="5105520" y="3429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1055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876920" y="40384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4876920" y="4114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1295280" y="5105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1219320" y="5715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3657600" y="1828800"/>
            <a:ext cx="1828800" cy="76320"/>
            <a:chOff x="3657600" y="1828800"/>
            <a:chExt cx="1828800" cy="76320"/>
          </a:xfrm>
        </p:grpSpPr>
        <p:sp>
          <p:nvSpPr>
            <p:cNvPr id="82" name="AutoShape 17"/>
            <p:cNvSpPr/>
            <p:nvPr/>
          </p:nvSpPr>
          <p:spPr>
            <a:xfrm>
              <a:off x="3657600" y="18306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8"/>
            <p:cNvSpPr/>
            <p:nvPr/>
          </p:nvSpPr>
          <p:spPr>
            <a:xfrm rot="10800000">
              <a:off x="3806640" y="18306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9"/>
            <p:cNvSpPr/>
            <p:nvPr/>
          </p:nvSpPr>
          <p:spPr>
            <a:xfrm>
              <a:off x="3953520" y="182952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0"/>
            <p:cNvSpPr/>
            <p:nvPr/>
          </p:nvSpPr>
          <p:spPr>
            <a:xfrm rot="10800000">
              <a:off x="4102560" y="182988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1"/>
            <p:cNvSpPr/>
            <p:nvPr/>
          </p:nvSpPr>
          <p:spPr>
            <a:xfrm>
              <a:off x="42516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2"/>
            <p:cNvSpPr/>
            <p:nvPr/>
          </p:nvSpPr>
          <p:spPr>
            <a:xfrm rot="10800000">
              <a:off x="4401000" y="18291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3"/>
            <p:cNvSpPr/>
            <p:nvPr/>
          </p:nvSpPr>
          <p:spPr>
            <a:xfrm>
              <a:off x="454716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4"/>
            <p:cNvSpPr/>
            <p:nvPr/>
          </p:nvSpPr>
          <p:spPr>
            <a:xfrm rot="10800000">
              <a:off x="46962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5"/>
            <p:cNvSpPr/>
            <p:nvPr/>
          </p:nvSpPr>
          <p:spPr>
            <a:xfrm>
              <a:off x="48456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26"/>
            <p:cNvSpPr/>
            <p:nvPr/>
          </p:nvSpPr>
          <p:spPr>
            <a:xfrm rot="10800000">
              <a:off x="4994640" y="18291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7"/>
            <p:cNvSpPr/>
            <p:nvPr/>
          </p:nvSpPr>
          <p:spPr>
            <a:xfrm>
              <a:off x="5141520" y="18309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 rot="10800000">
              <a:off x="5290560" y="18309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9"/>
          <p:cNvGrpSpPr/>
          <p:nvPr/>
        </p:nvGrpSpPr>
        <p:grpSpPr>
          <a:xfrm>
            <a:off x="2971800" y="2361960"/>
            <a:ext cx="1676160" cy="76320"/>
            <a:chOff x="2971800" y="2361960"/>
            <a:chExt cx="1676160" cy="76320"/>
          </a:xfrm>
        </p:grpSpPr>
        <p:sp>
          <p:nvSpPr>
            <p:cNvPr id="95" name="AutoShape 30"/>
            <p:cNvSpPr/>
            <p:nvPr/>
          </p:nvSpPr>
          <p:spPr>
            <a:xfrm>
              <a:off x="2971800" y="23641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1"/>
            <p:cNvSpPr/>
            <p:nvPr/>
          </p:nvSpPr>
          <p:spPr>
            <a:xfrm rot="10800000">
              <a:off x="3107880" y="236376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2"/>
            <p:cNvSpPr/>
            <p:nvPr/>
          </p:nvSpPr>
          <p:spPr>
            <a:xfrm>
              <a:off x="3243240" y="236304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33"/>
            <p:cNvSpPr/>
            <p:nvPr/>
          </p:nvSpPr>
          <p:spPr>
            <a:xfrm rot="10800000">
              <a:off x="3379320" y="236304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4"/>
            <p:cNvSpPr/>
            <p:nvPr/>
          </p:nvSpPr>
          <p:spPr>
            <a:xfrm>
              <a:off x="351648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5"/>
            <p:cNvSpPr/>
            <p:nvPr/>
          </p:nvSpPr>
          <p:spPr>
            <a:xfrm rot="10800000">
              <a:off x="365292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6"/>
            <p:cNvSpPr/>
            <p:nvPr/>
          </p:nvSpPr>
          <p:spPr>
            <a:xfrm>
              <a:off x="378720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7"/>
            <p:cNvSpPr/>
            <p:nvPr/>
          </p:nvSpPr>
          <p:spPr>
            <a:xfrm rot="10800000">
              <a:off x="3923280" y="236196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8"/>
            <p:cNvSpPr/>
            <p:nvPr/>
          </p:nvSpPr>
          <p:spPr>
            <a:xfrm>
              <a:off x="406080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9"/>
            <p:cNvSpPr/>
            <p:nvPr/>
          </p:nvSpPr>
          <p:spPr>
            <a:xfrm rot="10800000">
              <a:off x="419724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0"/>
            <p:cNvSpPr/>
            <p:nvPr/>
          </p:nvSpPr>
          <p:spPr>
            <a:xfrm>
              <a:off x="4331880" y="236448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41"/>
            <p:cNvSpPr/>
            <p:nvPr/>
          </p:nvSpPr>
          <p:spPr>
            <a:xfrm rot="10800000">
              <a:off x="4468320" y="23641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108" name="Line 5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8" descr="j0319340"/>
          <p:cNvPicPr/>
          <p:nvPr/>
        </p:nvPicPr>
        <p:blipFill>
          <a:blip r:embed="rId1"/>
          <a:stretch/>
        </p:blipFill>
        <p:spPr>
          <a:xfrm>
            <a:off x="2514600" y="1371600"/>
            <a:ext cx="391788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733920" y="25146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657600" y="25909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429000" y="2666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76720" y="27432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088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ови мя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18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997200" y="30492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клонение 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44120" y="1202400"/>
            <a:ext cx="67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17480" y="1934280"/>
            <a:ext cx="69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.п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42320" y="254376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742320" y="3275640"/>
            <a:ext cx="68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43760" y="4555080"/>
            <a:ext cx="67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724320" y="3885480"/>
            <a:ext cx="69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8T15:54:53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