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29D8-5FC0-4081-9168-168B1ACF8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F6F-78B0-44D5-88DD-E24E829E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45AB-F62A-42CB-B41E-039DB94BE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0AAA-4201-4A4E-811A-551CDA17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1DB4-F8A6-40B3-A9DD-52198101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AC50-CA13-471B-BD1A-C1C47C61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7343B-2145-470D-AF2A-D78DDF59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1487-C1C0-41F9-97AA-411F5F25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16F9-740C-403B-9CF4-5EDBEE6C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C7D5-89FF-431A-8759-21932C4B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7465-69CB-47BB-A698-F1C9E748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9341-04F6-45BE-A3F3-2B44CFC88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C9FB-A56A-4E0F-8304-5763CC43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F9C7-6464-4D5B-AB98-208C4D91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3482-8E3A-438F-BD8A-1068026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F24C-DEB3-4DD8-97AB-0D2B73BE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DC42-79DD-48A0-84C6-8ED5EAD76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63D6E-AEF0-4A2F-9792-12300D6BA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9A238-8B96-47D3-9431-F2047B0C8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F45FE-C7D3-41BB-B958-C5F3ABAB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FD7D7-757F-491A-949C-5143FB8B2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8494-6FBC-4179-B96A-1DF9063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86B4-58AF-437B-AE13-92AE3D3C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F7669-F70E-4844-B380-19A4DE21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075E8-D1AE-43E8-B22E-2751DD11A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9DCD-4C74-4D9E-8DD5-3C4E12A2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51896-00BF-489F-A14E-3E6003DB3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A1613-329C-4DEB-B781-5E7B7F9B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96D360-2813-48C5-81CD-3D95F1D5E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668E4-3C18-455D-90A8-6D02D312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7C1D-3851-4DB9-B968-02CF2250D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67F3B-2EF6-47BF-BE67-398192FD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9A6E-E354-42D1-8D70-A41D40F91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3003-888A-4995-B1EE-94C89335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830F2-1B6F-4CD2-A9D9-3CD0FC6E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FEAD-6DA1-4060-8D03-77DEF4DD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A4807-626A-4437-B125-807E739B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85B5F-28CD-44C7-BF97-CB947EF9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82B36-B0F2-40C3-B555-F9E6DDF50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1B28-DF57-4FD4-A149-F98B38F2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6B189-4BCE-4782-BB5B-F9057D22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AFE99-C735-49A1-95C5-006384A28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4D787-A677-46B7-9316-D458BD5BA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4C8D8-54B4-476F-B8EA-3747DE69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FDD-74CA-44D3-8D51-701E3C62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0143C-84D3-4C02-853B-F73336DB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612A8-FEDB-4C0C-8F0E-3BCAEBB1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6AB8A-F49F-4805-B9A0-ACFCE4A2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4A478-BFE1-4548-B34E-0FBD9AE0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A7530-B654-4187-B9C7-71C9C066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31745-7122-4308-80E9-2BE34FAD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E216D-57F4-40EF-900D-ED954373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5329C-9D12-469A-B287-18BB7B2A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1A6F5-782C-4FEE-AA43-018A541A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EC3D3-FC97-4A62-972B-3227CE9F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738C-703A-4E7F-B25E-7DCE60685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FF28C-52CC-4962-96DF-C829C576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C26C-FE40-48DA-9EF5-E852AB33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EFE-B76E-4E42-854B-BFB02C3E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45D-E609-40C4-81D8-AC04DAF5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7857-255E-4C93-A1E7-0A0E9DACBBF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A10D-1A68-4388-9C93-6C8A0D1E1A5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EB82-6759-4A3A-8768-D9FF32D015E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FBE6-7F5C-4DC8-8954-2FBFA2CF989C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76DA-C9CC-4BC9-9112-A1FB7AD9FBA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7772400" cy="13273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РОЛЬ ФИЗИКИ В СПОРТИВНЫХ ДОСТИЖЕНИЯХ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6" name="Picture 8" descr="https://cdn2.arhivurokov.ru/multiurok/html/2017/10/04/s_59d3fc30ca4e4/img3.jpg"/>
          <p:cNvPicPr/>
          <p:nvPr/>
        </p:nvPicPr>
        <p:blipFill>
          <a:blip r:embed="rId1"/>
          <a:stretch/>
        </p:blipFill>
        <p:spPr>
          <a:xfrm>
            <a:off x="755640" y="1268280"/>
            <a:ext cx="7704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s://myslide.ru/documents_4/2c3ad093a49d40a7228a2629cf3d3a84/img11.jpg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s://bigslide.ru/images/11/10674/960/img10.jpg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s://cdn2.arhivurokov.ru/multiurok/html/2017/10/07/s_59d8b4611510e/img11.jpg"/>
          <p:cNvPicPr/>
          <p:nvPr/>
        </p:nvPicPr>
        <p:blipFill>
          <a:blip r:embed="rId1"/>
          <a:stretch/>
        </p:blipFill>
        <p:spPr>
          <a:xfrm>
            <a:off x="468360" y="368280"/>
            <a:ext cx="811224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s://fs1.ppt4web.ru/images/95377/155799/640/img10.jpg"/>
          <p:cNvPicPr/>
          <p:nvPr/>
        </p:nvPicPr>
        <p:blipFill>
          <a:blip r:embed="rId1"/>
          <a:stretch/>
        </p:blipFill>
        <p:spPr>
          <a:xfrm>
            <a:off x="287280" y="95400"/>
            <a:ext cx="8856720" cy="66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Таким образом, физика помогает достичь высоких результатов самосовершенствования своего спортивного таланта, а так же облегчает физические нагрузки на организм, тем самым экономя время, усилия и здоровье спортсмена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s://fs1.ppt4web.ru/images/95377/155799/310/img4.jpg"/>
          <p:cNvPicPr/>
          <p:nvPr/>
        </p:nvPicPr>
        <p:blipFill>
          <a:blip r:embed="rId1"/>
          <a:stretch/>
        </p:blipFill>
        <p:spPr>
          <a:xfrm>
            <a:off x="0" y="260280"/>
            <a:ext cx="8953560" cy="67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s://ds03.infourok.ru/uploads/ex/02ed/000594b4-ffcff79a/640/img8.jpg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ttps://myslide.ru/documents_4/2c3ad093a49d40a7228a2629cf3d3a84/img3.jpg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900igr.net/up/datas/247661/018.jpg"/>
          <p:cNvPicPr/>
          <p:nvPr/>
        </p:nvPicPr>
        <p:blipFill>
          <a:blip r:embed="rId1"/>
          <a:stretch/>
        </p:blipFill>
        <p:spPr>
          <a:xfrm>
            <a:off x="324000" y="189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900igr.net/up/datas/220003/021.jpg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myslide.ru/documents_4/0b35e10834232397b87177f5e26c5ecf/img8.jpg"/>
          <p:cNvPicPr/>
          <p:nvPr/>
        </p:nvPicPr>
        <p:blipFill>
          <a:blip r:embed="rId1"/>
          <a:stretch/>
        </p:blipFill>
        <p:spPr>
          <a:xfrm>
            <a:off x="324000" y="54936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://bigslide.ru/images/21/20658/960/img9.jpg"/>
          <p:cNvPicPr/>
          <p:nvPr/>
        </p:nvPicPr>
        <p:blipFill>
          <a:blip r:embed="rId1"/>
          <a:stretch/>
        </p:blipFill>
        <p:spPr>
          <a:xfrm>
            <a:off x="684360" y="333360"/>
            <a:ext cx="79549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s://myslide.ru/documents_4/2c3ad093a49d40a7228a2629cf3d3a84/img8.jpg"/>
          <p:cNvPicPr/>
          <p:nvPr/>
        </p:nvPicPr>
        <p:blipFill>
          <a:blip r:embed="rId1"/>
          <a:stretch/>
        </p:blipFill>
        <p:spPr>
          <a:xfrm>
            <a:off x="395280" y="62064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6:31:22Z</dcterms:created>
  <dc:creator>XTreme</dc:creator>
  <dc:description/>
  <dc:language>en-US</dc:language>
  <cp:lastModifiedBy>1</cp:lastModifiedBy>
  <dcterms:modified xsi:type="dcterms:W3CDTF">2018-07-01T12:39:55Z</dcterms:modified>
  <cp:revision>10</cp:revision>
  <dc:subject/>
  <dc:title>Презентация на тему:</dc:title>
</cp:coreProperties>
</file>