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C9BB-BA32-4DDB-B9A1-676FD161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71B4-B967-4909-BAA9-4DDC05615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5AB1-FE6F-45B8-8A51-EC3B4E8B9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475-525B-45BE-B3A0-D9900436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D72D0-6C76-46BC-A740-927D4FB4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A5A1C-2094-4967-969B-CF1EE4A3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4091-9766-4741-8398-FBC779BF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C77A-B358-4A96-887C-D4F39F78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087AF-3436-4C99-A8A4-0A94811B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2BDE0-0E76-4DE8-A51C-8BE1D811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651B-52F7-46D1-9BCF-66970234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735F-0937-4D82-808C-4F087C57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DCCE7-844A-4F95-BF26-EE720A2C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A988B-149C-4BC0-9D96-C9837932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92308-06B5-4B3A-A1EB-E61D1C59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E68E8-0439-4F9B-8A55-9F8465FA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4755-EE1F-478C-88CA-2E2E5F10A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6DB2B-8A2E-46A4-9846-21EC1EFE0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FFC5-5927-47EB-A632-9D796E4C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35468-A6F6-49BF-AE30-7DF294758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B33ED-6F1C-4634-ADE2-E00B40C45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A3DAC-1CED-4EA4-8713-2C01FEB15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35B2-1C34-4E86-9F9F-D5F127FA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D3D13-4674-410E-A5DA-8EE53A4A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548BD-361A-415F-9B0B-78904E80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44546-6744-4065-81A6-AED060B7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5AD32-031F-49AF-B3D3-6B83E0AD7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BBDE0-70E2-4F25-96C6-A14C7701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179D1-E750-489D-A126-08967B8F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94570-ADFF-42EC-84AD-4A9A85F91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E90E5-5CAC-4FEC-99EB-4AA1EB1A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03299-FCBA-40D4-9DE0-E0BE1B58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E3DAA-14D8-45D9-9645-3176378C8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D7EF-8AD2-4457-8796-7C96B986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56145-E902-4BF5-8EA6-4A180030D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DBDFC-8976-4A05-A8DA-2A558930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6E842-008E-462E-98F3-1702B94D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D5A69-5779-4534-A713-E18DA2FA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92005-C16D-4406-8185-CD6C26049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A37B4-9890-4BD0-BB12-148A2901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80C30-5D10-4AC1-AAE5-88B1D6C1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C6DA91-AD13-4F91-9180-D6E0C8FD7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17F0-E0D5-4524-AAF5-9B5E37BFB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38DC0-2AD0-40F4-BEC1-90F85289D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C26-2B5D-4249-9DE4-D49A229B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D38E2-2804-42E4-BC2C-B8EE554D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BF58D-4224-4D0F-A1AE-FF2B31929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8C42C9-5032-46C3-95A6-B65C68EE6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D97EF-EFD1-4384-861E-C56C29C1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B28DC-024F-482F-9615-21F32F7E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4C5FD2-F355-4347-95F6-08BBAE02C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E5AA7-779A-42C7-8611-F4829F6E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25ADE-AF69-4D93-9278-84576A8D0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53B75-D712-4832-9FA4-BDD90B94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CAB6B2-9EBA-4442-B2B4-7CF1FD965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123-4905-4F8A-B7AE-4FD26012F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29913-D3EF-4D7E-B997-25E1933F6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3601-0A10-4D75-9D4C-AAC5DA9B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93B-A3F4-4C88-9F77-F6DAADE3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A48-38DF-4395-A87C-436D93D5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9695-8210-443D-9A09-8A0B50D3196C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C045-A273-414C-B435-5C32F75829F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7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Right Triangle 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6A58-924E-4C0B-93AE-BED9EEA05CFB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16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Right Triangle 17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ACDA6-ED45-4522-ABFD-9C9DB734EBFF}" type="slidenum">
              <a:rPr b="0" lang="ru-RU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06BB-3B7D-4D6E-B0DE-43B9F6A0388E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360" y="9000"/>
            <a:ext cx="7772400" cy="13273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Medium"/>
              </a:rPr>
              <a:t>РОЛЬ ФИЗИКИ В СПОРТИВНЫХ ДОСТИЖЕНИЯХ</a:t>
            </a:r>
            <a:endParaRPr b="0" lang="en-US" sz="36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16" name="Picture 8" descr="https://cdn2.arhivurokov.ru/multiurok/html/2017/10/04/s_59d3fc30ca4e4/img3.jpg"/>
          <p:cNvPicPr/>
          <p:nvPr/>
        </p:nvPicPr>
        <p:blipFill>
          <a:blip r:embed="rId1"/>
          <a:stretch/>
        </p:blipFill>
        <p:spPr>
          <a:xfrm>
            <a:off x="755640" y="1268280"/>
            <a:ext cx="77040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https://myslide.ru/documents_4/2c3ad093a49d40a7228a2629cf3d3a84/img11.jpg"/>
          <p:cNvPicPr/>
          <p:nvPr/>
        </p:nvPicPr>
        <p:blipFill>
          <a:blip r:embed="rId1"/>
          <a:stretch/>
        </p:blipFill>
        <p:spPr>
          <a:xfrm>
            <a:off x="755640" y="76500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https://bigslide.ru/images/11/10674/960/img10.jpg"/>
          <p:cNvPicPr/>
          <p:nvPr/>
        </p:nvPicPr>
        <p:blipFill>
          <a:blip r:embed="rId1"/>
          <a:stretch/>
        </p:blipFill>
        <p:spPr>
          <a:xfrm>
            <a:off x="468360" y="54936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https://cdn2.arhivurokov.ru/multiurok/html/2017/10/07/s_59d8b4611510e/img11.jpg"/>
          <p:cNvPicPr/>
          <p:nvPr/>
        </p:nvPicPr>
        <p:blipFill>
          <a:blip r:embed="rId1"/>
          <a:stretch/>
        </p:blipFill>
        <p:spPr>
          <a:xfrm>
            <a:off x="468360" y="368280"/>
            <a:ext cx="8112240" cy="60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https://fs1.ppt4web.ru/images/95377/155799/640/img10.jpg"/>
          <p:cNvPicPr/>
          <p:nvPr/>
        </p:nvPicPr>
        <p:blipFill>
          <a:blip r:embed="rId1"/>
          <a:stretch/>
        </p:blipFill>
        <p:spPr>
          <a:xfrm>
            <a:off x="287280" y="95400"/>
            <a:ext cx="8856720" cy="66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Medium"/>
              </a:rPr>
              <a:t>ВЫВОД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Franklin Gothic Book"/>
              </a:rPr>
              <a:t>Таким образом, физика помогает достичь высоких результатов самосовершенствования своего спортивного таланта, а так же облегчает физические нагрузки на организм, тем самым экономя время, усилия и здоровье спортсмена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2" descr="https://fs1.ppt4web.ru/images/95377/155799/310/img4.jpg"/>
          <p:cNvPicPr/>
          <p:nvPr/>
        </p:nvPicPr>
        <p:blipFill>
          <a:blip r:embed="rId1"/>
          <a:stretch/>
        </p:blipFill>
        <p:spPr>
          <a:xfrm>
            <a:off x="0" y="260280"/>
            <a:ext cx="8953560" cy="67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2" descr="https://ds03.infourok.ru/uploads/ex/02ed/000594b4-ffcff79a/640/img8.jpg"/>
          <p:cNvPicPr/>
          <p:nvPr/>
        </p:nvPicPr>
        <p:blipFill>
          <a:blip r:embed="rId1"/>
          <a:stretch/>
        </p:blipFill>
        <p:spPr>
          <a:xfrm>
            <a:off x="468360" y="549360"/>
            <a:ext cx="784872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ttps://myslide.ru/documents_4/2c3ad093a49d40a7228a2629cf3d3a84/img3.jpg"/>
          <p:cNvPicPr/>
          <p:nvPr/>
        </p:nvPicPr>
        <p:blipFill>
          <a:blip r:embed="rId1"/>
          <a:stretch/>
        </p:blipFill>
        <p:spPr>
          <a:xfrm>
            <a:off x="395280" y="54936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http://900igr.net/up/datas/247661/018.jpg"/>
          <p:cNvPicPr/>
          <p:nvPr/>
        </p:nvPicPr>
        <p:blipFill>
          <a:blip r:embed="rId1"/>
          <a:stretch/>
        </p:blipFill>
        <p:spPr>
          <a:xfrm>
            <a:off x="324000" y="189000"/>
            <a:ext cx="8280360" cy="62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2" descr="http://900igr.net/up/datas/220003/021.jpg"/>
          <p:cNvPicPr/>
          <p:nvPr/>
        </p:nvPicPr>
        <p:blipFill>
          <a:blip r:embed="rId1"/>
          <a:stretch/>
        </p:blipFill>
        <p:spPr>
          <a:xfrm>
            <a:off x="611280" y="333360"/>
            <a:ext cx="8137440" cy="61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ttps://myslide.ru/documents_4/0b35e10834232397b87177f5e26c5ecf/img8.jpg"/>
          <p:cNvPicPr/>
          <p:nvPr/>
        </p:nvPicPr>
        <p:blipFill>
          <a:blip r:embed="rId1"/>
          <a:stretch/>
        </p:blipFill>
        <p:spPr>
          <a:xfrm>
            <a:off x="324000" y="549360"/>
            <a:ext cx="820872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http://bigslide.ru/images/21/20658/960/img9.jpg"/>
          <p:cNvPicPr/>
          <p:nvPr/>
        </p:nvPicPr>
        <p:blipFill>
          <a:blip r:embed="rId1"/>
          <a:stretch/>
        </p:blipFill>
        <p:spPr>
          <a:xfrm>
            <a:off x="684360" y="333360"/>
            <a:ext cx="795492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2" descr="https://myslide.ru/documents_4/2c3ad093a49d40a7228a2629cf3d3a84/img8.jpg"/>
          <p:cNvPicPr/>
          <p:nvPr/>
        </p:nvPicPr>
        <p:blipFill>
          <a:blip r:embed="rId1"/>
          <a:stretch/>
        </p:blipFill>
        <p:spPr>
          <a:xfrm>
            <a:off x="395280" y="620640"/>
            <a:ext cx="7993080" cy="59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6:31:22Z</dcterms:created>
  <dc:creator>XTreme</dc:creator>
  <dc:description/>
  <dc:language>en-US</dc:language>
  <cp:lastModifiedBy>1</cp:lastModifiedBy>
  <dcterms:modified xsi:type="dcterms:W3CDTF">2018-07-01T12:39:55Z</dcterms:modified>
  <cp:revision>10</cp:revision>
  <dc:subject/>
  <dc:title>Презентация на тему:</dc:title>
</cp:coreProperties>
</file>