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15.jpeg" ContentType="image/jpeg"/>
  <Override PartName="/ppt/media/image9.gif" ContentType="image/gif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777D-AF0E-4AD6-A3FC-FFD096B1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1632-D83D-40BE-A423-653CF6FE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0CFA-F1B2-4D85-B802-24B7C866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7CBD-EFCA-4890-B40E-3A86160A7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14C-4B60-49CC-8F92-942EC430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CADD-4183-4D76-9ABA-A0CC87C6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7C8-6BBF-498F-A0E4-6CA8CA1E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A2C9-C418-4102-8428-B9E4B0C0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80D-C236-4797-B50D-A11D233D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52C-AB19-49E9-9C7B-CC45E9C4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5135-0CDC-4747-96C9-E93C89C34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A2F1-38A0-4F79-81A4-1F8DBBE9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66D5C-5FE4-49E2-8056-7D3F23E7EA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0040" y="642600"/>
            <a:ext cx="8229600" cy="134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Трудности адаптации первоклассников</a:t>
            </a: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Calibri"/>
              </a:rPr>
              <a:t>в школ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3" name="Рисунок 8" descr="i (7).jpg"/>
          <p:cNvPicPr/>
          <p:nvPr/>
        </p:nvPicPr>
        <p:blipFill>
          <a:blip r:embed="rId2"/>
          <a:stretch/>
        </p:blipFill>
        <p:spPr>
          <a:xfrm>
            <a:off x="785880" y="2571840"/>
            <a:ext cx="2114640" cy="26431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9" descr="i (5).jpg"/>
          <p:cNvPicPr/>
          <p:nvPr/>
        </p:nvPicPr>
        <p:blipFill>
          <a:blip r:embed="rId3"/>
          <a:stretch/>
        </p:blipFill>
        <p:spPr>
          <a:xfrm>
            <a:off x="6286680" y="2000160"/>
            <a:ext cx="2000160" cy="20271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11"/>
          <p:cNvSpPr/>
          <p:nvPr/>
        </p:nvSpPr>
        <p:spPr>
          <a:xfrm>
            <a:off x="3071880" y="4357800"/>
            <a:ext cx="535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едагогика должна стать наукой для всех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– и для учителей, и для род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MCj04234790000[1]"/>
          <p:cNvPicPr/>
          <p:nvPr/>
        </p:nvPicPr>
        <p:blipFill>
          <a:blip r:embed="rId4"/>
          <a:stretch/>
        </p:blipFill>
        <p:spPr>
          <a:xfrm>
            <a:off x="3564000" y="2060640"/>
            <a:ext cx="20844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11" nodeType="afterEffect" fill="hold" presetClass="emph" presetID="22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Когда уместна тревога?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291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ычно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нижается интерес к школе, заняти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чинает время от времени ныть, что учиться надоело (особенно в конце недели и четверти), но активно интересуется всем остальн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адуется, когда не надо делать домашнее задан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ремя от времени хочет остаться дома, пропустить урок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асн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лное отсутствие интереса к учёб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лает уроки только «из-под палк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желание ходить в школу и вообще учиться выражается  симптомами болезней (кашель, насморк, рвота, понос), которые  кончаются сразу после того, как разрешат остаться дом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чень не любит или боится учителя, испытывает п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ношению к нему страх, бессилие или агресси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953735"/>
                </a:solidFill>
                <a:latin typeface="Calibri"/>
              </a:rPr>
              <a:t>Памятка </a:t>
            </a:r>
            <a:br>
              <a:rPr sz="3800"/>
            </a:br>
            <a:r>
              <a:rPr b="1" lang="ru-RU" sz="3800" spc="-1" strike="noStrike">
                <a:solidFill>
                  <a:srgbClr val="953735"/>
                </a:solidFill>
                <a:latin typeface="Calibri"/>
              </a:rPr>
              <a:t>родителям первоклассника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 Одинаково не правы как те родители, которые предоставляют первоклашке полную самостоятельность, так и те, которые устанавливают тотальный контроль за всей его деятельностью.         2. За уроки нужно садиться через час-полтора после возвращения из школ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 Между выполнением уроков следует делать перерывы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15-20 минут занятий – 5 минут отдых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4. Чередуйте устные и письменные задания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MCj04136380000[1]"/>
          <p:cNvPicPr/>
          <p:nvPr/>
        </p:nvPicPr>
        <p:blipFill>
          <a:blip r:embed="rId1"/>
          <a:stretch/>
        </p:blipFill>
        <p:spPr>
          <a:xfrm>
            <a:off x="5796000" y="115920"/>
            <a:ext cx="1198440" cy="961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j0297575"/>
          <p:cNvPicPr/>
          <p:nvPr/>
        </p:nvPicPr>
        <p:blipFill>
          <a:blip r:embed="rId2"/>
          <a:stretch/>
        </p:blipFill>
        <p:spPr>
          <a:xfrm>
            <a:off x="6443640" y="4797360"/>
            <a:ext cx="1500120" cy="1363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Kartinochki (2)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Памятка родителям первокласс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5. Очень важно приучить ребенка к самоконтролю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осле выполнения задания попросите сына или дочь проверить написанное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6. Ошибки ребенка не должны вас раздражать, они должны удивля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7. После выполнения уроков похвалите ребенк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8. Перед сном шепните ребенку на ушко: «Я так счастлива, что ты у меня есть!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8" descr="j0297575"/>
          <p:cNvPicPr/>
          <p:nvPr/>
        </p:nvPicPr>
        <p:blipFill>
          <a:blip r:embed="rId1"/>
          <a:stretch/>
        </p:blipFill>
        <p:spPr>
          <a:xfrm>
            <a:off x="2843280" y="5084640"/>
            <a:ext cx="1512720" cy="1374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1714680"/>
            <a:ext cx="77724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утром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солнце покажется им тускл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днём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небо покажется им хмурым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;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Не ругайте ребят на ночь 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Arial Narrow"/>
              </a:rPr>
              <a:t>     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– звёзды померкнут для них;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Arial Narrow"/>
              </a:rPr>
              <a:t>Не ругайте! Любите их, и они ответят всем взаимностью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91" name="Picture 2" descr="http://im0-tub.yandex.ru/i?id=13747892-68-72"/>
          <p:cNvPicPr/>
          <p:nvPr/>
        </p:nvPicPr>
        <p:blipFill>
          <a:blip r:embed="rId2"/>
          <a:stretch/>
        </p:blipFill>
        <p:spPr>
          <a:xfrm>
            <a:off x="785880" y="928800"/>
            <a:ext cx="1882800" cy="25002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http://im5-tub.yandex.ru/i?id=364203092-12-72"/>
          <p:cNvPicPr/>
          <p:nvPr/>
        </p:nvPicPr>
        <p:blipFill>
          <a:blip r:embed="rId3"/>
          <a:stretch/>
        </p:blipFill>
        <p:spPr>
          <a:xfrm>
            <a:off x="3357720" y="4357800"/>
            <a:ext cx="28573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Calibri"/>
              </a:rPr>
              <a:t>Особенности </a:t>
            </a:r>
            <a:br>
              <a:rPr sz="3800"/>
            </a:br>
            <a:r>
              <a:rPr b="1" i="1" lang="ru-RU" sz="3800" spc="-1" strike="noStrike">
                <a:solidFill>
                  <a:srgbClr val="000000"/>
                </a:solidFill>
                <a:latin typeface="Calibri"/>
              </a:rPr>
              <a:t>современного первоклассника :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400" y="1413000"/>
            <a:ext cx="73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де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большие различ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аспортного и физиологического развит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де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ширная информирован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рактически по любым вопросам. Но она совершенно бессистем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овременных дете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ильнее ощущение своего «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» и более свободное независимое поведе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личи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доверчивост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к словам и поступкам взрослы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современных детей более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абое здоровь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в большинстве своём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ерестали игра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ллективные «дворовые» игры. Их заменили телевизоры, компьютер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MCj03981490000[1]"/>
          <p:cNvPicPr/>
          <p:nvPr/>
        </p:nvPicPr>
        <p:blipFill>
          <a:blip r:embed="rId1"/>
          <a:stretch/>
        </p:blipFill>
        <p:spPr>
          <a:xfrm>
            <a:off x="7236000" y="4581360"/>
            <a:ext cx="1538280" cy="1517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Трудности,</a:t>
            </a:r>
            <a:br>
              <a:rPr sz="3800"/>
            </a:br>
            <a:r>
              <a:rPr b="1" lang="ru-RU" sz="3800" spc="-1" strike="noStrike">
                <a:solidFill>
                  <a:srgbClr val="000000"/>
                </a:solidFill>
                <a:latin typeface="Calibri"/>
              </a:rPr>
              <a:t> которые могут возникнуть у первоклассников.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первые дни, недели посещения школы снижается сопротивляемость организма, могут нарушаться сон, аппетит, повышается температур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ервоклассники отвлекаются быстро утомляются, возбудимы, эмоциональны, впечатлитель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ведение нередко отличается неорганизованностью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собранностью, недисциплинированность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детей характерна высок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томляемо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4" name="Picture 5" descr="MCj03981530000[1]"/>
          <p:cNvPicPr/>
          <p:nvPr/>
        </p:nvPicPr>
        <p:blipFill>
          <a:blip r:embed="rId2"/>
          <a:stretch/>
        </p:blipFill>
        <p:spPr>
          <a:xfrm>
            <a:off x="5796000" y="4149720"/>
            <a:ext cx="21160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Calibri"/>
              </a:rPr>
              <a:t>Психологическая готовность ребёнка к школе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500200"/>
            <a:ext cx="822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Личностная готовнос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Волев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0" descr="Kartinochki (2)"/>
          <p:cNvPicPr/>
          <p:nvPr/>
        </p:nvPicPr>
        <p:blipFill>
          <a:blip r:embed="rId1"/>
          <a:stretch/>
        </p:blipFill>
        <p:spPr>
          <a:xfrm>
            <a:off x="-6480" y="324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8" name="Picture 5" descr="AG00315_"/>
          <p:cNvPicPr/>
          <p:nvPr/>
        </p:nvPicPr>
        <p:blipFill>
          <a:blip r:embed="rId2"/>
          <a:stretch/>
        </p:blipFill>
        <p:spPr>
          <a:xfrm>
            <a:off x="6143760" y="4000680"/>
            <a:ext cx="198576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Личност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Умение ребёнка войти в детское общество, действовать совместно с другими, уступать, подчинятьс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( разумная необходимость), чувство товариществ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Такие качества обеспечат ему безболезненную адаптацию к новым социальным услови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KIDS01"/>
          <p:cNvPicPr/>
          <p:nvPr/>
        </p:nvPicPr>
        <p:blipFill>
          <a:blip r:embed="rId1"/>
          <a:stretch/>
        </p:blipFill>
        <p:spPr>
          <a:xfrm>
            <a:off x="5715000" y="4572000"/>
            <a:ext cx="2971800" cy="2057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  <a:ea typeface="Arial"/>
              </a:rPr>
              <a:t>Волев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условие характеризуется отношением ребёнка к трудностям и способам их преодоления. Здесь главное значение имеет воспитание мотивов достижения целей, 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умение принять трудности и стремление разрешить их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6" descr="AG00316_"/>
          <p:cNvPicPr/>
          <p:nvPr/>
        </p:nvPicPr>
        <p:blipFill>
          <a:blip r:embed="rId1"/>
          <a:stretch/>
        </p:blipFill>
        <p:spPr>
          <a:xfrm>
            <a:off x="5857920" y="3357720"/>
            <a:ext cx="1733400" cy="278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Интеллектуальная гото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Это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наличие определённого кругозора, запаса конкретных знаний о живой и неживой природе, общественной жизни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  <a:ea typeface="Arial"/>
              </a:rPr>
              <a:t>. В этом возрасте логическая форма мышления доступна, но не характерна. Важная роль отведена наглядно – действенному и наглядно – образному мышлени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8" descr="j0280386"/>
          <p:cNvPicPr/>
          <p:nvPr/>
        </p:nvPicPr>
        <p:blipFill>
          <a:blip r:embed="rId1"/>
          <a:stretch/>
        </p:blipFill>
        <p:spPr>
          <a:xfrm>
            <a:off x="6429240" y="4000680"/>
            <a:ext cx="2144880" cy="2606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0" descr="Kartinochki (2)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80136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изиологические условия адаптации первоклассников к школ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рганизовать перерывы в процессе выполнения уроков, наполняя их двигательной активностью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 время выполнения домашних заданий обращать внимание на  правильную посадку во избежание искривления позвоночника, на освещение рабочег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ста для предупреждения близорук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ренировать мелкие мышцы кистей рук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 вводить в рацион витаминные препараты, овощи, фрукт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вать условия дл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нятия спортом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PPLGP132"/>
          <p:cNvPicPr/>
          <p:nvPr/>
        </p:nvPicPr>
        <p:blipFill>
          <a:blip r:embed="rId1"/>
          <a:stretch/>
        </p:blipFill>
        <p:spPr>
          <a:xfrm>
            <a:off x="3780000" y="5300640"/>
            <a:ext cx="4028760" cy="100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Kartinochki (2)"/>
          <p:cNvPicPr/>
          <p:nvPr/>
        </p:nvPicPr>
        <p:blipFill>
          <a:blip r:embed="rId2"/>
          <a:stretch/>
        </p:blipFill>
        <p:spPr>
          <a:xfrm>
            <a:off x="-108000" y="0"/>
            <a:ext cx="9252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324000" y="526680"/>
            <a:ext cx="86407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f7f7f"/>
                </a:solidFill>
                <a:latin typeface="Arial"/>
                <a:ea typeface="Times New Roman"/>
              </a:rPr>
              <a:t> </a:t>
            </a: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Перед Вами форму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где зашифрованы законы воспит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ребенка в сем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f7f7f"/>
                </a:solidFill>
                <a:latin typeface="Arial"/>
                <a:ea typeface="Times New Roman"/>
              </a:rPr>
              <a:t>Расшифруйте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76092"/>
                </a:solidFill>
                <a:uFillTx/>
                <a:latin typeface="Arial"/>
                <a:ea typeface="Times New Roman"/>
              </a:rPr>
              <a:t>Закон семь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______+______+_______+_____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ед.тр.   зн. похв.   тр.уч.    разд.бла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0" descr="Kartinochki (2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07:11:52Z</dcterms:created>
  <dc:creator>bateskav191</dc:creator>
  <dc:description/>
  <dc:language>en-US</dc:language>
  <cp:lastModifiedBy>RePack by Diakov</cp:lastModifiedBy>
  <dcterms:modified xsi:type="dcterms:W3CDTF">2018-07-11T10:23:12Z</dcterms:modified>
  <cp:revision>25</cp:revision>
  <dc:subject/>
  <dc:title>Слайд 1</dc:title>
</cp:coreProperties>
</file>