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12.wmf" ContentType="image/x-wmf"/>
  <Override PartName="/ppt/media/image15.jpeg" ContentType="image/jpeg"/>
  <Override PartName="/ppt/media/image9.gif" ContentType="image/gif"/>
  <Override PartName="/ppt/media/image14.jpeg" ContentType="image/jpeg"/>
  <Override PartName="/ppt/media/image1.wmf" ContentType="image/x-wmf"/>
  <Override PartName="/ppt/media/image2.jpeg" ContentType="image/jpeg"/>
  <Override PartName="/ppt/media/image3.jpeg" ContentType="image/jpeg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gif" ContentType="image/gif"/>
  <Override PartName="/ppt/media/image8.gif" ContentType="image/gi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DFB99-4565-46C6-AF90-9A57853C2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2C8CF-6A91-44C6-904F-BEE66FE81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742D2-819C-4EEE-9D88-A9EEBD0EB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7C5CD-6C1B-43DD-A91C-74829AF51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87ECA-6644-4FE2-8723-9DE0166FD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53EAB-6EC6-4DC2-9576-EA8A6E910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64D15-0FA0-426C-A129-EBAB22DAB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178C3-DC4B-4EF4-AAB4-29FB547AB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D47FF-B6DD-4AC5-842D-04D380E13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F9854-24BB-458F-9160-B13DE0115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819E1-13D9-4AF9-B9AF-75B9D72A9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85580-3498-4144-B347-2319DD555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AF64B-7A14-4A5F-AAAA-EF8B7DD20AB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8229600" cy="134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Calibri"/>
              </a:rPr>
              <a:t>Трудности адаптации первоклассников</a:t>
            </a:r>
            <a:r>
              <a:rPr b="1" lang="ru-RU" sz="28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lang="ru-RU" sz="4000" spc="-1" strike="noStrike">
                <a:solidFill>
                  <a:srgbClr val="0000ff"/>
                </a:solidFill>
                <a:latin typeface="Calibri"/>
              </a:rPr>
              <a:t>в школе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20" descr="Kartinochki (2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43" name="Рисунок 8" descr="i (7).jpg"/>
          <p:cNvPicPr/>
          <p:nvPr/>
        </p:nvPicPr>
        <p:blipFill>
          <a:blip r:embed="rId2"/>
          <a:stretch/>
        </p:blipFill>
        <p:spPr>
          <a:xfrm>
            <a:off x="785880" y="2571840"/>
            <a:ext cx="2114640" cy="2643120"/>
          </a:xfrm>
          <a:prstGeom prst="rect">
            <a:avLst/>
          </a:prstGeom>
          <a:ln w="0">
            <a:noFill/>
          </a:ln>
        </p:spPr>
      </p:pic>
      <p:pic>
        <p:nvPicPr>
          <p:cNvPr id="44" name="Рисунок 9" descr="i (5).jpg"/>
          <p:cNvPicPr/>
          <p:nvPr/>
        </p:nvPicPr>
        <p:blipFill>
          <a:blip r:embed="rId3"/>
          <a:stretch/>
        </p:blipFill>
        <p:spPr>
          <a:xfrm>
            <a:off x="6286680" y="2000160"/>
            <a:ext cx="2000160" cy="2027160"/>
          </a:xfrm>
          <a:prstGeom prst="rect">
            <a:avLst/>
          </a:prstGeom>
          <a:ln w="0">
            <a:noFill/>
          </a:ln>
        </p:spPr>
      </p:pic>
      <p:sp>
        <p:nvSpPr>
          <p:cNvPr id="45" name="Прямоугольник 11"/>
          <p:cNvSpPr/>
          <p:nvPr/>
        </p:nvSpPr>
        <p:spPr>
          <a:xfrm>
            <a:off x="3071880" y="4357800"/>
            <a:ext cx="5357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едагогика должна стать наукой для всех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– и для учителей, и для родител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.А.Сухомлин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5" descr="MCj04234790000[1]"/>
          <p:cNvPicPr/>
          <p:nvPr/>
        </p:nvPicPr>
        <p:blipFill>
          <a:blip r:embed="rId4"/>
          <a:stretch/>
        </p:blipFill>
        <p:spPr>
          <a:xfrm>
            <a:off x="3564000" y="2060640"/>
            <a:ext cx="2084400" cy="22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640"/>
                            </p:stCondLst>
                            <p:childTnLst>
                              <p:par>
                                <p:cTn id="11" nodeType="afterEffect" fill="hold" presetClass="emph" presetID="22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hsl" dir="cw">
                                      <p:cBhvr>
                                        <p:cTn id="12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3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4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5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Calibri"/>
              </a:rPr>
              <a:t>Когда уместна тревога?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829152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Обычно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нижается интерес к школе, занятиям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Начинает время от времени ныть, что учиться надоело (особенно в конце недели и четверти), но активно интересуется всем остальным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Радуется, когда не надо делать домашнее задани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Время от времени хочет остаться дома, пропустить урок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Опасн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олное отсутствие интереса к учёбе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Делает уроки только «из-под палки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Нежелание ходить в школу и вообще учиться выражается  симптомами болезней (кашель, насморк, рвота, понос), которые  кончаются сразу после того, как разрешат остаться дом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Очень не любит или боится учителя, испытывает по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отношению к нему страх, бессилие или агрессию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20" descr="Kartinochki (2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953735"/>
                </a:solidFill>
                <a:latin typeface="Calibri"/>
              </a:rPr>
              <a:t>Памятка </a:t>
            </a:r>
            <a:br>
              <a:rPr sz="3800"/>
            </a:br>
            <a:r>
              <a:rPr b="1" lang="ru-RU" sz="3800" spc="-1" strike="noStrike">
                <a:solidFill>
                  <a:srgbClr val="953735"/>
                </a:solidFill>
                <a:latin typeface="Calibri"/>
              </a:rPr>
              <a:t>родителям первоклассника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8229600" cy="617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1. Одинаково не правы как те родители, которые предоставляют первоклашке полную самостоятельность, так и те, которые устанавливают тотальный контроль за всей его деятельностью.         2. За уроки нужно садиться через час-полтора после возвращения из школы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3. Между выполнением уроков следует делать перерывы.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15-20 минут занятий – 5 минут отдыха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4. Чередуйте устные и письменные задания.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4" descr="MCj04136380000[1]"/>
          <p:cNvPicPr/>
          <p:nvPr/>
        </p:nvPicPr>
        <p:blipFill>
          <a:blip r:embed="rId1"/>
          <a:stretch/>
        </p:blipFill>
        <p:spPr>
          <a:xfrm>
            <a:off x="5796000" y="115920"/>
            <a:ext cx="1198440" cy="961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j0297575"/>
          <p:cNvPicPr/>
          <p:nvPr/>
        </p:nvPicPr>
        <p:blipFill>
          <a:blip r:embed="rId2"/>
          <a:stretch/>
        </p:blipFill>
        <p:spPr>
          <a:xfrm>
            <a:off x="6443640" y="4797360"/>
            <a:ext cx="1500120" cy="13636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0" descr="Kartinochki (2)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400" spc="-1" strike="noStrike">
                <a:solidFill>
                  <a:srgbClr val="953735"/>
                </a:solidFill>
                <a:latin typeface="Calibri"/>
              </a:rPr>
              <a:t>Памятка родителям первоклассни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428840"/>
            <a:ext cx="8229600" cy="46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5. Очень важно приучить ребенка к самоконтролю.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После выполнения задания попросите сына или дочь проверить написанное.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6. Ошибки ребенка не должны вас раздражать, они должны удивлять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7. После выполнения уроков похвалите ребенк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8. Перед сном шепните ребенку на ушко: «Я так счастлива, что ты у меня есть!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8" descr="j0297575"/>
          <p:cNvPicPr/>
          <p:nvPr/>
        </p:nvPicPr>
        <p:blipFill>
          <a:blip r:embed="rId1"/>
          <a:stretch/>
        </p:blipFill>
        <p:spPr>
          <a:xfrm>
            <a:off x="2843280" y="5084640"/>
            <a:ext cx="1512720" cy="13748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0" descr="Kartinochki (2)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42960" y="1714680"/>
            <a:ext cx="7772400" cy="142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 Narrow"/>
              </a:rPr>
              <a:t>Не ругайте ребят утром </a:t>
            </a:r>
            <a:br>
              <a:rPr sz="2800"/>
            </a:br>
            <a:r>
              <a:rPr b="1" lang="ru-RU" sz="2800" spc="-1" strike="noStrike">
                <a:solidFill>
                  <a:srgbClr val="0000ff"/>
                </a:solidFill>
                <a:latin typeface="Arial Narrow"/>
              </a:rPr>
              <a:t>                                   </a:t>
            </a:r>
            <a:r>
              <a:rPr b="1" lang="ru-RU" sz="2800" spc="-1" strike="noStrike">
                <a:solidFill>
                  <a:srgbClr val="c00000"/>
                </a:solidFill>
                <a:latin typeface="Arial Narrow"/>
              </a:rPr>
              <a:t>–солнце покажется им тусклым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;</a:t>
            </a:r>
            <a:br>
              <a:rPr sz="2800"/>
            </a:br>
            <a:r>
              <a:rPr b="1" lang="ru-RU" sz="2800" spc="-1" strike="noStrike">
                <a:solidFill>
                  <a:srgbClr val="0000ff"/>
                </a:solidFill>
                <a:latin typeface="Arial Narrow"/>
              </a:rPr>
              <a:t>Не ругайте ребят днём</a:t>
            </a:r>
            <a:br>
              <a:rPr sz="2800"/>
            </a:br>
            <a:r>
              <a:rPr b="1" lang="ru-RU" sz="2800" spc="-1" strike="noStrike">
                <a:solidFill>
                  <a:srgbClr val="0000ff"/>
                </a:solidFill>
                <a:latin typeface="Arial Narrow"/>
              </a:rPr>
              <a:t>                                 </a:t>
            </a:r>
            <a:r>
              <a:rPr b="1" lang="ru-RU" sz="2800" spc="-1" strike="noStrike">
                <a:solidFill>
                  <a:srgbClr val="c00000"/>
                </a:solidFill>
                <a:latin typeface="Arial Narrow"/>
              </a:rPr>
              <a:t>– небо покажется им хмурым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;</a:t>
            </a:r>
            <a:br>
              <a:rPr sz="2800"/>
            </a:br>
            <a:r>
              <a:rPr b="1" lang="ru-RU" sz="2800" spc="-1" strike="noStrike">
                <a:solidFill>
                  <a:srgbClr val="0000ff"/>
                </a:solidFill>
                <a:latin typeface="Arial Narrow"/>
              </a:rPr>
              <a:t>Не ругайте ребят на ночь </a:t>
            </a:r>
            <a:br>
              <a:rPr sz="2800"/>
            </a:br>
            <a:r>
              <a:rPr b="1" lang="ru-RU" sz="2800" spc="-1" strike="noStrike">
                <a:solidFill>
                  <a:srgbClr val="0000ff"/>
                </a:solidFill>
                <a:latin typeface="Arial Narrow"/>
              </a:rPr>
              <a:t>                                    </a:t>
            </a:r>
            <a:r>
              <a:rPr b="1" lang="ru-RU" sz="2800" spc="-1" strike="noStrike">
                <a:solidFill>
                  <a:srgbClr val="c00000"/>
                </a:solidFill>
                <a:latin typeface="Arial Narrow"/>
              </a:rPr>
              <a:t>– звёзды померкнут для них;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Arial Narrow"/>
              </a:rPr>
              <a:t>Не ругайте! Любите их, и они ответят всем взаимностью</a:t>
            </a: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20" descr="Kartinochki (2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91" name="Picture 2" descr="http://im0-tub.yandex.ru/i?id=13747892-68-72"/>
          <p:cNvPicPr/>
          <p:nvPr/>
        </p:nvPicPr>
        <p:blipFill>
          <a:blip r:embed="rId2"/>
          <a:stretch/>
        </p:blipFill>
        <p:spPr>
          <a:xfrm>
            <a:off x="785880" y="928800"/>
            <a:ext cx="1882800" cy="25002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4" descr="http://im5-tub.yandex.ru/i?id=364203092-12-72"/>
          <p:cNvPicPr/>
          <p:nvPr/>
        </p:nvPicPr>
        <p:blipFill>
          <a:blip r:embed="rId3"/>
          <a:stretch/>
        </p:blipFill>
        <p:spPr>
          <a:xfrm>
            <a:off x="3357720" y="4357800"/>
            <a:ext cx="285732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000000"/>
                </a:solidFill>
                <a:latin typeface="Calibri"/>
              </a:rPr>
              <a:t>Особенности </a:t>
            </a:r>
            <a:br>
              <a:rPr sz="3800"/>
            </a:br>
            <a:r>
              <a:rPr b="1" i="1" lang="ru-RU" sz="3800" spc="-1" strike="noStrike">
                <a:solidFill>
                  <a:srgbClr val="000000"/>
                </a:solidFill>
                <a:latin typeface="Calibri"/>
              </a:rPr>
              <a:t>современного первоклассника :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914400" y="1413000"/>
            <a:ext cx="73296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 детей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большие различия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паспортного и физиологического развития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 детей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обширная информированность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практически по любым вопросам. Но она совершенно бессистемн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 современных детей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ильнее ощущение своего «Я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» и более свободное независимое поведение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личие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недоверчивост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 к словам и поступкам взрослых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 современных детей более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лабое здоровь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ни в большинстве своём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ерестали играть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в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16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оллективные «дворовые» игры. Их заменили телевизоры, компьютеры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MCj03981490000[1]"/>
          <p:cNvPicPr/>
          <p:nvPr/>
        </p:nvPicPr>
        <p:blipFill>
          <a:blip r:embed="rId1"/>
          <a:stretch/>
        </p:blipFill>
        <p:spPr>
          <a:xfrm>
            <a:off x="7236000" y="4581360"/>
            <a:ext cx="1538280" cy="15177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0" descr="Kartinochki (2)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24000" y="277560"/>
            <a:ext cx="836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1" lang="ru-RU" sz="3800" spc="-1" strike="noStrike">
                <a:solidFill>
                  <a:srgbClr val="000000"/>
                </a:solidFill>
                <a:latin typeface="Calibri"/>
              </a:rPr>
              <a:t>Трудности,</a:t>
            </a:r>
            <a:br>
              <a:rPr sz="3800"/>
            </a:br>
            <a:r>
              <a:rPr b="1" lang="ru-RU" sz="3800" spc="-1" strike="noStrike">
                <a:solidFill>
                  <a:srgbClr val="000000"/>
                </a:solidFill>
                <a:latin typeface="Calibri"/>
              </a:rPr>
              <a:t> которые могут возникнуть у первоклассников.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8229600" cy="44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 первые дни, недели посещения школы снижается сопротивляемость организма, могут нарушаться сон, аппетит, повышается температур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ервоклассники отвлекаются быстро утомляются, возбудимы, эмоциональны, впечатлительны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оведение нередко отличается неорганизованностью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несобранностью, недисциплинированностью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Для детей характерна высокая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утомляемост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0" descr="Kartinochki (2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4" name="Picture 5" descr="MCj03981530000[1]"/>
          <p:cNvPicPr/>
          <p:nvPr/>
        </p:nvPicPr>
        <p:blipFill>
          <a:blip r:embed="rId2"/>
          <a:stretch/>
        </p:blipFill>
        <p:spPr>
          <a:xfrm>
            <a:off x="5796000" y="4149720"/>
            <a:ext cx="211608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4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7030a0"/>
                </a:solidFill>
                <a:latin typeface="Calibri"/>
              </a:rPr>
              <a:t>Психологическая готовность ребёнка к школе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2500200"/>
            <a:ext cx="8229600" cy="36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Личностная готовность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Волевая готовност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Интеллектуальная готовност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0" descr="Kartinochki (2)"/>
          <p:cNvPicPr/>
          <p:nvPr/>
        </p:nvPicPr>
        <p:blipFill>
          <a:blip r:embed="rId1"/>
          <a:stretch/>
        </p:blipFill>
        <p:spPr>
          <a:xfrm>
            <a:off x="-6480" y="3240"/>
            <a:ext cx="9144000" cy="6858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8" name="Picture 5" descr="AG00315_"/>
          <p:cNvPicPr/>
          <p:nvPr/>
        </p:nvPicPr>
        <p:blipFill>
          <a:blip r:embed="rId2"/>
          <a:stretch/>
        </p:blipFill>
        <p:spPr>
          <a:xfrm>
            <a:off x="6143760" y="4000680"/>
            <a:ext cx="1985760" cy="22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Arial"/>
                <a:ea typeface="Arial"/>
              </a:rPr>
              <a:t>Личностная готовност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35712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  <a:ea typeface="Arial"/>
              </a:rPr>
              <a:t>Умение ребёнка войти в детское общество, действовать совместно с другими, уступать, подчиняться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  <a:ea typeface="Arial"/>
              </a:rPr>
              <a:t>( разумная необходимость), чувство товарищества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1" lang="ru-RU" sz="2800" spc="-1" strike="noStrike">
                <a:solidFill>
                  <a:srgbClr val="002060"/>
                </a:solidFill>
                <a:latin typeface="Arial Narrow"/>
              </a:rPr>
              <a:t>Такие качества обеспечат ему безболезненную адаптацию к новым социальным условия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4" descr="KIDS01"/>
          <p:cNvPicPr/>
          <p:nvPr/>
        </p:nvPicPr>
        <p:blipFill>
          <a:blip r:embed="rId1"/>
          <a:stretch/>
        </p:blipFill>
        <p:spPr>
          <a:xfrm>
            <a:off x="5715000" y="4572000"/>
            <a:ext cx="2971800" cy="20574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0" descr="Kartinochki (2)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0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Arial"/>
                <a:ea typeface="Arial"/>
              </a:rPr>
              <a:t>Волевая готовност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  <a:ea typeface="Arial"/>
              </a:rPr>
              <a:t>Это условие характеризуется отношением ребёнка к трудностям и способам их преодоления. Здесь главное значение имеет воспитание мотивов достижения целей, </a:t>
            </a:r>
            <a:r>
              <a:rPr b="1" lang="ru-RU" sz="28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умение принять трудности и стремление разрешить их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  <a:ea typeface="Arial"/>
              </a:rPr>
              <a:t>.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6" descr="AG00316_"/>
          <p:cNvPicPr/>
          <p:nvPr/>
        </p:nvPicPr>
        <p:blipFill>
          <a:blip r:embed="rId1"/>
          <a:stretch/>
        </p:blipFill>
        <p:spPr>
          <a:xfrm>
            <a:off x="5857920" y="3357720"/>
            <a:ext cx="1733400" cy="27828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0" descr="Kartinochki (2)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Calibri"/>
              </a:rPr>
              <a:t>Интеллектуальная готовност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  <a:ea typeface="Arial"/>
              </a:rPr>
              <a:t>Это 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  <a:ea typeface="Arial"/>
              </a:rPr>
              <a:t>наличие определённого кругозора, запаса конкретных знаний о живой и неживой природе, общественной жизни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  <a:ea typeface="Arial"/>
              </a:rPr>
              <a:t>. В этом возрасте логическая форма мышления доступна, но не характерна. Важная роль отведена наглядно – действенному и наглядно – образному мышлению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8" descr="j0280386"/>
          <p:cNvPicPr/>
          <p:nvPr/>
        </p:nvPicPr>
        <p:blipFill>
          <a:blip r:embed="rId1"/>
          <a:stretch/>
        </p:blipFill>
        <p:spPr>
          <a:xfrm>
            <a:off x="6429240" y="4000680"/>
            <a:ext cx="2144880" cy="26064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0" descr="Kartinochki (2)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0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4360" y="620640"/>
            <a:ext cx="8013600" cy="165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Физиологические условия адаптации первоклассников к школе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4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организовать перерывы в процессе выполнения уроков, наполняя их двигательной активностью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во время выполнения домашних заданий обращать внимание на  правильную посадку во избежание искривления позвоночника, на освещение рабочего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места для предупреждения близорукости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тренировать мелкие мышцы кистей рук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обязательно вводить в рацион витаминные препараты, овощи, фрукты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оздавать условия для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занятия спортом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4" descr="PPLGP132"/>
          <p:cNvPicPr/>
          <p:nvPr/>
        </p:nvPicPr>
        <p:blipFill>
          <a:blip r:embed="rId1"/>
          <a:stretch/>
        </p:blipFill>
        <p:spPr>
          <a:xfrm>
            <a:off x="3780000" y="5300640"/>
            <a:ext cx="4028760" cy="10080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0" descr="Kartinochki (2)"/>
          <p:cNvPicPr/>
          <p:nvPr/>
        </p:nvPicPr>
        <p:blipFill>
          <a:blip r:embed="rId2"/>
          <a:stretch/>
        </p:blipFill>
        <p:spPr>
          <a:xfrm>
            <a:off x="-108000" y="0"/>
            <a:ext cx="9252000" cy="6858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1"/>
          <p:cNvSpPr/>
          <p:nvPr/>
        </p:nvSpPr>
        <p:spPr>
          <a:xfrm>
            <a:off x="324000" y="526680"/>
            <a:ext cx="8640720" cy="499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7f7f7f"/>
                </a:solidFill>
                <a:latin typeface="Arial"/>
                <a:ea typeface="Times New Roman"/>
              </a:rPr>
              <a:t> </a:t>
            </a:r>
            <a:r>
              <a:rPr b="1" lang="ru-RU" sz="2800" spc="-1" strike="noStrike">
                <a:solidFill>
                  <a:srgbClr val="7f7f7f"/>
                </a:solidFill>
                <a:latin typeface="Arial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7f7f7f"/>
                </a:solidFill>
                <a:latin typeface="Arial"/>
                <a:ea typeface="Times New Roman"/>
              </a:rPr>
              <a:t>Перед Вами формул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f7f7f"/>
                </a:solidFill>
                <a:latin typeface="Arial"/>
                <a:ea typeface="Times New Roman"/>
              </a:rPr>
              <a:t>где зашифрованы законы воспита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f7f7f"/>
                </a:solidFill>
                <a:latin typeface="Arial"/>
                <a:ea typeface="Times New Roman"/>
              </a:rPr>
              <a:t>ребенка в семь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f7f7f"/>
                </a:solidFill>
                <a:latin typeface="Arial"/>
                <a:ea typeface="Times New Roman"/>
              </a:rPr>
              <a:t>Расшифруйте и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376092"/>
                </a:solidFill>
                <a:uFillTx/>
                <a:latin typeface="Arial"/>
                <a:ea typeface="Times New Roman"/>
              </a:rPr>
              <a:t>Закон семь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=______+______+_______+________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     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ед.тр.   зн. похв.   тр.уч.    разд.бла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20" descr="Kartinochki (2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5T07:11:52Z</dcterms:created>
  <dc:creator>bateskav191</dc:creator>
  <dc:description/>
  <dc:language>en-US</dc:language>
  <cp:lastModifiedBy>RePack by Diakov</cp:lastModifiedBy>
  <dcterms:modified xsi:type="dcterms:W3CDTF">2018-07-11T10:23:12Z</dcterms:modified>
  <cp:revision>25</cp:revision>
  <dc:subject/>
  <dc:title>Слайд 1</dc:title>
</cp:coreProperties>
</file>