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738A-464A-452B-8D60-58C37238BC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CEC6-8D9A-44C9-9E54-4D29F3F1DB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44D7-13BF-4B44-83BC-A26699DF5D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C736-19B6-4C4D-816B-1258C22F75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24E6-032D-4AE2-AA1F-B1CA4C816B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ED0A-E593-4749-9296-7E62821FB5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2A60-D790-48F7-9248-BCFF125ADD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D0DC-C018-4410-9578-2CB0397303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D7F7-76BF-47AB-8AA7-BF49C7E38B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D27B-0A1F-4CDD-932D-59F677F9EE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F0FE-0A84-4B34-8265-4582518D66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06C8-BC2E-45A5-9274-86E37E6A1A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3EF5-8A38-4F7E-80E1-148928A843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D4BB-C6BE-4EC9-9826-51BA8235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4D80-A661-4854-9909-747720C0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53D-9453-4846-BF97-1CF9B77C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FCB-853B-4B6D-ADD1-970FE01E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F589-76DF-43B3-8707-1956873B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5125-C982-4D3D-8420-D1E6E8F9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7C83-081C-4281-8878-90378C16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EA9E-CAE6-4D99-94C3-F02702DF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4D91-A51F-4077-9B88-CB4DE240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53D3-9FE6-4AF5-8E9D-96202105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85C3-2131-4CE9-A6EC-EC20F028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98D3-D148-4724-88C4-5D849880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6E4B-246A-4EAD-881A-CE683A0C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F1B2-45D0-4E64-A422-214FD533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26C9-B44A-4BAE-8ABB-FE0F1003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D5CE-6149-4383-B9D6-DA267D48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B4F2-FAFA-4AD1-8633-950ED4BB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2A1-A356-4636-9196-EAA0637E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3C99-E4B4-43CB-9A57-5CAE2977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49D2-1088-45B6-9363-70C9C199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E048-4129-404B-806C-82E4CBAB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5126-4F93-4A8D-8EC0-2A487049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ED9-AB95-462C-9696-F26F0FC3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D02-91AC-4018-9B3D-C8D136DE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D284-AB19-477E-AFA7-3D4E8D2345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680B-35D9-444F-9BFB-539156D7162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843680" cy="2889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ультимедийный урок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нглийского языка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 теме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Спорт и здоровый образ жизни»</a:t>
            </a:r>
            <a:br>
              <a:rPr sz="36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в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класс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140000" y="4869000"/>
            <a:ext cx="467964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ител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лашник Татьяна Леонид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95280" y="19044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Муниципальное общеобразовательное бюджетное учреждение Лицей №59 г. Со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468360" y="623736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очи 20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A2E7-9B08-4AEA-91BE-0A7F03B288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95280" y="119700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t 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604080" y="90360"/>
            <a:ext cx="78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ll me please what you can do with the b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322920" y="1916280"/>
            <a:ext cx="282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ennis, cricke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adminton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6" descr="245815_1_52570"/>
          <p:cNvPicPr/>
          <p:nvPr/>
        </p:nvPicPr>
        <p:blipFill>
          <a:blip r:embed="rId1"/>
          <a:srcRect l="0" t="0" r="0" b="18618"/>
          <a:stretch/>
        </p:blipFill>
        <p:spPr>
          <a:xfrm>
            <a:off x="38160" y="3213000"/>
            <a:ext cx="3003480" cy="3672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ULES-00835_1"/>
          <p:cNvPicPr/>
          <p:nvPr/>
        </p:nvPicPr>
        <p:blipFill>
          <a:blip r:embed="rId2"/>
          <a:srcRect l="5047" t="0" r="10677" b="4891"/>
          <a:stretch/>
        </p:blipFill>
        <p:spPr>
          <a:xfrm>
            <a:off x="3094200" y="3178080"/>
            <a:ext cx="6011640" cy="36799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badminton"/>
          <p:cNvPicPr/>
          <p:nvPr/>
        </p:nvPicPr>
        <p:blipFill>
          <a:blip r:embed="rId3"/>
          <a:stretch/>
        </p:blipFill>
        <p:spPr>
          <a:xfrm>
            <a:off x="4699080" y="692280"/>
            <a:ext cx="33433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A019-1015-40F1-8787-888B00D464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394920" y="1197000"/>
            <a:ext cx="163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tch i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603720" y="90360"/>
            <a:ext cx="79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ll me please what you can do with the ball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393840" y="2852640"/>
            <a:ext cx="20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water pol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5" descr="kz17t20kd21"/>
          <p:cNvPicPr/>
          <p:nvPr/>
        </p:nvPicPr>
        <p:blipFill>
          <a:blip r:embed="rId1"/>
          <a:stretch/>
        </p:blipFill>
        <p:spPr>
          <a:xfrm>
            <a:off x="2700360" y="117000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004C-33D4-4557-AE82-92B897A84B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395280" y="1197000"/>
            <a:ext cx="14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ick i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03720" y="90360"/>
            <a:ext cx="79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ll me please what you can do with the ball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394560" y="2781360"/>
            <a:ext cx="16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ootball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9" descr="8142_148036877044896d6c0ead4"/>
          <p:cNvPicPr/>
          <p:nvPr/>
        </p:nvPicPr>
        <p:blipFill>
          <a:blip r:embed="rId1"/>
          <a:stretch/>
        </p:blipFill>
        <p:spPr>
          <a:xfrm>
            <a:off x="4788000" y="1197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8145_122686629944896e6fc453b"/>
          <p:cNvPicPr/>
          <p:nvPr/>
        </p:nvPicPr>
        <p:blipFill>
          <a:blip r:embed="rId2"/>
          <a:stretch/>
        </p:blipFill>
        <p:spPr>
          <a:xfrm>
            <a:off x="826920" y="3789360"/>
            <a:ext cx="2592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3A7A-F1C5-4D05-931B-A719EFF9500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595440" y="92376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.   basketbal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520920" y="1639800"/>
            <a:ext cx="22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.   boxing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521280" y="23302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.   tennis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530640" y="3049560"/>
            <a:ext cx="29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.   swimming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531360" y="3782880"/>
            <a:ext cx="23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.   football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531360" y="45910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.   ice skating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531720" y="5383080"/>
            <a:ext cx="25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.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hletics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6732720" y="83664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i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6734520" y="15606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ol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6734880" y="234000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dium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6734520" y="2987640"/>
            <a:ext cx="12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urt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6805800" y="4546440"/>
            <a:ext cx="103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ing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6767640" y="527544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ym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6663600" y="363708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eld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315000" y="181080"/>
            <a:ext cx="786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ere can you go in  for this kind of sport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541080" y="608976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0"/>
          <p:cNvSpPr/>
          <p:nvPr/>
        </p:nvSpPr>
        <p:spPr>
          <a:xfrm>
            <a:off x="6719760" y="602136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67345E-006 L -0.36371 -0.63043 E">
                                      <p:cBhvr>
                                        <p:cTn id="402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61 0.04209 L -0.44236 -0.41929 E">
                                      <p:cBhvr>
                                        <p:cTn id="406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89 0.02821 L -0.44566 -0.09783 E">
                                      <p:cBhvr>
                                        <p:cTn id="410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0629E-006 L -0.33872 0.2204 E">
                                      <p:cBhvr>
                                        <p:cTn id="414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73 0.02799 L -0.41146 0.01735 E">
                                      <p:cBhvr>
                                        <p:cTn id="418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8.23312E-007 L -0.36215 0.55111 E">
                                      <p:cBhvr>
                                        <p:cTn id="422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25 0.03839 L -0.41059 0.4475 E">
                                      <p:cBhvr>
                                        <p:cTn id="426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9514 0.00578 L -0.4573 0.01619 E">
                                      <p:cBhvr>
                                        <p:cTn id="430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9648-F320-48A3-9040-D6EBC67E57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364680" y="10731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tenni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30120" y="178920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box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329760" y="247968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swimm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339120" y="319896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ski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339480" y="3932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 skat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339480" y="474012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 row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339480" y="553248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 hockey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5140440" y="10270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done in water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5130720" y="17384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boat is needed for it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5140440" y="2400480"/>
            <a:ext cx="25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a team game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5126040" y="316224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ce is needed for it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3"/>
          <p:cNvSpPr/>
          <p:nvPr/>
        </p:nvSpPr>
        <p:spPr>
          <a:xfrm>
            <a:off x="5099040" y="46832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n only be done by two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5124600" y="5500800"/>
            <a:ext cx="36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n be played on the lawn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5"/>
          <p:cNvSpPr/>
          <p:nvPr/>
        </p:nvSpPr>
        <p:spPr>
          <a:xfrm>
            <a:off x="5105520" y="38768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now is necessary for it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325440" y="204840"/>
            <a:ext cx="630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Match the sport with the description.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3 -0.00994 L -0.38021 -0.64986 E">
                                      <p:cBhvr>
                                        <p:cTn id="481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08 0.0044 L -0.36702 -0.42576 E">
                                      <p:cBhvr>
                                        <p:cTn id="485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46994E-006 L -0.32865 0.21161 E">
                                      <p:cBhvr>
                                        <p:cTn id="489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559 0.00647 L -0.37725 -0.09852 E">
                                      <p:cBhvr>
                                        <p:cTn id="493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101 0.01595 L -0.36007 0.11054 E">
                                      <p:cBhvr>
                                        <p:cTn id="497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18 0.01365 L -0.36284 0.43316 E">
                                      <p:cBhvr>
                                        <p:cTn id="501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847 0.01156 L -0.33333 0.46253 E">
                                      <p:cBhvr>
                                        <p:cTn id="505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6F9E-C74C-4AE4-94DB-DDC16022CA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79280" y="765000"/>
          <a:ext cx="8713800" cy="5212080"/>
        </p:xfrm>
        <a:graphic>
          <a:graphicData uri="http://schemas.openxmlformats.org/drawingml/2006/table">
            <a:tbl>
              <a:tblPr/>
              <a:tblGrid>
                <a:gridCol w="2737080"/>
                <a:gridCol w="3073320"/>
                <a:gridCol w="2903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d of spo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je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d of spo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es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s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se ri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n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n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ick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lif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x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ngero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tb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n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joy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s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n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ffic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tenn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gure ska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ti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d surf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ogg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ymnastic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leyb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ketb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52" name="Text Box 227"/>
          <p:cNvSpPr/>
          <p:nvPr/>
        </p:nvSpPr>
        <p:spPr>
          <a:xfrm>
            <a:off x="252360" y="6093000"/>
            <a:ext cx="75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ample: I think darts is less exotic than raft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318"/>
          <p:cNvSpPr/>
          <p:nvPr/>
        </p:nvSpPr>
        <p:spPr>
          <a:xfrm>
            <a:off x="470520" y="189000"/>
            <a:ext cx="66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ke up sentences, using more/less…than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7372-914E-4B80-BD9F-C888D3AA83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WordArt 4"/>
          <p:cNvSpPr txBox="1"/>
          <p:nvPr/>
        </p:nvSpPr>
        <p:spPr>
          <a:xfrm>
            <a:off x="971640" y="100080"/>
            <a:ext cx="763272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фтальмотренажер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56" name="Group 17"/>
          <p:cNvGrpSpPr/>
          <p:nvPr/>
        </p:nvGrpSpPr>
        <p:grpSpPr>
          <a:xfrm>
            <a:off x="1433520" y="1247400"/>
            <a:ext cx="6551640" cy="3476520"/>
            <a:chOff x="1433520" y="1247400"/>
            <a:chExt cx="6551640" cy="3476520"/>
          </a:xfrm>
        </p:grpSpPr>
        <p:grpSp>
          <p:nvGrpSpPr>
            <p:cNvPr id="357" name="Group 16"/>
            <p:cNvGrpSpPr/>
            <p:nvPr/>
          </p:nvGrpSpPr>
          <p:grpSpPr>
            <a:xfrm>
              <a:off x="1826640" y="1247400"/>
              <a:ext cx="5517000" cy="3476520"/>
              <a:chOff x="1826640" y="1247400"/>
              <a:chExt cx="5517000" cy="3476520"/>
            </a:xfrm>
          </p:grpSpPr>
          <p:grpSp>
            <p:nvGrpSpPr>
              <p:cNvPr id="358" name="Group 14"/>
              <p:cNvGrpSpPr/>
              <p:nvPr/>
            </p:nvGrpSpPr>
            <p:grpSpPr>
              <a:xfrm>
                <a:off x="1826640" y="1247400"/>
                <a:ext cx="5517000" cy="3476520"/>
                <a:chOff x="1826640" y="1247400"/>
                <a:chExt cx="5517000" cy="3476520"/>
              </a:xfrm>
            </p:grpSpPr>
            <p:sp>
              <p:nvSpPr>
                <p:cNvPr id="359" name="Oval 5"/>
                <p:cNvSpPr/>
                <p:nvPr/>
              </p:nvSpPr>
              <p:spPr>
                <a:xfrm>
                  <a:off x="1826640" y="1721520"/>
                  <a:ext cx="5517000" cy="2380680"/>
                </a:xfrm>
                <a:prstGeom prst="ellipse">
                  <a:avLst/>
                </a:prstGeom>
                <a:noFill/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Oval 6"/>
                <p:cNvSpPr/>
                <p:nvPr/>
              </p:nvSpPr>
              <p:spPr>
                <a:xfrm>
                  <a:off x="2396880" y="2205360"/>
                  <a:ext cx="4344840" cy="1441440"/>
                </a:xfrm>
                <a:prstGeom prst="ellipse">
                  <a:avLst/>
                </a:prstGeom>
                <a:noFill/>
                <a:ln w="7632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7"/>
                <p:cNvSpPr/>
                <p:nvPr/>
              </p:nvSpPr>
              <p:spPr>
                <a:xfrm flipV="1">
                  <a:off x="4575600" y="1247400"/>
                  <a:ext cx="0" cy="3476520"/>
                </a:xfrm>
                <a:prstGeom prst="line">
                  <a:avLst/>
                </a:prstGeom>
                <a:ln w="7632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Group 13"/>
              <p:cNvGrpSpPr/>
              <p:nvPr/>
            </p:nvGrpSpPr>
            <p:grpSpPr>
              <a:xfrm>
                <a:off x="3104640" y="2429280"/>
                <a:ext cx="2941560" cy="987840"/>
                <a:chOff x="3104640" y="2429280"/>
                <a:chExt cx="2941560" cy="987840"/>
              </a:xfrm>
            </p:grpSpPr>
            <p:sp>
              <p:nvSpPr>
                <p:cNvPr id="363" name="Line 9"/>
                <p:cNvSpPr/>
                <p:nvPr/>
              </p:nvSpPr>
              <p:spPr>
                <a:xfrm>
                  <a:off x="3104640" y="2429640"/>
                  <a:ext cx="2873880" cy="987480"/>
                </a:xfrm>
                <a:prstGeom prst="line">
                  <a:avLst/>
                </a:prstGeom>
                <a:ln w="76320">
                  <a:solidFill>
                    <a:srgbClr val="66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0"/>
                <p:cNvSpPr/>
                <p:nvPr/>
              </p:nvSpPr>
              <p:spPr>
                <a:xfrm flipV="1">
                  <a:off x="3104640" y="2429280"/>
                  <a:ext cx="2941560" cy="987480"/>
                </a:xfrm>
                <a:prstGeom prst="line">
                  <a:avLst/>
                </a:prstGeom>
                <a:ln w="76320">
                  <a:solidFill>
                    <a:srgbClr val="66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1"/>
                <p:cNvSpPr/>
                <p:nvPr/>
              </p:nvSpPr>
              <p:spPr>
                <a:xfrm>
                  <a:off x="3104640" y="2429640"/>
                  <a:ext cx="0" cy="987480"/>
                </a:xfrm>
                <a:prstGeom prst="line">
                  <a:avLst/>
                </a:prstGeom>
                <a:ln w="76320">
                  <a:solidFill>
                    <a:srgbClr val="66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2"/>
                <p:cNvSpPr/>
                <p:nvPr/>
              </p:nvSpPr>
              <p:spPr>
                <a:xfrm>
                  <a:off x="6046200" y="2429640"/>
                  <a:ext cx="0" cy="987480"/>
                </a:xfrm>
                <a:prstGeom prst="line">
                  <a:avLst/>
                </a:prstGeom>
                <a:ln w="76320">
                  <a:solidFill>
                    <a:srgbClr val="66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" name="Line 8"/>
            <p:cNvSpPr/>
            <p:nvPr/>
          </p:nvSpPr>
          <p:spPr>
            <a:xfrm>
              <a:off x="1433520" y="2943360"/>
              <a:ext cx="6551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Text Box 15"/>
          <p:cNvSpPr/>
          <p:nvPr/>
        </p:nvSpPr>
        <p:spPr>
          <a:xfrm>
            <a:off x="329400" y="4799160"/>
            <a:ext cx="715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ждое упражнение выполняется 10-15 раз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 осям: влево - вправо, вверх - вни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 внешнему кругу по часовой стрел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 внутреннему кругу против часовой стрел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 восьмер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1DDC-4BA1-4059-B52E-8F3FAE16129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нтроль домашнего задан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15000" y="1268280"/>
            <a:ext cx="87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ll us about your favorite sport. Say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ther it is an indoor or an outdoor spor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it is a team spor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t appear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it is popular in Russi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you go in for this kind of spor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it helps you to keep f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B2CD-48F1-442E-8E6B-3BADA6F1BB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4" descr="Resize of 9-vnytr 2"/>
          <p:cNvPicPr/>
          <p:nvPr/>
        </p:nvPicPr>
        <p:blipFill>
          <a:blip r:embed="rId1"/>
          <a:stretch/>
        </p:blipFill>
        <p:spPr>
          <a:xfrm>
            <a:off x="4932360" y="1341360"/>
            <a:ext cx="4067280" cy="30225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тение текста «История Олимпийских игр» и ответы на вопрос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179280" y="126828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id the Olympic Gam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g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often did the Games tak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ce in ancient tim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often are they held no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as the only athletic ev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was held in ancient Olymp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ld women take part in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cient Olymp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was the first winner of the Olympic Gam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re the Winter Olympic Games held no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are the winners of the Olympic Games honored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A738-73F0-4518-9F7D-C4532086AA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Домашнее задани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324000" y="2154240"/>
            <a:ext cx="849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t home you are to prove the proverb: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sound mind is in a sound body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 Tell the class why it is useful to go in for sport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060A-FE37-40D1-8B2F-34E7365EBD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12680" y="68400"/>
            <a:ext cx="898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Цель урока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контроль навыков устной речи по теме: «Спорт и  здоровый образ жизни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12680" y="658800"/>
            <a:ext cx="9074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дачи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Развивать и совершенствовать навыки  аудирования   по теме: «Спорт и здоровый образ жизни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Активизировать в речи учащихся употребление степеней сравнения прилагательны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Тренировать учащихся в чтении текста с целью поиска и извлечения необходимой информ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12680" y="2890800"/>
            <a:ext cx="89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разовательная задача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расширить лингвистический кругозор учащих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23840" y="3311640"/>
            <a:ext cx="902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азвивающая задача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развивать у учащихся  умение самостоятельной работы, творческого мышления, готовности к коммуник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112680" y="4016520"/>
            <a:ext cx="898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оспитательная задача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оздание  условий для формирования у учащихся понятия здорового образа жизни, поддержание интереса к изучению английского язы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93600" y="6229440"/>
            <a:ext cx="89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орудование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компьютер (программа PowerPoint); диски с презентац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112680" y="4951440"/>
            <a:ext cx="898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Методы обучения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ммуникативный метод с использованием индивидуальной, парной и групповой работы учащихся; личностно-ориентированный подход; проектный метод; компьютерные технологии, здоровье сберегающая технолог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adies and gentlemen,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e are glad to see you on our plane!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A0DC-FD9C-4DCA-A7E0-E7C1F979E69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Объект 3" descr=""/>
          <p:cNvPicPr/>
          <p:nvPr/>
        </p:nvPicPr>
        <p:blipFill>
          <a:blip r:embed="rId1"/>
          <a:stretch/>
        </p:blipFill>
        <p:spPr>
          <a:xfrm>
            <a:off x="0" y="3571920"/>
            <a:ext cx="4811760" cy="3000240"/>
          </a:xfrm>
          <a:prstGeom prst="rect">
            <a:avLst/>
          </a:prstGeom>
          <a:ln w="0">
            <a:noFill/>
          </a:ln>
        </p:spPr>
      </p:pic>
      <p:pic>
        <p:nvPicPr>
          <p:cNvPr id="382" name="Содержимое 11" descr=""/>
          <p:cNvPicPr/>
          <p:nvPr/>
        </p:nvPicPr>
        <p:blipFill>
          <a:blip r:embed="rId2"/>
          <a:stretch/>
        </p:blipFill>
        <p:spPr>
          <a:xfrm>
            <a:off x="4429080" y="3500280"/>
            <a:ext cx="4714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38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9602-7C1B-4E45-9C87-5A6FBF477E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2" descr="http://www.hqwallpapers.ru/wallpapers/flags/flag-germanii.jpg"/>
          <p:cNvPicPr/>
          <p:nvPr/>
        </p:nvPicPr>
        <p:blipFill>
          <a:blip r:embed="rId2"/>
          <a:stretch/>
        </p:blipFill>
        <p:spPr>
          <a:xfrm>
            <a:off x="1146240" y="1932120"/>
            <a:ext cx="6851520" cy="77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38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68CD-90FE-4DB2-9411-B12F9DB5A2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Picture 2" descr="http://www.varitty.com/postpic/2015/10/spain-flag_35622.jpg"/>
          <p:cNvPicPr/>
          <p:nvPr/>
        </p:nvPicPr>
        <p:blipFill>
          <a:blip r:embed="rId2"/>
          <a:stretch/>
        </p:blipFill>
        <p:spPr>
          <a:xfrm>
            <a:off x="1195560" y="1620720"/>
            <a:ext cx="6752880" cy="898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he Russian Tea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E4A1-8D84-4613-9A73-124026BE7E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2" descr="C:\Users\tatyana\Desktop\картинки к презентации\флаг рос.jpg"/>
          <p:cNvPicPr/>
          <p:nvPr/>
        </p:nvPicPr>
        <p:blipFill>
          <a:blip r:embed="rId1"/>
          <a:stretch/>
        </p:blipFill>
        <p:spPr>
          <a:xfrm>
            <a:off x="1193760" y="1600200"/>
            <a:ext cx="6756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661D-9123-42B6-9546-5095A50B9F6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611280" y="26028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English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proverb: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«A sound mind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is in a sound body»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11280" y="350028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«В здоровом теле – здоровый дух»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D1F1-49DF-44BF-AD0D-6468D726ED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4" descr="1183279211_clelac_070113_02"/>
          <p:cNvPicPr/>
          <p:nvPr/>
        </p:nvPicPr>
        <p:blipFill>
          <a:blip r:embed="rId1"/>
          <a:stretch/>
        </p:blipFill>
        <p:spPr>
          <a:xfrm>
            <a:off x="0" y="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21235919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3452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1183279683_2869082_nba_wallpapers_washington_wizards_gilbert_arenas"/>
          <p:cNvPicPr/>
          <p:nvPr/>
        </p:nvPicPr>
        <p:blipFill>
          <a:blip r:embed="rId3"/>
          <a:stretch/>
        </p:blipFill>
        <p:spPr>
          <a:xfrm>
            <a:off x="4500720" y="3429000"/>
            <a:ext cx="4643280" cy="3478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1183279683_hpg0405_050424_wade3_1"/>
          <p:cNvPicPr/>
          <p:nvPr/>
        </p:nvPicPr>
        <p:blipFill>
          <a:blip r:embed="rId4"/>
          <a:stretch/>
        </p:blipFill>
        <p:spPr>
          <a:xfrm>
            <a:off x="0" y="3284640"/>
            <a:ext cx="45007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3883-DA8E-4218-B9F7-318481A242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023840" y="85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250200" y="79848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. Basketball as a game appea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4038120" y="6094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) In the Middle A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4033800" y="9637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) In ancient Gree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023720" y="1285920"/>
            <a:ext cx="32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) At the end of the 19th centu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286560" y="1760400"/>
            <a:ext cx="24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. It was introduced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4066560" y="199692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 college coach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3724560" y="2332080"/>
            <a:ext cx="27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llege stud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4038480" y="166680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 famous sportsman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5"/>
          <p:cNvSpPr/>
          <p:nvPr/>
        </p:nvSpPr>
        <p:spPr>
          <a:xfrm>
            <a:off x="322560" y="2720880"/>
            <a:ext cx="14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e wan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6"/>
          <p:cNvSpPr/>
          <p:nvPr/>
        </p:nvSpPr>
        <p:spPr>
          <a:xfrm>
            <a:off x="2062080" y="2674800"/>
            <a:ext cx="66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train his students between football and baseball seas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2077200" y="3052800"/>
            <a:ext cx="47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train his students in kicking the ba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2084760" y="3408480"/>
            <a:ext cx="46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train his students in hitting the ba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327240" y="3809880"/>
            <a:ext cx="14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ey used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2067480" y="3822840"/>
            <a:ext cx="21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 footba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2077560" y="4165560"/>
            <a:ext cx="23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ugby bal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1280" y="452772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asketball balls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329400" y="4878360"/>
            <a:ext cx="43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. At first basketball was a game played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4"/>
          <p:cNvSpPr/>
          <p:nvPr/>
        </p:nvSpPr>
        <p:spPr>
          <a:xfrm>
            <a:off x="4586760" y="4830840"/>
            <a:ext cx="367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ams consisting of 9 m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5"/>
          <p:cNvSpPr/>
          <p:nvPr/>
        </p:nvSpPr>
        <p:spPr>
          <a:xfrm>
            <a:off x="4591440" y="5183280"/>
            <a:ext cx="36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ams consisting of 5 m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6"/>
          <p:cNvSpPr/>
          <p:nvPr/>
        </p:nvSpPr>
        <p:spPr>
          <a:xfrm>
            <a:off x="4578840" y="5518080"/>
            <a:ext cx="36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ams consisting of 6 m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7"/>
          <p:cNvSpPr/>
          <p:nvPr/>
        </p:nvSpPr>
        <p:spPr>
          <a:xfrm>
            <a:off x="339120" y="5894280"/>
            <a:ext cx="32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6.  Basketball is an indoor 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8"/>
          <p:cNvSpPr/>
          <p:nvPr/>
        </p:nvSpPr>
        <p:spPr>
          <a:xfrm>
            <a:off x="3994920" y="58611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Europe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3986640" y="6178680"/>
            <a:ext cx="17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Australia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0"/>
          <p:cNvSpPr/>
          <p:nvPr/>
        </p:nvSpPr>
        <p:spPr>
          <a:xfrm>
            <a:off x="3981960" y="64911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Amer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2268000" y="11736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sten to the text and do the tes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900000" y="1341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 - - t - - I - - t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4533840" y="12906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ticipate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912960" y="1916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 - - y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4513320" y="1874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y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1622880" y="209520"/>
            <a:ext cx="67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ook and try to guess what these words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900000" y="2492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 - a - n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4546440" y="249228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in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878040" y="3149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 - - p - - e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4516560" y="3141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ete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933480" y="3860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a k - p - - t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4511520" y="38577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ke part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920880" y="528804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 - - c - - c -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4516560" y="45594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ump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7"/>
          <p:cNvSpPr/>
          <p:nvPr/>
        </p:nvSpPr>
        <p:spPr>
          <a:xfrm>
            <a:off x="941400" y="45687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u - p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470480" y="52149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5433-14E1-4EA3-B1B1-AD2A87EC24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6"/>
          <p:cNvSpPr/>
          <p:nvPr/>
        </p:nvSpPr>
        <p:spPr>
          <a:xfrm>
            <a:off x="395280" y="1197000"/>
            <a:ext cx="18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row i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47"/>
          <p:cNvSpPr/>
          <p:nvPr/>
        </p:nvSpPr>
        <p:spPr>
          <a:xfrm>
            <a:off x="604080" y="90360"/>
            <a:ext cx="78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ll me please what you can do with the b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48"/>
          <p:cNvSpPr/>
          <p:nvPr/>
        </p:nvSpPr>
        <p:spPr>
          <a:xfrm>
            <a:off x="483840" y="1989000"/>
            <a:ext cx="217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asketball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volleybal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53" descr="je13"/>
          <p:cNvPicPr/>
          <p:nvPr/>
        </p:nvPicPr>
        <p:blipFill>
          <a:blip r:embed="rId1"/>
          <a:stretch/>
        </p:blipFill>
        <p:spPr>
          <a:xfrm>
            <a:off x="0" y="3443400"/>
            <a:ext cx="4932360" cy="34146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0" descr="000dwzf8"/>
          <p:cNvPicPr/>
          <p:nvPr/>
        </p:nvPicPr>
        <p:blipFill>
          <a:blip r:embed="rId2"/>
          <a:srcRect l="0" t="6961" r="9750" b="0"/>
          <a:stretch/>
        </p:blipFill>
        <p:spPr>
          <a:xfrm>
            <a:off x="4176720" y="620640"/>
            <a:ext cx="49672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C864-9D2E-4D78-8250-1E137F800F1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94920" y="1197000"/>
            <a:ext cx="15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d i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603720" y="90360"/>
            <a:ext cx="79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ll me please what you can do with the ball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94560" y="2781360"/>
            <a:ext cx="16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ootball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8" descr="7"/>
          <p:cNvPicPr/>
          <p:nvPr/>
        </p:nvPicPr>
        <p:blipFill>
          <a:blip r:embed="rId1"/>
          <a:stretch/>
        </p:blipFill>
        <p:spPr>
          <a:xfrm>
            <a:off x="3780000" y="981000"/>
            <a:ext cx="4676760" cy="55245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8146_42675693844896eb9cbeaf"/>
          <p:cNvPicPr/>
          <p:nvPr/>
        </p:nvPicPr>
        <p:blipFill>
          <a:blip r:embed="rId2"/>
          <a:stretch/>
        </p:blipFill>
        <p:spPr>
          <a:xfrm>
            <a:off x="250920" y="4292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1D7B-51B1-4B11-9741-F74ED8C6EB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395280" y="1197000"/>
            <a:ext cx="14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ss i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603720" y="90360"/>
            <a:ext cx="79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ll me please what you can do with the ball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320760" y="2205000"/>
            <a:ext cx="314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ootball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hockey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6" descr="jexc"/>
          <p:cNvPicPr/>
          <p:nvPr/>
        </p:nvPicPr>
        <p:blipFill>
          <a:blip r:embed="rId1"/>
          <a:srcRect l="0" t="9363" r="0" b="0"/>
          <a:stretch/>
        </p:blipFill>
        <p:spPr>
          <a:xfrm>
            <a:off x="5076720" y="692280"/>
            <a:ext cx="4067280" cy="4608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jf0a"/>
          <p:cNvPicPr/>
          <p:nvPr/>
        </p:nvPicPr>
        <p:blipFill>
          <a:blip r:embed="rId2"/>
          <a:stretch/>
        </p:blipFill>
        <p:spPr>
          <a:xfrm>
            <a:off x="0" y="3394080"/>
            <a:ext cx="500364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3:25:13Z</dcterms:created>
  <dc:creator>Сюсины</dc:creator>
  <dc:description/>
  <dc:language>en-US</dc:language>
  <cp:lastModifiedBy>tatyana kalashnik</cp:lastModifiedBy>
  <dcterms:modified xsi:type="dcterms:W3CDTF">2018-03-29T19:45:37Z</dcterms:modified>
  <cp:revision>53</cp:revision>
  <dc:subject/>
  <dc:title>Слайд 1</dc:title>
</cp:coreProperties>
</file>