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E01-89D5-4DDE-9490-1B04F7BD6B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16CF-AE28-4CE1-8C8E-65AB7C80AE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03B-FC7A-4F34-AD85-B0122F621F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8FD2-77AC-4FA7-91ED-5215754E37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64C-49A2-4DA2-B7C2-D4C78EBE6F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E327-572D-4E5E-A438-BF72CD56A6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785-C465-4910-AE97-595699BAC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779-A0C1-4BA5-9B57-52F61776DC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4E88-BF2C-4625-A832-F454152892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4E28-A242-4711-B740-0F2C049F08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C0FE-4C62-49AB-8381-C1E47B2303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D36-9AA3-474D-A147-3D50EBD6AE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29C5-AEA7-46BF-BDDF-6F78AEF2A2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724-6F2D-433C-9C14-C1951CF5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5DC-D420-4E75-B57E-4BBF1D9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191-DDE7-4631-9DD5-7AEF1233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3E3-72EF-4787-8116-ED73B3DD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17C2-EDA4-4A17-B27C-26BEB4FA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8BAA-93C0-46CF-A3B0-5FDFD063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5ECE-7074-4052-98A2-1CA4AD4E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F1F8-A1EE-4A01-A106-900BCD47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BDDC-9F7F-418A-8116-76EA6D0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794-8663-4CB9-B954-70F1810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16A1-F703-4C67-B2B9-E9250AD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B50-D2F0-4DFD-B81B-2F31C7E4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576C-C43D-4B74-9A97-1095C35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768B-D978-42FC-8E4E-DC64B3CB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A8E7-09F8-41A3-8E23-828ECCC3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D7C-7E34-4CB1-BA94-321204E2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A3D8-6B15-4280-88C4-1417E763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A8C-3914-4659-9900-B44A7820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86B-3751-46B6-BF80-C2A9E004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A6E-7C2C-4D08-9ECD-162A737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9B1C-CCDB-409F-8ADA-78BDA113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2FE-3775-4D92-87C3-5BE7CDBA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974-CA2C-4814-A798-EBE45FD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9CE-6CCE-4059-8C4D-C5DAA9C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1B96-6FFB-4E58-A624-FE2045EC30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6699-177B-4110-9C54-548850C016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843680" cy="2889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ультимедийный урок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глийского язы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 тем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Спорт и здоровый образ жизни»</a:t>
            </a: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в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класс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140000" y="4869000"/>
            <a:ext cx="467964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лашник Татьяна Леонид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95280" y="1904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униципальное общеобразовательное бюджетное учреждение Лицей №59 г. Со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68360" y="6237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чи 20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1A04-AFBB-4779-8A42-2151C04398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95280" y="11970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t 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604080" y="9036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22920" y="1916280"/>
            <a:ext cx="28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ennis, cricke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adminton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6" descr="245815_1_52570"/>
          <p:cNvPicPr/>
          <p:nvPr/>
        </p:nvPicPr>
        <p:blipFill>
          <a:blip r:embed="rId1"/>
          <a:srcRect l="0" t="0" r="0" b="18618"/>
          <a:stretch/>
        </p:blipFill>
        <p:spPr>
          <a:xfrm>
            <a:off x="38160" y="3213000"/>
            <a:ext cx="3003480" cy="3672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ULES-00835_1"/>
          <p:cNvPicPr/>
          <p:nvPr/>
        </p:nvPicPr>
        <p:blipFill>
          <a:blip r:embed="rId2"/>
          <a:srcRect l="5047" t="0" r="10677" b="4891"/>
          <a:stretch/>
        </p:blipFill>
        <p:spPr>
          <a:xfrm>
            <a:off x="3094200" y="3178080"/>
            <a:ext cx="6011640" cy="3679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badminton"/>
          <p:cNvPicPr/>
          <p:nvPr/>
        </p:nvPicPr>
        <p:blipFill>
          <a:blip r:embed="rId3"/>
          <a:stretch/>
        </p:blipFill>
        <p:spPr>
          <a:xfrm>
            <a:off x="4699080" y="692280"/>
            <a:ext cx="33433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6765-9675-435A-8DD7-8CFAB3FF79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394920" y="11970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ch i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93840" y="2852640"/>
            <a:ext cx="20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ater pol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kz17t20kd21"/>
          <p:cNvPicPr/>
          <p:nvPr/>
        </p:nvPicPr>
        <p:blipFill>
          <a:blip r:embed="rId1"/>
          <a:stretch/>
        </p:blipFill>
        <p:spPr>
          <a:xfrm>
            <a:off x="2700360" y="117000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81E-9DB2-4051-8BAD-97A23B2018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395280" y="1197000"/>
            <a:ext cx="14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ick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94560" y="278136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9" descr="8142_148036877044896d6c0ead4"/>
          <p:cNvPicPr/>
          <p:nvPr/>
        </p:nvPicPr>
        <p:blipFill>
          <a:blip r:embed="rId1"/>
          <a:stretch/>
        </p:blipFill>
        <p:spPr>
          <a:xfrm>
            <a:off x="4788000" y="1197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8145_122686629944896e6fc453b"/>
          <p:cNvPicPr/>
          <p:nvPr/>
        </p:nvPicPr>
        <p:blipFill>
          <a:blip r:embed="rId2"/>
          <a:stretch/>
        </p:blipFill>
        <p:spPr>
          <a:xfrm>
            <a:off x="826920" y="378936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D833-5256-4933-A761-AC568313FE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95440" y="92376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  basketbal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20920" y="163980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  box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21280" y="23302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  tenni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30640" y="304956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  swimm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31360" y="3782880"/>
            <a:ext cx="23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.   football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31360" y="45910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.   ice skat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531720" y="5383080"/>
            <a:ext cx="25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.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hletic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6732720" y="8366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6734520" y="15606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ol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6734880" y="2340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dium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6734520" y="2987640"/>
            <a:ext cx="12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r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6805800" y="4546440"/>
            <a:ext cx="103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ng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6767640" y="527544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ym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63600" y="363708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eld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315000" y="181080"/>
            <a:ext cx="78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can you go in  for this kind of sport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41080" y="60897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6719760" y="60213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67345E-006 L -0.36371 -0.63043 E">
                                      <p:cBhvr>
                                        <p:cTn id="40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1 0.04209 L -0.44236 -0.41929 E">
                                      <p:cBhvr>
                                        <p:cTn id="406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89 0.02821 L -0.44566 -0.09783 E">
                                      <p:cBhvr>
                                        <p:cTn id="410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0629E-006 L -0.33872 0.2204 E">
                                      <p:cBhvr>
                                        <p:cTn id="414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02799 L -0.41146 0.01735 E">
                                      <p:cBhvr>
                                        <p:cTn id="41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23312E-007 L -0.36215 0.55111 E">
                                      <p:cBhvr>
                                        <p:cTn id="42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25 0.03839 L -0.41059 0.4475 E">
                                      <p:cBhvr>
                                        <p:cTn id="42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09514 0.00578 L -0.4573 0.01619 E">
                                      <p:cBhvr>
                                        <p:cTn id="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721-2F40-4683-AB9B-0EC6978AC4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364680" y="1073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tenni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30120" y="178920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box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29760" y="247968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swim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339120" y="319896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ski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339480" y="3932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ska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39480" y="47401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row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39480" y="55324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hockey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5140440" y="1027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done in wate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5130720" y="17384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boat is needed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140440" y="2400480"/>
            <a:ext cx="25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a team gam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126040" y="316224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ce is needed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5099040" y="468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only be done by two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5124600" y="5500800"/>
            <a:ext cx="36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be played on the law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5105520" y="38768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now is necessary for it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25440" y="204840"/>
            <a:ext cx="630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atch the sport with the description.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3 -0.00994 L -0.38021 -0.64986 E">
                                      <p:cBhvr>
                                        <p:cTn id="48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044 L -0.36702 -0.42576 E">
                                      <p:cBhvr>
                                        <p:cTn id="4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6994E-006 L -0.32865 0.21161 E">
                                      <p:cBhvr>
                                        <p:cTn id="489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559 0.00647 L -0.37725 -0.09852 E">
                                      <p:cBhvr>
                                        <p:cTn id="49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01 0.01595 L -0.36007 0.11054 E">
                                      <p:cBhvr>
                                        <p:cTn id="49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18 0.01365 L -0.36284 0.43316 E">
                                      <p:cBhvr>
                                        <p:cTn id="501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47 0.01156 L -0.33333 0.46253 E">
                                      <p:cBhvr>
                                        <p:cTn id="50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633-2D79-4F80-A6A1-404FD85790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9280" y="765000"/>
          <a:ext cx="8713800" cy="5212080"/>
        </p:xfrm>
        <a:graphic>
          <a:graphicData uri="http://schemas.openxmlformats.org/drawingml/2006/table">
            <a:tbl>
              <a:tblPr/>
              <a:tblGrid>
                <a:gridCol w="2737080"/>
                <a:gridCol w="3073320"/>
                <a:gridCol w="290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 of s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e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 of s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se rid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ck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lif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x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joy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sh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icu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gure sk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 surf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gg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f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ymnast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52" name="Text Box 227"/>
          <p:cNvSpPr/>
          <p:nvPr/>
        </p:nvSpPr>
        <p:spPr>
          <a:xfrm>
            <a:off x="252360" y="609300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 I think darts is less exotic than raft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18"/>
          <p:cNvSpPr/>
          <p:nvPr/>
        </p:nvSpPr>
        <p:spPr>
          <a:xfrm>
            <a:off x="470520" y="189000"/>
            <a:ext cx="66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up sentences, using more/less…tha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E200-06BC-4E39-B2A8-48DBC6C9CB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WordArt 4"/>
          <p:cNvSpPr txBox="1"/>
          <p:nvPr/>
        </p:nvSpPr>
        <p:spPr>
          <a:xfrm>
            <a:off x="971640" y="100080"/>
            <a:ext cx="763272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фтальмотренаж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56" name="Group 17"/>
          <p:cNvGrpSpPr/>
          <p:nvPr/>
        </p:nvGrpSpPr>
        <p:grpSpPr>
          <a:xfrm>
            <a:off x="1433520" y="1247400"/>
            <a:ext cx="6551640" cy="3476520"/>
            <a:chOff x="1433520" y="1247400"/>
            <a:chExt cx="6551640" cy="3476520"/>
          </a:xfrm>
        </p:grpSpPr>
        <p:grpSp>
          <p:nvGrpSpPr>
            <p:cNvPr id="357" name="Group 16"/>
            <p:cNvGrpSpPr/>
            <p:nvPr/>
          </p:nvGrpSpPr>
          <p:grpSpPr>
            <a:xfrm>
              <a:off x="1826640" y="1247400"/>
              <a:ext cx="5517000" cy="3476520"/>
              <a:chOff x="1826640" y="1247400"/>
              <a:chExt cx="5517000" cy="3476520"/>
            </a:xfrm>
          </p:grpSpPr>
          <p:grpSp>
            <p:nvGrpSpPr>
              <p:cNvPr id="358" name="Group 14"/>
              <p:cNvGrpSpPr/>
              <p:nvPr/>
            </p:nvGrpSpPr>
            <p:grpSpPr>
              <a:xfrm>
                <a:off x="1826640" y="1247400"/>
                <a:ext cx="5517000" cy="3476520"/>
                <a:chOff x="1826640" y="1247400"/>
                <a:chExt cx="5517000" cy="3476520"/>
              </a:xfrm>
            </p:grpSpPr>
            <p:sp>
              <p:nvSpPr>
                <p:cNvPr id="359" name="Oval 5"/>
                <p:cNvSpPr/>
                <p:nvPr/>
              </p:nvSpPr>
              <p:spPr>
                <a:xfrm>
                  <a:off x="1826640" y="1721520"/>
                  <a:ext cx="5517000" cy="2380680"/>
                </a:xfrm>
                <a:prstGeom prst="ellipse">
                  <a:avLst/>
                </a:prstGeom>
                <a:noFill/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"/>
                <p:cNvSpPr/>
                <p:nvPr/>
              </p:nvSpPr>
              <p:spPr>
                <a:xfrm>
                  <a:off x="2396880" y="2205360"/>
                  <a:ext cx="4344840" cy="1441440"/>
                </a:xfrm>
                <a:prstGeom prst="ellipse">
                  <a:avLst/>
                </a:prstGeom>
                <a:noFill/>
                <a:ln w="7632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7"/>
                <p:cNvSpPr/>
                <p:nvPr/>
              </p:nvSpPr>
              <p:spPr>
                <a:xfrm flipV="1">
                  <a:off x="4575600" y="1247400"/>
                  <a:ext cx="0" cy="347652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13"/>
              <p:cNvGrpSpPr/>
              <p:nvPr/>
            </p:nvGrpSpPr>
            <p:grpSpPr>
              <a:xfrm>
                <a:off x="3104640" y="2429280"/>
                <a:ext cx="2941560" cy="987840"/>
                <a:chOff x="3104640" y="2429280"/>
                <a:chExt cx="2941560" cy="987840"/>
              </a:xfrm>
            </p:grpSpPr>
            <p:sp>
              <p:nvSpPr>
                <p:cNvPr id="363" name="Line 9"/>
                <p:cNvSpPr/>
                <p:nvPr/>
              </p:nvSpPr>
              <p:spPr>
                <a:xfrm>
                  <a:off x="3104640" y="2429640"/>
                  <a:ext cx="287388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0"/>
                <p:cNvSpPr/>
                <p:nvPr/>
              </p:nvSpPr>
              <p:spPr>
                <a:xfrm flipV="1">
                  <a:off x="3104640" y="2429280"/>
                  <a:ext cx="294156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1"/>
                <p:cNvSpPr/>
                <p:nvPr/>
              </p:nvSpPr>
              <p:spPr>
                <a:xfrm>
                  <a:off x="3104640" y="2429640"/>
                  <a:ext cx="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2"/>
                <p:cNvSpPr/>
                <p:nvPr/>
              </p:nvSpPr>
              <p:spPr>
                <a:xfrm>
                  <a:off x="6046200" y="2429640"/>
                  <a:ext cx="0" cy="987480"/>
                </a:xfrm>
                <a:prstGeom prst="line">
                  <a:avLst/>
                </a:prstGeom>
                <a:ln w="76320">
                  <a:solidFill>
                    <a:srgbClr val="66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Line 8"/>
            <p:cNvSpPr/>
            <p:nvPr/>
          </p:nvSpPr>
          <p:spPr>
            <a:xfrm>
              <a:off x="1433520" y="2943360"/>
              <a:ext cx="6551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Text Box 15"/>
          <p:cNvSpPr/>
          <p:nvPr/>
        </p:nvSpPr>
        <p:spPr>
          <a:xfrm>
            <a:off x="329400" y="4799160"/>
            <a:ext cx="715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упражнение выполняется 10-15 ра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осям: влево - вправо, вверх - вн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нешнему кругу по часовой стрел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нутреннему кругу против часовой стре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восьме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05D4-4A34-4558-9C51-2FC98AC8A8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нтроль домашнего зада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15000" y="126828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ll us about your favorite sport. Say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ther it is an indoor or an outdoor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is a team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t appeared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is popular in Russi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go in for this kind of spor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it helps you to keep f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F31-E57A-46C0-8BC1-A8606976226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Resize of 9-vnytr 2"/>
          <p:cNvPicPr/>
          <p:nvPr/>
        </p:nvPicPr>
        <p:blipFill>
          <a:blip r:embed="rId1"/>
          <a:stretch/>
        </p:blipFill>
        <p:spPr>
          <a:xfrm>
            <a:off x="4932360" y="1341360"/>
            <a:ext cx="4067280" cy="30225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ение текста «История Олимпийских игр» и ответы на вопро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179280" y="12682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id the Olympic Ga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 did the Games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ce in ancient ti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 are they held 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as the only athletic ev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was held in ancient Olymp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women take part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cient Olymp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was the first winner of the Olympic Gam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re the Winter Olympic Games held n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are the winners of the Olympic Games honor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E3A8-F96A-4C82-9D04-562F3F4EA6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324000" y="215424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 home you are to prove the proverb: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ound mind is in a sound body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 Tell the class why it is useful to go in for sport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DDA-2250-4EA8-BB9A-16957EADD4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12680" y="68400"/>
            <a:ext cx="89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Цель урок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нтроль навыков устной речи по теме: «Спорт и  здоровый образ жизн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12680" y="658800"/>
            <a:ext cx="90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дачи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Развивать и совершенствовать навыки  аудирования   по теме: «Спорт и здоровый образ жизн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Активизировать в речи учащихся употребление степеней сравнения прилагатель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Тренировать учащихся в чтении текста с целью поиска и извлечения необходимой информ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2680" y="2890800"/>
            <a:ext cx="89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азовательн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сширить лингвистический кругозор учащих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23840" y="3311640"/>
            <a:ext cx="90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вивающ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развивать у учащихся  умение самостоятельной работы, творческого мышления, готовности к коммуник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12680" y="4016520"/>
            <a:ext cx="898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спитательная задача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оздание  условий для формирования у учащихся понятия здорового образа жизни, поддержание интереса к изучению английского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93600" y="6229440"/>
            <a:ext cx="89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орудова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компьютер (программа PowerPoint); диски с презентац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12680" y="4951440"/>
            <a:ext cx="898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Методы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ый метод с использованием индивидуальной, парной и групповой работы учащихся; личностно-ориентированный подход; проектный метод; компьютерные технологии, здоровье сберегающая техн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adies and gentlemen,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e are glad to see you on our plane!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24F-ED46-4CC7-83C2-8312D62D08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Объект 3" descr=""/>
          <p:cNvPicPr/>
          <p:nvPr/>
        </p:nvPicPr>
        <p:blipFill>
          <a:blip r:embed="rId1"/>
          <a:stretch/>
        </p:blipFill>
        <p:spPr>
          <a:xfrm>
            <a:off x="0" y="3571920"/>
            <a:ext cx="4811760" cy="30002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11" descr=""/>
          <p:cNvPicPr/>
          <p:nvPr/>
        </p:nvPicPr>
        <p:blipFill>
          <a:blip r:embed="rId2"/>
          <a:stretch/>
        </p:blipFill>
        <p:spPr>
          <a:xfrm>
            <a:off x="4429080" y="3500280"/>
            <a:ext cx="4714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42CD-68CB-474A-87A7-953DD71E63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http://www.hqwallpapers.ru/wallpapers/flags/flag-germanii.jpg"/>
          <p:cNvPicPr/>
          <p:nvPr/>
        </p:nvPicPr>
        <p:blipFill>
          <a:blip r:embed="rId2"/>
          <a:stretch/>
        </p:blipFill>
        <p:spPr>
          <a:xfrm>
            <a:off x="1146240" y="1932120"/>
            <a:ext cx="685152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47F3-7B6A-4D46-8BE4-45B9FF5842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2" descr="http://www.varitty.com/postpic/2015/10/spain-flag_35622.jpg"/>
          <p:cNvPicPr/>
          <p:nvPr/>
        </p:nvPicPr>
        <p:blipFill>
          <a:blip r:embed="rId2"/>
          <a:stretch/>
        </p:blipFill>
        <p:spPr>
          <a:xfrm>
            <a:off x="1195560" y="1620720"/>
            <a:ext cx="6752880" cy="898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Russian Team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B25-3161-4558-8C60-80DCCC1159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2" descr="C:\Users\tatyana\Desktop\картинки к презентации\флаг рос.jpg"/>
          <p:cNvPicPr/>
          <p:nvPr/>
        </p:nvPicPr>
        <p:blipFill>
          <a:blip r:embed="rId1"/>
          <a:stretch/>
        </p:blipFill>
        <p:spPr>
          <a:xfrm>
            <a:off x="1193760" y="1600200"/>
            <a:ext cx="675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D82C-A62F-4D40-9006-25A7DCBD66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611280" y="260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nglish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proverb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A sound min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is in a sound body»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11280" y="3500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«В здоровом теле – здоровый дух»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9C6-C587-468D-BDD9-9C3788689F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1183279211_clelac_070113_02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21235919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452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1183279683_2869082_nba_wallpapers_washington_wizards_gilbert_arenas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78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1183279683_hpg0405_050424_wade3_1"/>
          <p:cNvPicPr/>
          <p:nvPr/>
        </p:nvPicPr>
        <p:blipFill>
          <a:blip r:embed="rId4"/>
          <a:stretch/>
        </p:blipFill>
        <p:spPr>
          <a:xfrm>
            <a:off x="0" y="3284640"/>
            <a:ext cx="4500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F6C9-51F9-4CB7-8C23-0821850462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023840" y="85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50200" y="7984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 Basketball as a game appe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038120" y="6094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) In the Middle A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033800" y="963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) In ancient Gree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023720" y="128592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) At the end of the 19th centu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6560" y="176040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. It was introduc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066560" y="19969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college coach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724560" y="2332080"/>
            <a:ext cx="27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llege stud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038480" y="16668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famous sportsma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322560" y="2720880"/>
            <a:ext cx="14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e wa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2062080" y="2674800"/>
            <a:ext cx="66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between football and baseball seas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2077200" y="3052800"/>
            <a:ext cx="47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in kicking the 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2084760" y="3408480"/>
            <a:ext cx="46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rain his students in hitting the 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27240" y="3809880"/>
            <a:ext cx="14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y us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2067480" y="3822840"/>
            <a:ext cx="21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footb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077560" y="4165560"/>
            <a:ext cx="23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gby ba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1280" y="452772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sketball balls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329400" y="4878360"/>
            <a:ext cx="43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. At first basketball was a game play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4586760" y="4830840"/>
            <a:ext cx="36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9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4591440" y="5183280"/>
            <a:ext cx="36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5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4578840" y="5518080"/>
            <a:ext cx="36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ams consisting of 6 m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339120" y="589428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.  Basketball is an indoor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3994920" y="586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urope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3986640" y="61786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ustralia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3981960" y="64911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)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mer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2268000" y="11736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en to the text and do the tes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00000" y="134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t - - I - - t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533840" y="12906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icipat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912960" y="1916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y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13320" y="1874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y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1622880" y="2095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k and try to guess what these word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900000" y="24922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 - a - 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546440" y="24922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i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878040" y="3149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 - - p - - 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516560" y="31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et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933480" y="38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k - p - - 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511520" y="38577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ke par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920880" y="52880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 - - c - - c 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4516560" y="4559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mp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941400" y="45687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u - p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470480" y="52149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9302-5D8C-4964-8481-07FECAAFC4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395280" y="119700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ow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604080" y="9036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8"/>
          <p:cNvSpPr/>
          <p:nvPr/>
        </p:nvSpPr>
        <p:spPr>
          <a:xfrm>
            <a:off x="483840" y="1989000"/>
            <a:ext cx="21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asketball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olleybal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3" descr="je13"/>
          <p:cNvPicPr/>
          <p:nvPr/>
        </p:nvPicPr>
        <p:blipFill>
          <a:blip r:embed="rId1"/>
          <a:stretch/>
        </p:blipFill>
        <p:spPr>
          <a:xfrm>
            <a:off x="0" y="3443400"/>
            <a:ext cx="4932360" cy="341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0" descr="000dwzf8"/>
          <p:cNvPicPr/>
          <p:nvPr/>
        </p:nvPicPr>
        <p:blipFill>
          <a:blip r:embed="rId2"/>
          <a:srcRect l="0" t="6961" r="9750" b="0"/>
          <a:stretch/>
        </p:blipFill>
        <p:spPr>
          <a:xfrm>
            <a:off x="4176720" y="620640"/>
            <a:ext cx="49672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A90E-C222-40AD-BDD8-3006900097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94920" y="1197000"/>
            <a:ext cx="15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d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4560" y="2781360"/>
            <a:ext cx="16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7"/>
          <p:cNvPicPr/>
          <p:nvPr/>
        </p:nvPicPr>
        <p:blipFill>
          <a:blip r:embed="rId1"/>
          <a:stretch/>
        </p:blipFill>
        <p:spPr>
          <a:xfrm>
            <a:off x="3780000" y="981000"/>
            <a:ext cx="4676760" cy="552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8146_42675693844896eb9cbeaf"/>
          <p:cNvPicPr/>
          <p:nvPr/>
        </p:nvPicPr>
        <p:blipFill>
          <a:blip r:embed="rId2"/>
          <a:stretch/>
        </p:blipFill>
        <p:spPr>
          <a:xfrm>
            <a:off x="25092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F08B-B9FB-4413-B7C4-38941D4A5B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95280" y="119700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ss 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603720" y="90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ll me please what you can do with the ball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20760" y="2205000"/>
            <a:ext cx="31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otball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hockey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6" descr="jexc"/>
          <p:cNvPicPr/>
          <p:nvPr/>
        </p:nvPicPr>
        <p:blipFill>
          <a:blip r:embed="rId1"/>
          <a:srcRect l="0" t="9363" r="0" b="0"/>
          <a:stretch/>
        </p:blipFill>
        <p:spPr>
          <a:xfrm>
            <a:off x="5076720" y="692280"/>
            <a:ext cx="4067280" cy="4608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jf0a"/>
          <p:cNvPicPr/>
          <p:nvPr/>
        </p:nvPicPr>
        <p:blipFill>
          <a:blip r:embed="rId2"/>
          <a:stretch/>
        </p:blipFill>
        <p:spPr>
          <a:xfrm>
            <a:off x="0" y="3394080"/>
            <a:ext cx="50036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3:25:13Z</dcterms:created>
  <dc:creator>Сюсины</dc:creator>
  <dc:description/>
  <dc:language>en-US</dc:language>
  <cp:lastModifiedBy>tatyana kalashnik</cp:lastModifiedBy>
  <dcterms:modified xsi:type="dcterms:W3CDTF">2018-03-29T19:45:37Z</dcterms:modified>
  <cp:revision>53</cp:revision>
  <dc:subject/>
  <dc:title>Слайд 1</dc:title>
</cp:coreProperties>
</file>