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3CC1-8BFD-4DB9-9AB7-E8372ADD0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F30E-0DFB-41DB-BD2F-2E17E5B5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145-EF88-49D2-B984-D59D01510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A271-2D03-4B14-BA44-BD3A8456A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C7FD-E881-4C51-A1F7-CBC4BF7E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ADA-EAE8-45B8-93F9-00C8DD33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7AAB-1206-4F53-9E65-8C5F597F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9613-2D7F-42D5-AA2E-15E79CA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F2A-E281-405A-83CD-84B8F507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6BC0-749A-4A3A-8B61-1D989FF4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46F-D508-4926-AF8E-EDC70DA81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34D-A47C-41EE-ADCB-159E3940A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CAC-0DA8-43FB-ADF2-B02D750CD9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05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авов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8724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ражданином быть обязан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10920" y="1600200"/>
            <a:ext cx="56163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азначает главу Правительства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11280" y="4941720"/>
            <a:ext cx="792144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0920" y="1680840"/>
            <a:ext cx="432108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едставительный и законодательный орган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4365720"/>
            <a:ext cx="8351640" cy="180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Федеральн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в начало 5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5076720" y="404640"/>
            <a:ext cx="40672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55640" y="1234800"/>
            <a:ext cx="439272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haroni"/>
              </a:rPr>
              <a:t>Обеспечивает проведение  единой финансовой, социальной  и культурной политики в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240000" cy="79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11280" y="5013360"/>
            <a:ext cx="7921440" cy="12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Правительство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в начало 8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398920" y="801720"/>
            <a:ext cx="36705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4360" y="1700280"/>
            <a:ext cx="35272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Глава исполнительной власти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3168720" cy="79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00200" y="5013360"/>
            <a:ext cx="792144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.А. Медвед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в начало 6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4660920" y="620640"/>
            <a:ext cx="40338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0920" y="1413000"/>
            <a:ext cx="453708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Осуществляет правосудие в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11280" y="4869000"/>
            <a:ext cx="7921440" cy="13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с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4859280" y="692280"/>
            <a:ext cx="40561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55640" y="1484280"/>
            <a:ext cx="4392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ъединение нескольких территорий, обладающих определенной самостоя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4869000"/>
            <a:ext cx="7921440" cy="13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Фед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в начало 6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Картинки по запросу карта россии"/>
          <p:cNvPicPr/>
          <p:nvPr/>
        </p:nvPicPr>
        <p:blipFill>
          <a:blip r:embed="rId4"/>
          <a:stretch/>
        </p:blipFill>
        <p:spPr>
          <a:xfrm>
            <a:off x="4716360" y="69228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6920" y="620640"/>
            <a:ext cx="46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Федеральные законы приним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16040" y="5013360"/>
            <a:ext cx="792144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Государственной Ду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4000" y="620640"/>
            <a:ext cx="3168720" cy="797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5280" y="1700280"/>
            <a:ext cx="3745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колько субъектов в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28560" y="4508640"/>
            <a:ext cx="7993080" cy="144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в начало 5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10920" y="1599840"/>
            <a:ext cx="7777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Центральный орган государствен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11280" y="5084640"/>
            <a:ext cx="792144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в начало 6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3959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280" y="1599840"/>
            <a:ext cx="40323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щепризнанное влияние лица, основанное на знаниях, достоинствах, опы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5589720"/>
            <a:ext cx="813600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автор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2878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620640"/>
          <a:ext cx="7993080" cy="5761080"/>
        </p:xfrm>
        <a:graphic>
          <a:graphicData uri="http://schemas.openxmlformats.org/drawingml/2006/table">
            <a:tbl>
              <a:tblPr/>
              <a:tblGrid>
                <a:gridCol w="1332000"/>
                <a:gridCol w="1331640"/>
                <a:gridCol w="1333440"/>
                <a:gridCol w="1332000"/>
                <a:gridCol w="1332000"/>
                <a:gridCol w="1332000"/>
              </a:tblGrid>
              <a:tr h="115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52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52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560" y="1844280"/>
            <a:ext cx="3668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рок полномочий судей в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11280" y="5013360"/>
            <a:ext cx="806436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не огранич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(предельный возраст -70 лет)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319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4629240" y="907920"/>
            <a:ext cx="4103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11280" y="1412640"/>
            <a:ext cx="4248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тремление к отделению, обособл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98320" y="5084640"/>
            <a:ext cx="792180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сепара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77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39816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00200" y="2060640"/>
            <a:ext cx="4448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азначает выборы Президента в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11280" y="4941720"/>
            <a:ext cx="792144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овет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в начало 6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11280" y="1484280"/>
            <a:ext cx="4465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к формиру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овет Федерац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11280" y="4149720"/>
            <a:ext cx="8208720" cy="208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 два человека от субъекта Р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(1 от представительного и 1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сполнительного органа вла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4360" y="1844640"/>
            <a:ext cx="42465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то назначает Референдум в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11280" y="4869000"/>
            <a:ext cx="7921440" cy="13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8163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22240" y="1487520"/>
            <a:ext cx="403560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Реш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гражданства в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5157720"/>
            <a:ext cx="792144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219280" y="1268280"/>
            <a:ext cx="3467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4000" y="1628280"/>
            <a:ext cx="38113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какой главе Конституции отражены права и свободы гражданин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11280" y="5516640"/>
            <a:ext cx="792144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Глав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370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4"/>
          <a:stretch/>
        </p:blipFill>
        <p:spPr>
          <a:xfrm>
            <a:off x="4618080" y="1052640"/>
            <a:ext cx="41767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36120" y="1272960"/>
            <a:ext cx="782316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решение Президента от должности принимае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679320" y="476280"/>
            <a:ext cx="3167280" cy="797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11280" y="5229360"/>
            <a:ext cx="792144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овет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4000" y="1915920"/>
            <a:ext cx="367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колько человек избирается в Государственную Д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11280" y="4941720"/>
            <a:ext cx="7921440" cy="129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4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4500720" y="692280"/>
            <a:ext cx="4248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4360" y="1600200"/>
            <a:ext cx="37432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Формирует бюджет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11280" y="5516640"/>
            <a:ext cx="7921440" cy="72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равительство РФ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92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3166920" cy="64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280" y="1197000"/>
            <a:ext cx="5977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сновной институт политическ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187280" y="4292640"/>
            <a:ext cx="777564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госуд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в начало 5">
            <a:hlinkClick r:id="rId3" action="ppaction://hlinksldjump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3908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  <a:path fill="darken" w="34814" h="21600">
                <a:moveTo>
                  <a:pt x="10400" y="3794"/>
                </a:moveTo>
                <a:lnTo>
                  <a:pt x="12063" y="3794"/>
                </a:lnTo>
                <a:lnTo>
                  <a:pt x="12063" y="17806"/>
                </a:lnTo>
                <a:lnTo>
                  <a:pt x="104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000" y="1482480"/>
            <a:ext cx="72723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значает председателя правительства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11280" y="5084640"/>
            <a:ext cx="792144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4000" y="1599840"/>
            <a:ext cx="38113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дьёй в РФ может бы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11280" y="4581360"/>
            <a:ext cx="8137440" cy="156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гражданин РФ достигший 25 л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меющий высшее юридическое образование и с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работы по юридической профессии  не менее пяти лет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40496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11280" y="1484280"/>
            <a:ext cx="40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Конституционный суд состоит 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1280" y="4979880"/>
            <a:ext cx="7921440" cy="125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9 су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112536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осителем суверенитета и единственным источником власти в РФ явл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166920" cy="79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50920" y="4941720"/>
            <a:ext cx="878508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5916" y="10800"/>
                </a:moveTo>
                <a:lnTo>
                  <a:pt x="26421" y="3794"/>
                </a:lnTo>
                <a:lnTo>
                  <a:pt x="26421" y="17806"/>
                </a:lnTo>
                <a:close/>
              </a:path>
              <a:path fill="darken" w="38830" h="21600">
                <a:moveTo>
                  <a:pt x="12408" y="3794"/>
                </a:moveTo>
                <a:lnTo>
                  <a:pt x="14071" y="3794"/>
                </a:lnTo>
                <a:lnTo>
                  <a:pt x="14071" y="17806"/>
                </a:lnTo>
                <a:lnTo>
                  <a:pt x="1240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11280" y="1557000"/>
            <a:ext cx="5689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Должностное лицо государства, осуществляющее надзор за исполнением зак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4508640"/>
            <a:ext cx="8964720" cy="172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Прокур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в начало 8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6286680" y="836640"/>
            <a:ext cx="2118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00000" y="1700280"/>
            <a:ext cx="53992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колько глав в Конституции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-33480" y="3645000"/>
            <a:ext cx="8786880" cy="25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5400" spc="-1" strike="noStrike">
                <a:solidFill>
                  <a:srgbClr val="a50021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10920" y="1557360"/>
            <a:ext cx="4392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колько статей в Конституции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17480" y="3573360"/>
            <a:ext cx="7921800" cy="25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в начало 6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84360" y="4149720"/>
            <a:ext cx="7848360" cy="208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суверен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3168720" cy="797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в начало 8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84360" y="1404360"/>
            <a:ext cx="489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олная независимость государства в его внутренних делах и в ведении внешне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5610240" y="351000"/>
            <a:ext cx="335268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280" y="1412640"/>
            <a:ext cx="4987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ысшим непосредственным выражением власти народа в РФ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11280" y="4076640"/>
            <a:ext cx="792144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референдум и выб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6998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  <a:path fill="darken" w="40993" h="21600">
                <a:moveTo>
                  <a:pt x="13490" y="3794"/>
                </a:moveTo>
                <a:lnTo>
                  <a:pt x="15153" y="3794"/>
                </a:lnTo>
                <a:lnTo>
                  <a:pt x="15153" y="17806"/>
                </a:lnTo>
                <a:lnTo>
                  <a:pt x="134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>
            <a:off x="5743440" y="689040"/>
            <a:ext cx="32212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9:52:22Z</dcterms:created>
  <dc:creator>User</dc:creator>
  <dc:description/>
  <dc:language>en-US</dc:language>
  <cp:lastModifiedBy>fsv</cp:lastModifiedBy>
  <dcterms:modified xsi:type="dcterms:W3CDTF">2018-07-11T02:53:19Z</dcterms:modified>
  <cp:revision>115</cp:revision>
  <dc:subject/>
  <dc:title>Слайд 1</dc:title>
</cp:coreProperties>
</file>