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AFAF-385C-48C6-BFD2-CBD1469BA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C91-CB7D-4CDF-9006-0C3E33B9C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3C8B-C684-4425-8E0B-A022B6557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DF0C-9AE8-4452-BEF6-B3AA7818B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E37-BDE1-4447-81C8-D1FDF739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1CD1-69DB-4C41-B896-915E6B4B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CEB4-9256-4A07-B505-DFBC5A3A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B99-5FFE-409B-9B0D-DD28F586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F3A5-380D-4DE9-AF99-BBEC4371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0334-027D-4B74-91E4-E08AF3132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7FB-0EB2-4A0B-8163-8740E9A1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E84CD-6B04-4C26-B344-4CB234A7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C03B-4DD7-4A8B-8928-7E7F7893C8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8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6.xml"/><Relationship Id="rId15" Type="http://schemas.openxmlformats.org/officeDocument/2006/relationships/slide" Target="slide17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1.xml"/><Relationship Id="rId20" Type="http://schemas.openxmlformats.org/officeDocument/2006/relationships/slide" Target="slide22.xml"/><Relationship Id="rId21" Type="http://schemas.openxmlformats.org/officeDocument/2006/relationships/slide" Target="slide23.xml"/><Relationship Id="rId22" Type="http://schemas.openxmlformats.org/officeDocument/2006/relationships/slide" Target="slide24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28.xml"/><Relationship Id="rId27" Type="http://schemas.openxmlformats.org/officeDocument/2006/relationships/slide" Target="slide29.xml"/><Relationship Id="rId28" Type="http://schemas.openxmlformats.org/officeDocument/2006/relationships/slide" Target="slide30.xml"/><Relationship Id="rId29" Type="http://schemas.openxmlformats.org/officeDocument/2006/relationships/slide" Target="slide31.xml"/><Relationship Id="rId30" Type="http://schemas.openxmlformats.org/officeDocument/2006/relationships/slide" Target="slide32.xml"/><Relationship Id="rId3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4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" Target="slide2.xm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280" y="1052280"/>
            <a:ext cx="705636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Правовая 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068280"/>
            <a:ext cx="68724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Гражданином быть обязан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10920" y="1600200"/>
            <a:ext cx="5616360" cy="27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азначает главу Правительства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611280" y="4941720"/>
            <a:ext cx="792144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610920" y="1680840"/>
            <a:ext cx="4321080" cy="20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Представительный и законодательный орган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468360" y="4365720"/>
            <a:ext cx="8351640" cy="180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Федеральное собр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Управляющая кнопка: в начало 5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"/>
          <p:cNvPicPr/>
          <p:nvPr/>
        </p:nvPicPr>
        <p:blipFill>
          <a:blip r:embed="rId4"/>
          <a:stretch/>
        </p:blipFill>
        <p:spPr>
          <a:xfrm>
            <a:off x="5076720" y="404640"/>
            <a:ext cx="40672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755640" y="1234800"/>
            <a:ext cx="4392720" cy="31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  <a:ea typeface="Aharoni"/>
              </a:rPr>
              <a:t>Обеспечивает проведение  единой финансовой, социальной  и культурной политики в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3240000" cy="79236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611280" y="5013360"/>
            <a:ext cx="7921440" cy="1224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Правительство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Управляющая кнопка: в начало 8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4"/>
          <a:stretch/>
        </p:blipFill>
        <p:spPr>
          <a:xfrm>
            <a:off x="5398920" y="801720"/>
            <a:ext cx="36705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84360" y="1700280"/>
            <a:ext cx="35272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Глава исполнительной власти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9640" y="620640"/>
            <a:ext cx="3168720" cy="79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00200" y="5013360"/>
            <a:ext cx="792144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Д.А. Медвед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Управляющая кнопка: в начало 6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4"/>
          <a:stretch/>
        </p:blipFill>
        <p:spPr>
          <a:xfrm>
            <a:off x="4660920" y="620640"/>
            <a:ext cx="403380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610920" y="1413000"/>
            <a:ext cx="453708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Осуществляет правосудие в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611280" y="4869000"/>
            <a:ext cx="7921440" cy="13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a50021"/>
                </a:solidFill>
                <a:latin typeface="Arial"/>
              </a:rPr>
              <a:t>суд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4859280" y="692280"/>
            <a:ext cx="4056120" cy="30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755640" y="1484280"/>
            <a:ext cx="439272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ъединение нескольких территорий, обладающих определенной самостоятельн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11280" y="4869000"/>
            <a:ext cx="7921440" cy="13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Феде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Управляющая кнопка: в начало 6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9" descr="Картинки по запросу карта россии"/>
          <p:cNvPicPr/>
          <p:nvPr/>
        </p:nvPicPr>
        <p:blipFill>
          <a:blip r:embed="rId4"/>
          <a:stretch/>
        </p:blipFill>
        <p:spPr>
          <a:xfrm>
            <a:off x="4716360" y="692280"/>
            <a:ext cx="410364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26920" y="620640"/>
            <a:ext cx="4608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Федеральные законы принимаю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16040" y="5013360"/>
            <a:ext cx="792144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Государственной Ду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64000" y="620640"/>
            <a:ext cx="3168720" cy="797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755280" y="1700280"/>
            <a:ext cx="3745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колько субъектов в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628560" y="4508640"/>
            <a:ext cx="7993080" cy="1441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8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Управляющая кнопка: в начало 5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610920" y="1599840"/>
            <a:ext cx="777708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Центральный орган государственного у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611280" y="5084640"/>
            <a:ext cx="792144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Управляющая кнопка: в начало 6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4284720" y="2349360"/>
            <a:ext cx="39592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755280" y="1599840"/>
            <a:ext cx="4032360" cy="36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бщепризнанное влияние лица, основанное на знаниях, достоинствах, опыт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468360" y="5589720"/>
            <a:ext cx="8136000" cy="71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авторит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3"/>
          <a:stretch/>
        </p:blipFill>
        <p:spPr>
          <a:xfrm>
            <a:off x="5219640" y="836640"/>
            <a:ext cx="328788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11280" y="620640"/>
          <a:ext cx="7993080" cy="5761080"/>
        </p:xfrm>
        <a:graphic>
          <a:graphicData uri="http://schemas.openxmlformats.org/drawingml/2006/table">
            <a:tbl>
              <a:tblPr/>
              <a:tblGrid>
                <a:gridCol w="1332000"/>
                <a:gridCol w="1331640"/>
                <a:gridCol w="1333440"/>
                <a:gridCol w="1332000"/>
                <a:gridCol w="1332000"/>
                <a:gridCol w="1332000"/>
              </a:tblGrid>
              <a:tr h="115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52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50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115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1152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26560" y="1844280"/>
            <a:ext cx="366876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рок полномочий судей в РФ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611280" y="5013360"/>
            <a:ext cx="8064360" cy="1224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a50021"/>
                </a:solidFill>
                <a:latin typeface="Arial"/>
              </a:rPr>
              <a:t>не ограниче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a50021"/>
                </a:solidFill>
                <a:latin typeface="Arial"/>
              </a:rPr>
              <a:t>(предельный возраст -70 лет)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3197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4629240" y="907920"/>
            <a:ext cx="410364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11280" y="1412640"/>
            <a:ext cx="42480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тремление к отделению, обособлению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598320" y="5084640"/>
            <a:ext cx="792180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сепаратиз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4038480" cy="3773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"/>
          <p:cNvPicPr/>
          <p:nvPr/>
        </p:nvPicPr>
        <p:blipFill>
          <a:blip r:embed="rId4"/>
          <a:stretch/>
        </p:blipFill>
        <p:spPr>
          <a:xfrm>
            <a:off x="4932360" y="549360"/>
            <a:ext cx="398160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700200" y="2060640"/>
            <a:ext cx="444816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Назначает выборы Президента в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611280" y="4941720"/>
            <a:ext cx="7921440" cy="1295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овет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Управляющая кнопка: в начало 6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11280" y="1484280"/>
            <a:ext cx="446544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Как формируе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овет Федерации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611280" y="4149720"/>
            <a:ext cx="8208720" cy="2087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по два человека от субъекта Р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(1 от представительного и 1 о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       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исполнительного органа власт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84360" y="1844640"/>
            <a:ext cx="4246560" cy="28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Кто назначает Референдум в Р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Вопрос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611280" y="4869000"/>
            <a:ext cx="7921440" cy="1368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3"/>
          <a:stretch/>
        </p:blipFill>
        <p:spPr>
          <a:xfrm>
            <a:off x="5003640" y="836640"/>
            <a:ext cx="381636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22240" y="1487520"/>
            <a:ext cx="4035600" cy="31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Реш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вопрос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гражданства в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611280" y="5157720"/>
            <a:ext cx="7921440" cy="1079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219280" y="1268280"/>
            <a:ext cx="3467160" cy="36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84000" y="1628280"/>
            <a:ext cx="38113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 какой главе Конституции отражены права и свободы гражданина Р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611280" y="5516640"/>
            <a:ext cx="7921440" cy="7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Глава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4648320" y="1599840"/>
            <a:ext cx="4038480" cy="37004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4"/>
          <a:stretch/>
        </p:blipFill>
        <p:spPr>
          <a:xfrm>
            <a:off x="4618080" y="1052640"/>
            <a:ext cx="417672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636120" y="1272960"/>
            <a:ext cx="7823160" cy="107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Отрешение Президента от должности принимает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Заголовок 1"/>
          <p:cNvSpPr/>
          <p:nvPr/>
        </p:nvSpPr>
        <p:spPr>
          <a:xfrm>
            <a:off x="679320" y="476280"/>
            <a:ext cx="3167280" cy="797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611280" y="5229360"/>
            <a:ext cx="7921440" cy="100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Совет Феде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4000" y="1915920"/>
            <a:ext cx="36716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Сколько человек избирается в Государственную Ду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611280" y="4941720"/>
            <a:ext cx="7921440" cy="1295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4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Управляющая кнопка: в начало 7"/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"/>
          <p:cNvPicPr/>
          <p:nvPr/>
        </p:nvPicPr>
        <p:blipFill>
          <a:blip r:embed="rId3"/>
          <a:stretch/>
        </p:blipFill>
        <p:spPr>
          <a:xfrm>
            <a:off x="4500720" y="692280"/>
            <a:ext cx="42480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4360" y="1600200"/>
            <a:ext cx="374328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Формирует бюджет стра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"/>
          <p:cNvSpPr/>
          <p:nvPr/>
        </p:nvSpPr>
        <p:spPr>
          <a:xfrm>
            <a:off x="611280" y="5516640"/>
            <a:ext cx="7921440" cy="720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равительство РФ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3"/>
          <a:stretch/>
        </p:blipFill>
        <p:spPr>
          <a:xfrm>
            <a:off x="4500720" y="549360"/>
            <a:ext cx="43923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000" y="475920"/>
            <a:ext cx="3166920" cy="6490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9280" y="1197000"/>
            <a:ext cx="59770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4000" spc="-1" strike="noStrike">
                <a:solidFill>
                  <a:srgbClr val="002060"/>
                </a:solidFill>
                <a:latin typeface="Arial"/>
              </a:rPr>
              <a:t>Основной институт политической систем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187280" y="4292640"/>
            <a:ext cx="7775640" cy="1800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государ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Управляющая кнопка: в начало 5">
            <a:hlinkClick r:id="rId3" action="ppaction://hlinksldjump"/>
          </p:cNvPr>
          <p:cNvSpPr/>
          <p:nvPr/>
        </p:nvSpPr>
        <p:spPr>
          <a:xfrm>
            <a:off x="8028000" y="6165720"/>
            <a:ext cx="1116000" cy="692280"/>
          </a:xfrm>
          <a:custGeom>
            <a:avLst/>
            <a:gdLst>
              <a:gd name="textAreaLeft" fmla="*/ 44640 w 1116000"/>
              <a:gd name="textAreaRight" fmla="*/ 1071360 w 111600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4814" h="21600">
                <a:moveTo>
                  <a:pt x="0" y="0"/>
                </a:moveTo>
                <a:lnTo>
                  <a:pt x="34814" y="0"/>
                </a:lnTo>
                <a:lnTo>
                  <a:pt x="34814" y="21600"/>
                </a:lnTo>
                <a:lnTo>
                  <a:pt x="0" y="21600"/>
                </a:lnTo>
                <a:close/>
              </a:path>
              <a:path fill="lightenLess" w="34814" h="21600">
                <a:moveTo>
                  <a:pt x="0" y="0"/>
                </a:moveTo>
                <a:lnTo>
                  <a:pt x="34814" y="0"/>
                </a:lnTo>
                <a:lnTo>
                  <a:pt x="33414" y="1400"/>
                </a:lnTo>
                <a:lnTo>
                  <a:pt x="1400" y="1400"/>
                </a:lnTo>
                <a:close/>
              </a:path>
              <a:path fill="darken" w="34814" h="21600">
                <a:moveTo>
                  <a:pt x="34814" y="0"/>
                </a:moveTo>
                <a:lnTo>
                  <a:pt x="34814" y="21600"/>
                </a:lnTo>
                <a:lnTo>
                  <a:pt x="33414" y="20200"/>
                </a:lnTo>
                <a:lnTo>
                  <a:pt x="33414" y="1400"/>
                </a:lnTo>
                <a:close/>
              </a:path>
              <a:path fill="darkenLess" w="34814" h="21600">
                <a:moveTo>
                  <a:pt x="348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14" y="20200"/>
                </a:lnTo>
                <a:close/>
              </a:path>
              <a:path fill="lighten" w="348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14" h="21600">
                <a:moveTo>
                  <a:pt x="13908" y="10800"/>
                </a:moveTo>
                <a:lnTo>
                  <a:pt x="24413" y="3794"/>
                </a:lnTo>
                <a:lnTo>
                  <a:pt x="24413" y="17806"/>
                </a:lnTo>
                <a:close/>
              </a:path>
              <a:path fill="darken" w="34814" h="21600">
                <a:moveTo>
                  <a:pt x="10400" y="3794"/>
                </a:moveTo>
                <a:lnTo>
                  <a:pt x="12063" y="3794"/>
                </a:lnTo>
                <a:lnTo>
                  <a:pt x="12063" y="17806"/>
                </a:lnTo>
                <a:lnTo>
                  <a:pt x="1040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68000" y="1482480"/>
            <a:ext cx="727236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Назначает председателя правительства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611280" y="5084640"/>
            <a:ext cx="7921440" cy="1152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Президент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4000" y="1599840"/>
            <a:ext cx="3811320" cy="24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удьёй в РФ может бы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611280" y="4581360"/>
            <a:ext cx="8137440" cy="156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гражданин РФ достигший 25 л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имеющий высшее юридическое образование и ст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a50021"/>
                </a:solidFill>
                <a:latin typeface="Arial"/>
              </a:rPr>
              <a:t>работы по юридической профессии  не менее пяти лет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3"/>
          <a:stretch/>
        </p:blipFill>
        <p:spPr>
          <a:xfrm>
            <a:off x="4427640" y="692280"/>
            <a:ext cx="4049640" cy="28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11280" y="1484280"/>
            <a:ext cx="403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Конституционный суд состоит и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11280" y="4979880"/>
            <a:ext cx="7921440" cy="1257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lang="ru-RU" sz="3600" spc="-1" strike="noStrike">
                <a:solidFill>
                  <a:srgbClr val="a50021"/>
                </a:solidFill>
                <a:latin typeface="Arial"/>
              </a:rPr>
              <a:t>19 суд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Заголовок 1"/>
          <p:cNvSpPr/>
          <p:nvPr/>
        </p:nvSpPr>
        <p:spPr>
          <a:xfrm>
            <a:off x="684360" y="692280"/>
            <a:ext cx="3166920" cy="79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Управляющая кнопка: в начало 7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4360" y="1125360"/>
            <a:ext cx="799128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Носителем суверенитета и единственным источником власти в РФ являетс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3166920" cy="7970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250920" y="4941720"/>
            <a:ext cx="8785080" cy="1440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: </a:t>
            </a:r>
            <a:r>
              <a:rPr b="1" lang="ru-RU" sz="4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ро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028000" y="6237360"/>
            <a:ext cx="1116000" cy="620640"/>
          </a:xfrm>
          <a:custGeom>
            <a:avLst/>
            <a:gdLst>
              <a:gd name="textAreaLeft" fmla="*/ 39960 w 1116000"/>
              <a:gd name="textAreaRight" fmla="*/ 1076040 w 1116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8830" h="21600">
                <a:moveTo>
                  <a:pt x="0" y="0"/>
                </a:moveTo>
                <a:lnTo>
                  <a:pt x="38830" y="0"/>
                </a:lnTo>
                <a:lnTo>
                  <a:pt x="38830" y="21600"/>
                </a:lnTo>
                <a:lnTo>
                  <a:pt x="0" y="21600"/>
                </a:lnTo>
                <a:close/>
              </a:path>
              <a:path fill="lightenLess" w="38830" h="21600">
                <a:moveTo>
                  <a:pt x="0" y="0"/>
                </a:moveTo>
                <a:lnTo>
                  <a:pt x="38830" y="0"/>
                </a:lnTo>
                <a:lnTo>
                  <a:pt x="37430" y="1400"/>
                </a:lnTo>
                <a:lnTo>
                  <a:pt x="1400" y="1400"/>
                </a:lnTo>
                <a:close/>
              </a:path>
              <a:path fill="darken" w="38830" h="21600">
                <a:moveTo>
                  <a:pt x="38830" y="0"/>
                </a:moveTo>
                <a:lnTo>
                  <a:pt x="38830" y="21600"/>
                </a:lnTo>
                <a:lnTo>
                  <a:pt x="37430" y="20200"/>
                </a:lnTo>
                <a:lnTo>
                  <a:pt x="37430" y="1400"/>
                </a:lnTo>
                <a:close/>
              </a:path>
              <a:path fill="darkenLess" w="38830" h="21600">
                <a:moveTo>
                  <a:pt x="388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0" y="20200"/>
                </a:lnTo>
                <a:close/>
              </a:path>
              <a:path fill="lighten" w="388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0" h="21600">
                <a:moveTo>
                  <a:pt x="15916" y="10800"/>
                </a:moveTo>
                <a:lnTo>
                  <a:pt x="26421" y="3794"/>
                </a:lnTo>
                <a:lnTo>
                  <a:pt x="26421" y="17806"/>
                </a:lnTo>
                <a:close/>
              </a:path>
              <a:path fill="darken" w="38830" h="21600">
                <a:moveTo>
                  <a:pt x="12408" y="3794"/>
                </a:moveTo>
                <a:lnTo>
                  <a:pt x="14071" y="3794"/>
                </a:lnTo>
                <a:lnTo>
                  <a:pt x="14071" y="17806"/>
                </a:lnTo>
                <a:lnTo>
                  <a:pt x="1240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11280" y="1557000"/>
            <a:ext cx="568944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Должностное лицо государства, осуществляющее надзор за исполнением зако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179280" y="4508640"/>
            <a:ext cx="8964720" cy="172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a50021"/>
                </a:solidFill>
                <a:latin typeface="Arial"/>
              </a:rPr>
              <a:t>Прокур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Управляющая кнопка: в начало 8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4"/>
          <a:stretch/>
        </p:blipFill>
        <p:spPr>
          <a:xfrm>
            <a:off x="6286680" y="836640"/>
            <a:ext cx="211896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900000" y="1700280"/>
            <a:ext cx="53992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колько глав в Конституции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-33480" y="3645000"/>
            <a:ext cx="8786880" cy="2520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5400" spc="-1" strike="noStrike">
                <a:solidFill>
                  <a:srgbClr val="a50021"/>
                </a:solidFill>
                <a:latin typeface="Arial"/>
              </a:rPr>
              <a:t>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10920" y="1557360"/>
            <a:ext cx="439236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Arial"/>
              </a:rPr>
              <a:t>Сколько статей в Конституции Р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717480" y="3573360"/>
            <a:ext cx="7921800" cy="2592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4000" spc="-1" strike="noStrike">
                <a:solidFill>
                  <a:srgbClr val="c00000"/>
                </a:solidFill>
                <a:latin typeface="Arial"/>
              </a:rPr>
              <a:t>1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Управляющая кнопка: в начало 6">
            <a:hlinkClick r:id="rId3" action="ppaction://hlinksldjump"/>
          </p:cNvPr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12768" y="10800"/>
                </a:moveTo>
                <a:lnTo>
                  <a:pt x="23274" y="3794"/>
                </a:lnTo>
                <a:lnTo>
                  <a:pt x="23274" y="17806"/>
                </a:lnTo>
                <a:close/>
              </a:path>
              <a:path fill="darken" w="32535" h="21600">
                <a:moveTo>
                  <a:pt x="9261" y="3794"/>
                </a:moveTo>
                <a:lnTo>
                  <a:pt x="10923" y="3794"/>
                </a:lnTo>
                <a:lnTo>
                  <a:pt x="10923" y="17806"/>
                </a:lnTo>
                <a:lnTo>
                  <a:pt x="9261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684360" y="4149720"/>
            <a:ext cx="7848360" cy="2087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1" lang="ru-RU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суверен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3168720" cy="79704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Управляющая кнопка: в начало 8">
            <a:hlinkClick r:id="rId3" action="ppaction://hlinksldjump"/>
          </p:cNvPr>
          <p:cNvSpPr/>
          <p:nvPr/>
        </p:nvSpPr>
        <p:spPr>
          <a:xfrm>
            <a:off x="8101080" y="6237360"/>
            <a:ext cx="1042920" cy="620640"/>
          </a:xfrm>
          <a:custGeom>
            <a:avLst/>
            <a:gdLst>
              <a:gd name="textAreaLeft" fmla="*/ 39960 w 1042920"/>
              <a:gd name="textAreaRight" fmla="*/ 1002960 w 104292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6288" h="21600">
                <a:moveTo>
                  <a:pt x="0" y="0"/>
                </a:moveTo>
                <a:lnTo>
                  <a:pt x="36288" y="0"/>
                </a:lnTo>
                <a:lnTo>
                  <a:pt x="36288" y="21600"/>
                </a:lnTo>
                <a:lnTo>
                  <a:pt x="0" y="21600"/>
                </a:lnTo>
                <a:close/>
              </a:path>
              <a:path fill="lightenLess" w="36288" h="21600">
                <a:moveTo>
                  <a:pt x="0" y="0"/>
                </a:moveTo>
                <a:lnTo>
                  <a:pt x="36288" y="0"/>
                </a:lnTo>
                <a:lnTo>
                  <a:pt x="34888" y="1400"/>
                </a:lnTo>
                <a:lnTo>
                  <a:pt x="1400" y="1400"/>
                </a:lnTo>
                <a:close/>
              </a:path>
              <a:path fill="darken" w="36288" h="21600">
                <a:moveTo>
                  <a:pt x="36288" y="0"/>
                </a:moveTo>
                <a:lnTo>
                  <a:pt x="36288" y="21600"/>
                </a:lnTo>
                <a:lnTo>
                  <a:pt x="34888" y="20200"/>
                </a:lnTo>
                <a:lnTo>
                  <a:pt x="34888" y="1400"/>
                </a:lnTo>
                <a:close/>
              </a:path>
              <a:path fill="darkenLess" w="36288" h="21600">
                <a:moveTo>
                  <a:pt x="36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888" y="20200"/>
                </a:lnTo>
                <a:close/>
              </a:path>
              <a:path fill="lighten" w="36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288" h="21600">
                <a:moveTo>
                  <a:pt x="14645" y="10800"/>
                </a:moveTo>
                <a:lnTo>
                  <a:pt x="25150" y="3794"/>
                </a:lnTo>
                <a:lnTo>
                  <a:pt x="25150" y="17806"/>
                </a:lnTo>
                <a:close/>
              </a:path>
              <a:path fill="darken" w="36288" h="21600">
                <a:moveTo>
                  <a:pt x="11138" y="3794"/>
                </a:moveTo>
                <a:lnTo>
                  <a:pt x="12800" y="3794"/>
                </a:lnTo>
                <a:lnTo>
                  <a:pt x="12800" y="17806"/>
                </a:lnTo>
                <a:lnTo>
                  <a:pt x="11138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684360" y="1404360"/>
            <a:ext cx="489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2060"/>
              </a:buClr>
              <a:buFont typeface="Wingdings" charset="2"/>
              <a:buChar char="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Полная независимость государства в его внутренних делах и в ведении внешней полит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4"/>
          <a:stretch/>
        </p:blipFill>
        <p:spPr>
          <a:xfrm>
            <a:off x="5610240" y="351000"/>
            <a:ext cx="3352680" cy="38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755280" y="1412640"/>
            <a:ext cx="4987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Arial"/>
              </a:rPr>
              <a:t>Высшим непосредственным выражением власти народа в РФ являют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611280" y="4076640"/>
            <a:ext cx="7921440" cy="20890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80808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ru-RU" sz="3600" spc="-1" strike="noStrike">
                <a:solidFill>
                  <a:srgbClr val="a50021"/>
                </a:solidFill>
                <a:latin typeface="Arial"/>
              </a:rPr>
              <a:t>референдум и выбо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3166920" cy="79668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опрос 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Управляющая кнопка: в начало 7">
            <a:hlinkClick r:id="rId3" action="ppaction://hlinksldjump"/>
          </p:cNvPr>
          <p:cNvSpPr/>
          <p:nvPr/>
        </p:nvSpPr>
        <p:spPr>
          <a:xfrm>
            <a:off x="8101080" y="6308640"/>
            <a:ext cx="1042920" cy="549360"/>
          </a:xfrm>
          <a:custGeom>
            <a:avLst/>
            <a:gdLst>
              <a:gd name="textAreaLeft" fmla="*/ 35280 w 1042920"/>
              <a:gd name="textAreaRight" fmla="*/ 1007640 w 1042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40993" h="21600">
                <a:moveTo>
                  <a:pt x="0" y="0"/>
                </a:moveTo>
                <a:lnTo>
                  <a:pt x="40993" y="0"/>
                </a:lnTo>
                <a:lnTo>
                  <a:pt x="40993" y="21600"/>
                </a:lnTo>
                <a:lnTo>
                  <a:pt x="0" y="21600"/>
                </a:lnTo>
                <a:close/>
              </a:path>
              <a:path fill="lightenLess" w="40993" h="21600">
                <a:moveTo>
                  <a:pt x="0" y="0"/>
                </a:moveTo>
                <a:lnTo>
                  <a:pt x="40993" y="0"/>
                </a:lnTo>
                <a:lnTo>
                  <a:pt x="39593" y="1400"/>
                </a:lnTo>
                <a:lnTo>
                  <a:pt x="1400" y="1400"/>
                </a:lnTo>
                <a:close/>
              </a:path>
              <a:path fill="darken" w="40993" h="21600">
                <a:moveTo>
                  <a:pt x="40993" y="0"/>
                </a:moveTo>
                <a:lnTo>
                  <a:pt x="40993" y="21600"/>
                </a:lnTo>
                <a:lnTo>
                  <a:pt x="39593" y="20200"/>
                </a:lnTo>
                <a:lnTo>
                  <a:pt x="39593" y="1400"/>
                </a:lnTo>
                <a:close/>
              </a:path>
              <a:path fill="darkenLess" w="40993" h="21600">
                <a:moveTo>
                  <a:pt x="40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93" y="20200"/>
                </a:lnTo>
                <a:close/>
              </a:path>
              <a:path fill="lighten" w="40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993" h="21600">
                <a:moveTo>
                  <a:pt x="16998" y="10800"/>
                </a:moveTo>
                <a:lnTo>
                  <a:pt x="27503" y="3794"/>
                </a:lnTo>
                <a:lnTo>
                  <a:pt x="27503" y="17806"/>
                </a:lnTo>
                <a:close/>
              </a:path>
              <a:path fill="darken" w="40993" h="21600">
                <a:moveTo>
                  <a:pt x="13490" y="3794"/>
                </a:moveTo>
                <a:lnTo>
                  <a:pt x="15153" y="3794"/>
                </a:lnTo>
                <a:lnTo>
                  <a:pt x="15153" y="17806"/>
                </a:lnTo>
                <a:lnTo>
                  <a:pt x="13490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"/>
          <p:cNvPicPr/>
          <p:nvPr/>
        </p:nvPicPr>
        <p:blipFill>
          <a:blip r:embed="rId4"/>
          <a:stretch/>
        </p:blipFill>
        <p:spPr>
          <a:xfrm>
            <a:off x="5743440" y="689040"/>
            <a:ext cx="322128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9:52:22Z</dcterms:created>
  <dc:creator>User</dc:creator>
  <dc:description/>
  <dc:language>en-US</dc:language>
  <cp:lastModifiedBy>fsv</cp:lastModifiedBy>
  <dcterms:modified xsi:type="dcterms:W3CDTF">2018-07-11T02:53:19Z</dcterms:modified>
  <cp:revision>115</cp:revision>
  <dc:subject/>
  <dc:title>Слайд 1</dc:title>
</cp:coreProperties>
</file>