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FBF-CFEF-497B-9D3A-A3CEA852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796-D760-40AE-B582-6F88DA26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2447-DBA2-4AF2-8390-7531CF5B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AA2-AAA0-48E5-828D-3911BE75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732F-B560-4F65-9DE6-9D907B89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0106-9A8D-4BFD-B96C-F66612D2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56EA-6AEF-4CB6-8D1C-11EDB9DD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4462F-CA05-4C10-8BE0-1ABB1870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5731-9B9E-4D69-B489-DD313141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2480-166A-42B5-8249-FB1208FCB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F109-0CC3-4143-8491-A2567BA3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113F-5544-41BB-A02B-58F3A60E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23AB-47A5-4AB6-8297-7F24B3B9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CFDF-1E67-4B05-82D5-78A7A9EA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E8D2-1D38-43FE-90FC-CDA42EC63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E269-9A59-4BE7-AF81-483B339CA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B370-2459-49FB-83F2-2FA84523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4190-10EF-47FE-AEE3-9E32CCC2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7ACA-7657-4BBE-9414-85CD556E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BFA-B3D0-498D-AF3E-E613AAFD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DF49-6035-4960-A217-7D093685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D39-C2E4-4FCD-9FD2-BAD5AD08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C85-D7C2-4375-B45E-0AC314AF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59C-163B-4024-8D64-6714A72D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BD11-DE75-40F9-9FE3-C3797BF2D3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A895-EFE8-4BC6-83D1-67375BCB06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Garamond"/>
              </a:rPr>
              <a:t>Правильное питани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оцик Н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ОУ Лицей №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Кропот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Чипсы- очень вредны для организма. Чипсы – это ничто иное, как смесь углеводов и жира, в оболочке красителей и заменителей вкуса. Содержащееся в чипсах вещество акриламид формируется при термической обработке продуктов, содержащих крахмал, и вызывает раковые заболевания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1221481796_1148211567"/>
          <p:cNvPicPr/>
          <p:nvPr/>
        </p:nvPicPr>
        <p:blipFill>
          <a:blip r:embed="rId1"/>
          <a:stretch/>
        </p:blipFill>
        <p:spPr>
          <a:xfrm>
            <a:off x="5292720" y="3645000"/>
            <a:ext cx="2592360" cy="2367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41925_or"/>
          <p:cNvPicPr/>
          <p:nvPr/>
        </p:nvPicPr>
        <p:blipFill>
          <a:blip r:embed="rId2"/>
          <a:stretch/>
        </p:blipFill>
        <p:spPr>
          <a:xfrm>
            <a:off x="4716360" y="333360"/>
            <a:ext cx="3961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402080" cy="5792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адкие газированные напитки – смесь сахара, химии и газов – чтобы быстрее распределить по организму вредные вещ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ка-кола, например, замечательное средство от известковой накипи и ржавчин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7" descr="88488"/>
          <p:cNvPicPr/>
          <p:nvPr/>
        </p:nvPicPr>
        <p:blipFill>
          <a:blip r:embed="rId1"/>
          <a:stretch/>
        </p:blipFill>
        <p:spPr>
          <a:xfrm>
            <a:off x="4919760" y="333360"/>
            <a:ext cx="37036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ешек – кола, применяют для снижения потенции, полного успокоения всех половых инстин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7" descr="Cola"/>
          <p:cNvPicPr/>
          <p:nvPr/>
        </p:nvPicPr>
        <p:blipFill>
          <a:blip r:embed="rId1"/>
          <a:stretch/>
        </p:blipFill>
        <p:spPr>
          <a:xfrm>
            <a:off x="2484360" y="30636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786800" cy="9363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Что будет с телом, если  выпить Кока-колу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754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ff99"/>
                </a:solidFill>
                <a:uFillTx/>
                <a:latin typeface="Garamond"/>
              </a:rPr>
              <a:t>Через 10 минут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10 чайных ложек сахара “ударят” по вашей системе. Вас не тянет рвать, потому что фосфорная кислота подавляет действие сахара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99ff99"/>
                </a:solidFill>
                <a:uFillTx/>
                <a:latin typeface="Garamond"/>
              </a:rPr>
              <a:t>Через 20 минут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роизойдет скачок инсулина в крови. Печень превращает весь сахар в жиры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ff99"/>
                </a:solidFill>
                <a:uFillTx/>
                <a:latin typeface="Garamond"/>
              </a:rPr>
              <a:t>Через 40 минут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оглощение кофеина завершено. Ваши зрачки расширятся. Кровяное давление увеличится. </a:t>
            </a:r>
            <a:br>
              <a:rPr sz="2000"/>
            </a:b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1189881014_cola"/>
          <p:cNvPicPr/>
          <p:nvPr/>
        </p:nvPicPr>
        <p:blipFill>
          <a:blip r:embed="rId1"/>
          <a:stretch/>
        </p:blipFill>
        <p:spPr>
          <a:xfrm>
            <a:off x="4284720" y="1341360"/>
            <a:ext cx="395928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-118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Garamond"/>
              </a:rPr>
              <a:t>     </a:t>
            </a:r>
            <a:r>
              <a:rPr b="1" lang="ru-RU" sz="2400" spc="-1" strike="noStrike" u="sng">
                <a:solidFill>
                  <a:srgbClr val="99ff99"/>
                </a:solidFill>
                <a:uFillTx/>
                <a:latin typeface="Garamond"/>
              </a:rPr>
              <a:t>Через 45 минут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аше тело увеличит производство гормона дофамина, стимулирующего центр удовольствия мозга. Такой же принцип действия у героин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 u="sng">
                <a:solidFill>
                  <a:srgbClr val="99ff99"/>
                </a:solidFill>
                <a:uFillTx/>
                <a:latin typeface="Garamond"/>
              </a:rPr>
              <a:t>Спустя час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Фосфорная кислота связывает кальций, магний и цинк в вашем кишечнике, ускоряя метаболизм. Увеличивается выделения кальция через мочу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ff99"/>
                </a:solidFill>
                <a:uFillTx/>
                <a:latin typeface="Garamond"/>
              </a:rPr>
              <a:t>Более чем через час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Мочегонные действия входит в игру. Выводятся кальций, магний и цинк, которые находятся в ваших костях, так же как и натрий, электролит и в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400"/>
            </a:br>
            <a:r>
              <a:rPr b="1" lang="ru-RU" sz="2400" spc="-1" strike="noStrike" u="sng">
                <a:solidFill>
                  <a:srgbClr val="99ff99"/>
                </a:solidFill>
                <a:uFillTx/>
                <a:latin typeface="Garamond"/>
              </a:rPr>
              <a:t>Более чем через два часа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ы становитесь раздражительным или вялым. Вся вода, содержащая в кока-коле, выводится через мочу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673440" cy="865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Циклама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т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- синтетическое вещество на основе нефти, слаще сахара в 200 раз, канцероген, провоцирует ра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6" descr="29897"/>
          <p:cNvPicPr/>
          <p:nvPr/>
        </p:nvPicPr>
        <p:blipFill>
          <a:blip r:embed="rId1"/>
          <a:stretch/>
        </p:blipFill>
        <p:spPr>
          <a:xfrm>
            <a:off x="468360" y="1628640"/>
            <a:ext cx="3959280" cy="44643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7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2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Подумайте хорошенько прежде, чем отправлять такую жидкость в желудок!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8" descr="yp_summer2"/>
          <p:cNvPicPr/>
          <p:nvPr/>
        </p:nvPicPr>
        <p:blipFill>
          <a:blip r:embed="rId1"/>
          <a:stretch/>
        </p:blipFill>
        <p:spPr>
          <a:xfrm>
            <a:off x="1835280" y="1989000"/>
            <a:ext cx="5184720" cy="4367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38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4043520" cy="2913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одержат так называемые скрытые жиры, все это вуалируется ароматизаторами и заменителями вкусов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7960" y="333000"/>
            <a:ext cx="4027320" cy="28083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игантское количество калорий в сочетании с химическими добавками, генетически модифицированными продуктами, красителями и ароматизаторам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7" descr="mars_einer_start"/>
          <p:cNvPicPr/>
          <p:nvPr/>
        </p:nvPicPr>
        <p:blipFill>
          <a:blip r:embed="rId1"/>
          <a:stretch/>
        </p:blipFill>
        <p:spPr>
          <a:xfrm>
            <a:off x="611280" y="476280"/>
            <a:ext cx="3887640" cy="2047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481d755f4a"/>
          <p:cNvPicPr/>
          <p:nvPr/>
        </p:nvPicPr>
        <p:blipFill>
          <a:blip r:embed="rId2"/>
          <a:stretch/>
        </p:blipFill>
        <p:spPr>
          <a:xfrm>
            <a:off x="4788000" y="3213000"/>
            <a:ext cx="3887640" cy="291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-38880"/>
            <a:ext cx="7931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3938760"/>
            <a:ext cx="274644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348000" y="333360"/>
            <a:ext cx="4608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держит огромное количество жиров и углеводов, а также красители, подсластители, заменители и так дале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се это сплошная химия, наносящая несомненный вред вашему организму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ль понижает давление, нарушает соле-кисловой баланс в организме, способствует скоплению токсин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13" descr="l559-1"/>
          <p:cNvPicPr/>
          <p:nvPr/>
        </p:nvPicPr>
        <p:blipFill>
          <a:blip r:embed="rId1"/>
          <a:stretch/>
        </p:blipFill>
        <p:spPr>
          <a:xfrm>
            <a:off x="7885080" y="333360"/>
            <a:ext cx="938160" cy="2232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59E277A21015"/>
          <p:cNvPicPr/>
          <p:nvPr/>
        </p:nvPicPr>
        <p:blipFill>
          <a:blip r:embed="rId2"/>
          <a:stretch/>
        </p:blipFill>
        <p:spPr>
          <a:xfrm>
            <a:off x="395280" y="2133720"/>
            <a:ext cx="2743200" cy="1438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089283"/>
          <p:cNvPicPr/>
          <p:nvPr/>
        </p:nvPicPr>
        <p:blipFill>
          <a:blip r:embed="rId3"/>
          <a:stretch/>
        </p:blipFill>
        <p:spPr>
          <a:xfrm>
            <a:off x="468360" y="4076640"/>
            <a:ext cx="2736720" cy="1819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8" descr="____www_sostav_ru_articles_rus_2008_29_01_news_images_1skit_02-m"/>
          <p:cNvPicPr/>
          <p:nvPr/>
        </p:nvPicPr>
        <p:blipFill>
          <a:blip r:embed="rId4"/>
          <a:stretch/>
        </p:blipFill>
        <p:spPr>
          <a:xfrm>
            <a:off x="468360" y="260280"/>
            <a:ext cx="2590920" cy="180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Arial"/>
              </a:rPr>
              <a:t>Фаст-фу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a8def86b510ca8b1b8ec760b6dba8f21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4643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8ae8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Arial"/>
              </a:rPr>
              <a:t>Питание- необходимость человек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4" descr="13d3e38b4b24e0af1b42beb2489c08f5"/>
          <p:cNvPicPr/>
          <p:nvPr/>
        </p:nvPicPr>
        <p:blipFill>
          <a:blip r:embed="rId1"/>
          <a:stretch/>
        </p:blipFill>
        <p:spPr>
          <a:xfrm>
            <a:off x="1187280" y="1700280"/>
            <a:ext cx="6481800" cy="4303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4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6192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 данным, на сегодняшний день в мире страдают ожирением или имеют лишний вес более 177 млн детей, причем из них 22 млн -малыши в возрасте до пяти лет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7" descr="949ae1443739"/>
          <p:cNvPicPr/>
          <p:nvPr/>
        </p:nvPicPr>
        <p:blipFill>
          <a:blip r:embed="rId1"/>
          <a:stretch/>
        </p:blipFill>
        <p:spPr>
          <a:xfrm>
            <a:off x="684360" y="3500280"/>
            <a:ext cx="3887640" cy="2703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6e4dc3f8df77beba54cd4960ee56550b"/>
          <p:cNvPicPr/>
          <p:nvPr/>
        </p:nvPicPr>
        <p:blipFill>
          <a:blip r:embed="rId2"/>
          <a:stretch/>
        </p:blipFill>
        <p:spPr>
          <a:xfrm>
            <a:off x="684360" y="692280"/>
            <a:ext cx="387000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-1044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одном кебабе содержится в среднем 120 г жира, при том что дневная норма потребления жиров не должна превышать 70—80 г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7" descr="fast"/>
          <p:cNvPicPr/>
          <p:nvPr/>
        </p:nvPicPr>
        <p:blipFill>
          <a:blip r:embed="rId1"/>
          <a:stretch/>
        </p:blipFill>
        <p:spPr>
          <a:xfrm>
            <a:off x="2120760" y="333360"/>
            <a:ext cx="4889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-3888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5793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ир, содержащийся в фаст-фуде, состоит преимущественно из насыщенных жирных кислот, которые при попадании в организм откладываются на стенках сосудов и способствуют развитию атеросклероза, а также повышению уровня холестерина в кров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7" descr="21_01_00"/>
          <p:cNvPicPr/>
          <p:nvPr/>
        </p:nvPicPr>
        <p:blipFill>
          <a:blip r:embed="rId1"/>
          <a:stretch/>
        </p:blipFill>
        <p:spPr>
          <a:xfrm>
            <a:off x="4643280" y="404640"/>
            <a:ext cx="4059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ПОЛЕЗНЫЕ ПРОДУК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В яблоках содержатся  кислоты, кот. помогают бороться с гнилостными бактериями. В состав яблок входит вещество (кверцетин), замедляющее рост раковых клеток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ук не просто полезный продукт, но и панацея от всех болез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7" descr="131107"/>
          <p:cNvPicPr/>
          <p:nvPr/>
        </p:nvPicPr>
        <p:blipFill>
          <a:blip r:embed="rId1"/>
          <a:stretch/>
        </p:blipFill>
        <p:spPr>
          <a:xfrm>
            <a:off x="755640" y="1484280"/>
            <a:ext cx="3311640" cy="2384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luk4_small"/>
          <p:cNvPicPr/>
          <p:nvPr/>
        </p:nvPicPr>
        <p:blipFill>
          <a:blip r:embed="rId2"/>
          <a:stretch/>
        </p:blipFill>
        <p:spPr>
          <a:xfrm>
            <a:off x="1467000" y="3938760"/>
            <a:ext cx="2017440" cy="218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огат полезными веществами, силен в борьбе с простудными заболеваниями. Кроме этого чеснок нормализует флору вашего желудка, убивая вредные микроорганизм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орковь содержит бета-каротин, который превращается в нашем организме в витамин А. Очень полезна морковь для зрения, также она предотвращает возникновение раковых заболеваний, особенно рака кож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42920" y="404280"/>
            <a:ext cx="40388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48320" y="3284280"/>
            <a:ext cx="403848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12" descr="111949_39"/>
          <p:cNvPicPr/>
          <p:nvPr/>
        </p:nvPicPr>
        <p:blipFill>
          <a:blip r:embed="rId1"/>
          <a:stretch/>
        </p:blipFill>
        <p:spPr>
          <a:xfrm>
            <a:off x="4788000" y="476280"/>
            <a:ext cx="3763800" cy="2525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morkva"/>
          <p:cNvPicPr/>
          <p:nvPr/>
        </p:nvPicPr>
        <p:blipFill>
          <a:blip r:embed="rId2"/>
          <a:stretch/>
        </p:blipFill>
        <p:spPr>
          <a:xfrm>
            <a:off x="5292720" y="3068640"/>
            <a:ext cx="2755800" cy="339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-55440"/>
            <a:ext cx="81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рехи полезны для работы сердца, для зрения, на 25-30 процентов снижают риск заболевания сахарным диабето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рисутствующие в жирной рыбе в большом количестве ненасыщенные жирные кислоты являются хорошей преградой для оседания холестерин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2920" y="333360"/>
            <a:ext cx="40388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48320" y="3213000"/>
            <a:ext cx="4038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8" descr="orex"/>
          <p:cNvPicPr/>
          <p:nvPr/>
        </p:nvPicPr>
        <p:blipFill>
          <a:blip r:embed="rId1"/>
          <a:stretch/>
        </p:blipFill>
        <p:spPr>
          <a:xfrm>
            <a:off x="4716360" y="333360"/>
            <a:ext cx="3527640" cy="2631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" descr="mtf_fish"/>
          <p:cNvPicPr/>
          <p:nvPr/>
        </p:nvPicPr>
        <p:blipFill>
          <a:blip r:embed="rId2"/>
          <a:stretch/>
        </p:blipFill>
        <p:spPr>
          <a:xfrm>
            <a:off x="4716360" y="3429000"/>
            <a:ext cx="3529080" cy="25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0"/>
                            </p:stCondLst>
                            <p:childTnLst>
                              <p:par>
                                <p:cTn id="7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-38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ить каждый день зеленый чай – это не просто дань моде, это очень полезно для здоровья. Зеленый чай снижает риск инсультов, улучшает иммунную систему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0" descr="5862-original"/>
          <p:cNvPicPr/>
          <p:nvPr/>
        </p:nvPicPr>
        <p:blipFill>
          <a:blip r:embed="rId1"/>
          <a:stretch/>
        </p:blipFill>
        <p:spPr>
          <a:xfrm>
            <a:off x="539640" y="476280"/>
            <a:ext cx="36864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-3888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9280" y="404280"/>
            <a:ext cx="40388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ед является природным заменителем сахара. Мед не только замечательное средство для лечения простудных заболеваний, он полезен также и для работы сердечно-сосудистой систем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молоке содержится столь необходимый организму кальций, укрепляющий кос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8" descr="112464_1"/>
          <p:cNvPicPr/>
          <p:nvPr/>
        </p:nvPicPr>
        <p:blipFill>
          <a:blip r:embed="rId1"/>
          <a:stretch/>
        </p:blipFill>
        <p:spPr>
          <a:xfrm>
            <a:off x="971640" y="35733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1184333640_art2303_171"/>
          <p:cNvPicPr/>
          <p:nvPr/>
        </p:nvPicPr>
        <p:blipFill>
          <a:blip r:embed="rId2"/>
          <a:stretch/>
        </p:blipFill>
        <p:spPr>
          <a:xfrm>
            <a:off x="1332000" y="333360"/>
            <a:ext cx="22431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1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-3888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8360" y="333360"/>
            <a:ext cx="4038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95280" y="3357360"/>
            <a:ext cx="403848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ананы снимают стрессы и восполняют утраченные силы. Нормализуют работу кишечника и чудесным образом заменяют слабительные средст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 черные, так и зеленые оливки обладают массой полезных для организма питательных веществ, витаминов и микроэле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8" descr="untitled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99961208361299_556754_34008906"/>
          <p:cNvPicPr/>
          <p:nvPr/>
        </p:nvPicPr>
        <p:blipFill>
          <a:blip r:embed="rId2"/>
          <a:stretch/>
        </p:blipFill>
        <p:spPr>
          <a:xfrm>
            <a:off x="539640" y="3429000"/>
            <a:ext cx="3816360" cy="2604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2440" cy="22874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Наше здоровье – в наших руках и не стоит «ждать милостей от природы»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81471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ulibka_rebenka_delaet_mat_schastlivoi"/>
          <p:cNvPicPr/>
          <p:nvPr/>
        </p:nvPicPr>
        <p:blipFill>
          <a:blip r:embed="rId1"/>
          <a:stretch/>
        </p:blipFill>
        <p:spPr>
          <a:xfrm>
            <a:off x="2484360" y="2631960"/>
            <a:ext cx="4535640" cy="411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280"/>
                            </p:stCondLst>
                            <p:childTnLst>
                              <p:par>
                                <p:cTn id="7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064720" cy="792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Garamond"/>
              </a:rPr>
              <a:t>Пища оказывает значительное влияние на человека. Она дает: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н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доров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доровье человека на 70% зависит от пит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ища зачастую является основным источником большинства заболеваний, однако с её же помощью можно и избавиться от многолетних недугов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ff"/>
                </a:solidFill>
                <a:latin typeface="Arial"/>
              </a:rPr>
              <a:t>коне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Что такое здоровое питание</a:t>
            </a:r>
            <a:r>
              <a:rPr b="0" lang="ru-RU" sz="4000" spc="-1" strike="noStrike">
                <a:solidFill>
                  <a:srgbClr val="cc00ff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ообразие продук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балансированный рацио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кус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р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езно для все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PRODUKT1"/>
          <p:cNvPicPr/>
          <p:nvPr/>
        </p:nvPicPr>
        <p:blipFill>
          <a:blip r:embed="rId1"/>
          <a:stretch/>
        </p:blipFill>
        <p:spPr>
          <a:xfrm>
            <a:off x="4716360" y="1700280"/>
            <a:ext cx="395928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8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“</a:t>
            </a:r>
            <a:r>
              <a:rPr b="0" lang="ru-RU" sz="4400" spc="-1" strike="noStrike" u="sng">
                <a:solidFill>
                  <a:srgbClr val="99ff99"/>
                </a:solidFill>
                <a:uFillTx/>
                <a:latin typeface="Arial"/>
              </a:rPr>
              <a:t>Дневник желудка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”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1162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: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: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:5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2: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619280" y="1413000"/>
            <a:ext cx="7067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а, предстоит еще один горячий денек. Интересно, как со мной обойдутся сегодня. Если все будет также, как вчера, я объявлю забастовку. С утра она уже проглотила завтрак почти не пережевывая, по пути на поезд. Я так утомился, что пришлось трудится в два раза дольше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лько, что прибыли два стакана чая. Теперь они помешают усвоению того небольшого количества железа, которое поступило с завтраком. А она еще жалуется на усталость!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глоченный на ходу завтрак, видимо, совсем не удовлетворил ее, поэтому она купила еще арахисовых орешков.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решки поступали с завидным постоянством. Мне кажется, она только что покончила с ними. Обед, таким образом можно считать пропущенным.”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-2916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946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: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: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: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3: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4: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4: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6: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7: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7: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76000" y="333000"/>
            <a:ext cx="7210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ще чай со льдом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счет орешков я ошибся; она отыскала где-то на дне сумки еще одну горсть; сейчас придется заняться и с ними.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едяная вода... как это больно и неприятно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то-то принес ей коробку конфет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шлось принять уже полфунта конфет. Только, что слышал, как она сказала: ‘Что-то мне нехорошо. Наверное это прокисшее молоко.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то-то предложил ей выпить кока-колы. Она выпила, а потом побежала на поезд. 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д ужином она сыграла партию в теннис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Жареный картофель, зеленый горошек и кукуруза, кусок говядины и голубика. Что вы думаете о таком сочетании?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ейчас она собирается поехать в город и полакомиться   мороженным.”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-1044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1162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8: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8: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8: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8: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: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: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763280" y="404280"/>
            <a:ext cx="6923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приезду домой увидела, что на столе стоит кувшин с разведенным лимонадом и залпом выпила два стакана. И это поверх мороженого. Все, с меня хватит, я объявляю забастовку! 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ороженое и лимонад я отослал обратно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перь настал черед голубики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говядины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на послала за врачом; думает, что это все из-за испорченного мороженого. Ее мать говорит, что она унаследовала слабый желудок от отца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октор сказал, что у меня небольшое расстройство из-за жаркой погоды. Спокойной ночи.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Garamond"/>
              </a:rPr>
              <a:t>Все самое приятное в этом мире либо аморально, либо ведет к ожирению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34" descr="menu"/>
          <p:cNvPicPr/>
          <p:nvPr/>
        </p:nvPicPr>
        <p:blipFill>
          <a:blip r:embed="rId1"/>
          <a:stretch/>
        </p:blipFill>
        <p:spPr>
          <a:xfrm>
            <a:off x="2411280" y="1484280"/>
            <a:ext cx="418788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амые вредные продук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788000" y="1125360"/>
            <a:ext cx="4038480" cy="4896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Жевательные конфеты, пастила в яркой упаковке, «чупа-чупсы» - всё это, без сомнения, вредные продукты. Мало того, что все они содержат огромное количество сахара, так ещё и химические добавки, красители, заменители и так дале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post-3-1213875972_thumb"/>
          <p:cNvPicPr/>
          <p:nvPr/>
        </p:nvPicPr>
        <p:blipFill>
          <a:blip r:embed="rId1"/>
          <a:stretch/>
        </p:blipFill>
        <p:spPr>
          <a:xfrm>
            <a:off x="2484360" y="981000"/>
            <a:ext cx="2100240" cy="259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1892cb91c25"/>
          <p:cNvPicPr/>
          <p:nvPr/>
        </p:nvPicPr>
        <p:blipFill>
          <a:blip r:embed="rId2"/>
          <a:stretch/>
        </p:blipFill>
        <p:spPr>
          <a:xfrm>
            <a:off x="250920" y="907920"/>
            <a:ext cx="2054160" cy="2737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5" descr="image1096"/>
          <p:cNvPicPr/>
          <p:nvPr/>
        </p:nvPicPr>
        <p:blipFill>
          <a:blip r:embed="rId3"/>
          <a:stretch/>
        </p:blipFill>
        <p:spPr>
          <a:xfrm>
            <a:off x="1042920" y="3860640"/>
            <a:ext cx="3029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17:25:44Z</dcterms:created>
  <dc:creator>YA_KUDZA</dc:creator>
  <dc:description/>
  <dc:language>en-US</dc:language>
  <cp:lastModifiedBy>Samsung</cp:lastModifiedBy>
  <dcterms:modified xsi:type="dcterms:W3CDTF">2018-07-11T07:01:50Z</dcterms:modified>
  <cp:revision>9</cp:revision>
  <dc:subject/>
  <dc:title>Правильное питание</dc:title>
</cp:coreProperties>
</file>