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FF1F-4441-4303-A9D2-F50351AFD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434D-7EDF-4BF2-9F62-5DFC235D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7851-7BF8-483B-B41F-1D79AA10B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5D5C-7FA9-40ED-A6BC-4F9912DBA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31353-D5B6-437E-9912-BF9BD295F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FDFA8-9D68-483A-B5C1-D99CBB4C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F8BE-6F0D-4265-96FD-C2C3FBCB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B75B-918A-477E-873B-37B4AA76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13E57-1E1C-4E0D-9D27-D79C2765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C4742-D33C-4E7C-BFBF-0A9BD40B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C7336-3C04-4AE9-BEC2-7CA57705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F6CC-73A5-4836-B11E-F5C3EB3F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CB5DD-F043-4493-8D91-A9067731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F7662-BDFF-4B63-B86E-AF33079EB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EAE2-C90C-4838-9817-DD9F12D28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6DDD-C540-4DDD-9C30-9DA66B54F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1E324-CAC8-4402-AE4A-0A8A376B9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E764-6422-463B-A7B1-42F3894A1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C4A4-6B80-4EC8-AAAD-D538509C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C3F7-62E8-4CB3-8FFA-B9A115397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60CD-48F8-4C3F-8223-AF4220A9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3681-3F79-42EF-BDA6-0AB3838B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8BD3-A14C-4979-9ABD-688D6833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FF8B-ABF7-4A8D-A633-EC38E505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5A36D-A801-4D8C-8996-CC137E8F76C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52CC-39F7-4575-81CD-867C51FA870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cecff"/>
                </a:solidFill>
                <a:latin typeface="Garamond"/>
              </a:rPr>
              <a:t>Правильное питание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втор Процик Н.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ОУ Лицей №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. Кропотки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Чипсы- очень вредны для организма. Чипсы – это ничто иное, как смесь углеводов и жира, в оболочке красителей и заменителей вкуса. Содержащееся в чипсах вещество акриламид формируется при термической обработке продуктов, содержащих крахмал, и вызывает раковые заболевания.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7" descr="1221481796_1148211567"/>
          <p:cNvPicPr/>
          <p:nvPr/>
        </p:nvPicPr>
        <p:blipFill>
          <a:blip r:embed="rId1"/>
          <a:stretch/>
        </p:blipFill>
        <p:spPr>
          <a:xfrm>
            <a:off x="5292720" y="3645000"/>
            <a:ext cx="2592360" cy="2367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8" descr="41925_or"/>
          <p:cNvPicPr/>
          <p:nvPr/>
        </p:nvPicPr>
        <p:blipFill>
          <a:blip r:embed="rId2"/>
          <a:stretch/>
        </p:blipFill>
        <p:spPr>
          <a:xfrm>
            <a:off x="4716360" y="333360"/>
            <a:ext cx="3961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4402080" cy="57927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ладкие газированные напитки – смесь сахара, химии и газов – чтобы быстрее распределить по организму вредные веществ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ока-кола, например, замечательное средство от известковой накипи и ржавчины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Picture 37" descr="88488"/>
          <p:cNvPicPr/>
          <p:nvPr/>
        </p:nvPicPr>
        <p:blipFill>
          <a:blip r:embed="rId1"/>
          <a:stretch/>
        </p:blipFill>
        <p:spPr>
          <a:xfrm>
            <a:off x="4919760" y="333360"/>
            <a:ext cx="37036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2000"/>
                            </p:stCondLst>
                            <p:childTnLst>
                              <p:par>
                                <p:cTn id="343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решек – кола, применяют для снижения потенции, полного успокоения всех половых инстинк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7" descr="Cola"/>
          <p:cNvPicPr/>
          <p:nvPr/>
        </p:nvPicPr>
        <p:blipFill>
          <a:blip r:embed="rId1"/>
          <a:stretch/>
        </p:blipFill>
        <p:spPr>
          <a:xfrm>
            <a:off x="2484360" y="306360"/>
            <a:ext cx="4319640" cy="28908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7786800" cy="9363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Что будет с телом, если  выпить Кока-колу?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125000"/>
            <a:ext cx="37544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ff99"/>
                </a:solidFill>
                <a:uFillTx/>
                <a:latin typeface="Garamond"/>
              </a:rPr>
              <a:t>Через 10 минут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10 чайных ложек сахара “ударят” по вашей системе. Вас не тянет рвать, потому что фосфорная кислота подавляет действие сахара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 u="sng">
                <a:solidFill>
                  <a:srgbClr val="99ff99"/>
                </a:solidFill>
                <a:uFillTx/>
                <a:latin typeface="Garamond"/>
              </a:rPr>
              <a:t>Через 20 минут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Произойдет скачок инсулина в крови. Печень превращает весь сахар в жиры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99ff99"/>
                </a:solidFill>
                <a:uFillTx/>
                <a:latin typeface="Garamond"/>
              </a:rPr>
              <a:t>Через 40 минут.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Поглощение кофеина завершено. Ваши зрачки расширятся. Кровяное давление увеличится. </a:t>
            </a:r>
            <a:br>
              <a:rPr sz="2000"/>
            </a:br>
            <a:br>
              <a:rPr sz="20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4" descr="1189881014_cola"/>
          <p:cNvPicPr/>
          <p:nvPr/>
        </p:nvPicPr>
        <p:blipFill>
          <a:blip r:embed="rId1"/>
          <a:stretch/>
        </p:blipFill>
        <p:spPr>
          <a:xfrm>
            <a:off x="4284720" y="1341360"/>
            <a:ext cx="3959280" cy="42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1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4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4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-11880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ff99"/>
                </a:solidFill>
                <a:latin typeface="Garamond"/>
              </a:rPr>
              <a:t>     </a:t>
            </a:r>
            <a:r>
              <a:rPr b="1" lang="ru-RU" sz="2400" spc="-1" strike="noStrike" u="sng">
                <a:solidFill>
                  <a:srgbClr val="99ff99"/>
                </a:solidFill>
                <a:uFillTx/>
                <a:latin typeface="Garamond"/>
              </a:rPr>
              <a:t>Через 45 минут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Ваше тело увеличит производство гормона дофамина, стимулирующего центр удовольствия мозга. Такой же принцип действия у героина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 u="sng">
                <a:solidFill>
                  <a:srgbClr val="99ff99"/>
                </a:solidFill>
                <a:uFillTx/>
                <a:latin typeface="Garamond"/>
              </a:rPr>
              <a:t>Спустя час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Фосфорная кислота связывает кальций, магний и цинк в вашем кишечнике, ускоряя метаболизм. Увеличивается выделения кальция через мочу.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99ff99"/>
                </a:solidFill>
                <a:uFillTx/>
                <a:latin typeface="Garamond"/>
              </a:rPr>
              <a:t>Более чем через час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Мочегонные действия входит в игру. Выводятся кальций, магний и цинк, которые находятся в ваших костях, так же как и натрий, электролит и в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br>
              <a:rPr sz="2400"/>
            </a:br>
            <a:r>
              <a:rPr b="1" lang="ru-RU" sz="2400" spc="-1" strike="noStrike" u="sng">
                <a:solidFill>
                  <a:srgbClr val="99ff99"/>
                </a:solidFill>
                <a:uFillTx/>
                <a:latin typeface="Garamond"/>
              </a:rPr>
              <a:t>Более чем через два часа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Вы становитесь раздражительным или вялым. Вся вода, содержащая в кока-коле, выводится через мочу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627280" y="475920"/>
            <a:ext cx="3673440" cy="8650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Циклама</a:t>
            </a: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т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- синтетическое вещество на основе нефти, слаще сахара в 200 раз, канцероген, провоцирует рак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6" descr="29897"/>
          <p:cNvPicPr/>
          <p:nvPr/>
        </p:nvPicPr>
        <p:blipFill>
          <a:blip r:embed="rId1"/>
          <a:stretch/>
        </p:blipFill>
        <p:spPr>
          <a:xfrm>
            <a:off x="468360" y="1628640"/>
            <a:ext cx="3959280" cy="446436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0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700"/>
                            </p:stCondLst>
                            <p:childTnLst>
                              <p:par>
                                <p:cTn id="4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2200"/>
                            </p:stCondLst>
                            <p:childTnLst>
                              <p:par>
                                <p:cTn id="45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3300"/>
                </a:solidFill>
                <a:latin typeface="Arial"/>
              </a:rPr>
              <a:t>Подумайте хорошенько прежде, чем отправлять такую жидкость в желудок!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62" name="Picture 8" descr="yp_summer2"/>
          <p:cNvPicPr/>
          <p:nvPr/>
        </p:nvPicPr>
        <p:blipFill>
          <a:blip r:embed="rId1"/>
          <a:stretch/>
        </p:blipFill>
        <p:spPr>
          <a:xfrm>
            <a:off x="1835280" y="1989000"/>
            <a:ext cx="5184720" cy="436752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000"/>
                            </p:stCondLst>
                            <p:childTnLst>
                              <p:par>
                                <p:cTn id="47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-3888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3213000"/>
            <a:ext cx="4043520" cy="29131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содержат так называемые скрытые жиры, все это вуалируется ароматизаторами и заменителями вкусов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47960" y="333000"/>
            <a:ext cx="4027320" cy="28083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гигантское количество калорий в сочетании с химическими добавками, генетически модифицированными продуктами, красителями и ароматизаторам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6" name="Picture 7" descr="mars_einer_start"/>
          <p:cNvPicPr/>
          <p:nvPr/>
        </p:nvPicPr>
        <p:blipFill>
          <a:blip r:embed="rId1"/>
          <a:stretch/>
        </p:blipFill>
        <p:spPr>
          <a:xfrm>
            <a:off x="611280" y="476280"/>
            <a:ext cx="3887640" cy="20476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8" descr="481d755f4a"/>
          <p:cNvPicPr/>
          <p:nvPr/>
        </p:nvPicPr>
        <p:blipFill>
          <a:blip r:embed="rId2"/>
          <a:stretch/>
        </p:blipFill>
        <p:spPr>
          <a:xfrm>
            <a:off x="4788000" y="3213000"/>
            <a:ext cx="3887640" cy="29163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0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000"/>
                            </p:stCondLst>
                            <p:childTnLst>
                              <p:par>
                                <p:cTn id="52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-38880"/>
            <a:ext cx="7931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6840" y="3938760"/>
            <a:ext cx="2746440" cy="24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348000" y="333360"/>
            <a:ext cx="460872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держит огромное количество жиров и углеводов, а также красители, подсластители, заменители и так далее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се это сплошная химия, наносящая несомненный вред вашему организму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оль понижает давление, нарушает соле-кисловой баланс в организме, способствует скоплению токсин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13" descr="l559-1"/>
          <p:cNvPicPr/>
          <p:nvPr/>
        </p:nvPicPr>
        <p:blipFill>
          <a:blip r:embed="rId1"/>
          <a:stretch/>
        </p:blipFill>
        <p:spPr>
          <a:xfrm>
            <a:off x="7885080" y="333360"/>
            <a:ext cx="938160" cy="2232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4" descr="59E277A21015"/>
          <p:cNvPicPr/>
          <p:nvPr/>
        </p:nvPicPr>
        <p:blipFill>
          <a:blip r:embed="rId2"/>
          <a:stretch/>
        </p:blipFill>
        <p:spPr>
          <a:xfrm>
            <a:off x="395280" y="2133720"/>
            <a:ext cx="2743200" cy="14382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6" descr="089283"/>
          <p:cNvPicPr/>
          <p:nvPr/>
        </p:nvPicPr>
        <p:blipFill>
          <a:blip r:embed="rId3"/>
          <a:stretch/>
        </p:blipFill>
        <p:spPr>
          <a:xfrm>
            <a:off x="468360" y="4076640"/>
            <a:ext cx="2736720" cy="18194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8" descr="____www_sostav_ru_articles_rus_2008_29_01_news_images_1skit_02-m"/>
          <p:cNvPicPr/>
          <p:nvPr/>
        </p:nvPicPr>
        <p:blipFill>
          <a:blip r:embed="rId4"/>
          <a:stretch/>
        </p:blipFill>
        <p:spPr>
          <a:xfrm>
            <a:off x="468360" y="260280"/>
            <a:ext cx="2590920" cy="1801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1000"/>
                            </p:stCondLst>
                            <p:childTnLst>
                              <p:par>
                                <p:cTn id="54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1000"/>
                            </p:stCondLst>
                            <p:childTnLst>
                              <p:par>
                                <p:cTn id="5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00ff"/>
                </a:solidFill>
                <a:latin typeface="Arial"/>
              </a:rPr>
              <a:t>Фаст-фуд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4" descr="a8def86b510ca8b1b8ec760b6dba8f21"/>
          <p:cNvPicPr/>
          <p:nvPr/>
        </p:nvPicPr>
        <p:blipFill>
          <a:blip r:embed="rId1"/>
          <a:stretch/>
        </p:blipFill>
        <p:spPr>
          <a:xfrm>
            <a:off x="539640" y="1628640"/>
            <a:ext cx="8136000" cy="446436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000"/>
                            </p:stCondLst>
                            <p:childTnLst>
                              <p:par>
                                <p:cTn id="5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solidFill>
            <a:srgbClr val="008ae8"/>
          </a:solidFill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99"/>
                </a:solidFill>
                <a:latin typeface="Arial"/>
              </a:rPr>
              <a:t>Питание- необходимость человека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Picture 4" descr="13d3e38b4b24e0af1b42beb2489c08f5"/>
          <p:cNvPicPr/>
          <p:nvPr/>
        </p:nvPicPr>
        <p:blipFill>
          <a:blip r:embed="rId1"/>
          <a:stretch/>
        </p:blipFill>
        <p:spPr>
          <a:xfrm>
            <a:off x="1187280" y="1700280"/>
            <a:ext cx="6481800" cy="4303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3040"/>
                            </p:stCondLst>
                            <p:childTnLst>
                              <p:par>
                                <p:cTn id="3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6192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648320" y="692280"/>
            <a:ext cx="4038480" cy="54338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По данным, на сегодняшний день в мире страдают ожирением или имеют лишний вес более 177 млн детей, причем из них 22 млн -малыши в возрасте до пяти лет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Picture 7" descr="949ae1443739"/>
          <p:cNvPicPr/>
          <p:nvPr/>
        </p:nvPicPr>
        <p:blipFill>
          <a:blip r:embed="rId1"/>
          <a:stretch/>
        </p:blipFill>
        <p:spPr>
          <a:xfrm>
            <a:off x="684360" y="3500280"/>
            <a:ext cx="3887640" cy="27036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6e4dc3f8df77beba54cd4960ee56550b"/>
          <p:cNvPicPr/>
          <p:nvPr/>
        </p:nvPicPr>
        <p:blipFill>
          <a:blip r:embed="rId2"/>
          <a:stretch/>
        </p:blipFill>
        <p:spPr>
          <a:xfrm>
            <a:off x="684360" y="692280"/>
            <a:ext cx="3870000" cy="27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0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-1044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335772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одном кебабе содержится в среднем 120 г жира, при том что дневная норма потребления жиров не должна превышать 70—80 г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7" descr="fast"/>
          <p:cNvPicPr/>
          <p:nvPr/>
        </p:nvPicPr>
        <p:blipFill>
          <a:blip r:embed="rId1"/>
          <a:stretch/>
        </p:blipFill>
        <p:spPr>
          <a:xfrm>
            <a:off x="2120760" y="333360"/>
            <a:ext cx="48895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0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9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1000"/>
                            </p:stCondLst>
                            <p:childTnLst>
                              <p:par>
                                <p:cTn id="6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2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-3888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4038480" cy="57931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Жир, содержащийся в фаст-фуде, состоит преимущественно из насыщенных жирных кислот, которые при попадании в организм откладываются на стенках сосудов и способствуют развитию атеросклероза, а также повышению уровня холестерина в крови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64832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Picture 7" descr="21_01_00"/>
          <p:cNvPicPr/>
          <p:nvPr/>
        </p:nvPicPr>
        <p:blipFill>
          <a:blip r:embed="rId1"/>
          <a:stretch/>
        </p:blipFill>
        <p:spPr>
          <a:xfrm>
            <a:off x="4643280" y="404640"/>
            <a:ext cx="4059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ПОЛЕЗНЫЕ ПРОДУКТ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648320" y="1413000"/>
            <a:ext cx="40384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Garamond"/>
              </a:rPr>
              <a:t>В яблоках содержатся  кислоты, кот. помогают бороться с гнилостными бактериями. В состав яблок входит вещество (кверцетин), замедляющее рост раковых клеток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Лук не просто полезный продукт, но и панацея от всех болезн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Picture 7" descr="131107"/>
          <p:cNvPicPr/>
          <p:nvPr/>
        </p:nvPicPr>
        <p:blipFill>
          <a:blip r:embed="rId1"/>
          <a:stretch/>
        </p:blipFill>
        <p:spPr>
          <a:xfrm>
            <a:off x="755640" y="1484280"/>
            <a:ext cx="3311640" cy="23842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8" descr="luk4_small"/>
          <p:cNvPicPr/>
          <p:nvPr/>
        </p:nvPicPr>
        <p:blipFill>
          <a:blip r:embed="rId2"/>
          <a:stretch/>
        </p:blipFill>
        <p:spPr>
          <a:xfrm>
            <a:off x="1467000" y="3938760"/>
            <a:ext cx="2017440" cy="21873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0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1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8" dur="1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-38880"/>
            <a:ext cx="82915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огат полезными веществами, силен в борьбе с простудными заболеваниями. Кроме этого чеснок нормализует флору вашего желудка, убивая вредные микроорганизмы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Морковь содержит бета-каротин, который превращается в нашем организме в витамин А. Очень полезна морковь для зрения, также она предотвращает возникновение раковых заболеваний, особенно рака кожи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642920" y="404280"/>
            <a:ext cx="40388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648320" y="3284280"/>
            <a:ext cx="4038480" cy="284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Picture 12" descr="111949_39"/>
          <p:cNvPicPr/>
          <p:nvPr/>
        </p:nvPicPr>
        <p:blipFill>
          <a:blip r:embed="rId1"/>
          <a:stretch/>
        </p:blipFill>
        <p:spPr>
          <a:xfrm>
            <a:off x="4788000" y="476280"/>
            <a:ext cx="3763800" cy="25257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13" descr="morkva"/>
          <p:cNvPicPr/>
          <p:nvPr/>
        </p:nvPicPr>
        <p:blipFill>
          <a:blip r:embed="rId2"/>
          <a:stretch/>
        </p:blipFill>
        <p:spPr>
          <a:xfrm>
            <a:off x="5292720" y="3068640"/>
            <a:ext cx="2755800" cy="3392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000"/>
                            </p:stCondLst>
                            <p:childTnLst>
                              <p:par>
                                <p:cTn id="670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2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2000"/>
                            </p:stCondLst>
                            <p:childTnLst>
                              <p:par>
                                <p:cTn id="684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6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-55440"/>
            <a:ext cx="8136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рехи полезны для работы сердца, для зрения, на 25-30 процентов снижают риск заболевания сахарным диабетом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 Присутствующие в жирной рыбе в большом количестве ненасыщенные жирные кислоты являются хорошей преградой для оседания холестерина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642920" y="333360"/>
            <a:ext cx="403884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648320" y="3213000"/>
            <a:ext cx="4038480" cy="29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8" descr="orex"/>
          <p:cNvPicPr/>
          <p:nvPr/>
        </p:nvPicPr>
        <p:blipFill>
          <a:blip r:embed="rId1"/>
          <a:stretch/>
        </p:blipFill>
        <p:spPr>
          <a:xfrm>
            <a:off x="4716360" y="333360"/>
            <a:ext cx="3527640" cy="26319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9" descr="mtf_fish"/>
          <p:cNvPicPr/>
          <p:nvPr/>
        </p:nvPicPr>
        <p:blipFill>
          <a:blip r:embed="rId2"/>
          <a:stretch/>
        </p:blipFill>
        <p:spPr>
          <a:xfrm>
            <a:off x="4716360" y="3429000"/>
            <a:ext cx="3529080" cy="252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0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5000"/>
                            </p:stCondLst>
                            <p:childTnLst>
                              <p:par>
                                <p:cTn id="69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0"/>
                            </p:stCondLst>
                            <p:childTnLst>
                              <p:par>
                                <p:cTn id="7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-3888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64832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ить каждый день зеленый чай – это не просто дань моде, это очень полезно для здоровья. Зеленый чай снижает риск инсультов, улучшает иммунную систему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10" descr="5862-original"/>
          <p:cNvPicPr/>
          <p:nvPr/>
        </p:nvPicPr>
        <p:blipFill>
          <a:blip r:embed="rId1"/>
          <a:stretch/>
        </p:blipFill>
        <p:spPr>
          <a:xfrm>
            <a:off x="539640" y="476280"/>
            <a:ext cx="36864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-3888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9280" y="404280"/>
            <a:ext cx="403884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64832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ед является природным заменителем сахара. Мед не только замечательное средство для лечения простудных заболеваний, он полезен также и для работы сердечно-сосудистой системы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молоке содержится столь необходимый организму кальций, укрепляющий кости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8" descr="112464_1"/>
          <p:cNvPicPr/>
          <p:nvPr/>
        </p:nvPicPr>
        <p:blipFill>
          <a:blip r:embed="rId1"/>
          <a:stretch/>
        </p:blipFill>
        <p:spPr>
          <a:xfrm>
            <a:off x="971640" y="3573360"/>
            <a:ext cx="2808360" cy="2808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1" descr="1184333640_art2303_171"/>
          <p:cNvPicPr/>
          <p:nvPr/>
        </p:nvPicPr>
        <p:blipFill>
          <a:blip r:embed="rId2"/>
          <a:stretch/>
        </p:blipFill>
        <p:spPr>
          <a:xfrm>
            <a:off x="1332000" y="333360"/>
            <a:ext cx="224316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0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9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1000"/>
                            </p:stCondLst>
                            <p:childTnLst>
                              <p:par>
                                <p:cTn id="73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9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9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000"/>
                            </p:stCondLst>
                            <p:childTnLst>
                              <p:par>
                                <p:cTn id="74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1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-38880"/>
            <a:ext cx="81471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68360" y="333360"/>
            <a:ext cx="4038480" cy="29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95280" y="3357360"/>
            <a:ext cx="4038480" cy="276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4832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ананы снимают стрессы и восполняют утраченные силы. Нормализуют работу кишечника и чудесным образом заменяют слабительные средств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к черные, так и зеленые оливки обладают массой полезных для организма питательных веществ, витаминов и микроэлемент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9" name="Picture 8" descr="untitled"/>
          <p:cNvPicPr/>
          <p:nvPr/>
        </p:nvPicPr>
        <p:blipFill>
          <a:blip r:embed="rId1"/>
          <a:stretch/>
        </p:blipFill>
        <p:spPr>
          <a:xfrm>
            <a:off x="684360" y="333360"/>
            <a:ext cx="3600360" cy="287964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9" descr="99961208361299_556754_34008906"/>
          <p:cNvPicPr/>
          <p:nvPr/>
        </p:nvPicPr>
        <p:blipFill>
          <a:blip r:embed="rId2"/>
          <a:stretch/>
        </p:blipFill>
        <p:spPr>
          <a:xfrm>
            <a:off x="539640" y="3429000"/>
            <a:ext cx="3816360" cy="26049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fill="hold">
                      <p:stCondLst>
                        <p:cond delay="0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500"/>
                            </p:stCondLst>
                            <p:childTnLst>
                              <p:par>
                                <p:cTn id="7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1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3" dur="1000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002440" cy="228744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Наше здоровье – в наших руках и не стоит «ждать милостей от природы».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2491920"/>
            <a:ext cx="8147160" cy="43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4" descr="ulibka_rebenka_delaet_mat_schastlivoi"/>
          <p:cNvPicPr/>
          <p:nvPr/>
        </p:nvPicPr>
        <p:blipFill>
          <a:blip r:embed="rId1"/>
          <a:stretch/>
        </p:blipFill>
        <p:spPr>
          <a:xfrm>
            <a:off x="2484360" y="2631960"/>
            <a:ext cx="4535640" cy="4110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fill="hold">
                      <p:stCondLst>
                        <p:cond delay="0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280"/>
                            </p:stCondLst>
                            <p:childTnLst>
                              <p:par>
                                <p:cTn id="79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6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064720" cy="792000"/>
          </a:xfrm>
          <a:prstGeom prst="rect">
            <a:avLst/>
          </a:prstGeom>
          <a:solidFill>
            <a:srgbClr val="0068ae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ccecff"/>
                </a:solidFill>
                <a:latin typeface="Garamond"/>
              </a:rPr>
              <a:t>Пища оказывает значительное влияние на человека. Она дает:</a:t>
            </a:r>
            <a:br>
              <a:rPr sz="4000"/>
            </a:b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нерг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ил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звит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доровь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Здоровье человека на 70% зависит от питания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Пища зачастую является основным источником большинства заболеваний, однако с её же помощью можно и избавиться от многолетних недугов.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147160" cy="56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29152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18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cc00ff"/>
                </a:solidFill>
                <a:latin typeface="Arial"/>
              </a:rPr>
              <a:t>конец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0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ff"/>
                </a:solidFill>
                <a:latin typeface="Arial"/>
              </a:rPr>
              <a:t>Что такое здоровое питание</a:t>
            </a:r>
            <a:r>
              <a:rPr b="0" lang="ru-RU" sz="4000" spc="-1" strike="noStrike">
                <a:solidFill>
                  <a:srgbClr val="cc00ff"/>
                </a:solidFill>
                <a:latin typeface="Arial"/>
              </a:rPr>
              <a:t>?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нообразие продуктов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балансированный рацион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кусн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дорог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езно для все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6" descr="PRODUKT1"/>
          <p:cNvPicPr/>
          <p:nvPr/>
        </p:nvPicPr>
        <p:blipFill>
          <a:blip r:embed="rId1"/>
          <a:stretch/>
        </p:blipFill>
        <p:spPr>
          <a:xfrm>
            <a:off x="4716360" y="1700280"/>
            <a:ext cx="395928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98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ff99"/>
                </a:solidFill>
                <a:latin typeface="Arial"/>
              </a:rPr>
              <a:t>“</a:t>
            </a:r>
            <a:r>
              <a:rPr b="0" lang="ru-RU" sz="4400" spc="-1" strike="noStrike" u="sng">
                <a:solidFill>
                  <a:srgbClr val="99ff99"/>
                </a:solidFill>
                <a:uFillTx/>
                <a:latin typeface="Arial"/>
              </a:rPr>
              <a:t>Дневник желудка</a:t>
            </a:r>
            <a:r>
              <a:rPr b="0" lang="ru-RU" sz="4400" spc="-1" strike="noStrike">
                <a:solidFill>
                  <a:srgbClr val="99ff99"/>
                </a:solidFill>
                <a:latin typeface="Arial"/>
              </a:rPr>
              <a:t>”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1162080" cy="44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: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: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0:50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2:0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1619280" y="1413000"/>
            <a:ext cx="70675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“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Да, предстоит еще один горячий денек. Интересно, как со мной обойдутся сегодня. Если все будет также, как вчера, я объявлю забастовку. С утра она уже проглотила завтрак почти не пережевывая, по пути на поезд. Я так утомился, что пришлось трудится в два раза дольше.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“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олько, что прибыли два стакана чая. Теперь они помешают усвоению того небольшого количества железа, которое поступило с завтраком. А она еще жалуется на усталость!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“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оглоченный на ходу завтрак, видимо, совсем не удовлетворил ее, поэтому она купила еще арахисовых орешков.”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Орешки поступали с завидным постоянством. Мне кажется, она только что покончила с ними. Обед, таким образом можно считать пропущенным.”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-29160"/>
            <a:ext cx="8002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9460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: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1: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2: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3: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4: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4: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6: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7: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7: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1476000" y="333000"/>
            <a:ext cx="721044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“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Еще чай со льдом.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“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счет орешков я ошибся; она отыскала где-то на дне сумки еще одну горсть; сейчас придется заняться и с ними.”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Ледяная вода... как это больно и неприятно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“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то-то принес ей коробку конфет.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“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ишлось принять уже полфунта конфет. Только, что слышал, как она сказала: ‘Что-то мне нехорошо. Наверное это прокисшее молоко.’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“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Кто-то предложил ей выпить кока-колы. Она выпила, а потом побежала на поезд. ”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еред ужином она сыграла партию в теннис.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“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Жареный картофель, зеленый горошек и кукуруза, кусок говядины и голубика. Что вы думаете о таком сочетании?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“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Сейчас она собирается поехать в город и полакомиться   мороженным.”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-10440"/>
            <a:ext cx="8218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11620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8:2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8: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8:4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8:5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9: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9: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763280" y="404280"/>
            <a:ext cx="692316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“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о приезду домой увидела, что на столе стоит кувшин с разведенным лимонадом и залпом выпила два стакана. И это поверх мороженого. Все, с меня хватит, я объявляю забастовку! 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“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Мороженое и лимонад я отослал обратно.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“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Теперь настал черед голубики.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“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 говядины.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“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Она послала за врачом; думает, что это все из-за испорченного мороженого. Ее мать говорит, что она унаследовала слабый желудок от отца.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     “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Доктор сказал, что у меня небольшое расстройство из-за жаркой погоды. Спокойной ночи.”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66"/>
                </a:solidFill>
                <a:uFillTx/>
                <a:latin typeface="Garamond"/>
              </a:rPr>
              <a:t>Все самое приятное в этом мире либо аморально, либо ведет к ожирению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34" descr="menu"/>
          <p:cNvPicPr/>
          <p:nvPr/>
        </p:nvPicPr>
        <p:blipFill>
          <a:blip r:embed="rId1"/>
          <a:stretch/>
        </p:blipFill>
        <p:spPr>
          <a:xfrm>
            <a:off x="2411280" y="1484280"/>
            <a:ext cx="4187880" cy="496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Самые вредные продукты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788000" y="1125360"/>
            <a:ext cx="4038480" cy="489600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Жевательные конфеты, пастила в яркой упаковке, «чупа-чупсы» - всё это, без сомнения, вредные продукты. Мало того, что все они содержат огромное количество сахара, так ещё и химические добавки, красители, заменители и так далее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7" descr="post-3-1213875972_thumb"/>
          <p:cNvPicPr/>
          <p:nvPr/>
        </p:nvPicPr>
        <p:blipFill>
          <a:blip r:embed="rId1"/>
          <a:stretch/>
        </p:blipFill>
        <p:spPr>
          <a:xfrm>
            <a:off x="2484360" y="981000"/>
            <a:ext cx="2100240" cy="2592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8" descr="a1892cb91c25"/>
          <p:cNvPicPr/>
          <p:nvPr/>
        </p:nvPicPr>
        <p:blipFill>
          <a:blip r:embed="rId2"/>
          <a:stretch/>
        </p:blipFill>
        <p:spPr>
          <a:xfrm>
            <a:off x="250920" y="907920"/>
            <a:ext cx="2054160" cy="2737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5" descr="image1096"/>
          <p:cNvPicPr/>
          <p:nvPr/>
        </p:nvPicPr>
        <p:blipFill>
          <a:blip r:embed="rId3"/>
          <a:stretch/>
        </p:blipFill>
        <p:spPr>
          <a:xfrm>
            <a:off x="1042920" y="3860640"/>
            <a:ext cx="30290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3000"/>
                            </p:stCondLst>
                            <p:childTnLst>
                              <p:par>
                                <p:cTn id="305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7T17:25:44Z</dcterms:created>
  <dc:creator>YA_KUDZA</dc:creator>
  <dc:description/>
  <dc:language>en-US</dc:language>
  <cp:lastModifiedBy>Samsung</cp:lastModifiedBy>
  <dcterms:modified xsi:type="dcterms:W3CDTF">2018-07-11T07:01:50Z</dcterms:modified>
  <cp:revision>9</cp:revision>
  <dc:subject/>
  <dc:title>Правильное питание</dc:title>
</cp:coreProperties>
</file>