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8C4-1D56-43A4-91A4-123B7F1F06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9DD-5B87-4CA7-8CFD-FB620723A59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EA48-DFCA-4088-863A-E6AFA39A83F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0386-13B6-4960-82F1-33AE2A996F3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A4AE-9E09-4757-B00B-A64D050D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5697-29C6-486B-B6E7-B08EB665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FB54-8262-4070-9295-E5CF5E78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C481-BDFC-4BE3-847B-9844C4B6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F4C7-B736-4D6F-9FEA-36CC0F1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CF8D-56B7-43BF-8864-00373930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91D-D4E5-4D79-AE17-B75D424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9B8-B59D-4990-9C1E-25C4723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E4D0-6F66-4BA6-9D24-990C0D8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48B-69B2-4356-9A09-ECDDC78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6A4-5A57-4FF7-9D54-55D3AF6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A9BC-E8F5-4E34-AC22-5F2568C7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A732-848D-4A13-9AA5-74F646C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88E-23CD-4E8C-B52F-A50203E6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F50-A306-4676-93A5-4EB9508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CD2-D8A8-41AF-81D5-524E91C7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48B-AD0F-43EF-8181-5FBB0EC7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7530-6E11-475E-B70A-50D6C93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4B00-4CBC-4148-83DB-7D48DC0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3A2B-9D59-4E91-A4C3-7170E2B2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1D63-885E-4EE7-A1A2-0AE1296A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21D8-F469-4F97-AEA0-289A2E0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FD8B-AF78-4B2D-9D6A-26D88D3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88F5-3A37-4B49-BDE9-DA148298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D44A-1C54-4363-B2BF-09398445B83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948D-EC5C-45F6-8DDC-2B0622FEDD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aa68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698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Работа ученицы 7-го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Гарановой Ан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Руководитель: Жидкова Гали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332000" y="692280"/>
            <a:ext cx="63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ЧИСЛОВЫЕ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 </a:t>
            </a: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СУЕВЕРИЯ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800440" y="706320"/>
            <a:ext cx="3456000" cy="229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468360" y="738360"/>
            <a:ext cx="1792080" cy="2755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673680" y="1333440"/>
            <a:ext cx="216252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5580000" y="4282920"/>
            <a:ext cx="24638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360" y="259920"/>
            <a:ext cx="4317840" cy="597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нак замкнутого пространства и временного цикла.Символ силы, устойчивости и прочност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2735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75308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движения, число свободы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истическое значение числа подчеркивалось в пятиконечной звезде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68000" y="333360"/>
            <a:ext cx="33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97000"/>
            <a:ext cx="8497800" cy="603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пять значимо в христианстве: Иисус накормил пятью хлебами 4000 человек; пять ран Христовых многократно запечатлены в живописи и скульптур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839000" y="-2332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9280" y="115560"/>
            <a:ext cx="5545080" cy="62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 народе ассоциируется с нечистой силой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Число творения». Бог создал мир за 6 дней. В славянской символике – символ солнц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2735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64000" y="115920"/>
            <a:ext cx="5472000" cy="619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инственное число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вященное, божественное и счастливое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грает важную роль в религиях и верованиях людей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63600" y="115920"/>
            <a:ext cx="2984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040" y="619200"/>
            <a:ext cx="1126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4879800" y="260280"/>
            <a:ext cx="3005280" cy="252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47760" y="895320"/>
            <a:ext cx="2843280" cy="2762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875640" y="3195720"/>
            <a:ext cx="1900080" cy="340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3"/>
          <p:cNvSpPr>
            <a:spLocks noGrp="1"/>
          </p:cNvSpPr>
          <p:nvPr>
            <p:ph type="subTitle"/>
          </p:nvPr>
        </p:nvSpPr>
        <p:spPr>
          <a:xfrm>
            <a:off x="1371600" y="16804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ubTitle"/>
          </p:nvPr>
        </p:nvSpPr>
        <p:spPr>
          <a:xfrm>
            <a:off x="1371600" y="14338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4"/>
          <a:stretch/>
        </p:blipFill>
        <p:spPr>
          <a:xfrm>
            <a:off x="1908000" y="4008600"/>
            <a:ext cx="34830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392720" cy="59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Река Стикс, окружавшая подземное царство, 7 раз обтекает ад, разделенный на 7 областей.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Известно 7 смертных грехов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неделя делилась на 7 дней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На земле – 7 чудес света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956720" y="-60624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619440" cy="208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6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5219640" y="4653000"/>
            <a:ext cx="374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24360" y="260280"/>
            <a:ext cx="496872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имвол любви. В перевернутом виде представляет знак бесконечности, что символизирует два мира – материальный и духовный. По Пифагору «8» – символ гармонии, священное числ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2951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13440" cy="612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читание числа было свойственно многим народам, фигурирует в Зодиаке. У славян поминки по усопшему отправляются на 9-й день после его кончин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8000" y="333360"/>
            <a:ext cx="316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2664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Ц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смотреть различные магические чис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сследовать появление  числовых суевер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1640" y="404280"/>
            <a:ext cx="388620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имвол гармонии и полнот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56000" y="189000"/>
            <a:ext cx="44640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предки относили 11 к нехорошим числам. Оно состоит из двух единиц, усиливая их действ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360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3640" y="208080"/>
            <a:ext cx="5689440" cy="602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читается сверхсовершенным числом, символом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философского камня»,  символом полноты,богатства, счастливым числ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324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3280" y="980640"/>
            <a:ext cx="381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79280" y="404640"/>
            <a:ext cx="518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исус  Христос был 13-м участником тайной вечери вместе с 12-ю апосто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5796000" y="549360"/>
            <a:ext cx="289548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5940360" y="3206880"/>
            <a:ext cx="2895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3 особенно несчастливо, если выпадает на пятницу- день распятия Христа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роме того в христианстве 13- символ предательст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амо имя Иисуса Христа пишется 13-ю буквами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библии перечисляются 13 важных качеств Бога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 племен майя 13 считалось священным числ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7640" y="404640"/>
            <a:ext cx="5616720" cy="532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вященное число многих духовных традиций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 наших предков – славян не было суеверий, связанных с числом 33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50560" y="404640"/>
            <a:ext cx="331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08000" y="259920"/>
            <a:ext cx="511164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 библейскому рассказу при всемирном потопе дождь шел 40 дней. По преданию, евреи странствовали в пустыне 40 лет. Между сказочным воскресением Христа и вознесением его на небо прошло 40 дн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0760" y="549360"/>
            <a:ext cx="3657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575928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о многих вавилонских, персидских и греческих легендах синонимом самого большого представлялось 60. Оно считалось божьим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15560"/>
            <a:ext cx="3995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4392720" cy="655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зверя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 разных странах христиане обозначали этим числом неугодных церкви правител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439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666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сследовать значение чисе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вести опрос среди учащихся, учителей и родител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67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, что при жизни Петра І на него смотрели, как на антихриста, число которого 66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ерой романа Л. Н. Толстого Пьер Безухов(«Война и мир»), подсчитывая по значению букв численное значение имени Наполеона пришел к выводу, что он и есть тот зверь, о котором написано в Библии, а поэтому он, Пьер Безухов, должен убить Наполео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66600" cy="223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6732720" y="3429000"/>
            <a:ext cx="200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9280" y="0"/>
          <a:ext cx="8856720" cy="71056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79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-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Верите ли вы в какие-либо приметы, связ-е с числам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Верите ли вы в счастливый бил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читаете ли вы 13 несчастливы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читаете ли вы 7 счастливы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Произошли ли с вами случаи, связ-е с 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7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79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Боитесь ли вы пятницу-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7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92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- 5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тали бы вы жить в доме №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82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17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5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аключени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98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е выступление я хотела бы закончить словами французского писателя Тристана Бернара, который мудро пошутил: «Не будьте суеверны, это приносит несчастье. Счастливым может стать любое число. Давайте только в это верить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ИПОТЕЗ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ем старше человек, тем он сильнее подвержен числовым суеверия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11280" y="260280"/>
            <a:ext cx="493236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ера в колдовские свойства чисел восходит к временам, когда возникал счет. У многих племен «считать» означало «сглазить», «околдовать»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24720" y="2636640"/>
            <a:ext cx="119232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4076640"/>
            <a:ext cx="3816360" cy="252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684360" y="0"/>
            <a:ext cx="3241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0749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ЯВЛЯЕТ СОБОЙ И СИМВОЛ ПУСТОТЫ И ЦЕЛОСТНОСТЬ ВСЕЛЕННОЙ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9080" y="907560"/>
            <a:ext cx="766764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0749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НЕДЕЛИМОЕ, ЦЕЛОСТНОЕ, ТАКОЕ КАК БОГ, КОСМОС, ВСЕЛЕННА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315280" cy="59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4603680" cy="5322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ИМВОЛ РАЗДЕЛЕНИЯ ЦЕЛОГО НА ЧАСТИ, ОТДЕЛЬНОСТИ ЧЕЛОВЕКА ОТ МИРА, ПРИРОДЫ И ДРУГИХ ЛЮД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2592360" cy="481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4603680" cy="5322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ЕРВОЕ ЧИСЛО В МАГИЧЕСКОМ РЯДУ ЧИСЕЛ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ЗАКЛЯТИЯ И ЗАГОВОРЫ ДЛЯ ПРИДАНИЯ ИМ КОЛДОВСКОЙ СИЛЫ ПРОИЗНОСЯТСЯ ТРИЖ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2592360" cy="481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8:22:38Z</dcterms:created>
  <dc:creator>1</dc:creator>
  <dc:description/>
  <dc:language>en-US</dc:language>
  <cp:lastModifiedBy>Галина</cp:lastModifiedBy>
  <dcterms:modified xsi:type="dcterms:W3CDTF">2018-06-07T11:48:14Z</dcterms:modified>
  <cp:revision>29</cp:revision>
  <dc:subject/>
  <dc:title>Вот один иль единица, Очень тонкая, как спица!</dc:title>
</cp:coreProperties>
</file>