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D7DA7-E407-4F56-8C57-CA8AF44EEBB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93561-76F9-4880-89DB-BDC442873BAE}" type="slidenum">
              <a:rPr b="0" lang="ru-RU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19BCD-B395-4DA1-A54D-A5ED1E338145}" type="slidenum">
              <a:rPr b="0" lang="ru-RU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A005C-32D6-4C5E-8345-CE3137D48829}" type="slidenum">
              <a:rPr b="0" lang="ru-RU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D906F0-2A7F-4CB3-AE1E-E7C4970D0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CD730D-890D-4B64-9BAC-BA526EC3E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0494C4-FF9B-4F74-9BD9-53ABA9C6D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6A4A0C-5C8A-45FC-8616-73DE4306C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15C4C-2925-461F-B202-1A655942F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F664E-9BE1-46CE-86DE-30E9FD41B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64C94-2476-41DD-AF53-9D4022408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14A60-AAB4-467C-801C-6440170B3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ECD35-BCB8-41FC-8740-582785681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C8AF1-B5C9-41CF-BECF-EF6A90224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BD772-EC5C-4A7C-8B77-078E701F1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3D6E35-FA29-475F-A17C-5A5EF28FB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7D527-306E-46B3-8348-3F7F1AC2A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6D9D3-816D-48F2-B90B-0E9465783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98F0A-E29D-4E8C-8A8D-A5F712CE6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79F41-54D7-49E6-A41B-EF2EFA1D8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1D263-7019-40EB-99C6-412A9032F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F9F0E8-DAE0-4FDE-BF12-5E910073A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F7D82C-8FAB-4FEF-82AE-8EFAE896B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BA7CF4-01FC-4B23-8171-6850FB9FC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6945F4-6159-4E04-A1AA-1216A122F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8076AF-67FC-4A56-B75C-0D37CC078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1DAB1A-899D-4B49-95EA-3A40DEB5D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EEBF6F-B9EF-47BF-A4D9-A3CB5F800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B2DA9-006A-4CC9-869A-D0D564E6EDF6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53906-08D0-47B4-89FC-BFBAACFFF0B2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aa68"/>
            </a:gs>
            <a:gs pos="100000">
              <a:srgbClr val="ff00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899640" y="3429000"/>
            <a:ext cx="698508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2d050"/>
                </a:solidFill>
                <a:latin typeface="Tahoma"/>
              </a:rPr>
              <a:t>Работа ученицы 7-го класс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2d050"/>
                </a:solidFill>
                <a:latin typeface="Tahoma"/>
              </a:rPr>
              <a:t>Гарановой Анн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2d050"/>
                </a:solidFill>
                <a:latin typeface="Tahoma"/>
              </a:rPr>
              <a:t>Руководитель: Жидкова Галина Владимировн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WordArt 6"/>
          <p:cNvSpPr txBox="1"/>
          <p:nvPr/>
        </p:nvSpPr>
        <p:spPr>
          <a:xfrm>
            <a:off x="1332000" y="692280"/>
            <a:ext cx="633708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Verdana"/>
              </a:rPr>
              <a:t>ЧИСЛОВЫЕ</a:t>
            </a:r>
            <a:endParaRPr b="1" i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Verdana"/>
              <a:ea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Verdana"/>
              </a:rPr>
              <a:t> </a:t>
            </a:r>
            <a:r>
              <a:rPr b="1" i="1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Verdana"/>
              </a:rPr>
              <a:t>СУЕВЕРИЯ</a:t>
            </a:r>
            <a:endParaRPr b="1" i="1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6" descr=""/>
          <p:cNvPicPr/>
          <p:nvPr/>
        </p:nvPicPr>
        <p:blipFill>
          <a:blip r:embed="rId1"/>
          <a:stretch/>
        </p:blipFill>
        <p:spPr>
          <a:xfrm>
            <a:off x="2800440" y="706320"/>
            <a:ext cx="3456000" cy="22989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9" descr=""/>
          <p:cNvPicPr/>
          <p:nvPr/>
        </p:nvPicPr>
        <p:blipFill>
          <a:blip r:embed="rId2"/>
          <a:stretch/>
        </p:blipFill>
        <p:spPr>
          <a:xfrm>
            <a:off x="468360" y="738360"/>
            <a:ext cx="1792080" cy="27558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5" descr=""/>
          <p:cNvPicPr/>
          <p:nvPr/>
        </p:nvPicPr>
        <p:blipFill>
          <a:blip r:embed="rId3"/>
          <a:stretch/>
        </p:blipFill>
        <p:spPr>
          <a:xfrm>
            <a:off x="6673680" y="1333440"/>
            <a:ext cx="2162520" cy="14479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8" descr=""/>
          <p:cNvPicPr/>
          <p:nvPr/>
        </p:nvPicPr>
        <p:blipFill>
          <a:blip r:embed="rId4"/>
          <a:stretch/>
        </p:blipFill>
        <p:spPr>
          <a:xfrm>
            <a:off x="5580000" y="4282920"/>
            <a:ext cx="2463840" cy="18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140360" y="259920"/>
            <a:ext cx="4317840" cy="5977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Знак замкнутого пространства и временного цикла.Символ силы, устойчивости и прочности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324000" y="404280"/>
            <a:ext cx="273528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8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35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211280" y="188640"/>
            <a:ext cx="4753080" cy="6048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Число движения, число свободы.</a:t>
            </a:r>
            <a:br>
              <a:rPr sz="4800"/>
            </a:b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Мистическое значение числа подчеркивалось в пятиконечной звезде.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68000" y="333360"/>
            <a:ext cx="331164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8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35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50560" y="297000"/>
            <a:ext cx="8497800" cy="6037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Число пять значимо в христианстве: Иисус накормил пятью хлебами 4000 человек; пять ран Христовых многократно запечатлены в живописи и скульптуре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7839000" y="-233280"/>
            <a:ext cx="46080" cy="828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419280" y="115560"/>
            <a:ext cx="5545080" cy="6265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В народе ассоциируется с нечистой силой.</a:t>
            </a:r>
            <a:br>
              <a:rPr sz="4800"/>
            </a:b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«Число творения». Бог создал мир за 6 дней. В славянской символике – символ солнца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324000" y="260280"/>
            <a:ext cx="273528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8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35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564000" y="115920"/>
            <a:ext cx="5472000" cy="6192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Таинственное число!</a:t>
            </a:r>
            <a:br>
              <a:rPr sz="4000"/>
            </a:b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Священное, божественное и счастливое.</a:t>
            </a:r>
            <a:br>
              <a:rPr sz="4000"/>
            </a:b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Играет важную роль в религиях и верованиях людей.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363600" y="115920"/>
            <a:ext cx="29844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8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35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7772040" y="619200"/>
            <a:ext cx="112680" cy="828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9" name="Picture 7" descr=""/>
          <p:cNvPicPr/>
          <p:nvPr/>
        </p:nvPicPr>
        <p:blipFill>
          <a:blip r:embed="rId1"/>
          <a:stretch/>
        </p:blipFill>
        <p:spPr>
          <a:xfrm>
            <a:off x="4879800" y="260280"/>
            <a:ext cx="3005280" cy="25272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3" descr=""/>
          <p:cNvPicPr/>
          <p:nvPr/>
        </p:nvPicPr>
        <p:blipFill>
          <a:blip r:embed="rId2"/>
          <a:stretch/>
        </p:blipFill>
        <p:spPr>
          <a:xfrm>
            <a:off x="347760" y="895320"/>
            <a:ext cx="2843280" cy="27622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6" descr=""/>
          <p:cNvPicPr/>
          <p:nvPr/>
        </p:nvPicPr>
        <p:blipFill>
          <a:blip r:embed="rId3"/>
          <a:stretch/>
        </p:blipFill>
        <p:spPr>
          <a:xfrm>
            <a:off x="6875640" y="3195720"/>
            <a:ext cx="1900080" cy="340200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3"/>
          <p:cNvSpPr>
            <a:spLocks noGrp="1"/>
          </p:cNvSpPr>
          <p:nvPr>
            <p:ph type="subTitle"/>
          </p:nvPr>
        </p:nvSpPr>
        <p:spPr>
          <a:xfrm>
            <a:off x="1371600" y="1680480"/>
            <a:ext cx="46080" cy="828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ubTitle"/>
          </p:nvPr>
        </p:nvSpPr>
        <p:spPr>
          <a:xfrm>
            <a:off x="1371600" y="1433880"/>
            <a:ext cx="46080" cy="828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4" name="Picture 11" descr=""/>
          <p:cNvPicPr/>
          <p:nvPr/>
        </p:nvPicPr>
        <p:blipFill>
          <a:blip r:embed="rId4"/>
          <a:stretch/>
        </p:blipFill>
        <p:spPr>
          <a:xfrm>
            <a:off x="1908000" y="4008600"/>
            <a:ext cx="3483000" cy="28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4392720" cy="5976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«Река Стикс, окружавшая подземное царство, 7 раз обтекает ад, разделенный на 7 областей.»</a:t>
            </a:r>
            <a:br>
              <a:rPr sz="3600"/>
            </a:b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«Известно 7 смертных грехов»</a:t>
            </a:r>
            <a:br>
              <a:rPr sz="3600"/>
            </a:b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«неделя делилась на 7 дней»</a:t>
            </a:r>
            <a:br>
              <a:rPr sz="3600"/>
            </a:b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«На земле – 7 чудес света»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7956720" y="-606240"/>
            <a:ext cx="71280" cy="828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7" name="Picture 8" descr=""/>
          <p:cNvPicPr/>
          <p:nvPr/>
        </p:nvPicPr>
        <p:blipFill>
          <a:blip r:embed="rId1"/>
          <a:stretch/>
        </p:blipFill>
        <p:spPr>
          <a:xfrm>
            <a:off x="5219640" y="189000"/>
            <a:ext cx="3619440" cy="20876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7" descr=""/>
          <p:cNvPicPr/>
          <p:nvPr/>
        </p:nvPicPr>
        <p:blipFill>
          <a:blip r:embed="rId2"/>
          <a:stretch/>
        </p:blipFill>
        <p:spPr>
          <a:xfrm>
            <a:off x="5219640" y="2421000"/>
            <a:ext cx="3635280" cy="19447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5219640" y="4653000"/>
            <a:ext cx="374508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924360" y="260280"/>
            <a:ext cx="4968720" cy="6121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Символ любви. В перевернутом виде представляет знак бесконечности, что символизирует два мира – материальный и духовный. По Пифагору «8» – символ гармонии, священное число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468360" y="260280"/>
            <a:ext cx="295128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8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35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635280" y="333360"/>
            <a:ext cx="5113440" cy="6120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Почитание числа было свойственно многим народам, фигурирует в Зодиаке. У славян поминки по усопшему отправляются на 9-й день после его кончины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108000" y="333360"/>
            <a:ext cx="316872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8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0" spc="-1" strike="noStrike">
                <a:solidFill>
                  <a:srgbClr val="ffffff"/>
                </a:solidFill>
                <a:latin typeface="Tahoma"/>
              </a:rPr>
              <a:t>9</a:t>
            </a:r>
            <a:endParaRPr b="0" lang="en-US" sz="35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4" name="Picture 6" descr=""/>
          <p:cNvPicPr/>
          <p:nvPr/>
        </p:nvPicPr>
        <p:blipFill>
          <a:blip r:embed="rId1"/>
          <a:stretch/>
        </p:blipFill>
        <p:spPr>
          <a:xfrm>
            <a:off x="395280" y="4653000"/>
            <a:ext cx="266400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ebf25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ЦЕЛЬ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ebf25a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Рассмотреть различные магические числа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ebf25a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Исследовать появление  числовых суеверий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1640" y="404280"/>
            <a:ext cx="3886200" cy="5761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Символ гармонии и полноты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323640" y="404280"/>
            <a:ext cx="410364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0" spc="-1" strike="noStrike">
                <a:solidFill>
                  <a:srgbClr val="ffffff"/>
                </a:solidFill>
                <a:latin typeface="Tahoma"/>
              </a:rPr>
              <a:t>10</a:t>
            </a:r>
            <a:endParaRPr b="0" lang="en-US" sz="25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356000" y="189000"/>
            <a:ext cx="4464000" cy="5904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Наши предки относили 11 к нехорошим числам. Оно состоит из двух единиц, усиливая их действие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323640" y="404640"/>
            <a:ext cx="360036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ffff"/>
                </a:solidFill>
                <a:latin typeface="Tahoma"/>
              </a:rPr>
              <a:t>11</a:t>
            </a:r>
            <a:endParaRPr b="0" lang="en-US" sz="20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203640" y="208080"/>
            <a:ext cx="5689440" cy="6029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Считается сверхсовершенным числом, символом</a:t>
            </a:r>
            <a:br>
              <a:rPr sz="4800"/>
            </a:b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«философского камня»,  символом полноты,богатства, счастливым числом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250920" y="259920"/>
            <a:ext cx="324144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ffff"/>
                </a:solidFill>
                <a:latin typeface="Tahoma"/>
              </a:rPr>
              <a:t>12</a:t>
            </a:r>
            <a:endParaRPr b="0" lang="en-US" sz="20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03280" y="980640"/>
            <a:ext cx="3816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179280" y="404640"/>
            <a:ext cx="518472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ffff"/>
                </a:solidFill>
                <a:latin typeface="Tahoma"/>
              </a:rPr>
              <a:t>13</a:t>
            </a:r>
            <a:endParaRPr b="0" lang="en-US" sz="20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исус  Христос был 13-м участником тайной вечери вместе с 12-ю апостолам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3" name="Picture 6" descr=""/>
          <p:cNvPicPr/>
          <p:nvPr/>
        </p:nvPicPr>
        <p:blipFill>
          <a:blip r:embed="rId1"/>
          <a:stretch/>
        </p:blipFill>
        <p:spPr>
          <a:xfrm>
            <a:off x="5796000" y="549360"/>
            <a:ext cx="2895480" cy="22320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7" descr=""/>
          <p:cNvPicPr/>
          <p:nvPr/>
        </p:nvPicPr>
        <p:blipFill>
          <a:blip r:embed="rId2"/>
          <a:stretch/>
        </p:blipFill>
        <p:spPr>
          <a:xfrm>
            <a:off x="5940360" y="3206880"/>
            <a:ext cx="289584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5975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13 особенно несчастливо, если выпадает на пятницу- день распятия Христа.</a:t>
            </a:r>
            <a:br>
              <a:rPr sz="4800"/>
            </a:b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Кроме того в христианстве 13- символ предательства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6453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Само имя Иисуса Христа пишется 13-ю буквами.</a:t>
            </a:r>
            <a:br>
              <a:rPr sz="4000"/>
            </a:b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В библии перечисляются 13 важных качеств Бога.</a:t>
            </a:r>
            <a:br>
              <a:rPr sz="4000"/>
            </a:b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У племен майя 13 считалось священным числом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987640" y="404640"/>
            <a:ext cx="5616720" cy="532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Священное число многих духовных традиций.</a:t>
            </a:r>
            <a:br>
              <a:rPr sz="4800"/>
            </a:b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У наших предков – славян не было суеверий, связанных с числом 33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250560" y="404640"/>
            <a:ext cx="331308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ffff"/>
                </a:solidFill>
                <a:latin typeface="Tahoma"/>
              </a:rPr>
              <a:t>33</a:t>
            </a:r>
            <a:endParaRPr b="0" lang="en-US" sz="20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708000" y="259920"/>
            <a:ext cx="5111640" cy="6048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По библейскому рассказу при всемирном потопе дождь шел 40 дней. По преданию, евреи странствовали в пустыне 40 лет. Между сказочным воскресением Христа и вознесением его на небо прошло 40 дней.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50760" y="549360"/>
            <a:ext cx="365760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ffff"/>
                </a:solidFill>
                <a:latin typeface="Tahoma"/>
              </a:rPr>
              <a:t>40</a:t>
            </a:r>
            <a:endParaRPr b="0" lang="en-US" sz="20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276720" y="115920"/>
            <a:ext cx="5759280" cy="6337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Во многих вавилонских, персидских и греческих легендах синонимом самого большого представлялось 60. Оно считалось божьим.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-360" y="115560"/>
            <a:ext cx="399564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ffff"/>
                </a:solidFill>
                <a:latin typeface="Tahoma"/>
              </a:rPr>
              <a:t>60</a:t>
            </a:r>
            <a:endParaRPr b="0" lang="en-US" sz="20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0" y="188640"/>
            <a:ext cx="4392720" cy="6553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Число зверя.</a:t>
            </a:r>
            <a:br>
              <a:rPr sz="4800"/>
            </a:b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В разных странах христиане обозначали этим числом неугодных церкви правителей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179280" y="333360"/>
            <a:ext cx="439272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ffff"/>
                </a:solidFill>
                <a:latin typeface="Tahoma"/>
              </a:rPr>
              <a:t>666</a:t>
            </a:r>
            <a:endParaRPr b="0" lang="en-US" sz="20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ebf25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задачи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ebf25a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Исследовать значение чисел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ebf25a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Провести опрос среди учащихся, учителей и родителей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0" y="189000"/>
            <a:ext cx="673272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звестно, что при жизни Петра І на него смотрели, как на антихриста, число которого 666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Герой романа Л. Н. Толстого Пьер Безухов(«Война и мир»), подсчитывая по значению букв численное значение имени Наполеона пришел к выводу, что он и есть тот зверь, о котором написано в Библии, а поэтому он, Пьер Безухов, должен убить Наполеона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6" name="Picture 5" descr=""/>
          <p:cNvPicPr/>
          <p:nvPr/>
        </p:nvPicPr>
        <p:blipFill>
          <a:blip r:embed="rId1"/>
          <a:stretch/>
        </p:blipFill>
        <p:spPr>
          <a:xfrm>
            <a:off x="6732720" y="404640"/>
            <a:ext cx="1866600" cy="223236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6" descr=""/>
          <p:cNvPicPr/>
          <p:nvPr/>
        </p:nvPicPr>
        <p:blipFill>
          <a:blip r:embed="rId2"/>
          <a:stretch/>
        </p:blipFill>
        <p:spPr>
          <a:xfrm>
            <a:off x="6732720" y="3429000"/>
            <a:ext cx="200952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8" name=""/>
          <p:cNvGraphicFramePr/>
          <p:nvPr/>
        </p:nvGraphicFramePr>
        <p:xfrm>
          <a:off x="179280" y="0"/>
          <a:ext cx="8856720" cy="7105680"/>
        </p:xfrm>
        <a:graphic>
          <a:graphicData uri="http://schemas.openxmlformats.org/drawingml/2006/table">
            <a:tbl>
              <a:tblPr/>
              <a:tblGrid>
                <a:gridCol w="2214720"/>
                <a:gridCol w="2214360"/>
                <a:gridCol w="2213280"/>
                <a:gridCol w="2214360"/>
              </a:tblGrid>
              <a:tr h="792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опрос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ча-с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чител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одител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02000"/>
                          </a:solidFill>
                          <a:latin typeface="Tahoma"/>
                        </a:rPr>
                        <a:t>Верите ли вы в какие-либо приметы, связ-е с числами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02000"/>
                          </a:solidFill>
                          <a:latin typeface="Tahoma"/>
                        </a:rPr>
                        <a:t>Да – 5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02000"/>
                          </a:solidFill>
                          <a:latin typeface="Tahoma"/>
                        </a:rPr>
                        <a:t>Нет – 5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02000"/>
                          </a:solidFill>
                          <a:latin typeface="Tahoma"/>
                        </a:rPr>
                        <a:t>Да – 6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02000"/>
                          </a:solidFill>
                          <a:latin typeface="Tahoma"/>
                        </a:rPr>
                        <a:t>Нет – 4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02000"/>
                          </a:solidFill>
                          <a:latin typeface="Tahoma"/>
                        </a:rPr>
                        <a:t>Да – 40%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02000"/>
                          </a:solidFill>
                          <a:latin typeface="Tahoma"/>
                        </a:rPr>
                        <a:t>Нет – 6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02000"/>
                          </a:solidFill>
                          <a:latin typeface="Tahoma"/>
                        </a:rPr>
                        <a:t>Верите ли вы в счастливый билет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02000"/>
                          </a:solidFill>
                          <a:latin typeface="Tahoma"/>
                        </a:rPr>
                        <a:t>Да – 4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02000"/>
                          </a:solidFill>
                          <a:latin typeface="Tahoma"/>
                        </a:rPr>
                        <a:t>Нет – 6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02000"/>
                          </a:solidFill>
                          <a:latin typeface="Tahoma"/>
                        </a:rPr>
                        <a:t>Да – 2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02000"/>
                          </a:solidFill>
                          <a:latin typeface="Tahoma"/>
                        </a:rPr>
                        <a:t>Нет – 8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02000"/>
                          </a:solidFill>
                          <a:latin typeface="Tahoma"/>
                        </a:rPr>
                        <a:t>Да – 32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02000"/>
                          </a:solidFill>
                          <a:latin typeface="Tahoma"/>
                        </a:rPr>
                        <a:t>Нет – 68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02000"/>
                          </a:solidFill>
                          <a:latin typeface="Tahoma"/>
                        </a:rPr>
                        <a:t>Считаете ли вы 13 несчастливым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02000"/>
                          </a:solidFill>
                          <a:latin typeface="Tahoma"/>
                        </a:rPr>
                        <a:t>Да – 2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02000"/>
                          </a:solidFill>
                          <a:latin typeface="Tahoma"/>
                        </a:rPr>
                        <a:t>Нет – 8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02000"/>
                          </a:solidFill>
                          <a:latin typeface="Tahoma"/>
                        </a:rPr>
                        <a:t>Да – 1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02000"/>
                          </a:solidFill>
                          <a:latin typeface="Tahoma"/>
                        </a:rPr>
                        <a:t>Нет – 9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02000"/>
                          </a:solidFill>
                          <a:latin typeface="Tahoma"/>
                        </a:rPr>
                        <a:t>Да – 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02000"/>
                          </a:solidFill>
                          <a:latin typeface="Tahoma"/>
                        </a:rPr>
                        <a:t>Нет – 10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794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02000"/>
                          </a:solidFill>
                          <a:latin typeface="Tahoma"/>
                        </a:rPr>
                        <a:t>Считаете ли вы 7 счастливым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02000"/>
                          </a:solidFill>
                          <a:latin typeface="Tahoma"/>
                        </a:rPr>
                        <a:t>Да – 2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02000"/>
                          </a:solidFill>
                          <a:latin typeface="Tahoma"/>
                        </a:rPr>
                        <a:t>Нет – 8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02000"/>
                          </a:solidFill>
                          <a:latin typeface="Tahoma"/>
                        </a:rPr>
                        <a:t>Да – 6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02000"/>
                          </a:solidFill>
                          <a:latin typeface="Tahoma"/>
                        </a:rPr>
                        <a:t>Нет – 4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02000"/>
                          </a:solidFill>
                          <a:latin typeface="Tahoma"/>
                        </a:rPr>
                        <a:t>Да – 16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02000"/>
                          </a:solidFill>
                          <a:latin typeface="Tahoma"/>
                        </a:rPr>
                        <a:t>Нет – 84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02000"/>
                          </a:solidFill>
                          <a:latin typeface="Tahoma"/>
                        </a:rPr>
                        <a:t>Произошли ли с вами случаи, связ-е с 13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02000"/>
                          </a:solidFill>
                          <a:latin typeface="Tahoma"/>
                        </a:rPr>
                        <a:t>Да – 4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02000"/>
                          </a:solidFill>
                          <a:latin typeface="Tahoma"/>
                        </a:rPr>
                        <a:t>Нет – 6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02000"/>
                          </a:solidFill>
                          <a:latin typeface="Tahoma"/>
                        </a:rPr>
                        <a:t>Да – 20%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02000"/>
                          </a:solidFill>
                          <a:latin typeface="Tahoma"/>
                        </a:rPr>
                        <a:t>Нет – 8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02000"/>
                          </a:solidFill>
                          <a:latin typeface="Tahoma"/>
                        </a:rPr>
                        <a:t>Да – 24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02000"/>
                          </a:solidFill>
                          <a:latin typeface="Tahoma"/>
                        </a:rPr>
                        <a:t>Нет – 76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792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02000"/>
                          </a:solidFill>
                          <a:latin typeface="Tahoma"/>
                        </a:rPr>
                        <a:t>Боитесь ли вы пятницу-13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02000"/>
                          </a:solidFill>
                          <a:latin typeface="Tahoma"/>
                        </a:rPr>
                        <a:t>Да – 7,5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02000"/>
                          </a:solidFill>
                          <a:latin typeface="Tahoma"/>
                        </a:rPr>
                        <a:t>Нет – 92,5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02000"/>
                          </a:solidFill>
                          <a:latin typeface="Tahoma"/>
                        </a:rPr>
                        <a:t>Да – 2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02000"/>
                          </a:solidFill>
                          <a:latin typeface="Tahoma"/>
                        </a:rPr>
                        <a:t>Нет – 8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02000"/>
                          </a:solidFill>
                          <a:latin typeface="Tahoma"/>
                        </a:rPr>
                        <a:t>Да – 48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02000"/>
                          </a:solidFill>
                          <a:latin typeface="Tahoma"/>
                        </a:rPr>
                        <a:t>Нет - 52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79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02000"/>
                          </a:solidFill>
                          <a:latin typeface="Tahoma"/>
                        </a:rPr>
                        <a:t>Стали бы вы жить в доме №13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02000"/>
                          </a:solidFill>
                          <a:latin typeface="Tahoma"/>
                        </a:rPr>
                        <a:t>Да – 82,5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02000"/>
                          </a:solidFill>
                          <a:latin typeface="Tahoma"/>
                        </a:rPr>
                        <a:t>Нет – 17,5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02000"/>
                          </a:solidFill>
                          <a:latin typeface="Tahoma"/>
                        </a:rPr>
                        <a:t>Да – 3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02000"/>
                          </a:solidFill>
                          <a:latin typeface="Tahoma"/>
                        </a:rPr>
                        <a:t>Нет – 7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02000"/>
                          </a:solidFill>
                          <a:latin typeface="Tahoma"/>
                        </a:rPr>
                        <a:t>Да – 48%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02000"/>
                          </a:solidFill>
                          <a:latin typeface="Tahoma"/>
                        </a:rPr>
                        <a:t>Нет – 52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959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Заключение: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685800" y="1484280"/>
            <a:ext cx="798984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вое выступление я хотела бы закончить словами французского писателя Тристана Бернара, который мудро пошутил: «Не будьте суеверны, это приносит несчастье. Счастливым может стать любое число. Давайте только в это верить!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ebf25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ГИПОТЕЗ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ebf25a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Чем старше человек, тем он сильнее подвержен числовым суевериям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211280" y="260280"/>
            <a:ext cx="4932360" cy="633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ru-RU" sz="3600" spc="-1" strike="noStrike">
                <a:solidFill>
                  <a:srgbClr val="ffffcc"/>
                </a:solidFill>
                <a:latin typeface="Tahoma"/>
              </a:rPr>
              <a:t>Вера в колдовские свойства чисел восходит к временам, когда возникал счет. У многих племен «считать» означало «сглазить», «околдовать».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524720" y="2636640"/>
            <a:ext cx="1192320" cy="24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Picture 4" descr=""/>
          <p:cNvPicPr/>
          <p:nvPr/>
        </p:nvPicPr>
        <p:blipFill>
          <a:blip r:embed="rId1"/>
          <a:stretch/>
        </p:blipFill>
        <p:spPr>
          <a:xfrm>
            <a:off x="0" y="4076640"/>
            <a:ext cx="3816360" cy="25225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5" descr=""/>
          <p:cNvPicPr/>
          <p:nvPr/>
        </p:nvPicPr>
        <p:blipFill>
          <a:blip r:embed="rId2"/>
          <a:stretch/>
        </p:blipFill>
        <p:spPr>
          <a:xfrm>
            <a:off x="684360" y="0"/>
            <a:ext cx="3241440" cy="26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419280" y="260280"/>
            <a:ext cx="5074920" cy="550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ru-RU" sz="4000" spc="-1" strike="noStrike">
                <a:solidFill>
                  <a:srgbClr val="ffffcc"/>
                </a:solidFill>
                <a:latin typeface="Tahoma"/>
              </a:rPr>
              <a:t>ЯВЛЯЕТ СОБОЙ И СИМВОЛ ПУСТОТЫ И ЦЕЛОСТНОСТЬ ВСЕЛЕННОЙ.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49080" y="907560"/>
            <a:ext cx="7667640" cy="56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rmAutofit/>
          </a:bodyPr>
          <a:p>
            <a:pPr indent="0">
              <a:spcBef>
                <a:spcPts val="8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35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419280" y="260280"/>
            <a:ext cx="5074920" cy="550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ahoma"/>
              </a:rPr>
              <a:t>НЕДЕЛИМОЕ, ЦЕЛОСТНОЕ, ТАКОЕ КАК БОГ, КОСМОС, ВСЕЛЕННАЯ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9280" y="260280"/>
            <a:ext cx="8315280" cy="5905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8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35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708360" y="476280"/>
            <a:ext cx="4603680" cy="532296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ahoma"/>
              </a:rPr>
              <a:t>СИМВОЛ РАЗДЕЛЕНИЯ ЦЕЛОГО НА ЧАСТИ, ОТДЕЛЬНОСТИ ЧЕЛОВЕКА ОТ МИРА, ПРИРОДЫ И ДРУГИХ ЛЮДЕЙ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9280" y="981000"/>
            <a:ext cx="2592360" cy="481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8000"/>
          </a:bodyPr>
          <a:p>
            <a:pPr indent="0">
              <a:spcBef>
                <a:spcPts val="8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35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708360" y="476280"/>
            <a:ext cx="4603680" cy="532296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ahoma"/>
              </a:rPr>
              <a:t>ПЕРВОЕ ЧИСЛО В МАГИЧЕСКОМ РЯДУ ЧИСЕЛ,</a:t>
            </a:r>
            <a:br>
              <a:rPr sz="4000"/>
            </a:br>
            <a:r>
              <a:rPr b="1" lang="ru-RU" sz="4000" spc="-1" strike="noStrike">
                <a:solidFill>
                  <a:srgbClr val="ffffcc"/>
                </a:solidFill>
                <a:latin typeface="Tahoma"/>
              </a:rPr>
              <a:t>ЗАКЛЯТИЯ И ЗАГОВОРЫ ДЛЯ ПРИДАНИЯ ИМ КОЛДОВСКОЙ СИЛЫ ПРОИЗНОСЯТСЯ ТРИЖДЫ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39280" y="981000"/>
            <a:ext cx="2592360" cy="481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8000"/>
          </a:bodyPr>
          <a:p>
            <a:pPr indent="0">
              <a:spcBef>
                <a:spcPts val="8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35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4T08:22:38Z</dcterms:created>
  <dc:creator>1</dc:creator>
  <dc:description/>
  <dc:language>en-US</dc:language>
  <cp:lastModifiedBy>Галина</cp:lastModifiedBy>
  <dcterms:modified xsi:type="dcterms:W3CDTF">2018-06-07T11:48:14Z</dcterms:modified>
  <cp:revision>29</cp:revision>
  <dc:subject/>
  <dc:title>Вот один иль единица, Очень тонкая, как спица!</dc:title>
</cp:coreProperties>
</file>