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8F0-BCF3-4972-9EB6-D9601861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F27-6704-4A54-8B8A-29932B5A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086-3AFD-46AF-A511-D2885EE5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7912-2928-4322-8361-3CDDFE91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E38-AA97-453E-B9EE-BBAEDD65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C99-A2F5-40ED-BF6C-636A9820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083-4CB7-4597-BD30-125B80E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DB7-7D27-447B-BF9B-062E9A59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DBD-0725-4212-ADB2-056BCCCC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9F8-38E2-4830-9C40-D10C464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5E8-9489-4ACD-9A9F-86DD2DC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3B6-43FB-44A4-8EF9-86E220AF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8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1C2F-EA82-4D87-A767-45E1AEA68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Leisure Tim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5520" y="464832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 5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дратенко Ден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фонасьев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181480" y="380880"/>
            <a:ext cx="3733920" cy="200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4191120" cy="2705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80880" y="457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. Героя России Д.Г. Новос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do not like to keep the designer  buildings, I try to puzzle them out  and create new ones by myself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enjoy my time spending with LE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russos.ru/img/moscow/lego-01.jpg"/>
          <p:cNvPicPr/>
          <p:nvPr/>
        </p:nvPicPr>
        <p:blipFill>
          <a:blip r:embed="rId1"/>
          <a:stretch/>
        </p:blipFill>
        <p:spPr>
          <a:xfrm>
            <a:off x="1295280" y="2743200"/>
            <a:ext cx="57531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2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my free time I like to collect Lego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666880" y="4060800"/>
            <a:ext cx="3330720" cy="27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"/>
          <a:srcRect l="0" t="0" r="0" b="14459"/>
          <a:stretch/>
        </p:blipFill>
        <p:spPr>
          <a:xfrm>
            <a:off x="228600" y="1523880"/>
            <a:ext cx="3654360" cy="267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7bricks.ru/upload/iblock/488/488ed74da0364e20c425640ede91d355.jpg"/>
          <p:cNvPicPr/>
          <p:nvPr/>
        </p:nvPicPr>
        <p:blipFill>
          <a:blip r:embed="rId3"/>
          <a:stretch/>
        </p:blipFill>
        <p:spPr>
          <a:xfrm>
            <a:off x="4419720" y="1523880"/>
            <a:ext cx="388620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go 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one of the most exciting and popular topics of Leg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large set has everything in order to build a city with its own police, fire brigade, ports and airport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4114800" cy="2925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bricker.ru/images/sets/LEGO/7994_main.jpg?1247188260"/>
          <p:cNvPicPr/>
          <p:nvPr/>
        </p:nvPicPr>
        <p:blipFill>
          <a:blip r:embed="rId2"/>
          <a:stretch/>
        </p:blipFill>
        <p:spPr>
          <a:xfrm>
            <a:off x="380880" y="4114800"/>
            <a:ext cx="3733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I was 8 years old my parents gave me this set as a birthday pres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101000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eadb49412cdb.mp3" descr=""/>
          <p:cNvPicPr/>
          <p:nvPr/>
        </p:nvPicPr>
        <p:blipFill>
          <a:blip r:embed="rId2"/>
          <a:stretch/>
        </p:blipFill>
        <p:spPr>
          <a:xfrm>
            <a:off x="86104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069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m fond of designing robots - Bionicle. Even Santa Claus knew about it and gave me the designer of factory heroe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1010184"/>
          <p:cNvPicPr/>
          <p:nvPr/>
        </p:nvPicPr>
        <p:blipFill>
          <a:blip r:embed="rId1"/>
          <a:stretch/>
        </p:blipFill>
        <p:spPr>
          <a:xfrm>
            <a:off x="762120" y="2895480"/>
            <a:ext cx="4611600" cy="3459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P1010185"/>
          <p:cNvPicPr/>
          <p:nvPr/>
        </p:nvPicPr>
        <p:blipFill>
          <a:blip r:embed="rId2"/>
          <a:stretch/>
        </p:blipFill>
        <p:spPr>
          <a:xfrm>
            <a:off x="5867280" y="281952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go Star Wars sets are based on the legendary saga of the invincibility of space warriors. I want to be like the brave Luke Skywalker. He is an unbeaten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ghter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0" t="0" r="0" b="14459"/>
          <a:stretch/>
        </p:blipFill>
        <p:spPr>
          <a:xfrm>
            <a:off x="457200" y="3581280"/>
            <a:ext cx="3170160" cy="2711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859560" y="5257800"/>
            <a:ext cx="526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vorite Lego design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k of the Ew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i2.rozetka.ua/goods/7672/lego_istrebitel_z_95_7672452.jpg"/>
          <p:cNvPicPr/>
          <p:nvPr/>
        </p:nvPicPr>
        <p:blipFill>
          <a:blip r:embed="rId2"/>
          <a:stretch/>
        </p:blipFill>
        <p:spPr>
          <a:xfrm>
            <a:off x="4114800" y="2895480"/>
            <a:ext cx="443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raveling, I go to Lego sh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SCF2381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usually look through  new toys and  catalogs and  if I can I always buy a desirable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SCF2382"/>
          <p:cNvPicPr/>
          <p:nvPr/>
        </p:nvPicPr>
        <p:blipFill>
          <a:blip r:embed="rId1"/>
          <a:stretch/>
        </p:blipFill>
        <p:spPr>
          <a:xfrm>
            <a:off x="30492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lso love the cartoon about Sponge Bob - Square Pant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ve collected a set of heroic character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13848"/>
          <a:stretch/>
        </p:blipFill>
        <p:spPr>
          <a:xfrm>
            <a:off x="990720" y="243828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wowrevista.com/wp-content/uploads/2012/10/LEGO-Sponge-Bob-e1351094170830.jpg"/>
          <p:cNvPicPr/>
          <p:nvPr/>
        </p:nvPicPr>
        <p:blipFill>
          <a:blip r:embed="rId2"/>
          <a:stretch/>
        </p:blipFill>
        <p:spPr>
          <a:xfrm>
            <a:off x="2819520" y="4800600"/>
            <a:ext cx="1676160" cy="167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и по запросу лего bob"/>
          <p:cNvPicPr/>
          <p:nvPr/>
        </p:nvPicPr>
        <p:blipFill>
          <a:blip r:embed="rId3"/>
          <a:stretch/>
        </p:blipFill>
        <p:spPr>
          <a:xfrm>
            <a:off x="4572000" y="2438280"/>
            <a:ext cx="3321000" cy="2210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www.findmybrick.com/images/P1230619.JPG"/>
          <p:cNvPicPr/>
          <p:nvPr/>
        </p:nvPicPr>
        <p:blipFill>
          <a:blip r:embed="rId4"/>
          <a:stretch/>
        </p:blipFill>
        <p:spPr>
          <a:xfrm>
            <a:off x="990720" y="4800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www.findmybrick.com/images/P1230644.JPG"/>
          <p:cNvPicPr/>
          <p:nvPr/>
        </p:nvPicPr>
        <p:blipFill>
          <a:blip r:embed="rId5"/>
          <a:stretch/>
        </p:blipFill>
        <p:spPr>
          <a:xfrm>
            <a:off x="4648320" y="4800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http://i.ebayimg.com/00/s/MTAyNFg3ODA=/$(KGrHqVHJCkE63YKimkpBOy6OVWH,!~~60_35.JPG"/>
          <p:cNvPicPr/>
          <p:nvPr/>
        </p:nvPicPr>
        <p:blipFill>
          <a:blip r:embed="rId6"/>
          <a:stretch/>
        </p:blipFill>
        <p:spPr>
          <a:xfrm>
            <a:off x="6524640" y="4800600"/>
            <a:ext cx="1476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na</dc:creator>
  <dc:description/>
  <dc:language>en-US</dc:language>
  <cp:lastModifiedBy>Elena</cp:lastModifiedBy>
  <dcterms:modified xsi:type="dcterms:W3CDTF">2018-07-12T16:40:4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