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055-7A75-44FF-9445-3CC1B881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825-2A6D-401B-BBB8-34026A6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B11-5963-445C-9684-34F499E3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1E5-2322-4719-86F3-5AD8D99C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763-070B-4095-AD83-9DDFC337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802-29D8-42BC-BD5D-EF95F2CB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68A-0256-4E95-AB69-BEFA995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09B-8374-45FC-80BB-25A7E80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877-41BE-4ECA-A942-3E1D61E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6A2-EB07-42D5-8347-0314E439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A1B-3203-4B3F-9FDB-13C0194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6BE-7852-428C-BD67-9C8D363B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7EE9-D84C-49CD-B21E-CA6E9443C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Leisure Tim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5520" y="464832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5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ратенко Де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фонась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73392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191120" cy="2705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8088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. Героя России Д.Г. Новос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do not like to keep the designer  buildings, I try to puzzle them out  and create new ones by myself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my time spending with LE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russos.ru/img/moscow/lego-01.jpg"/>
          <p:cNvPicPr/>
          <p:nvPr/>
        </p:nvPicPr>
        <p:blipFill>
          <a:blip r:embed="rId1"/>
          <a:stretch/>
        </p:blipFill>
        <p:spPr>
          <a:xfrm>
            <a:off x="1295280" y="2743200"/>
            <a:ext cx="57531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my free time I like to collect Leg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666880" y="4060800"/>
            <a:ext cx="3330720" cy="27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rcRect l="0" t="0" r="0" b="14459"/>
          <a:stretch/>
        </p:blipFill>
        <p:spPr>
          <a:xfrm>
            <a:off x="228600" y="1523880"/>
            <a:ext cx="3654360" cy="267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7bricks.ru/upload/iblock/488/488ed74da0364e20c425640ede91d355.jpg"/>
          <p:cNvPicPr/>
          <p:nvPr/>
        </p:nvPicPr>
        <p:blipFill>
          <a:blip r:embed="rId3"/>
          <a:stretch/>
        </p:blipFill>
        <p:spPr>
          <a:xfrm>
            <a:off x="4419720" y="1523880"/>
            <a:ext cx="38862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o 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one of the most exciting and popular topics of Leg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large set has everything in order to build a city with its own police, fire brigade, ports and airpor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114800" cy="292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bricker.ru/images/sets/LEGO/7994_main.jpg?1247188260"/>
          <p:cNvPicPr/>
          <p:nvPr/>
        </p:nvPicPr>
        <p:blipFill>
          <a:blip r:embed="rId2"/>
          <a:stretch/>
        </p:blipFill>
        <p:spPr>
          <a:xfrm>
            <a:off x="380880" y="4114800"/>
            <a:ext cx="3733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 was 8 years old my parents gave me this set as a birthday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10100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eadb49412cdb.mp3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069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fond of designing robots - Bionicle. Even Santa Claus knew about it and gave me the designer of factory hero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1010184"/>
          <p:cNvPicPr/>
          <p:nvPr/>
        </p:nvPicPr>
        <p:blipFill>
          <a:blip r:embed="rId1"/>
          <a:stretch/>
        </p:blipFill>
        <p:spPr>
          <a:xfrm>
            <a:off x="762120" y="2895480"/>
            <a:ext cx="4611600" cy="345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1010185"/>
          <p:cNvPicPr/>
          <p:nvPr/>
        </p:nvPicPr>
        <p:blipFill>
          <a:blip r:embed="rId2"/>
          <a:stretch/>
        </p:blipFill>
        <p:spPr>
          <a:xfrm>
            <a:off x="5867280" y="281952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go Star Wars sets are based on the legendary saga of the invincibility of space warriors. I want to be like the brave Luke Skywalker. He is an unbeate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ghter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0" r="0" b="14459"/>
          <a:stretch/>
        </p:blipFill>
        <p:spPr>
          <a:xfrm>
            <a:off x="457200" y="3581280"/>
            <a:ext cx="3170160" cy="2711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859560" y="5257800"/>
            <a:ext cx="526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Lego design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 of the Ew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i2.rozetka.ua/goods/7672/lego_istrebitel_z_95_7672452.jpg"/>
          <p:cNvPicPr/>
          <p:nvPr/>
        </p:nvPicPr>
        <p:blipFill>
          <a:blip r:embed="rId2"/>
          <a:stretch/>
        </p:blipFill>
        <p:spPr>
          <a:xfrm>
            <a:off x="4114800" y="2895480"/>
            <a:ext cx="443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raveling, I go to Lego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SCF2381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usually look through  new toys and  catalogs and  if I can I always buy a desirable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F2382"/>
          <p:cNvPicPr/>
          <p:nvPr/>
        </p:nvPicPr>
        <p:blipFill>
          <a:blip r:embed="rId1"/>
          <a:stretch/>
        </p:blipFill>
        <p:spPr>
          <a:xfrm>
            <a:off x="30492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lso love the cartoon about Sponge Bob - Square Pan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ve collected a set of heroic character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13848"/>
          <a:stretch/>
        </p:blipFill>
        <p:spPr>
          <a:xfrm>
            <a:off x="990720" y="243828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wowrevista.com/wp-content/uploads/2012/10/LEGO-Sponge-Bob-e1351094170830.jpg"/>
          <p:cNvPicPr/>
          <p:nvPr/>
        </p:nvPicPr>
        <p:blipFill>
          <a:blip r:embed="rId2"/>
          <a:stretch/>
        </p:blipFill>
        <p:spPr>
          <a:xfrm>
            <a:off x="2819520" y="480060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лего bob"/>
          <p:cNvPicPr/>
          <p:nvPr/>
        </p:nvPicPr>
        <p:blipFill>
          <a:blip r:embed="rId3"/>
          <a:stretch/>
        </p:blipFill>
        <p:spPr>
          <a:xfrm>
            <a:off x="4572000" y="2438280"/>
            <a:ext cx="3321000" cy="22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findmybrick.com/images/P1230619.JPG"/>
          <p:cNvPicPr/>
          <p:nvPr/>
        </p:nvPicPr>
        <p:blipFill>
          <a:blip r:embed="rId4"/>
          <a:stretch/>
        </p:blipFill>
        <p:spPr>
          <a:xfrm>
            <a:off x="9907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www.findmybrick.com/images/P1230644.JPG"/>
          <p:cNvPicPr/>
          <p:nvPr/>
        </p:nvPicPr>
        <p:blipFill>
          <a:blip r:embed="rId5"/>
          <a:stretch/>
        </p:blipFill>
        <p:spPr>
          <a:xfrm>
            <a:off x="46483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://i.ebayimg.com/00/s/MTAyNFg3ODA=/$(KGrHqVHJCkE63YKimkpBOy6OVWH,!~~60_35.JPG"/>
          <p:cNvPicPr/>
          <p:nvPr/>
        </p:nvPicPr>
        <p:blipFill>
          <a:blip r:embed="rId6"/>
          <a:stretch/>
        </p:blipFill>
        <p:spPr>
          <a:xfrm>
            <a:off x="6524640" y="4800600"/>
            <a:ext cx="1476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</dc:creator>
  <dc:description/>
  <dc:language>en-US</dc:language>
  <cp:lastModifiedBy>Elena</cp:lastModifiedBy>
  <dcterms:modified xsi:type="dcterms:W3CDTF">2018-07-12T16:40:4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