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20.jpeg" ContentType="image/jpeg"/>
  <Override PartName="/ppt/media/image29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6F82-27E1-45AB-8763-F88BFDAD5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700-03C4-4C6B-B7FE-6D7C5C169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98E1-52CF-4270-B132-02684CDA1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4108-FCC8-4FB0-A3A1-AEF2985E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E6B55-C39F-4CDC-AE78-95F363806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FD42-5673-49BB-AD3E-9A6C6936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6A99-7846-4AE9-A4C8-405E8C8C9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14DE-9743-42C9-BB4C-57056F74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57EB-9BF3-46AB-ACEF-DDC29AB4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C566-1173-46D4-9AED-CB58BC25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85537-68CF-4F39-AAB4-234DB4DA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29BA-B22E-4E2C-B291-87DF80CC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A40E8-0C6A-42D8-ADF0-72F6EB15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07164-4B40-4D2F-8C2B-62A40D19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21B2-1FD1-4571-9868-0459EA40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A92A-FCF4-44DE-B3C2-D0084EDD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9F8E-3284-46BF-82BD-B8A2D687D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789-FC41-4BC9-B64F-509A5590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3969-FAED-4E28-AE33-82CAD06A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5AE-4AB7-488F-A65B-1C1E2FBF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0EE-F428-41E6-BEAB-F10C6F41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8D6F-8E7D-4FF4-89B1-CA9E1231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EA4A-B85D-4C42-A5BF-1371A6FF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691-C2C2-405C-A1B1-65BB34EF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6600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33cc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custGeom>
                  <a:avLst/>
                  <a:gdLst>
                    <a:gd name="textAreaLeft" fmla="*/ -360 w 476280"/>
                    <a:gd name="textAreaRight" fmla="*/ 476280 w 476280"/>
                    <a:gd name="textAreaTop" fmla="*/ 0 h 1223280"/>
                    <a:gd name="textAreaBottom" fmla="*/ 1223640 h 12232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Tahom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custGeom>
                  <a:avLst/>
                  <a:gdLst>
                    <a:gd name="textAreaLeft" fmla="*/ 360 w 110160"/>
                    <a:gd name="textAreaRight" fmla="*/ 110880 w 110160"/>
                    <a:gd name="textAreaTop" fmla="*/ 0 h 502200"/>
                    <a:gd name="textAreaBottom" fmla="*/ 502560 h 50220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Tahom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custGeom>
                  <a:avLst/>
                  <a:gdLst>
                    <a:gd name="textAreaLeft" fmla="*/ -360 w 199800"/>
                    <a:gd name="textAreaRight" fmla="*/ 199800 w 19980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33cc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66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E247-907B-4577-9AF1-54A0ED351E58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720" y="59760"/>
              <a:ext cx="3620520" cy="6132600"/>
              <a:chOff x="5409720" y="59760"/>
              <a:chExt cx="3620520" cy="61326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452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6240"/>
                <a:ext cx="905400" cy="84276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760"/>
                  <a:gd name="textAreaBottom" fmla="*/ 842760 h 84276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840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120" y="67068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840" y="2645280"/>
                <a:ext cx="163080" cy="331920"/>
              </a:xfrm>
              <a:custGeom>
                <a:avLst/>
                <a:gdLst>
                  <a:gd name="textAreaLeft" fmla="*/ 0 w 163080"/>
                  <a:gd name="textAreaRight" fmla="*/ 163440 w 16308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9520" y="124308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0560" y="296280"/>
              <a:ext cx="893160" cy="824760"/>
              <a:chOff x="5650560" y="296280"/>
              <a:chExt cx="893160" cy="824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2160" y="790200"/>
                <a:ext cx="179280" cy="361800"/>
              </a:xfrm>
              <a:custGeom>
                <a:avLst/>
                <a:gdLst>
                  <a:gd name="textAreaLeft" fmla="*/ 0 w 179280"/>
                  <a:gd name="textAreaRight" fmla="*/ 179640 w 17928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1040" y="470520"/>
                <a:ext cx="306360" cy="30060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6000"/>
                <a:ext cx="319320" cy="153000"/>
              </a:xfrm>
              <a:custGeom>
                <a:avLst/>
                <a:gdLst>
                  <a:gd name="textAreaLeft" fmla="*/ 0 w 319320"/>
                  <a:gd name="textAreaRight" fmla="*/ 319680 w 31932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9960"/>
              <a:ext cx="1059120" cy="829800"/>
              <a:chOff x="968760" y="525996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492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516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452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4960"/>
              <a:ext cx="1690200" cy="1146600"/>
              <a:chOff x="375840" y="44496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344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860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232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3960" y="3712320"/>
              <a:ext cx="1155600" cy="1607760"/>
              <a:chOff x="738396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868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940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196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66"/>
                  </a:solidFill>
                  <a:latin typeface="Tahom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66"/>
                </a:solidFill>
                <a:latin typeface="Tahom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66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1A1A-CC56-478B-8E39-495DA449D040}" type="slidenum">
              <a:rPr b="0" lang="ru-RU" sz="14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mbria"/>
              </a:rPr>
              <a:t>Педагогическая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Cambria"/>
              </a:rPr>
              <a:t>    концепция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3884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Cambria"/>
              </a:rPr>
              <a:t>  </a:t>
            </a:r>
            <a:r>
              <a:rPr b="1" i="1" lang="ru-RU" sz="2400" spc="-1" strike="noStrike">
                <a:solidFill>
                  <a:srgbClr val="0000cc"/>
                </a:solidFill>
                <a:latin typeface="Cambria"/>
              </a:rPr>
              <a:t>воспитателя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МАДОУ Детский сад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№ </a:t>
            </a: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17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«Колосок»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Пос. Шоссейное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Гурьевского района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mbria"/>
              </a:rPr>
              <a:t>Калининградской области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mbria"/>
              </a:rPr>
              <a:t>Хорлунов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Cambria"/>
              </a:rPr>
              <a:t>Наталия Владимировн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69" name="Содержимое 5" descr="J:\101MSDCF\DSC00864.JPG"/>
          <p:cNvPicPr/>
          <p:nvPr/>
        </p:nvPicPr>
        <p:blipFill>
          <a:blip r:embed="rId2"/>
          <a:stretch/>
        </p:blipFill>
        <p:spPr>
          <a:xfrm>
            <a:off x="4645080" y="2309760"/>
            <a:ext cx="4048200" cy="303696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ff00"/>
                </a:solidFill>
                <a:latin typeface="Cambria"/>
              </a:rPr>
              <a:t>Взаимодействие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18760" y="4811040"/>
            <a:ext cx="3183480" cy="1611720"/>
          </a:xfrm>
          <a:prstGeom prst="rect">
            <a:avLst/>
          </a:prstGeom>
          <a:solidFill>
            <a:srgbClr val="00b0f0"/>
          </a:solidFill>
          <a:ln w="25560">
            <a:solidFill>
              <a:srgbClr val="6f6fbc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 детьми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04" name="Прямоугольник с двумя скругленными противолежащими углами 4"/>
          <p:cNvSpPr/>
          <p:nvPr/>
        </p:nvSpPr>
        <p:spPr>
          <a:xfrm>
            <a:off x="539640" y="2565360"/>
            <a:ext cx="3071880" cy="1800360"/>
          </a:xfrm>
          <a:prstGeom prst="pie">
            <a:avLst/>
          </a:prstGeom>
          <a:solidFill>
            <a:srgbClr val="ff0066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 педагогами и специалистами ДОУ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5" name="Прямоугольник с двумя скругленными противолежащими углами 8"/>
          <p:cNvSpPr/>
          <p:nvPr/>
        </p:nvSpPr>
        <p:spPr>
          <a:xfrm>
            <a:off x="5867280" y="2637000"/>
            <a:ext cx="2928960" cy="1714320"/>
          </a:xfrm>
          <a:prstGeom prst="pie">
            <a:avLst/>
          </a:prstGeom>
          <a:solidFill>
            <a:srgbClr val="00ff00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1f4f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 родителями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Стрелка вниз 9"/>
          <p:cNvSpPr/>
          <p:nvPr/>
        </p:nvSpPr>
        <p:spPr>
          <a:xfrm>
            <a:off x="1908000" y="1557360"/>
            <a:ext cx="428760" cy="78588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7" name="Стрелка вниз 10"/>
          <p:cNvSpPr/>
          <p:nvPr/>
        </p:nvSpPr>
        <p:spPr>
          <a:xfrm>
            <a:off x="4356000" y="1989000"/>
            <a:ext cx="857520" cy="271476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8" name="Стрелка вниз 11"/>
          <p:cNvSpPr/>
          <p:nvPr/>
        </p:nvSpPr>
        <p:spPr>
          <a:xfrm>
            <a:off x="7020000" y="1773360"/>
            <a:ext cx="428400" cy="78552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9999ff"/>
          </a:solidFill>
          <a:ln w="25560">
            <a:solidFill>
              <a:srgbClr val="6f6f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Творческое название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«Исследуем и играем в театр»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0" name="Picture 12" descr="уголок"/>
          <p:cNvPicPr/>
          <p:nvPr/>
        </p:nvPicPr>
        <p:blipFill>
          <a:blip r:embed="rId1"/>
          <a:stretch/>
        </p:blipFill>
        <p:spPr>
          <a:xfrm rot="21044400">
            <a:off x="4788000" y="2070000"/>
            <a:ext cx="3673440" cy="23576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sp>
        <p:nvSpPr>
          <p:cNvPr id="211" name=""/>
          <p:cNvSpPr txBox="1"/>
          <p:nvPr/>
        </p:nvSpPr>
        <p:spPr>
          <a:xfrm>
            <a:off x="178920" y="479700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Мои помощники-исследователи: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198720" indent="-198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ти группы старшей и подготовительной групп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198720" indent="-1987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т 5-7 лет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12" name="Picture 7" descr="IMG_0841"/>
          <p:cNvPicPr/>
          <p:nvPr/>
        </p:nvPicPr>
        <p:blipFill>
          <a:blip r:embed="rId2"/>
          <a:stretch/>
        </p:blipFill>
        <p:spPr>
          <a:xfrm rot="20634600">
            <a:off x="684000" y="1844640"/>
            <a:ext cx="3384360" cy="24494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p:transition>
    <p:wheel spokes="3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1187280" y="1915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Проблемные вопросы</a:t>
            </a: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250920" y="1051560"/>
            <a:ext cx="410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Как поощрять детскую любознательность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643280" y="972000"/>
            <a:ext cx="450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Какие средства использовать при поисковой деятельности для эффективного развития познавательного интереса дошкольников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50920" y="4349880"/>
            <a:ext cx="43923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Какое влияние оказывает исследование детей на развитие познавательных интересов</a:t>
            </a:r>
            <a:r>
              <a:rPr b="1" lang="ru-RU" sz="2000" spc="-1" strike="noStrike">
                <a:solidFill>
                  <a:srgbClr val="000066"/>
                </a:solidFill>
                <a:latin typeface="Tahoma"/>
              </a:rPr>
              <a:t> через театрализованную деятельность</a:t>
            </a: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7" name="Line 6"/>
          <p:cNvSpPr/>
          <p:nvPr/>
        </p:nvSpPr>
        <p:spPr>
          <a:xfrm flipH="1">
            <a:off x="2410920" y="765000"/>
            <a:ext cx="151308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5435640" y="765000"/>
            <a:ext cx="1441440" cy="2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4356000" y="836640"/>
            <a:ext cx="0" cy="3816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0" name="Picture 10" descr="IMG_1030"/>
          <p:cNvPicPr/>
          <p:nvPr/>
        </p:nvPicPr>
        <p:blipFill>
          <a:blip r:embed="rId1"/>
          <a:stretch/>
        </p:blipFill>
        <p:spPr>
          <a:xfrm>
            <a:off x="5219640" y="2708280"/>
            <a:ext cx="3519720" cy="216072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221" name="Line 11"/>
          <p:cNvSpPr/>
          <p:nvPr/>
        </p:nvSpPr>
        <p:spPr>
          <a:xfrm>
            <a:off x="4500720" y="907920"/>
            <a:ext cx="360360" cy="4392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5148360" y="4941720"/>
            <a:ext cx="3728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Как может повлиять участие родителей на результаты работы по познанию окружающего мира?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23" name="Picture 13" descr="Изображение 237"/>
          <p:cNvPicPr/>
          <p:nvPr/>
        </p:nvPicPr>
        <p:blipFill>
          <a:blip r:embed="rId2"/>
          <a:stretch/>
        </p:blipFill>
        <p:spPr>
          <a:xfrm>
            <a:off x="395280" y="2060640"/>
            <a:ext cx="3240000" cy="23763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p:transition>
    <p:wheel spokes="3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7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4"/>
          <p:cNvSpPr/>
          <p:nvPr/>
        </p:nvSpPr>
        <p:spPr>
          <a:xfrm>
            <a:off x="179280" y="2674800"/>
            <a:ext cx="864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ТЕМЫ          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ИССЛЕДОВАНИЙ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250920" y="659160"/>
            <a:ext cx="410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Развитие познавательных интересов через исследования живой и неживой природы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5076720" y="545040"/>
            <a:ext cx="3810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Использование методов исследования во время непосредственно образовательной деятельности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395280" y="4586760"/>
            <a:ext cx="3889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Детская проектная деятельность как способ развития исследовательских способностей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4788000" y="4597920"/>
            <a:ext cx="3932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Tahoma"/>
              </a:rPr>
              <a:t>Целевые прогулки как фактор развития познавательных интересов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wheel spokes="3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Verdana"/>
              </a:rPr>
              <a:t>Этапы исследовательской работы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Подготовительный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(сентябрь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Основной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(октябрь – апрель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Заключительный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Verdana"/>
              </a:rPr>
              <a:t>     </a:t>
            </a:r>
            <a:r>
              <a:rPr b="1" i="1" lang="ru-RU" sz="2800" spc="-1" strike="noStrike">
                <a:solidFill>
                  <a:srgbClr val="0000cc"/>
                </a:solidFill>
                <a:latin typeface="Verdana"/>
              </a:rPr>
              <a:t>(май)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Verdana"/>
              </a:rPr>
              <a:t>Подготовительный этап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32" name="Picture 261" descr="DSCN2761"/>
          <p:cNvPicPr/>
          <p:nvPr/>
        </p:nvPicPr>
        <p:blipFill>
          <a:blip r:embed="rId1"/>
          <a:stretch/>
        </p:blipFill>
        <p:spPr>
          <a:xfrm>
            <a:off x="611280" y="1052640"/>
            <a:ext cx="2233440" cy="280980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33" name="Picture 262" descr="DSCN2769"/>
          <p:cNvPicPr/>
          <p:nvPr/>
        </p:nvPicPr>
        <p:blipFill>
          <a:blip r:embed="rId2"/>
          <a:stretch/>
        </p:blipFill>
        <p:spPr>
          <a:xfrm rot="20576400">
            <a:off x="4560840" y="1343160"/>
            <a:ext cx="3554640" cy="237492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34" name="Picture 265" descr="DSCN2764"/>
          <p:cNvPicPr/>
          <p:nvPr/>
        </p:nvPicPr>
        <p:blipFill>
          <a:blip r:embed="rId3"/>
          <a:stretch/>
        </p:blipFill>
        <p:spPr>
          <a:xfrm rot="6054600">
            <a:off x="1248120" y="3935880"/>
            <a:ext cx="2890800" cy="21654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35" name="Picture 272" descr="DSCF0138"/>
          <p:cNvPicPr/>
          <p:nvPr/>
        </p:nvPicPr>
        <p:blipFill>
          <a:blip r:embed="rId4"/>
          <a:stretch/>
        </p:blipFill>
        <p:spPr>
          <a:xfrm rot="577200">
            <a:off x="4846680" y="4061880"/>
            <a:ext cx="3462120" cy="22449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p:transition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4"/>
          <p:cNvSpPr/>
          <p:nvPr/>
        </p:nvSpPr>
        <p:spPr>
          <a:xfrm>
            <a:off x="1116000" y="51840"/>
            <a:ext cx="65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Основной этап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37" name="Picture 1985" descr="IMG_2844"/>
          <p:cNvPicPr/>
          <p:nvPr/>
        </p:nvPicPr>
        <p:blipFill>
          <a:blip r:embed="rId1"/>
          <a:stretch/>
        </p:blipFill>
        <p:spPr>
          <a:xfrm>
            <a:off x="324000" y="981000"/>
            <a:ext cx="3816360" cy="55436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38" name="Picture 1988" descr="DSCF0133"/>
          <p:cNvPicPr/>
          <p:nvPr/>
        </p:nvPicPr>
        <p:blipFill>
          <a:blip r:embed="rId2"/>
          <a:stretch/>
        </p:blipFill>
        <p:spPr>
          <a:xfrm>
            <a:off x="5219640" y="981000"/>
            <a:ext cx="3313080" cy="26654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39" name="Picture 1990" descr="DSCF0138"/>
          <p:cNvPicPr/>
          <p:nvPr/>
        </p:nvPicPr>
        <p:blipFill>
          <a:blip r:embed="rId3"/>
          <a:stretch/>
        </p:blipFill>
        <p:spPr>
          <a:xfrm>
            <a:off x="922320" y="3903840"/>
            <a:ext cx="3108240" cy="21524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40" name="Picture 11" descr="IMG_7165"/>
          <p:cNvPicPr/>
          <p:nvPr/>
        </p:nvPicPr>
        <p:blipFill>
          <a:blip r:embed="rId4"/>
          <a:stretch/>
        </p:blipFill>
        <p:spPr>
          <a:xfrm>
            <a:off x="179280" y="4221000"/>
            <a:ext cx="4176720" cy="22323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41" name="Picture 24" descr="DSCN2606"/>
          <p:cNvPicPr/>
          <p:nvPr/>
        </p:nvPicPr>
        <p:blipFill>
          <a:blip r:embed="rId5"/>
          <a:stretch/>
        </p:blipFill>
        <p:spPr>
          <a:xfrm>
            <a:off x="250920" y="1341360"/>
            <a:ext cx="4105080" cy="25192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1116000" y="5976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Tahoma"/>
              </a:rPr>
              <a:t>Заключительный этап</a:t>
            </a:r>
            <a:endParaRPr b="0" lang="en-US" sz="3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243" name="Picture 242" descr="DSC00382"/>
          <p:cNvPicPr/>
          <p:nvPr/>
        </p:nvPicPr>
        <p:blipFill>
          <a:blip r:embed="rId1"/>
          <a:stretch/>
        </p:blipFill>
        <p:spPr>
          <a:xfrm>
            <a:off x="324000" y="1052640"/>
            <a:ext cx="3671640" cy="23050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44" name="Picture 243" descr="DSCN1925"/>
          <p:cNvPicPr/>
          <p:nvPr/>
        </p:nvPicPr>
        <p:blipFill>
          <a:blip r:embed="rId2"/>
          <a:stretch/>
        </p:blipFill>
        <p:spPr>
          <a:xfrm>
            <a:off x="4716360" y="1052640"/>
            <a:ext cx="3888000" cy="230508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45" name="Picture 247" descr="P6030051"/>
          <p:cNvPicPr/>
          <p:nvPr/>
        </p:nvPicPr>
        <p:blipFill>
          <a:blip r:embed="rId3"/>
          <a:stretch/>
        </p:blipFill>
        <p:spPr>
          <a:xfrm>
            <a:off x="324000" y="3933720"/>
            <a:ext cx="3671640" cy="2590920"/>
          </a:xfrm>
          <a:prstGeom prst="rect">
            <a:avLst/>
          </a:prstGeom>
          <a:ln w="50760">
            <a:solidFill>
              <a:srgbClr val="339966"/>
            </a:solidFill>
            <a:miter/>
          </a:ln>
        </p:spPr>
      </p:pic>
      <p:pic>
        <p:nvPicPr>
          <p:cNvPr id="246" name="Picture 245" descr="ярмарка 007"/>
          <p:cNvPicPr/>
          <p:nvPr/>
        </p:nvPicPr>
        <p:blipFill>
          <a:blip r:embed="rId4"/>
          <a:stretch/>
        </p:blipFill>
        <p:spPr>
          <a:xfrm>
            <a:off x="4716360" y="3933720"/>
            <a:ext cx="3888000" cy="25196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Verdana"/>
              </a:rPr>
              <a:t>Развитие 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Verdana"/>
              </a:rPr>
              <a:t>интеллектуальных способностей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2601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Начало год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Verdana"/>
              </a:rPr>
              <a:t>Конец года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49" name="Object 13"/>
          <p:cNvGraphicFramePr/>
          <p:nvPr/>
        </p:nvGraphicFramePr>
        <p:xfrm>
          <a:off x="3124080" y="1341360"/>
          <a:ext cx="5857920" cy="22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341360"/>
                    <a:ext cx="5857920" cy="22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14"/>
          <p:cNvGraphicFramePr/>
          <p:nvPr/>
        </p:nvGraphicFramePr>
        <p:xfrm>
          <a:off x="3371760" y="4095720"/>
          <a:ext cx="5658120" cy="21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71760" y="4095720"/>
                    <a:ext cx="5658120" cy="21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Verdana"/>
              </a:rPr>
              <a:t>Результативность психофизического и эмоционального состояния детей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graphicFrame>
        <p:nvGraphicFramePr>
          <p:cNvPr id="254" name="Object 15"/>
          <p:cNvGraphicFramePr/>
          <p:nvPr/>
        </p:nvGraphicFramePr>
        <p:xfrm>
          <a:off x="0" y="1557360"/>
          <a:ext cx="9144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57360"/>
                    <a:ext cx="9144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8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«У учёного, решающего свои проблемы, и у малыша, открывающего для себя мир, задействованы одни и те же механизмы творческого мышления»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                   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Л.С.Выготский</a:t>
            </a:r>
            <a:r>
              <a:rPr b="1" lang="ru-RU" sz="2400" spc="-1" strike="noStrike">
                <a:solidFill>
                  <a:srgbClr val="ffff00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«Развитие познавательных интересов дошкольников </a:t>
            </a:r>
            <a:endParaRPr b="0" lang="en-US" sz="32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mbria"/>
              </a:rPr>
              <a:t>в процессе элементарных исследований  через театрализованную деятельность»</a:t>
            </a:r>
            <a:r>
              <a:rPr b="0" lang="ru-RU" sz="28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72" name="Picture 18" descr="IMG_2477"/>
          <p:cNvPicPr/>
          <p:nvPr/>
        </p:nvPicPr>
        <p:blipFill>
          <a:blip r:embed="rId1"/>
          <a:stretch/>
        </p:blipFill>
        <p:spPr>
          <a:xfrm>
            <a:off x="2963880" y="4114800"/>
            <a:ext cx="3216240" cy="198108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173" name="Text Box 5"/>
          <p:cNvSpPr/>
          <p:nvPr/>
        </p:nvSpPr>
        <p:spPr>
          <a:xfrm>
            <a:off x="3184560" y="3808440"/>
            <a:ext cx="4556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buClr>
                <a:srgbClr val="ffff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i="1" lang="ru-RU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2286000" y="612720"/>
            <a:ext cx="4572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Tahoma"/>
              </a:rPr>
              <a:t>ВЫВОДЫ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По завершению исследования были сделаны следующие выводы: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В ходе поисковой деятельности по решению проблемы дошкольники научились самостоятельно действовать в соответствии с заданием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Сформировались способности прогнозировать результат, систематизировать полученные данные и знания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Повысили уровень знаний о свойствах и качествах материалов, способности к преобразованию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Повысился уровень коммуникативных способностей, навыков совместной деятельности</a:t>
            </a:r>
            <a:br>
              <a:rPr sz="1800"/>
            </a:br>
            <a:r>
              <a:rPr b="0" lang="ru-RU" sz="1800" spc="-1" strike="noStrike">
                <a:solidFill>
                  <a:srgbClr val="cc0099"/>
                </a:solidFill>
                <a:latin typeface="Tahoma"/>
              </a:rPr>
              <a:t>Сформировались первичные навыки исследовательской деятельности, актерского мастерства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Verdana"/>
              </a:rPr>
              <a:t>Информационные ресурсы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03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Веракса Н.Е., Т.С.Комарова, М.А.Васильева «От рождения до школы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А.Данюкова «Вы любите проекты?» 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О.В.Дыбина, Н.П.Рахманова, В.В.Щетинина «Неизведанное рядом: Занимательные опыты и эксперименты для дошкольников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Л.С.Киселёва «Проектный метод в деятельности дошкольного учреждения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Н.А. Рыжова «Наш дом – природа».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А.И.Савенков «Учебное исследование в детском саду: вопросы теории и методики»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Verdana"/>
              </a:rPr>
              <a:t>Интернет-ресурсы</a:t>
            </a:r>
            <a:endParaRPr b="0" lang="en-US" sz="1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0" name="Picture 6" descr="IMG_0895"/>
          <p:cNvPicPr/>
          <p:nvPr/>
        </p:nvPicPr>
        <p:blipFill>
          <a:blip r:embed="rId1"/>
          <a:stretch/>
        </p:blipFill>
        <p:spPr>
          <a:xfrm>
            <a:off x="5076720" y="1341360"/>
            <a:ext cx="2975040" cy="19814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61" name="Picture 7" descr="IMG_1001"/>
          <p:cNvPicPr/>
          <p:nvPr/>
        </p:nvPicPr>
        <p:blipFill>
          <a:blip r:embed="rId2"/>
          <a:stretch/>
        </p:blipFill>
        <p:spPr>
          <a:xfrm>
            <a:off x="5076720" y="3789360"/>
            <a:ext cx="2975040" cy="208764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</p:spTree>
  </p:cSld>
  <p:transition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Verdana"/>
              </a:rPr>
              <a:t>БЛАГОДАРЮ  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Verdana"/>
              </a:rPr>
              <a:t>ЗА ВНИМАНИЕ!</a:t>
            </a:r>
            <a:endParaRPr b="0" lang="en-US" sz="44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263" name="Picture 8" descr="DSCF0142"/>
          <p:cNvPicPr/>
          <p:nvPr/>
        </p:nvPicPr>
        <p:blipFill>
          <a:blip r:embed="rId1"/>
          <a:stretch/>
        </p:blipFill>
        <p:spPr>
          <a:xfrm>
            <a:off x="1908000" y="2492280"/>
            <a:ext cx="4969080" cy="316872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265" name="Picture 8" descr="Изображение 034"/>
          <p:cNvPicPr/>
          <p:nvPr/>
        </p:nvPicPr>
        <p:blipFill>
          <a:blip r:embed="rId1"/>
          <a:stretch/>
        </p:blipFill>
        <p:spPr>
          <a:xfrm>
            <a:off x="324000" y="1413000"/>
            <a:ext cx="3743280" cy="230328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  <p:pic>
        <p:nvPicPr>
          <p:cNvPr id="266" name="Picture 11" descr="Изображение 239"/>
          <p:cNvPicPr/>
          <p:nvPr/>
        </p:nvPicPr>
        <p:blipFill>
          <a:blip r:embed="rId2"/>
          <a:stretch/>
        </p:blipFill>
        <p:spPr>
          <a:xfrm>
            <a:off x="4572000" y="1413000"/>
            <a:ext cx="4038480" cy="504036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267" name="Picture 12" descr="Изображение 230"/>
          <p:cNvPicPr/>
          <p:nvPr/>
        </p:nvPicPr>
        <p:blipFill>
          <a:blip r:embed="rId3"/>
          <a:stretch/>
        </p:blipFill>
        <p:spPr>
          <a:xfrm>
            <a:off x="324000" y="3933720"/>
            <a:ext cx="3743280" cy="251964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mbria"/>
              </a:rPr>
              <a:t>ИССЛЕДОВАНИЕ ПРОБЛЕМЫ</a:t>
            </a:r>
            <a:r>
              <a:rPr b="1" i="1" lang="ru-RU" sz="3600" spc="-1" strike="noStrike">
                <a:solidFill>
                  <a:srgbClr val="ffff00"/>
                </a:solidFill>
                <a:latin typeface="Cambria"/>
              </a:rPr>
              <a:t>: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196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Тип исследования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информационно – исследовательски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По предметно – содержательной области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развитие познавательных способностей  через театрализованную деятель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По характеру координации </a:t>
            </a:r>
            <a:r>
              <a:rPr b="0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000" spc="-1" strike="noStrike">
                <a:solidFill>
                  <a:srgbClr val="000066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  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в рамках непосредственно образовательной деятельности и кружковых занятий и взаимодействии  с педагогами и специалистами ДОУ, совместной и самостоятельной деятельности и тематических прогулках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По характеру контакта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открыты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По характеру участия</a:t>
            </a:r>
            <a:r>
              <a:rPr b="1" i="1" lang="ru-RU" sz="2400" spc="-1" strike="noStrike">
                <a:solidFill>
                  <a:srgbClr val="ff0000"/>
                </a:solidFill>
                <a:latin typeface="Cambria"/>
              </a:rPr>
              <a:t>:</a:t>
            </a:r>
            <a:r>
              <a:rPr b="0" lang="ru-RU" sz="2400" spc="-1" strike="noStrike">
                <a:solidFill>
                  <a:srgbClr val="000066"/>
                </a:solidFill>
                <a:latin typeface="Cambri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ребёнок – педагог – родител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Cambria"/>
              </a:rPr>
              <a:t>Условия реализации:</a:t>
            </a:r>
            <a:r>
              <a:rPr b="1" i="1" lang="ru-RU" sz="2000" spc="-1" strike="noStrike">
                <a:solidFill>
                  <a:srgbClr val="000066"/>
                </a:solidFill>
                <a:latin typeface="Cambria"/>
              </a:rPr>
              <a:t>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интерес детей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АКТУАЛЬНОСТЬ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90792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451"/>
              </a:spcBef>
              <a:buClr>
                <a:srgbClr val="00990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9900"/>
                </a:solidFill>
                <a:latin typeface="Cambria"/>
              </a:rPr>
              <a:t>Развитие познавательного интереса к различным областям знаний и видам деятельности является одной из составных успешности обучения детей в школе. Интерес дошкольника к окружающему миру, желание познать и освоить всё новое – основа формирования этого качества, развивает коммуникативные способности ребенка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 algn="ctr">
              <a:lnSpc>
                <a:spcPct val="90000"/>
              </a:lnSpc>
              <a:spcBef>
                <a:spcPts val="451"/>
              </a:spcBef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Интенсивное изменение окружающей жизни, активное проникновение научно-технического прогресса во все её сферы диктуют педагогу необходимость выбирать более эффективные средства обучения и воспитания на основе современных методов и новых интегрированных технологий, не забывая при этом, что основой деятельности детей в дошкольном возрасте является игра, в данном случае- театрализованная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Недостаточностный объём знаний у детей в области естественнонаучных представлений, приводит к затруднению в установлении взаимосвязи живой и неживой природы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Исследование,  суть которого свобода его участников в выражении субъективного мнения, в выборе содержания деятельности и средств решения проблемы может стать решением проблемы развития познавательных интересов у дошкольников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ГИПОТЕЗА (КОНЦЕПТУАЛЬНОСТЬ)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4032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      </a:t>
            </a:r>
            <a:r>
              <a:rPr b="1" lang="ru-RU" sz="2000" spc="-1" strike="noStrike">
                <a:solidFill>
                  <a:srgbClr val="0000cc"/>
                </a:solidFill>
                <a:latin typeface="Cambria"/>
              </a:rPr>
              <a:t>Если удовлетворить потребности ребёнка в познании окружающего мира доступным для него способом – самостоятельным исследованием мира и возможностью играть, перевоплощаться,  то в процессе элементарной исследовательской деятельности будут успешно развиваться его познавательные интересы и творческие способност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0" name="Picture 7" descr="DSCF0119"/>
          <p:cNvPicPr/>
          <p:nvPr/>
        </p:nvPicPr>
        <p:blipFill>
          <a:blip r:embed="rId1"/>
          <a:stretch/>
        </p:blipFill>
        <p:spPr>
          <a:xfrm>
            <a:off x="4716360" y="1197000"/>
            <a:ext cx="3888000" cy="23763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181" name="Picture 8" descr="DSCF0123"/>
          <p:cNvPicPr/>
          <p:nvPr/>
        </p:nvPicPr>
        <p:blipFill>
          <a:blip r:embed="rId2"/>
          <a:stretch/>
        </p:blipFill>
        <p:spPr>
          <a:xfrm>
            <a:off x="4716360" y="3860640"/>
            <a:ext cx="3888000" cy="244800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ЦЕЛЬ ИССЛЕДОВАНИЯ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Развитие познавательного интереса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и практических навыков детей 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mbria"/>
              </a:rPr>
              <a:t>через театрализованную деятельность</a:t>
            </a: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84" name="Picture 5" descr="DSCF0132"/>
          <p:cNvPicPr/>
          <p:nvPr/>
        </p:nvPicPr>
        <p:blipFill>
          <a:blip r:embed="rId1"/>
          <a:stretch/>
        </p:blipFill>
        <p:spPr>
          <a:xfrm>
            <a:off x="1332000" y="3213000"/>
            <a:ext cx="6480000" cy="3240360"/>
          </a:xfrm>
          <a:prstGeom prst="rect">
            <a:avLst/>
          </a:prstGeom>
          <a:ln w="50760">
            <a:solidFill>
              <a:srgbClr val="0000cc"/>
            </a:solidFill>
            <a:miter/>
          </a:ln>
        </p:spPr>
      </p:pic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ИНТЕГРАЦИЯ  </a:t>
            </a:r>
            <a:br>
              <a:rPr sz="3600"/>
            </a:br>
            <a:r>
              <a:rPr b="1" lang="ru-RU" sz="3600" spc="-1" strike="noStrike">
                <a:solidFill>
                  <a:srgbClr val="ffc000"/>
                </a:solidFill>
                <a:latin typeface="Cambria"/>
              </a:rPr>
              <a:t>ОБРАЗОВАТЕЛЬНЫХ ОБЛАСТЕЙ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86" name="AutoShape 7"/>
          <p:cNvSpPr/>
          <p:nvPr/>
        </p:nvSpPr>
        <p:spPr>
          <a:xfrm>
            <a:off x="395280" y="1268280"/>
            <a:ext cx="7920000" cy="50328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Физическая культура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AutoShape 8"/>
          <p:cNvSpPr/>
          <p:nvPr/>
        </p:nvSpPr>
        <p:spPr>
          <a:xfrm>
            <a:off x="468360" y="2565360"/>
            <a:ext cx="7848720" cy="43200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Социализация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8" name="AutoShape 11"/>
          <p:cNvSpPr/>
          <p:nvPr/>
        </p:nvSpPr>
        <p:spPr>
          <a:xfrm>
            <a:off x="468360" y="1916280"/>
            <a:ext cx="7848720" cy="50292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Безопасность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9" name="AutoShape 8"/>
          <p:cNvSpPr/>
          <p:nvPr/>
        </p:nvSpPr>
        <p:spPr>
          <a:xfrm>
            <a:off x="468360" y="4508640"/>
            <a:ext cx="7848720" cy="43164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Коммуникация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0" name="AutoShape 8"/>
          <p:cNvSpPr/>
          <p:nvPr/>
        </p:nvSpPr>
        <p:spPr>
          <a:xfrm>
            <a:off x="468360" y="5157720"/>
            <a:ext cx="7848720" cy="43344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Чтение художественной литературы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1" name="AutoShape 8"/>
          <p:cNvSpPr/>
          <p:nvPr/>
        </p:nvSpPr>
        <p:spPr>
          <a:xfrm>
            <a:off x="468360" y="5732640"/>
            <a:ext cx="7848720" cy="50292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Музыка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2" name="AutoShape 8"/>
          <p:cNvSpPr/>
          <p:nvPr/>
        </p:nvSpPr>
        <p:spPr>
          <a:xfrm>
            <a:off x="468360" y="3789360"/>
            <a:ext cx="7848720" cy="43164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Познание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3" name="AutoShape 8"/>
          <p:cNvSpPr/>
          <p:nvPr/>
        </p:nvSpPr>
        <p:spPr>
          <a:xfrm>
            <a:off x="395280" y="3213000"/>
            <a:ext cx="7848720" cy="432000"/>
          </a:xfrm>
          <a:prstGeom prst="flowChartAlternateProcess">
            <a:avLst/>
          </a:prstGeom>
          <a:gradFill rotWithShape="0">
            <a:gsLst>
              <a:gs pos="0">
                <a:srgbClr val="e1f4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ОО «Труд»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mbria"/>
              </a:rPr>
              <a:t>ДИДАКТИЧЕСКИЕ ЗАДАЧИ 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5" name="Picture 6" descr="DSCF0124"/>
          <p:cNvPicPr/>
          <p:nvPr/>
        </p:nvPicPr>
        <p:blipFill>
          <a:blip r:embed="rId1"/>
          <a:stretch/>
        </p:blipFill>
        <p:spPr>
          <a:xfrm rot="21031800">
            <a:off x="550800" y="1160280"/>
            <a:ext cx="3240000" cy="216036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pic>
        <p:nvPicPr>
          <p:cNvPr id="196" name="Picture 7" descr="DSCF0128"/>
          <p:cNvPicPr/>
          <p:nvPr/>
        </p:nvPicPr>
        <p:blipFill>
          <a:blip r:embed="rId2"/>
          <a:stretch/>
        </p:blipFill>
        <p:spPr>
          <a:xfrm rot="765600">
            <a:off x="5160960" y="1374480"/>
            <a:ext cx="3306600" cy="20541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Развивать умения прогнозировать, анализировать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Развитие способности к поисковой деятельности: определение задач, исходя из поставленной проблемы; планирование этапов своих действий; выбор материала и способа действий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Развитие познавательных интересов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cc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Cambria"/>
              </a:rPr>
              <a:t>Развитие у детей инициативы, сообразительности, пытливости, самостоятельности, мыслительных процессов, любознательности</a:t>
            </a:r>
            <a:endParaRPr b="0" lang="en-US" sz="18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Cambria"/>
              </a:rPr>
              <a:t>МЕТОДИЧЕСКИЕ ЗАДАЧИ</a:t>
            </a:r>
            <a:endParaRPr b="0" lang="en-US" sz="36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99" name="Picture 5" descr="IMG_0822"/>
          <p:cNvPicPr/>
          <p:nvPr/>
        </p:nvPicPr>
        <p:blipFill>
          <a:blip r:embed="rId1"/>
          <a:stretch/>
        </p:blipFill>
        <p:spPr>
          <a:xfrm rot="687600">
            <a:off x="743040" y="1214280"/>
            <a:ext cx="3168720" cy="2068560"/>
          </a:xfrm>
          <a:prstGeom prst="rect">
            <a:avLst/>
          </a:prstGeom>
          <a:ln w="50760">
            <a:solidFill>
              <a:srgbClr val="ffff00"/>
            </a:solidFill>
            <a:miter/>
          </a:ln>
        </p:spPr>
      </p:pic>
      <p:pic>
        <p:nvPicPr>
          <p:cNvPr id="200" name="Picture 7" descr="IMG_0828"/>
          <p:cNvPicPr/>
          <p:nvPr/>
        </p:nvPicPr>
        <p:blipFill>
          <a:blip r:embed="rId2"/>
          <a:stretch/>
        </p:blipFill>
        <p:spPr>
          <a:xfrm rot="20884200">
            <a:off x="5003640" y="1125000"/>
            <a:ext cx="3157560" cy="2089440"/>
          </a:xfrm>
          <a:prstGeom prst="rect">
            <a:avLst/>
          </a:prstGeom>
          <a:ln w="50760">
            <a:solidFill>
              <a:srgbClr val="ff0000"/>
            </a:solidFill>
            <a:miter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3715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Воспитание интереса к познанию окружающего мира, опытнической деятельности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Сохранение и укрепление здоровья детей и их эмоционального благополучия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Обеспечение личностно – ориентированного взаимодействия взрослого с ребёнком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Verdana"/>
              </a:rPr>
              <a:t>Создание атмосферы успеха, которая позволит каждому ребёнку реализовать свою познавательную активность</a:t>
            </a: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Verdana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11:25:27Z</dcterms:created>
  <dc:creator>User</dc:creator>
  <dc:description/>
  <dc:language>en-US</dc:language>
  <cp:lastModifiedBy>User</cp:lastModifiedBy>
  <dcterms:modified xsi:type="dcterms:W3CDTF">2014-02-05T12:18:01Z</dcterms:modified>
  <cp:revision>113</cp:revision>
  <dc:subject/>
  <dc:title>5ккк</dc:title>
</cp:coreProperties>
</file>