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925-A76A-4FD2-A696-745AEC0B3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D2B7-C24B-415F-8863-6B0E08347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2A61-DCC7-4324-AC49-629E5EF2D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DFBC-FB9D-4333-AAB9-49C753ADD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1854-54A6-4E75-B515-AA9283CB6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3562-4E42-484B-B505-9194D6D5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E92A-20FB-4A73-9F21-712D441E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CC2B3-1919-4757-B290-5919DA8D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025D-E822-4964-9092-99E16671A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257BA-950A-44BB-B38E-A15FAD38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6FD3-A06E-4B45-95CF-6111F7C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C88-E52B-492A-97A0-8F0DF454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B0E0-E29B-4B70-B024-FD2727BE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0B102-E4EF-4CED-A9A2-5F572E13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1976-1F2F-40F5-BB92-0017217E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00FD-9CBA-47CF-BD97-EDFD46C0A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FCB1-15EC-48BE-98A5-DDFEF267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C684-FBC6-4E85-9C98-0F2CEEEF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4CDD-750D-40F7-85DD-B2119E8C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DBB5-81FB-49FB-8098-F21492D3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BD27-BBD2-4364-8AA1-D12C1CA9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06A-1D51-483A-842B-10974DA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FBB-4F47-4989-8EF4-0D18C97E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3557-5ED7-40BF-A345-79EC5E02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Tahom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Tahom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86D7-268C-4802-A016-E1504295871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C490-16F3-4185-BDC4-5CD797044A11}" type="slidenum">
              <a:rPr b="0" lang="ru-RU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mbria"/>
              </a:rPr>
              <a:t>Педагогическая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mbria"/>
              </a:rPr>
              <a:t>    концепци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3884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mbria"/>
              </a:rPr>
              <a:t>  </a:t>
            </a:r>
            <a:r>
              <a:rPr b="1" i="1" lang="ru-RU" sz="2400" spc="-1" strike="noStrike">
                <a:solidFill>
                  <a:srgbClr val="0000cc"/>
                </a:solidFill>
                <a:latin typeface="Cambria"/>
              </a:rPr>
              <a:t>воспитате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МАДОУ Детский сад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№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17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«Колосок»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ос. Шоссейно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Гурьевского райо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Калининградской област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mbria"/>
              </a:rPr>
              <a:t>Хорлуно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mbria"/>
              </a:rPr>
              <a:t>Наталия Владимиро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Содержимое 5" descr="J:\101MSDCF\DSC00864.JPG"/>
          <p:cNvPicPr/>
          <p:nvPr/>
        </p:nvPicPr>
        <p:blipFill>
          <a:blip r:embed="rId2"/>
          <a:stretch/>
        </p:blipFill>
        <p:spPr>
          <a:xfrm>
            <a:off x="4645080" y="2309760"/>
            <a:ext cx="4048200" cy="3036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Cambria"/>
              </a:rPr>
              <a:t>Взаимодействие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18760" y="4811040"/>
            <a:ext cx="3183480" cy="1611720"/>
          </a:xfrm>
          <a:prstGeom prst="rect">
            <a:avLst/>
          </a:pr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 детьми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Прямоугольник с двумя скругленными противолежащими углами 4"/>
          <p:cNvSpPr/>
          <p:nvPr/>
        </p:nvSpPr>
        <p:spPr>
          <a:xfrm>
            <a:off x="539640" y="2565360"/>
            <a:ext cx="3071880" cy="1800360"/>
          </a:xfrm>
          <a:prstGeom prst="pie">
            <a:avLst/>
          </a:prstGeom>
          <a:solidFill>
            <a:srgbClr val="ff0066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 педагогами и специалистами ДОУ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Прямоугольник с двумя скругленными противолежащими углами 8"/>
          <p:cNvSpPr/>
          <p:nvPr/>
        </p:nvSpPr>
        <p:spPr>
          <a:xfrm>
            <a:off x="5867280" y="2637000"/>
            <a:ext cx="2928960" cy="1714320"/>
          </a:xfrm>
          <a:prstGeom prst="pie">
            <a:avLst/>
          </a:prstGeom>
          <a:solidFill>
            <a:srgbClr val="00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f4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 родителям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Стрелка вниз 9"/>
          <p:cNvSpPr/>
          <p:nvPr/>
        </p:nvSpPr>
        <p:spPr>
          <a:xfrm>
            <a:off x="1908000" y="155736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Стрелка вниз 10"/>
          <p:cNvSpPr/>
          <p:nvPr/>
        </p:nvSpPr>
        <p:spPr>
          <a:xfrm>
            <a:off x="4356000" y="1989000"/>
            <a:ext cx="857520" cy="27147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Стрелка вниз 11"/>
          <p:cNvSpPr/>
          <p:nvPr/>
        </p:nvSpPr>
        <p:spPr>
          <a:xfrm>
            <a:off x="7020000" y="1773360"/>
            <a:ext cx="428400" cy="7855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Творческое название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«Исследуем и играем в театр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0" name="Picture 12" descr="уголок"/>
          <p:cNvPicPr/>
          <p:nvPr/>
        </p:nvPicPr>
        <p:blipFill>
          <a:blip r:embed="rId1"/>
          <a:stretch/>
        </p:blipFill>
        <p:spPr>
          <a:xfrm rot="21044400">
            <a:off x="4788000" y="2070000"/>
            <a:ext cx="3673440" cy="23576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211" name=""/>
          <p:cNvSpPr txBox="1"/>
          <p:nvPr/>
        </p:nvSpPr>
        <p:spPr>
          <a:xfrm>
            <a:off x="178920" y="479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ои помощники-исследователи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198720" indent="-198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ти группы старшей и подготовительной групп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198720" indent="-198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т 5-7 ле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7" descr="IMG_0841"/>
          <p:cNvPicPr/>
          <p:nvPr/>
        </p:nvPicPr>
        <p:blipFill>
          <a:blip r:embed="rId2"/>
          <a:stretch/>
        </p:blipFill>
        <p:spPr>
          <a:xfrm rot="20634600">
            <a:off x="684000" y="1844640"/>
            <a:ext cx="3384360" cy="24494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187280" y="1915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Проблемные вопросы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50920" y="105156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 поощрять детскую любознательность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43280" y="97200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ие средства использовать при поисковой деятельности для эффективного развития познавательного интереса дошкольников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50920" y="4349880"/>
            <a:ext cx="43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ое влияние оказывает исследование детей на развитие познавательных интересов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через театрализованную деятельность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7" name="Line 6"/>
          <p:cNvSpPr/>
          <p:nvPr/>
        </p:nvSpPr>
        <p:spPr>
          <a:xfrm flipH="1">
            <a:off x="2410920" y="765000"/>
            <a:ext cx="151308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5435640" y="765000"/>
            <a:ext cx="144144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4356000" y="836640"/>
            <a:ext cx="0" cy="381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0" name="Picture 10" descr="IMG_1030"/>
          <p:cNvPicPr/>
          <p:nvPr/>
        </p:nvPicPr>
        <p:blipFill>
          <a:blip r:embed="rId1"/>
          <a:stretch/>
        </p:blipFill>
        <p:spPr>
          <a:xfrm>
            <a:off x="5219640" y="2708280"/>
            <a:ext cx="3519720" cy="21607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221" name="Line 11"/>
          <p:cNvSpPr/>
          <p:nvPr/>
        </p:nvSpPr>
        <p:spPr>
          <a:xfrm>
            <a:off x="4500720" y="907920"/>
            <a:ext cx="360360" cy="439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148360" y="4941720"/>
            <a:ext cx="37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 может повлиять участие родителей на результаты работы по познанию окружающего мира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3" name="Picture 13" descr="Изображение 237"/>
          <p:cNvPicPr/>
          <p:nvPr/>
        </p:nvPicPr>
        <p:blipFill>
          <a:blip r:embed="rId2"/>
          <a:stretch/>
        </p:blipFill>
        <p:spPr>
          <a:xfrm>
            <a:off x="395280" y="2060640"/>
            <a:ext cx="3240000" cy="2376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9280" y="26748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ТЕМЫ         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ИССЛЕДОВАНИЙ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50920" y="659160"/>
            <a:ext cx="410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Развитие познавательных интересов через исследования живой и неживой природ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076720" y="545040"/>
            <a:ext cx="381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Использование методов исследования во время непосредственно образовательной деятельност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95280" y="4586760"/>
            <a:ext cx="388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Детская проектная деятельность как способ развития исследовательских способносте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788000" y="4597920"/>
            <a:ext cx="39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Целевые прогулки как фактор развития познавательных интерес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Verdana"/>
              </a:rPr>
              <a:t>Этапы исследовательской работ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одготовительный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(сентябрь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Основной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(октябрь – апрель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Заключительный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(май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Подготовительный этап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2" name="Picture 261" descr="DSCN2761"/>
          <p:cNvPicPr/>
          <p:nvPr/>
        </p:nvPicPr>
        <p:blipFill>
          <a:blip r:embed="rId1"/>
          <a:stretch/>
        </p:blipFill>
        <p:spPr>
          <a:xfrm>
            <a:off x="611280" y="1052640"/>
            <a:ext cx="2233440" cy="280980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3" name="Picture 262" descr="DSCN2769"/>
          <p:cNvPicPr/>
          <p:nvPr/>
        </p:nvPicPr>
        <p:blipFill>
          <a:blip r:embed="rId2"/>
          <a:stretch/>
        </p:blipFill>
        <p:spPr>
          <a:xfrm rot="20576400">
            <a:off x="4560840" y="1343160"/>
            <a:ext cx="3554640" cy="237492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34" name="Picture 265" descr="DSCN2764"/>
          <p:cNvPicPr/>
          <p:nvPr/>
        </p:nvPicPr>
        <p:blipFill>
          <a:blip r:embed="rId3"/>
          <a:stretch/>
        </p:blipFill>
        <p:spPr>
          <a:xfrm rot="6054600">
            <a:off x="1248120" y="3935880"/>
            <a:ext cx="2890800" cy="21654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35" name="Picture 272" descr="DSCF0138"/>
          <p:cNvPicPr/>
          <p:nvPr/>
        </p:nvPicPr>
        <p:blipFill>
          <a:blip r:embed="rId4"/>
          <a:stretch/>
        </p:blipFill>
        <p:spPr>
          <a:xfrm rot="577200">
            <a:off x="4846680" y="4061880"/>
            <a:ext cx="3462120" cy="22449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1116000" y="518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Основной этап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7" name="Picture 1985" descr="IMG_2844"/>
          <p:cNvPicPr/>
          <p:nvPr/>
        </p:nvPicPr>
        <p:blipFill>
          <a:blip r:embed="rId1"/>
          <a:stretch/>
        </p:blipFill>
        <p:spPr>
          <a:xfrm>
            <a:off x="324000" y="981000"/>
            <a:ext cx="3816360" cy="55436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8" name="Picture 1988" descr="DSCF0133"/>
          <p:cNvPicPr/>
          <p:nvPr/>
        </p:nvPicPr>
        <p:blipFill>
          <a:blip r:embed="rId2"/>
          <a:stretch/>
        </p:blipFill>
        <p:spPr>
          <a:xfrm>
            <a:off x="5219640" y="981000"/>
            <a:ext cx="3313080" cy="26654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39" name="Picture 1990" descr="DSCF0138"/>
          <p:cNvPicPr/>
          <p:nvPr/>
        </p:nvPicPr>
        <p:blipFill>
          <a:blip r:embed="rId3"/>
          <a:stretch/>
        </p:blipFill>
        <p:spPr>
          <a:xfrm>
            <a:off x="922320" y="3903840"/>
            <a:ext cx="3108240" cy="2152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40" name="Picture 11" descr="IMG_7165"/>
          <p:cNvPicPr/>
          <p:nvPr/>
        </p:nvPicPr>
        <p:blipFill>
          <a:blip r:embed="rId4"/>
          <a:stretch/>
        </p:blipFill>
        <p:spPr>
          <a:xfrm>
            <a:off x="179280" y="4221000"/>
            <a:ext cx="4176720" cy="2232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41" name="Picture 24" descr="DSCN2606"/>
          <p:cNvPicPr/>
          <p:nvPr/>
        </p:nvPicPr>
        <p:blipFill>
          <a:blip r:embed="rId5"/>
          <a:stretch/>
        </p:blipFill>
        <p:spPr>
          <a:xfrm>
            <a:off x="250920" y="1341360"/>
            <a:ext cx="4105080" cy="2519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116000" y="597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Заключительный этап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Picture 242" descr="DSC00382"/>
          <p:cNvPicPr/>
          <p:nvPr/>
        </p:nvPicPr>
        <p:blipFill>
          <a:blip r:embed="rId1"/>
          <a:stretch/>
        </p:blipFill>
        <p:spPr>
          <a:xfrm>
            <a:off x="324000" y="1052640"/>
            <a:ext cx="3671640" cy="23050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44" name="Picture 243" descr="DSCN1925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23050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45" name="Picture 247" descr="P6030051"/>
          <p:cNvPicPr/>
          <p:nvPr/>
        </p:nvPicPr>
        <p:blipFill>
          <a:blip r:embed="rId3"/>
          <a:stretch/>
        </p:blipFill>
        <p:spPr>
          <a:xfrm>
            <a:off x="324000" y="3933720"/>
            <a:ext cx="3671640" cy="2590920"/>
          </a:xfrm>
          <a:prstGeom prst="rect">
            <a:avLst/>
          </a:prstGeom>
          <a:ln w="50760">
            <a:solidFill>
              <a:srgbClr val="339966"/>
            </a:solidFill>
            <a:miter/>
          </a:ln>
        </p:spPr>
      </p:pic>
      <p:pic>
        <p:nvPicPr>
          <p:cNvPr id="246" name="Picture 245" descr="ярмарка 007"/>
          <p:cNvPicPr/>
          <p:nvPr/>
        </p:nvPicPr>
        <p:blipFill>
          <a:blip r:embed="rId4"/>
          <a:stretch/>
        </p:blipFill>
        <p:spPr>
          <a:xfrm>
            <a:off x="4716360" y="3933720"/>
            <a:ext cx="3888000" cy="25196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Развитие 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интеллектуальных способностей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260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чало год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нец год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49" name="Object 13"/>
          <p:cNvGraphicFramePr/>
          <p:nvPr/>
        </p:nvGraphicFramePr>
        <p:xfrm>
          <a:off x="3124080" y="1341360"/>
          <a:ext cx="585792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341360"/>
                    <a:ext cx="58579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4"/>
          <p:cNvGraphicFramePr/>
          <p:nvPr/>
        </p:nvGraphicFramePr>
        <p:xfrm>
          <a:off x="3371760" y="4095720"/>
          <a:ext cx="565812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1760" y="4095720"/>
                    <a:ext cx="5658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Результативность психофизического и эмоционального состояния детей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54" name="Object 15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«У учёного, решающего свои проблемы, и у малыша, открывающего для себя мир, задействованы одни и те же механизмы творческого мышлени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Л.С.Выготский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«Развитие познавательных интересов дошкольников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в процессе элементарных исследований  через театрализованную деятельность»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Picture 18" descr="IMG_2477"/>
          <p:cNvPicPr/>
          <p:nvPr/>
        </p:nvPicPr>
        <p:blipFill>
          <a:blip r:embed="rId1"/>
          <a:stretch/>
        </p:blipFill>
        <p:spPr>
          <a:xfrm>
            <a:off x="2963880" y="4114800"/>
            <a:ext cx="3216240" cy="19810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173" name="Text Box 5"/>
          <p:cNvSpPr/>
          <p:nvPr/>
        </p:nvSpPr>
        <p:spPr>
          <a:xfrm>
            <a:off x="3184560" y="380844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286000" y="61272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ВЫВОДЫ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По завершению исследования были сделаны следующие выводы: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В ходе поисковой деятельности по решению проблемы дошкольники научились самостоятельно действовать в соответствии с заданием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Сформировались способности прогнозировать результат, систематизировать полученные данные и знания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Повысили уровень знаний о свойствах и качествах материалов, способности к пре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Повысился уровень коммуникативных способностей, навыков совместной 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Сформировались первичные навыки исследовательской деятельности, актерского мастерств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Verdana"/>
              </a:rPr>
              <a:t>Информационные ресурс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Веракса Н.Е., Т.С.Комарова, М.А.Васильева «От рождения до школы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А.Данюкова «Вы любите проекты?»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О.В.Дыбина, Н.П.Рахманова, В.В.Щетинина «Неизведанное рядом: Занимательные опыты и эксперименты для дошкольников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Л.С.Киселёва «Проектный метод в деятельности дошкольного учреждения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Н.А. Рыжова «Наш дом – природа»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А.И.Савенков «Учебное исследование в детском саду: вопросы теории и методики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Интернет-ресурсы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0" name="Picture 6" descr="IMG_0895"/>
          <p:cNvPicPr/>
          <p:nvPr/>
        </p:nvPicPr>
        <p:blipFill>
          <a:blip r:embed="rId1"/>
          <a:stretch/>
        </p:blipFill>
        <p:spPr>
          <a:xfrm>
            <a:off x="5076720" y="1341360"/>
            <a:ext cx="2975040" cy="19814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61" name="Picture 7" descr="IMG_1001"/>
          <p:cNvPicPr/>
          <p:nvPr/>
        </p:nvPicPr>
        <p:blipFill>
          <a:blip r:embed="rId2"/>
          <a:stretch/>
        </p:blipFill>
        <p:spPr>
          <a:xfrm>
            <a:off x="5076720" y="3789360"/>
            <a:ext cx="2975040" cy="20876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Verdana"/>
              </a:rPr>
              <a:t>БЛАГОДАРЮ 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Verdana"/>
              </a:rPr>
              <a:t>ЗА ВНИМАНИЕ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3" name="Picture 8" descr="DSCF0142"/>
          <p:cNvPicPr/>
          <p:nvPr/>
        </p:nvPicPr>
        <p:blipFill>
          <a:blip r:embed="rId1"/>
          <a:stretch/>
        </p:blipFill>
        <p:spPr>
          <a:xfrm>
            <a:off x="1908000" y="2492280"/>
            <a:ext cx="4969080" cy="316872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65" name="Picture 8" descr="Изображение 034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2303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66" name="Picture 11" descr="Изображение 239"/>
          <p:cNvPicPr/>
          <p:nvPr/>
        </p:nvPicPr>
        <p:blipFill>
          <a:blip r:embed="rId2"/>
          <a:stretch/>
        </p:blipFill>
        <p:spPr>
          <a:xfrm>
            <a:off x="4572000" y="1413000"/>
            <a:ext cx="4038480" cy="504036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67" name="Picture 12" descr="Изображение 230"/>
          <p:cNvPicPr/>
          <p:nvPr/>
        </p:nvPicPr>
        <p:blipFill>
          <a:blip r:embed="rId3"/>
          <a:stretch/>
        </p:blipFill>
        <p:spPr>
          <a:xfrm>
            <a:off x="324000" y="3933720"/>
            <a:ext cx="3743280" cy="25196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ИССЛЕДОВАНИЕ ПРОБЛЕМЫ</a:t>
            </a:r>
            <a:r>
              <a:rPr b="1" i="1" lang="ru-RU" sz="3600" spc="-1" strike="noStrike">
                <a:solidFill>
                  <a:srgbClr val="ffff00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Тип исследования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информационно – исследовательски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предметно – содержательной области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развитие познавательных способностей  через театрализованную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характеру координации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0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в рамках непосредственно образовательной деятельности и кружковых занятий и взаимодействии  с педагогами и специалистами ДОУ, совместной и самостоятельной деятельности и тематических прогулках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характеру контакта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открыты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характеру участия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ребёнок – педагог – родител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Условия реализации:</a:t>
            </a:r>
            <a:r>
              <a:rPr b="1" i="1" lang="ru-RU" sz="20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интерес дете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АКТУАЛЬНОСТЬ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ambria"/>
              </a:rPr>
              <a:t>Развитие познавательного интереса к различным областям знаний и видам деятельности является одной из составных успешности обучения детей в школе. Интерес дошкольника к окружающему миру, желание познать и освоить всё новое – основа формирования этого качества, развивает коммуникативные способности ребенк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 algn="ctr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Интенсивное изменение окружающей жизни, активное проникновение научно-технического прогресса во все её сферы диктуют педагогу необходимость выбирать более эффективные средства обучения и воспитания на основе современных методов и новых интегрированных технологий, не забывая при этом, что основой деятельности детей в дошкольном возрасте является игра, в данном случае- театрализованна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Недостаточностный объём знаний у детей в области естественнонаучных представлений, приводит к затруднению в установлении взаимосвязи живой и неживой природ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Исследование,  суть которого свобода его участников в выражении субъективного мнения, в выборе содержания деятельности и средств решения проблемы может стать решением проблемы развития познавательных интересов у дошкольников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ГИПОТЕЗА (КОНЦЕПТУАЛЬНОСТЬ)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03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Если удовлетворить потребности ребёнка в познании окружающего мира доступным для него способом – самостоятельным исследованием мира и возможностью играть, перевоплощаться,  то в процессе элементарной исследовательской деятельности будут успешно развиваться его познавательные интересы и творческие способност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0" name="Picture 7" descr="DSCF0119"/>
          <p:cNvPicPr/>
          <p:nvPr/>
        </p:nvPicPr>
        <p:blipFill>
          <a:blip r:embed="rId1"/>
          <a:stretch/>
        </p:blipFill>
        <p:spPr>
          <a:xfrm>
            <a:off x="4716360" y="1197000"/>
            <a:ext cx="3888000" cy="2376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181" name="Picture 8" descr="DSCF0123"/>
          <p:cNvPicPr/>
          <p:nvPr/>
        </p:nvPicPr>
        <p:blipFill>
          <a:blip r:embed="rId2"/>
          <a:stretch/>
        </p:blipFill>
        <p:spPr>
          <a:xfrm>
            <a:off x="4716360" y="3860640"/>
            <a:ext cx="3888000" cy="2448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ЦЕЛЬ ИССЛЕДОВАНИЯ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азвитие познавательного интерес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и практических навыков детей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через театрализованную деятельность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5" descr="DSCF0132"/>
          <p:cNvPicPr/>
          <p:nvPr/>
        </p:nvPicPr>
        <p:blipFill>
          <a:blip r:embed="rId1"/>
          <a:stretch/>
        </p:blipFill>
        <p:spPr>
          <a:xfrm>
            <a:off x="1332000" y="3213000"/>
            <a:ext cx="6480000" cy="324036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ИНТЕГРАЦИЯ 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ОБРАЗОВАТЕЛЬНЫХ ОБЛАСТЕЙ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95280" y="1268280"/>
            <a:ext cx="7920000" cy="50328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Физическая культура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468360" y="2565360"/>
            <a:ext cx="7848720" cy="43200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Социализация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468360" y="1916280"/>
            <a:ext cx="7848720" cy="50292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Безопасность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68360" y="4508640"/>
            <a:ext cx="7848720" cy="43164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Коммуникация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68360" y="5157720"/>
            <a:ext cx="7848720" cy="43344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Чтение художественной литературы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468360" y="5732640"/>
            <a:ext cx="7848720" cy="50292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Музыка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68360" y="3789360"/>
            <a:ext cx="7848720" cy="43164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Познание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395280" y="3213000"/>
            <a:ext cx="7848720" cy="43200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Труд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ДИДАКТИЧЕСКИЕ ЗАДАЧИ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6" descr="DSCF0124"/>
          <p:cNvPicPr/>
          <p:nvPr/>
        </p:nvPicPr>
        <p:blipFill>
          <a:blip r:embed="rId1"/>
          <a:stretch/>
        </p:blipFill>
        <p:spPr>
          <a:xfrm rot="21031800">
            <a:off x="550800" y="1160280"/>
            <a:ext cx="3240000" cy="216036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96" name="Picture 7" descr="DSCF0128"/>
          <p:cNvPicPr/>
          <p:nvPr/>
        </p:nvPicPr>
        <p:blipFill>
          <a:blip r:embed="rId2"/>
          <a:stretch/>
        </p:blipFill>
        <p:spPr>
          <a:xfrm rot="765600">
            <a:off x="5160960" y="1374480"/>
            <a:ext cx="3306600" cy="20541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вать умения прогнозировать, анализироват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тие способности к поисковой деятельности: определение задач, исходя из поставленной проблемы; планирование этапов своих действий; выбор материала и способа действий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тие познавательных интересов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тие у детей инициативы, сообразительности, пытливости, самостоятельности, мыслительных процессов, любознательност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МЕТОДИЧЕСКИЕ ЗАДАЧИ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9" name="Picture 5" descr="IMG_0822"/>
          <p:cNvPicPr/>
          <p:nvPr/>
        </p:nvPicPr>
        <p:blipFill>
          <a:blip r:embed="rId1"/>
          <a:stretch/>
        </p:blipFill>
        <p:spPr>
          <a:xfrm rot="687600">
            <a:off x="743040" y="1214280"/>
            <a:ext cx="3168720" cy="20685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00" name="Picture 7" descr="IMG_0828"/>
          <p:cNvPicPr/>
          <p:nvPr/>
        </p:nvPicPr>
        <p:blipFill>
          <a:blip r:embed="rId2"/>
          <a:stretch/>
        </p:blipFill>
        <p:spPr>
          <a:xfrm rot="20884200">
            <a:off x="5003640" y="1125000"/>
            <a:ext cx="3157560" cy="2089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Воспитание интереса к познанию окружающего мира, опытнической деятельност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Сохранение и укрепление здоровья детей и их эмоционального благополучи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Обеспечение личностно – ориентированного взаимодействия взрослого с ребёнко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Создание атмосферы успеха, которая позволит каждому ребёнку реализовать свою познавательную актив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25:27Z</dcterms:created>
  <dc:creator>User</dc:creator>
  <dc:description/>
  <dc:language>en-US</dc:language>
  <cp:lastModifiedBy>User</cp:lastModifiedBy>
  <dcterms:modified xsi:type="dcterms:W3CDTF">2014-02-05T12:18:01Z</dcterms:modified>
  <cp:revision>113</cp:revision>
  <dc:subject/>
  <dc:title>5ккк</dc:title>
</cp:coreProperties>
</file>