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png" ContentType="image/png"/>
  <Override PartName="/ppt/media/image18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9E1-699D-4EF4-8A7B-54B812FD3F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DA1-0F36-438B-826B-E006E8F6C5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260-B414-4000-9488-7E3EA08C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410-34DF-46AB-8E17-52AE9C4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D74-3766-4E00-8F8D-9F18616D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62D-D516-41D9-A545-283EA426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47D-2A40-424B-BC1A-95D26647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326-0CDC-4711-8629-89D4C5F1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23B-D3BF-4986-A413-C22185B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E8FF-979B-4B14-86CC-02AF174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793-A77B-4149-AE31-0A8C2EBA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E93C-121D-4818-98F3-1122CD02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14B2-0352-4D7A-AA53-E29599A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313-9798-4A43-B087-52F4398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F07-CC8B-4560-9856-1279CD7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CAD4-BB6A-4C06-A860-31C46EC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F5FB-3D27-4BA6-A87B-E9145E3E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D939-B2F7-4BFD-8FDE-D7F09E47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010-062A-4833-83C0-974919AF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6CA-7BA4-45CE-9F7E-4BC526B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3C6-D9CB-4A96-AE7E-8D88620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713-158B-4C9A-BDE9-15CB686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E24-78AD-4C67-A8FD-F6154142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622-557A-42CF-B5CC-B0F11B6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5EA-EC1A-442D-8D2C-F87E43E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A39-8CD4-4AAA-BBFF-53AB161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CCF-55D4-4B2B-B4C3-8E0B3B058E8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071-BABF-4ACC-A63A-A45033DAFF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119-C614-4CBE-9EBC-2995C890349A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03C-BC25-4B90-A0B0-B5E3E222DD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ШКОЛЬНЫЙ КУКОЛЬНЫЙ ТЕАТР «ТЕРЕМО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3" descr="H:\1. Новый учебный 2013- 2014 год\Мой 8 класс\День учителя 4 октября\DSC03218.JPG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F:\Новая папка\флешка фролова  (2)\фото кукол\_MG_2743.JPG"/>
          <p:cNvPicPr/>
          <p:nvPr/>
        </p:nvPicPr>
        <p:blipFill>
          <a:blip r:embed="rId1"/>
          <a:stretch/>
        </p:blipFill>
        <p:spPr>
          <a:xfrm>
            <a:off x="179280" y="115920"/>
            <a:ext cx="8750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2" descr="F:\Новая папка\куколкии награждения\DSC05356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2" descr="F:\Новая папка\куколкии награждения\DSC05359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2" descr="F:\DSC08062.JPG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2" descr="F:\DSC08060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3" descr="E:\Облако Янд\Флешка О.Н\НИКИТЕНКО\Куклы_\100_0370.JPG"/>
          <p:cNvPicPr/>
          <p:nvPr/>
        </p:nvPicPr>
        <p:blipFill>
          <a:blip r:embed="rId1"/>
          <a:stretch/>
        </p:blipFill>
        <p:spPr>
          <a:xfrm>
            <a:off x="4788000" y="277920"/>
            <a:ext cx="3960720" cy="3079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User\Рабочий стол\Общее\белая флешка\мои проекты\Фролова О.Н\Изображение 095.jpg"/>
          <p:cNvPicPr/>
          <p:nvPr/>
        </p:nvPicPr>
        <p:blipFill>
          <a:blip r:embed="rId2"/>
          <a:stretch/>
        </p:blipFill>
        <p:spPr>
          <a:xfrm>
            <a:off x="4788000" y="3573360"/>
            <a:ext cx="3936960" cy="271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Documents and Settings\User\Рабочий стол\Общее\белая флешка\мои проекты\Фролова О.Н\Изображение 101.jpg"/>
          <p:cNvPicPr/>
          <p:nvPr/>
        </p:nvPicPr>
        <p:blipFill>
          <a:blip r:embed="rId3"/>
          <a:stretch/>
        </p:blipFill>
        <p:spPr>
          <a:xfrm>
            <a:off x="395280" y="235080"/>
            <a:ext cx="3889440" cy="316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F:\Новая папка\флешка фролова  (2)\Новая папка\Изображение 114.jpg"/>
          <p:cNvPicPr/>
          <p:nvPr/>
        </p:nvPicPr>
        <p:blipFill>
          <a:blip r:embed="rId4"/>
          <a:stretch/>
        </p:blipFill>
        <p:spPr>
          <a:xfrm>
            <a:off x="395280" y="3573360"/>
            <a:ext cx="38894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3" descr="E:\Облако Янд\Флешка О.Н\НИКИТЕНКО\Куклы_\100_0594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DSC08072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15" descr="C:\Documents and Settings\User\Рабочий стол\Общее\Лиля флешка\мои проекты\Фролова О.Н\Изображение 120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%F0%E8%F1%F3%ED%EE%EA%20%20%F1%E5%EC%FC%FF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164" name="ochen_krasivaya_dushevnaya_muzika_-_Robert_Pattinson_Sumerki_(get-tune.net)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8898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User\Рабочий стол\Общее\Лиля флешка\мои проекты\В центре Семья\IMGA8014.JPG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ЦЕЛЬ  ПРОЕК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4520" indent="-32904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ение психологического  здоровья детей с ОВЗ через коррекцию  эмоциально-волевой сферы, развитие коммуникативных навыков, творческих способностей для успешной адаптации в социу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4520" indent="-3290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ЗАДАЧИ ПРОЕКТ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реализации общих и особых образовательных потребностей обучающихся с  интеллектуальными наруш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 творческой  деятельности, в  процессе  которой у ребенка с  особыми образовательными потребностями  будут сформированы  жизненные компетенции  и расширены социальные  конта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социокультурной реабилитации детей с нарушением интелл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60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5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324000" y="214200"/>
            <a:ext cx="8491320" cy="612324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067280" y="5734080"/>
            <a:ext cx="86364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User\Рабочий стол\Общее\Лиля флешка\мои проекты\Фролова О.Н\Изображение 053.jpg"/>
          <p:cNvPicPr/>
          <p:nvPr/>
        </p:nvPicPr>
        <p:blipFill>
          <a:blip r:embed="rId7"/>
          <a:stretch/>
        </p:blipFill>
        <p:spPr>
          <a:xfrm>
            <a:off x="324000" y="3274920"/>
            <a:ext cx="4174920" cy="30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User\Рабочий стол\Общее\Лиля флешка\мои проекты\Фролова О.Н\Изображение 067.jpg"/>
          <p:cNvPicPr/>
          <p:nvPr/>
        </p:nvPicPr>
        <p:blipFill>
          <a:blip r:embed="rId8"/>
          <a:stretch/>
        </p:blipFill>
        <p:spPr>
          <a:xfrm>
            <a:off x="324000" y="214200"/>
            <a:ext cx="4174920" cy="30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C:\Documents and Settings\User\Рабочий стол\Общее\Лиля флешка\мои проекты\Фролова О.Н\Изображение 093.jpg"/>
          <p:cNvPicPr/>
          <p:nvPr/>
        </p:nvPicPr>
        <p:blipFill>
          <a:blip r:embed="rId9"/>
          <a:stretch/>
        </p:blipFill>
        <p:spPr>
          <a:xfrm>
            <a:off x="4498920" y="214200"/>
            <a:ext cx="4316400" cy="3060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E:\Облако Янд\Флешка О.Н\НИКИТЕНКО\Куклы_\100_0363.JPG"/>
          <p:cNvPicPr/>
          <p:nvPr/>
        </p:nvPicPr>
        <p:blipFill>
          <a:blip r:embed="rId10"/>
          <a:stretch/>
        </p:blipFill>
        <p:spPr>
          <a:xfrm>
            <a:off x="4498920" y="3284640"/>
            <a:ext cx="431640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62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042920" y="58053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804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8317080" y="5157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16436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532720" y="551664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428472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3419640" y="5950080"/>
            <a:ext cx="409320" cy="28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Documents and Settings\User\Рабочий стол\Общее\Лиля флешка\мои проекты\Фролова О.Н\Изображение 119.jpg"/>
          <p:cNvPicPr/>
          <p:nvPr/>
        </p:nvPicPr>
        <p:blipFill>
          <a:blip r:embed="rId11"/>
          <a:stretch/>
        </p:blipFill>
        <p:spPr>
          <a:xfrm>
            <a:off x="179280" y="260280"/>
            <a:ext cx="876312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ладное творчество на уроках швейного дел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F:\Бегемот\GEDC0050.JPG"/>
          <p:cNvPicPr/>
          <p:nvPr/>
        </p:nvPicPr>
        <p:blipFill>
          <a:blip r:embed="rId1"/>
          <a:stretch/>
        </p:blipFill>
        <p:spPr>
          <a:xfrm>
            <a:off x="-6300720" y="-15652800"/>
            <a:ext cx="14268240" cy="1540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F:\Новая папка\Ольга Николаевна поделки\GEDC0043.JPG"/>
          <p:cNvPicPr/>
          <p:nvPr/>
        </p:nvPicPr>
        <p:blipFill>
          <a:blip r:embed="rId2"/>
          <a:stretch/>
        </p:blipFill>
        <p:spPr>
          <a:xfrm>
            <a:off x="4859280" y="4334040"/>
            <a:ext cx="4033800" cy="233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:\Новая папка\Ольга Николаевна поделки\GEDC0045.JPG"/>
          <p:cNvPicPr/>
          <p:nvPr/>
        </p:nvPicPr>
        <p:blipFill>
          <a:blip r:embed="rId3"/>
          <a:stretch/>
        </p:blipFill>
        <p:spPr>
          <a:xfrm>
            <a:off x="179280" y="1628640"/>
            <a:ext cx="4105440" cy="255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F:\Новая папка\Ольга Николаевна поделки\GEDC0046.JPG"/>
          <p:cNvPicPr/>
          <p:nvPr/>
        </p:nvPicPr>
        <p:blipFill>
          <a:blip r:embed="rId4"/>
          <a:stretch/>
        </p:blipFill>
        <p:spPr>
          <a:xfrm>
            <a:off x="4859280" y="1628640"/>
            <a:ext cx="410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F:\Новая папка\Ольга Николаевна поделки\GEDC0044.JPG"/>
          <p:cNvPicPr/>
          <p:nvPr/>
        </p:nvPicPr>
        <p:blipFill>
          <a:blip r:embed="rId5"/>
          <a:stretch/>
        </p:blipFill>
        <p:spPr>
          <a:xfrm>
            <a:off x="179280" y="4334040"/>
            <a:ext cx="41054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ы-обереги, мягкие игрушки, декоративные думки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F:\Новая папка\Бегемот\GEDC0050.JPG"/>
          <p:cNvPicPr/>
          <p:nvPr/>
        </p:nvPicPr>
        <p:blipFill>
          <a:blip r:embed="rId1"/>
          <a:stretch/>
        </p:blipFill>
        <p:spPr>
          <a:xfrm>
            <a:off x="4716360" y="4149720"/>
            <a:ext cx="3959280" cy="237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Общее\белая флешка\мои проекты\Фролова О.Н\Изображение 107.jpg"/>
          <p:cNvPicPr/>
          <p:nvPr/>
        </p:nvPicPr>
        <p:blipFill>
          <a:blip r:embed="rId2"/>
          <a:stretch/>
        </p:blipFill>
        <p:spPr>
          <a:xfrm>
            <a:off x="468360" y="1557360"/>
            <a:ext cx="374328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Новая папка\флешка фролова  (2)\фото кукол\_MG_2735.JPG"/>
          <p:cNvPicPr/>
          <p:nvPr/>
        </p:nvPicPr>
        <p:blipFill>
          <a:blip r:embed="rId3"/>
          <a:stretch/>
        </p:blipFill>
        <p:spPr>
          <a:xfrm>
            <a:off x="4716360" y="1557360"/>
            <a:ext cx="3959280" cy="23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:\куклы\DSC07018.JPG"/>
          <p:cNvPicPr/>
          <p:nvPr/>
        </p:nvPicPr>
        <p:blipFill>
          <a:blip r:embed="rId4"/>
          <a:stretch/>
        </p:blipFill>
        <p:spPr>
          <a:xfrm>
            <a:off x="468360" y="4149720"/>
            <a:ext cx="3743280" cy="237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56840" y="1599840"/>
            <a:ext cx="2962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ИДЕЯ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3" descr="C:\Documents and Settings\User\Рабочий стол\Общее\белая флешка\мои проекты\Фролова О.Н\Изображение 097.jpg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2:11:19Z</dcterms:created>
  <dc:creator>Майкл</dc:creator>
  <dc:description>http://aida.ucoz.ru</dc:description>
  <dc:language>en-US</dc:language>
  <cp:lastModifiedBy>Нина Васильевна</cp:lastModifiedBy>
  <dcterms:modified xsi:type="dcterms:W3CDTF">2018-07-12T14:13:37Z</dcterms:modified>
  <cp:revision>63</cp:revision>
  <dc:subject/>
  <dc:title>Семейные ценности в современном обществе</dc:title>
</cp:coreProperties>
</file>