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26.jpeg" ContentType="image/jpeg"/>
  <Override PartName="/ppt/media/image32.jpeg" ContentType="image/jpeg"/>
  <Override PartName="/ppt/media/image7.gif" ContentType="image/gif"/>
  <Override PartName="/ppt/media/image29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6.png" ContentType="image/png"/>
  <Override PartName="/ppt/media/image18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083F-25D2-43B6-94AC-D342FD3255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DD5E-483E-4F8C-88D0-3E178898DF1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425-8803-43DB-B1FC-D27CE552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5B9-DD82-49BC-94B1-0592E162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1DD-AA26-4FD9-937E-B6A8A1CA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0CF-81EF-4A08-9DAC-8C7D56B4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3AD7-E13C-4CB7-8EC1-F2A9FE2B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76A6-D695-41AF-8971-BA9C9731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E2BD-BD76-4D3F-81A8-ED420B66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5603-01F1-4B0A-A1A5-AFB672D5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80EC-287D-47D3-B9A5-2A93A139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281C-5BA1-4C8F-9DCB-14BB4E5A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85CA-3E76-40BF-BA6B-A96A14D8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C14A-EFAE-466E-BC4E-AA1F0DC3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6A26-E70D-4EE5-AC4E-FC8B1523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E26F-ED33-49CE-95B6-6F1C07C5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6159-B539-4465-86A0-67AC7EC9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C166-C29A-49F7-A9B2-A14E563C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145E-4EB6-455C-BC9A-CE217F82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F37-517E-46BB-8920-3A4AE823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C04-D779-435D-8636-B8327409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BEB-FF9C-401A-95EA-337433BA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BE7-F25F-49F4-B9C4-8F32EC2D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D786-4A7F-494A-977D-6F1EB3B2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45B-D139-475C-A955-58DCE2C7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A5B-4E7A-4C88-8ADA-DE9DCF1F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2128-C1E0-4B2A-A0DE-2D7922766904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5258-8936-46D4-8B76-BBE97E99A16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CE69-8C82-4912-A6B7-CA40FCF16CCA}" type="datetime">
              <a:rPr b="0" lang="ru-RU" sz="1200" spc="-1" strike="noStrike">
                <a:solidFill>
                  <a:srgbClr val="ffffff"/>
                </a:solidFill>
                <a:latin typeface="Garamond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C890-61C5-455E-B1FB-AE795E269B3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5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5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ШКОЛЬНЫЙ КУКОЛЬНЫЙ ТЕАТР «ТЕРЕМОК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Рисунок 3" descr="H:\1. Новый учебный 2013- 2014 год\Мой 8 класс\День учителя 4 октября\DSC03218.JPG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2" descr="F:\Новая папка\флешка фролова  (2)\фото кукол\_MG_2743.JPG"/>
          <p:cNvPicPr/>
          <p:nvPr/>
        </p:nvPicPr>
        <p:blipFill>
          <a:blip r:embed="rId1"/>
          <a:stretch/>
        </p:blipFill>
        <p:spPr>
          <a:xfrm>
            <a:off x="179280" y="115920"/>
            <a:ext cx="87505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2" descr="F:\Новая папка\куколкии награждения\DSC05356.JPG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2" descr="F:\Новая папка\куколкии награждения\DSC05359.JPG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2" descr="F:\DSC08062.JPG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2" descr="F:\DSC08060.JPG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Рисунок 3" descr="E:\Облако Янд\Флешка О.Н\НИКИТЕНКО\Куклы_\100_0370.JPG"/>
          <p:cNvPicPr/>
          <p:nvPr/>
        </p:nvPicPr>
        <p:blipFill>
          <a:blip r:embed="rId1"/>
          <a:stretch/>
        </p:blipFill>
        <p:spPr>
          <a:xfrm>
            <a:off x="4788000" y="277920"/>
            <a:ext cx="3960720" cy="3079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Documents and Settings\User\Рабочий стол\Общее\белая флешка\мои проекты\Фролова О.Н\Изображение 095.jpg"/>
          <p:cNvPicPr/>
          <p:nvPr/>
        </p:nvPicPr>
        <p:blipFill>
          <a:blip r:embed="rId2"/>
          <a:stretch/>
        </p:blipFill>
        <p:spPr>
          <a:xfrm>
            <a:off x="4788000" y="3573360"/>
            <a:ext cx="3936960" cy="2713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Documents and Settings\User\Рабочий стол\Общее\белая флешка\мои проекты\Фролова О.Н\Изображение 101.jpg"/>
          <p:cNvPicPr/>
          <p:nvPr/>
        </p:nvPicPr>
        <p:blipFill>
          <a:blip r:embed="rId3"/>
          <a:stretch/>
        </p:blipFill>
        <p:spPr>
          <a:xfrm>
            <a:off x="395280" y="235080"/>
            <a:ext cx="3889440" cy="316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F:\Новая папка\флешка фролова  (2)\Новая папка\Изображение 114.jpg"/>
          <p:cNvPicPr/>
          <p:nvPr/>
        </p:nvPicPr>
        <p:blipFill>
          <a:blip r:embed="rId4"/>
          <a:stretch/>
        </p:blipFill>
        <p:spPr>
          <a:xfrm>
            <a:off x="395280" y="3573360"/>
            <a:ext cx="388944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Рисунок 3" descr="E:\Облако Янд\Флешка О.Н\НИКИТЕНКО\Куклы_\100_0594.JPG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F:\DSC08072.JPG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15" descr="C:\Documents and Settings\User\Рабочий стол\Общее\Лиля флешка\мои проекты\Фролова О.Н\Изображение 120.jpg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%F0%E8%F1%F3%ED%EE%EA%20%20%F1%E5%EC%FC%FF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  <p:pic>
        <p:nvPicPr>
          <p:cNvPr id="164" name="ochen_krasivaya_dushevnaya_muzika_-_Robert_Pattinson_Sumerki_(get-tune.net)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88980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:\Documents and Settings\User\Рабочий стол\Общее\Лиля флешка\мои проекты\В центре Семья\IMGA8014.JPG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ЦЕЛЬ  ПРОЕК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4520" indent="-32904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учшение психологического  здоровья детей с ОВЗ через коррекцию  эмоциально-волевой сферы, развитие коммуникативных навыков, творческих способностей для успешной адаптации в социум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4520" indent="-32904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ЗАДАЧИ ПРОЕКТА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реализации общих и особых образовательных потребностей обучающихся с  интеллектуальными нарушен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 творческой  деятельности, в  процессе  которой у ребенка с  особыми образовательными потребностями  будут сформированы  жизненные компетенции  и расширены социальные  контак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социокультурной реабилитации детей с нарушением интелл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"/>
          <a:stretch/>
        </p:blipFill>
        <p:spPr>
          <a:xfrm>
            <a:off x="3708360" y="573408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324000" y="5516640"/>
            <a:ext cx="863280" cy="603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3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5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108" name="Заголовок 1"/>
          <p:cNvSpPr/>
          <p:nvPr/>
        </p:nvSpPr>
        <p:spPr>
          <a:xfrm>
            <a:off x="324000" y="214200"/>
            <a:ext cx="8491320" cy="6123240"/>
          </a:xfrm>
          <a:prstGeom prst="rect">
            <a:avLst/>
          </a:prstGeom>
          <a:solidFill>
            <a:srgbClr val="006699">
              <a:alpha val="85000"/>
            </a:srgbClr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4067280" y="5734080"/>
            <a:ext cx="863640" cy="603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C:\Documents and Settings\User\Рабочий стол\Общее\Лиля флешка\мои проекты\Фролова О.Н\Изображение 053.jpg"/>
          <p:cNvPicPr/>
          <p:nvPr/>
        </p:nvPicPr>
        <p:blipFill>
          <a:blip r:embed="rId7"/>
          <a:stretch/>
        </p:blipFill>
        <p:spPr>
          <a:xfrm>
            <a:off x="324000" y="3274920"/>
            <a:ext cx="4174920" cy="3062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C:\Documents and Settings\User\Рабочий стол\Общее\Лиля флешка\мои проекты\Фролова О.Н\Изображение 067.jpg"/>
          <p:cNvPicPr/>
          <p:nvPr/>
        </p:nvPicPr>
        <p:blipFill>
          <a:blip r:embed="rId8"/>
          <a:stretch/>
        </p:blipFill>
        <p:spPr>
          <a:xfrm>
            <a:off x="324000" y="214200"/>
            <a:ext cx="4174920" cy="30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C:\Documents and Settings\User\Рабочий стол\Общее\Лиля флешка\мои проекты\Фролова О.Н\Изображение 093.jpg"/>
          <p:cNvPicPr/>
          <p:nvPr/>
        </p:nvPicPr>
        <p:blipFill>
          <a:blip r:embed="rId9"/>
          <a:stretch/>
        </p:blipFill>
        <p:spPr>
          <a:xfrm>
            <a:off x="4498920" y="214200"/>
            <a:ext cx="4316400" cy="30607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E:\Облако Янд\Флешка О.Н\НИКИТЕНКО\Куклы_\100_0363.JPG"/>
          <p:cNvPicPr/>
          <p:nvPr/>
        </p:nvPicPr>
        <p:blipFill>
          <a:blip r:embed="rId10"/>
          <a:stretch/>
        </p:blipFill>
        <p:spPr>
          <a:xfrm>
            <a:off x="4498920" y="3284640"/>
            <a:ext cx="4316400" cy="30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5662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1960560" y="277920"/>
            <a:ext cx="5221440" cy="113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1042920" y="580536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3"/>
          <a:stretch/>
        </p:blipFill>
        <p:spPr>
          <a:xfrm>
            <a:off x="539640" y="558972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3708360" y="573408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5"/>
          <a:stretch/>
        </p:blipFill>
        <p:spPr>
          <a:xfrm>
            <a:off x="6804000" y="558972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6"/>
          <a:stretch/>
        </p:blipFill>
        <p:spPr>
          <a:xfrm>
            <a:off x="8317080" y="515772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7"/>
          <a:stretch/>
        </p:blipFill>
        <p:spPr>
          <a:xfrm>
            <a:off x="7164360" y="587700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8"/>
          <a:stretch/>
        </p:blipFill>
        <p:spPr>
          <a:xfrm>
            <a:off x="8532720" y="551664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9"/>
          <a:stretch/>
        </p:blipFill>
        <p:spPr>
          <a:xfrm>
            <a:off x="4284720" y="587700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0"/>
          <a:stretch/>
        </p:blipFill>
        <p:spPr>
          <a:xfrm>
            <a:off x="3419640" y="5950080"/>
            <a:ext cx="409320" cy="285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C:\Documents and Settings\User\Рабочий стол\Общее\Лиля флешка\мои проекты\Фролова О.Н\Изображение 119.jpg"/>
          <p:cNvPicPr/>
          <p:nvPr/>
        </p:nvPicPr>
        <p:blipFill>
          <a:blip r:embed="rId11"/>
          <a:stretch/>
        </p:blipFill>
        <p:spPr>
          <a:xfrm>
            <a:off x="179280" y="260280"/>
            <a:ext cx="876312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кладное творчество на уроках швейного дел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F:\Бегемот\GEDC0050.JPG"/>
          <p:cNvPicPr/>
          <p:nvPr/>
        </p:nvPicPr>
        <p:blipFill>
          <a:blip r:embed="rId1"/>
          <a:stretch/>
        </p:blipFill>
        <p:spPr>
          <a:xfrm>
            <a:off x="-6300720" y="-15652800"/>
            <a:ext cx="14268240" cy="15409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F:\Новая папка\Ольга Николаевна поделки\GEDC0043.JPG"/>
          <p:cNvPicPr/>
          <p:nvPr/>
        </p:nvPicPr>
        <p:blipFill>
          <a:blip r:embed="rId2"/>
          <a:stretch/>
        </p:blipFill>
        <p:spPr>
          <a:xfrm>
            <a:off x="4859280" y="4334040"/>
            <a:ext cx="4033800" cy="233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F:\Новая папка\Ольга Николаевна поделки\GEDC0045.JPG"/>
          <p:cNvPicPr/>
          <p:nvPr/>
        </p:nvPicPr>
        <p:blipFill>
          <a:blip r:embed="rId3"/>
          <a:stretch/>
        </p:blipFill>
        <p:spPr>
          <a:xfrm>
            <a:off x="179280" y="1628640"/>
            <a:ext cx="4105440" cy="2554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F:\Новая папка\Ольга Николаевна поделки\GEDC0046.JPG"/>
          <p:cNvPicPr/>
          <p:nvPr/>
        </p:nvPicPr>
        <p:blipFill>
          <a:blip r:embed="rId4"/>
          <a:stretch/>
        </p:blipFill>
        <p:spPr>
          <a:xfrm>
            <a:off x="4859280" y="1628640"/>
            <a:ext cx="4105440" cy="252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F:\Новая папка\Ольга Николаевна поделки\GEDC0044.JPG"/>
          <p:cNvPicPr/>
          <p:nvPr/>
        </p:nvPicPr>
        <p:blipFill>
          <a:blip r:embed="rId5"/>
          <a:stretch/>
        </p:blipFill>
        <p:spPr>
          <a:xfrm>
            <a:off x="179280" y="4334040"/>
            <a:ext cx="410544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клы-обереги, мягкие игрушки, декоративные думки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6" descr="F:\Новая папка\Бегемот\GEDC0050.JPG"/>
          <p:cNvPicPr/>
          <p:nvPr/>
        </p:nvPicPr>
        <p:blipFill>
          <a:blip r:embed="rId1"/>
          <a:stretch/>
        </p:blipFill>
        <p:spPr>
          <a:xfrm>
            <a:off x="4716360" y="4149720"/>
            <a:ext cx="3959280" cy="237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User\Рабочий стол\Общее\белая флешка\мои проекты\Фролова О.Н\Изображение 107.jpg"/>
          <p:cNvPicPr/>
          <p:nvPr/>
        </p:nvPicPr>
        <p:blipFill>
          <a:blip r:embed="rId2"/>
          <a:stretch/>
        </p:blipFill>
        <p:spPr>
          <a:xfrm>
            <a:off x="468360" y="1557360"/>
            <a:ext cx="3743280" cy="23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F:\Новая папка\флешка фролова  (2)\фото кукол\_MG_2735.JPG"/>
          <p:cNvPicPr/>
          <p:nvPr/>
        </p:nvPicPr>
        <p:blipFill>
          <a:blip r:embed="rId3"/>
          <a:stretch/>
        </p:blipFill>
        <p:spPr>
          <a:xfrm>
            <a:off x="4716360" y="1557360"/>
            <a:ext cx="3959280" cy="23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G:\куклы\DSC07018.JPG"/>
          <p:cNvPicPr/>
          <p:nvPr/>
        </p:nvPicPr>
        <p:blipFill>
          <a:blip r:embed="rId4"/>
          <a:stretch/>
        </p:blipFill>
        <p:spPr>
          <a:xfrm>
            <a:off x="468360" y="4149720"/>
            <a:ext cx="3743280" cy="2374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456840" y="1599840"/>
            <a:ext cx="2962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Garamond"/>
              </a:rPr>
              <a:t>ИДЕЯ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3" descr="C:\Documents and Settings\User\Рабочий стол\Общее\белая флешка\мои проекты\Фролова О.Н\Изображение 097.jpg"/>
          <p:cNvPicPr/>
          <p:nvPr/>
        </p:nvPicPr>
        <p:blipFill>
          <a:blip r:embed="rId1"/>
          <a:stretch/>
        </p:blipFill>
        <p:spPr>
          <a:xfrm>
            <a:off x="324000" y="1484280"/>
            <a:ext cx="842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2:11:19Z</dcterms:created>
  <dc:creator>Майкл</dc:creator>
  <dc:description>http://aida.ucoz.ru</dc:description>
  <dc:language>en-US</dc:language>
  <cp:lastModifiedBy>Нина Васильевна</cp:lastModifiedBy>
  <dcterms:modified xsi:type="dcterms:W3CDTF">2018-07-12T14:13:37Z</dcterms:modified>
  <cp:revision>63</cp:revision>
  <dc:subject/>
  <dc:title>Семейные ценности в современном обществе</dc:title>
</cp:coreProperties>
</file>