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143920" y="6500880"/>
            <a:ext cx="857160" cy="1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42920" y="4610160"/>
            <a:ext cx="2362320" cy="22478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71640" y="1214280"/>
            <a:ext cx="684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униципальное автономное дошкольное образовательное учреждение города Калининграда центр развития ребенка 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ский сад № 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90840" y="2735280"/>
            <a:ext cx="64008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Образовательная деятельность по развитию эмоциональной сферы  детей старшего возраста группы компенсирующей направленности (ДЦ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оспитатель: Степанова Юл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650960" y="2448000"/>
            <a:ext cx="72057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спитывать положительные чувства и эмо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943280" y="1193760"/>
            <a:ext cx="676908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чить радоваться, понимать и любить красоту окружающего мира (цветами), эмоционально выражать чувство ра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44720" y="1789200"/>
            <a:ext cx="676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азвивать навык общения, сплоченность, выразительность дв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720" y="404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звитие эмоциональной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1640" y="287280"/>
            <a:ext cx="4392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1152360"/>
            <a:ext cx="4392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280" y="3011400"/>
            <a:ext cx="43927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монстрацион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22600" y="3954600"/>
            <a:ext cx="256212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59280" y="4103640"/>
            <a:ext cx="25927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8560" y="757080"/>
            <a:ext cx="49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оброе утро, и всем улыбн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рава и слева друзьям поклон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удем дружить, помогать всем всегд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ы согласны? Ответьте мне: «Д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208080"/>
            <a:ext cx="43927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3011400"/>
            <a:ext cx="4392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гадки о цве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9640" y="3011400"/>
            <a:ext cx="43927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льчиковая 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9280" y="4311720"/>
            <a:ext cx="4392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цветка (просмотр филь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83280" y="3527280"/>
            <a:ext cx="1800360" cy="1368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9280" y="5310360"/>
            <a:ext cx="1871640" cy="12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5160" y="246240"/>
            <a:ext cx="40384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Этюд «Цвето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Теплый луч упал на землю и согрел в земле семечко. Из семечка проклюнулся росток. Из ростка вырос прекрасный цветок. Нежится цветок на солнышке, подставляя теплу и свету свои лепес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35640" y="287280"/>
            <a:ext cx="40384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Налетел ветер-суховей, высуш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землю, и цветы завяли: снач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опустились головки, п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листики, затем согнулся ве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стебелек до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79640" y="3887640"/>
            <a:ext cx="36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Вдруг закапал теплый дождик, и цветы начали оживать, тянуться к солнышку и немного подним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80000" y="2519280"/>
            <a:ext cx="2160720" cy="109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624720" y="4248000"/>
            <a:ext cx="216036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04880" y="3095640"/>
            <a:ext cx="16700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0360" y="208080"/>
            <a:ext cx="4392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омашковая полянка (апплик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2000" y="1728720"/>
            <a:ext cx="2837160" cy="2059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56360" y="1711440"/>
            <a:ext cx="2592360" cy="188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527280" y="4176720"/>
            <a:ext cx="28800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7280" y="216000"/>
            <a:ext cx="5904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гра «Цветы и пчел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2808360"/>
            <a:ext cx="590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гра с массажным мячиком на закрепление «Назови цве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63640" y="1079640"/>
            <a:ext cx="2160720" cy="1643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11640" y="1008000"/>
            <a:ext cx="2303640" cy="1528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79640" y="4392720"/>
            <a:ext cx="25923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48360" y="4392720"/>
            <a:ext cx="22320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35:14Z</dcterms:created>
  <dc:creator>Федотова Виктория Александровна</dc:creator>
  <dc:description/>
  <dc:language>en-US</dc:language>
  <cp:lastModifiedBy>Яна</cp:lastModifiedBy>
  <dcterms:modified xsi:type="dcterms:W3CDTF">2013-08-31T11:07:19Z</dcterms:modified>
  <cp:revision>33</cp:revision>
  <dc:subject/>
  <dc:title>Слайд 1</dc:title>
</cp:coreProperties>
</file>