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3DF-BEF2-4F35-A09B-2F2DD774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3B9-4888-4B4A-868F-CE6C018E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2FE-0BFE-4090-BFC2-3666C313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258-8D6D-48F9-AD52-1D162974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0B2F-54D4-4198-A16E-046FE603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9FD6-BD31-485C-BC63-C1D26BC4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722C-7BE2-4674-8137-25A6D41E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0CDE-D5C9-43F3-AECD-1F954DC7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616D-9E9D-41DF-BEBA-A806625A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E0FE-D2FD-4FCA-87B2-341D2F1B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199C-0660-4F36-A4AC-008F5292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991-1AB8-455D-8F2F-7DBA7847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3389-7E3D-46CA-99B9-477D81FA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CD93-EBF1-417D-8D1F-80A3E05C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63C0-15ED-46A1-AA26-83A3758D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CFF1-9276-4D43-804E-1E2CE9BC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6831-7C88-41BC-A4BB-A73762E4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EC9C-59C0-4010-A88E-6ACB640B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1FED-B5CE-479C-9460-FA430B2C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C69E-CB3B-46EA-B8E6-7F16989E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B11C-9C0F-47B1-81DD-52F5C87C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39BD-C51E-4598-B117-333B9426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AED-F0F9-4A8C-BCC8-D4F630D0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0A79-63B5-47CB-912B-B2BD1A3C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AB3A-5D9A-415B-B2B6-2C6E603E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9EEE-772B-4F3C-AC3C-BF014BC5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5E08-BA4E-48CF-8542-F40FF166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2F81-CD4A-4B6E-8405-18BB1FEF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C026-8142-4009-9531-81ACA611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4735E-E201-46EA-8F7D-5F8BFE0A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E4D2D-E616-4179-A5B0-568480B0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CB99-9EB7-4A4F-AE4E-7EFE91C5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6F57A-6C9B-49AE-8DAF-4730D36E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78C-2987-451E-9908-CFB9448E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6AFF-E8C5-4EF5-B185-BE77A4B0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54187-1C49-449E-891A-D7039880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EEF0-0B3A-4ED9-A4CD-F96D2D7F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16049-676F-492F-BEB5-6A4549C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0C771-3774-48BF-9C81-E5C9494E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0E725-E8B3-448D-B799-3770822D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BA74-B9F9-4591-9466-52E1F6D3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B480-4BD8-4FE1-A67C-1580FCB4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FFAB-A6B7-48E3-A6B0-A23D72DA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496-5DF7-4D4B-A045-A9D5F382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3D2-287D-4EA0-9203-477A070D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4BC-FF69-434E-9827-45332847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3F4-6530-448A-BAAD-B7846575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8C4-5F3A-4E4F-ADE6-04A498C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98F7-5AB2-4AAC-8FA1-E80D7EB8CB9A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6c91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8D40-7B0F-4DEF-A03D-3A30CE7487C3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119A-60C8-4688-A09A-BA9005C5F9F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F06C-DEC3-4B16-AF72-8860DA1A069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349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30b19"/>
                </a:solidFill>
                <a:latin typeface="Broadway"/>
              </a:rPr>
              <a:t>ЖЕСТОКОЕ ОБРАЩЕНИЕ</a:t>
            </a:r>
            <a:br>
              <a:rPr sz="3600"/>
            </a:br>
            <a:r>
              <a:rPr b="1" lang="ru-RU" sz="3600" spc="-1" strike="noStrike">
                <a:solidFill>
                  <a:srgbClr val="d30b19"/>
                </a:solidFill>
                <a:latin typeface="Broadway"/>
              </a:rPr>
              <a:t>  С   ДЕТЬМИ </a:t>
            </a:r>
            <a:r>
              <a:rPr b="1" lang="ru-RU" sz="3600" spc="-1" strike="noStrike">
                <a:solidFill>
                  <a:srgbClr val="d30b19"/>
                </a:solidFill>
                <a:latin typeface="Trebuchet MS"/>
              </a:rPr>
              <a:t>-</a:t>
            </a:r>
            <a:r>
              <a:rPr b="1" lang="ru-RU" sz="3600" spc="-1" strike="noStrike">
                <a:solidFill>
                  <a:srgbClr val="d30b19"/>
                </a:solidFill>
                <a:latin typeface="Broadway"/>
              </a:rPr>
              <a:t> ПОРОЧНЫЙ КРУГ НАСИЛ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Объект 2"/>
          <p:cNvSpPr/>
          <p:nvPr/>
        </p:nvSpPr>
        <p:spPr>
          <a:xfrm>
            <a:off x="4411800" y="5600880"/>
            <a:ext cx="4701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Вивальди-Лето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5" name="Вивальди-Лето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6" name="Вивальди-Лето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Вивальди-Лето.wma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8" name="Вивальди-Лето.wma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1304348204_1256587837_60620-6590484-m750x740"/>
          <p:cNvPicPr/>
          <p:nvPr/>
        </p:nvPicPr>
        <p:blipFill>
          <a:blip r:embed="rId6"/>
          <a:stretch/>
        </p:blipFill>
        <p:spPr>
          <a:xfrm>
            <a:off x="3540240" y="0"/>
            <a:ext cx="560376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1"/>
          <p:cNvSpPr/>
          <p:nvPr/>
        </p:nvSpPr>
        <p:spPr>
          <a:xfrm>
            <a:off x="144360" y="543888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b995"/>
                </a:solidFill>
                <a:latin typeface="Georgia"/>
              </a:rPr>
              <a:t>Халимон М.Н., педагог-псих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2959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63295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32959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63295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32959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32959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d30b19"/>
                </a:solidFill>
                <a:latin typeface="Trebuchet MS"/>
              </a:rPr>
              <a:t>Неотделимая часть сексуального насилия – феномен, который называется «невозможность говорить об этом»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Особенно если такое насилие произошло в собственной семье ребенка. Ребенок хочет рассказать о кошмаре, но просто не может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Ребенок с раннего детства привыкает к авторитету взрослых и послушанию. Когда к нему начинают приставать – он не понимает, что происходит, ему кажется, что он ошибся, что-то напутал, что такое больше не повторится. Ребенку кажется, что он тоже виноват в насилии – взрослые часто уверяют его в этом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-360" y="260280"/>
            <a:ext cx="4187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d30b19"/>
                </a:solidFill>
                <a:uFillTx/>
                <a:latin typeface="Comic Sans MS"/>
                <a:ea typeface="Comic Sans MS"/>
              </a:rPr>
              <a:t>Психологическое (эмоциональное) насилие </a:t>
            </a:r>
            <a:r>
              <a:rPr b="0" lang="ru-RU" sz="1800" spc="-1" strike="noStrike">
                <a:solidFill>
                  <a:srgbClr val="d30b19"/>
                </a:solidFill>
                <a:latin typeface="Comic Sans MS"/>
                <a:ea typeface="Comic Sans MS"/>
              </a:rPr>
              <a:t>–</a:t>
            </a:r>
            <a:r>
              <a:rPr b="0" lang="ru-RU" sz="1800" spc="-1" strike="noStrike">
                <a:solidFill>
                  <a:srgbClr val="99ca3c"/>
                </a:solidFill>
                <a:latin typeface="Comic Sans MS"/>
                <a:ea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Постоянные или периодические словесные оскорбления ребенка,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 угроза со стороны родителя, опекунов, учителей,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унижение его человеческого достоинства,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обвинение в том, в чем он не виноват,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демонстрация нелюбви, неприязни к ребенку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постоянная ложь, обман ребенка,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а также предъявляемые к ребенку требования, не соответствующие его возрастным возможностям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2" name="Picture 9" descr="плакат24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Психологическое насилие тормозит рост потенциальных способностей ребенка - ставится под угрозу его интеллектуальное развитие и способности к адаптации. Ребенок становится легко ранимым, теряет чувство собственного достоинства и самоуважение. Он легко попадает в конфликтные ситуации, ему трудно устанавливать прочные эмоциональные связи. Вступая в самостоятельную жизнь, ребенок, подвергавшийся эмоциональному и психологическому насилию, переносит характер отношений с родителями на отношения с собственными детьми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d30b19"/>
                </a:solidFill>
                <a:uFillTx/>
                <a:latin typeface="Times New Roman"/>
                <a:ea typeface="Times New Roman"/>
              </a:rPr>
              <a:t>Пренебрежение  интересами и нуждами ребенк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3640" y="1413000"/>
            <a:ext cx="4500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Не удовлетворяются нужды и потребности ребенка</a:t>
            </a:r>
            <a:r>
              <a:rPr b="1" i="1" lang="ru-RU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в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omic Sans MS"/>
                <a:ea typeface="Comic Sans MS"/>
              </a:rPr>
              <a:t>пище, одежде, жилье, воспитании, образовании, медицинской помощи.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Picture 7" descr="73559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d30b19"/>
                </a:solidFill>
                <a:latin typeface="Trebuchet MS"/>
              </a:rPr>
              <a:t>Признаками данного вида насилия являются</a:t>
            </a:r>
            <a:r>
              <a:rPr b="0" lang="ru-RU" sz="4000" spc="-1" strike="noStrike">
                <a:solidFill>
                  <a:srgbClr val="d30b19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Плохо или не по сезону одетый ребенок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Голодный ребенок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Грязный, неухоженный ребенок; имеющий стойкий запах грязного тела, мочи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Ребенок, гуляющий один без взрослых и допоздна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Отказ со стороны родителей в медицинской помощи ребенку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Отказ от вакцинации, осмотра ребенком педиатром, оказание сопротивления медицинскому патронажу новорожденного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Отказ ребенку в развитии, в посещении детских дошкольных и общеобразовательных учреждений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Педикулез, чесотка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ь родители, которые 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проявляют жестокос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 к своим детям, находясь в состоянии стресса. Такие родители просто никогда не учились тому, как любить детей, общаться с ними и воспитывать их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0" name="Picture 2" descr="C:\Users\ДТГ\Рабочий стол\29862.jpg"/>
          <p:cNvPicPr/>
          <p:nvPr/>
        </p:nvPicPr>
        <p:blipFill>
          <a:blip r:embed="rId1"/>
          <a:stretch/>
        </p:blipFill>
        <p:spPr>
          <a:xfrm>
            <a:off x="4572000" y="260280"/>
            <a:ext cx="432108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d30b19"/>
                </a:solidFill>
                <a:latin typeface="Trebuchet MS"/>
              </a:rPr>
              <a:t>Работа, направленная на повышение «родительской компетентности»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обучение родителей методам ненасильственного воспитания ребенка, -понимание причин детского поведения, -исключение нереальных родительских ожиданий по отношению ребенку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гармонизация семейных отношений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Это часто позволяет избежать использования психотропных медикаментозных препаратов для преодоления нарушений психического состояния и поведения ребенк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d30b19"/>
                </a:solidFill>
                <a:latin typeface="Trebuchet MS"/>
              </a:rPr>
              <a:t>ПРАКТИЧЕСКОЕ ЗАНЯТИ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Выйти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 комнаты и позвонить приятелю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Включить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успокаивающую музыку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Сделать</a:t>
            </a:r>
            <a:r>
              <a:rPr b="1" i="1" lang="ru-RU" sz="22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10 глубоких вздохов и успокоиться; затем сделать еще 10 вздохов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Пойти</a:t>
            </a:r>
            <a:r>
              <a:rPr b="1" i="1" lang="ru-RU" sz="22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в другую комнату и выполнить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дыхательные и расслабляющие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упражнения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Принять душ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Сесть,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крыть глаза и  представить себе, что находитесь в каком-нибудь приятном месте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 </a:t>
            </a:r>
            <a:r>
              <a:rPr b="1" i="1" lang="ru-RU" sz="2600" spc="-1" strike="noStrike">
                <a:solidFill>
                  <a:srgbClr val="d30b19"/>
                </a:solidFill>
                <a:latin typeface="Arial"/>
                <a:ea typeface="Times New Roman"/>
              </a:rPr>
              <a:t>О</a:t>
            </a:r>
            <a:r>
              <a:rPr b="1" i="1" lang="ru-RU" sz="2600" spc="-1" strike="noStrike">
                <a:solidFill>
                  <a:srgbClr val="d30b19"/>
                </a:solidFill>
                <a:latin typeface="Trebuchet MS"/>
                <a:ea typeface="Times New Roman"/>
              </a:rPr>
              <a:t>бра</a:t>
            </a:r>
            <a:r>
              <a:rPr b="1" i="1" lang="ru-RU" sz="2600" spc="-1" strike="noStrike">
                <a:solidFill>
                  <a:srgbClr val="d30b19"/>
                </a:solidFill>
                <a:latin typeface="Arial"/>
                <a:ea typeface="Times New Roman"/>
              </a:rPr>
              <a:t>ти</a:t>
            </a:r>
            <a:r>
              <a:rPr b="1" i="1" lang="ru-RU" sz="2600" spc="-1" strike="noStrike">
                <a:solidFill>
                  <a:srgbClr val="d30b19"/>
                </a:solidFill>
                <a:latin typeface="Trebuchet MS"/>
                <a:ea typeface="Times New Roman"/>
              </a:rPr>
              <a:t>тесь за психологической помощью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8000" y="259920"/>
            <a:ext cx="8136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d30b19"/>
                </a:solidFill>
                <a:latin typeface="Arial Narrow"/>
                <a:ea typeface="Comic Sans MS"/>
              </a:rPr>
              <a:t>Предотвращение жестокости по отношению к детям</a:t>
            </a:r>
            <a:br>
              <a:rPr sz="23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6" name="Picture 2" descr="C:\Users\ДТГ\Рабочий стол\2109100901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D:\СОЦ ПЕДАГОГ  2011\МОИ презентации\Жестокое обращение с детьми\769313251.jpg"/>
          <p:cNvPicPr/>
          <p:nvPr/>
        </p:nvPicPr>
        <p:blipFill>
          <a:blip r:embed="rId1"/>
          <a:stretch/>
        </p:blipFill>
        <p:spPr>
          <a:xfrm>
            <a:off x="574560" y="0"/>
            <a:ext cx="856944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4508640"/>
            <a:ext cx="86407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Comic Sans MS"/>
              </a:rPr>
              <a:t>Механизмы предотвращения и защиты детей от насилия и жестокого обращения в семье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-360" y="0"/>
            <a:ext cx="4321080" cy="6858000"/>
          </a:xfrm>
          <a:prstGeom prst="rect">
            <a:avLst/>
          </a:prstGeom>
          <a:noFill/>
          <a:ln w="9360">
            <a:solidFill>
              <a:srgbClr val="99ca3c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30b19"/>
                </a:solidFill>
                <a:latin typeface="Trebuchet MS"/>
              </a:rPr>
              <a:t>Причины жестокого обращения</a:t>
            </a: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личностные особенности и родителей и ребенка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характер их взаимоотношений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емейный уклад и проблемы внутри семьи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трессы, вызванные социально-экономической средой, в которой проживает семья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2" descr="D:\СОЦ ПЕДАГОГ  2011\МОИ презентации\Жестокое обращение с детьми\91709bde5b43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d30b19"/>
                </a:solidFill>
                <a:latin typeface="Trebuchet MS"/>
              </a:rPr>
              <a:t>Нормативные документы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сеобщая декларация прав человек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Международный акт о гражданских и политических правах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Декларация прав ребёнка ОО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Конвенция о правах ребёнка ОО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емейный кодекс РФ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-360" y="259920"/>
            <a:ext cx="4211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d30b19"/>
                </a:solidFill>
                <a:latin typeface="Trebuchet MS"/>
              </a:rPr>
              <a:t>Статья 69.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Лишение родительских прав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Статья семейного кодекса гласит: При осуществлении родительских прав родители не вправе причинять вред физическому или психическому здоровью детей, их нравственному развитию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d30b19"/>
                </a:solidFill>
                <a:latin typeface="Trebuchet MS"/>
              </a:rPr>
              <a:t>Статья 156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УК Неисполнение обязанностей по воспитанию несовершеннолетнего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Статья предусматривает  штраф до ста тысяч рублей, исправительные работы или лишение свободы до трех лет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2" name="Picture 2" descr="D:\СОЦ ПЕДАГОГ  2011\МОИ презентации\Жестокое обращение с детьми\big_364839.pn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D:\СОЦ ПЕДАГОГ  2011\МОИ презентации\Жестокое обращение с детьми\10002.jpg"/>
          <p:cNvPicPr/>
          <p:nvPr/>
        </p:nvPicPr>
        <p:blipFill>
          <a:blip r:embed="rId2"/>
          <a:stretch/>
        </p:blipFill>
        <p:spPr>
          <a:xfrm>
            <a:off x="4643280" y="328464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D:\СОЦ ПЕДАГОГ  2011\МОИ презентации\Жестокое обращение с детьми\200025401.jpg"/>
          <p:cNvPicPr/>
          <p:nvPr/>
        </p:nvPicPr>
        <p:blipFill>
          <a:blip r:embed="rId3"/>
          <a:stretch/>
        </p:blipFill>
        <p:spPr>
          <a:xfrm>
            <a:off x="-3636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708360" y="1125000"/>
            <a:ext cx="433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d30b19"/>
                </a:solidFill>
                <a:latin typeface="Trebuchet MS"/>
              </a:rPr>
              <a:t>Сигналы </a:t>
            </a:r>
            <a:br>
              <a:rPr sz="2800"/>
            </a:br>
            <a:r>
              <a:rPr b="1" lang="ru-RU" sz="2800" spc="-1" strike="noStrike">
                <a:solidFill>
                  <a:srgbClr val="d30b19"/>
                </a:solidFill>
                <a:latin typeface="Trebuchet MS"/>
              </a:rPr>
              <a:t>для выявления</a:t>
            </a:r>
            <a:br>
              <a:rPr sz="2800"/>
            </a:br>
            <a:r>
              <a:rPr b="1" lang="ru-RU" sz="2800" spc="-1" strike="noStrike">
                <a:solidFill>
                  <a:srgbClr val="d30b19"/>
                </a:solidFill>
                <a:latin typeface="Trebuchet MS"/>
              </a:rPr>
              <a:t> семейного неблагополуч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4581000"/>
            <a:ext cx="82659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остояние здоровья и внешний вид ребёнк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Особенности поведения ребёнк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изкий уровень педагогического потенциала семьи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Задолженность за коммунальные услуг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7" name="Picture 2" descr="C:\Users\ДТГ\Рабочий стол\s4786_1268392963_1.jpg"/>
          <p:cNvPicPr/>
          <p:nvPr/>
        </p:nvPicPr>
        <p:blipFill>
          <a:blip r:embed="rId1"/>
          <a:stretch/>
        </p:blipFill>
        <p:spPr>
          <a:xfrm>
            <a:off x="179280" y="0"/>
            <a:ext cx="4753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d30b19"/>
                </a:solidFill>
                <a:latin typeface="Trebuchet MS"/>
              </a:rPr>
              <a:t>Физическая боль со временем пройдет, психологическая травма остается на всю жизнь.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79280" y="2366640"/>
            <a:ext cx="896472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Бьют взрослых – это уголовное преступление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Бьют животных – это жестокость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Почему же детей бьют «для их же блага»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плакат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0" y="259920"/>
            <a:ext cx="4114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17 тысяч детей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– жертвы насильственных преступлений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Около 2 миллионов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детей избиваются родителям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Более 10 тыс</a:t>
            </a:r>
            <a:r>
              <a:rPr b="0" lang="ru-RU" sz="2400" spc="-1" strike="noStrike">
                <a:solidFill>
                  <a:srgbClr val="d30b19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есовершеннолетних становятся инвалидам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Для 10%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детей побои заканчиваются смертью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2 тыс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. детей  заканчивают жизнь самоубийств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Более 50 тыс</a:t>
            </a:r>
            <a:r>
              <a:rPr b="0" lang="ru-RU" sz="2400" spc="-1" strike="noStrike">
                <a:solidFill>
                  <a:srgbClr val="d30b19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детей уходят из дом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4" name="Picture 2" descr="D:\СОЦ ПЕДАГОГ  2011\МОИ презентации\Жестокое обращение с детьми\jestokoe_obraschenie.jpg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D:\СОЦ ПЕДАГОГ  2011\МОИ презентации\Жестокое обращение с детьми\4052.jpg"/>
          <p:cNvPicPr/>
          <p:nvPr/>
        </p:nvPicPr>
        <p:blipFill>
          <a:blip r:embed="rId1"/>
          <a:stretch/>
        </p:blipFill>
        <p:spPr>
          <a:xfrm>
            <a:off x="1835280" y="684360"/>
            <a:ext cx="7308720" cy="54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6172200" y="5257800"/>
            <a:ext cx="198108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3"/>
          <p:cNvSpPr/>
          <p:nvPr/>
        </p:nvSpPr>
        <p:spPr>
          <a:xfrm>
            <a:off x="1219320" y="5257800"/>
            <a:ext cx="198108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533520" y="3505320"/>
            <a:ext cx="198108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457200" y="1981080"/>
            <a:ext cx="1981080" cy="129564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6"/>
          <p:cNvSpPr/>
          <p:nvPr/>
        </p:nvSpPr>
        <p:spPr>
          <a:xfrm>
            <a:off x="304920" y="304920"/>
            <a:ext cx="198108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2438280" y="609480"/>
            <a:ext cx="1981440" cy="129564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6934320" y="380880"/>
            <a:ext cx="1981080" cy="129564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6858000" y="1981080"/>
            <a:ext cx="1981080" cy="129564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6705720" y="3505320"/>
            <a:ext cx="198108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4648320" y="609480"/>
            <a:ext cx="1981080" cy="129564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3581280" y="4648320"/>
            <a:ext cx="198144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741400" y="2484360"/>
            <a:ext cx="408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ffb9"/>
                </a:solidFill>
                <a:latin typeface="Times New Roman"/>
              </a:rPr>
              <a:t>Что та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ffb9"/>
                </a:solidFill>
                <a:latin typeface="Times New Roman"/>
              </a:rPr>
              <a:t>жестокое обращ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ffb9"/>
                </a:solidFill>
                <a:latin typeface="Times New Roman"/>
              </a:rPr>
              <a:t>с деть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4572000" y="411480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 flipH="1">
            <a:off x="3123720" y="4038480"/>
            <a:ext cx="76212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5486400" y="4038480"/>
            <a:ext cx="68580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5911920" y="5286240"/>
            <a:ext cx="26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 бь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или причиняют 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вред, сры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на нём з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410000" y="533520"/>
            <a:ext cx="24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показы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порнограф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6895800" y="65880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Не отправля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 в шко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6743160" y="2133720"/>
            <a:ext cx="23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бман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путём похищ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6881400" y="3732120"/>
            <a:ext cx="17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Не заботя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 здоров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2585160" y="843120"/>
            <a:ext cx="16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не слуш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3595320" y="4952880"/>
            <a:ext cx="189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иш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одитель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а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4"/>
          <p:cNvSpPr/>
          <p:nvPr/>
        </p:nvSpPr>
        <p:spPr>
          <a:xfrm>
            <a:off x="914400" y="5286240"/>
            <a:ext cx="245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Не заботя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 том, что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ок был чис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дет, накормл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687600" y="3657600"/>
            <a:ext cx="15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дразн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и униж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77040" y="2131920"/>
            <a:ext cx="24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азруш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у 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уверенность в с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7"/>
          <p:cNvSpPr/>
          <p:nvPr/>
        </p:nvSpPr>
        <p:spPr>
          <a:xfrm>
            <a:off x="250920" y="449280"/>
            <a:ext cx="195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 оставляют без присмо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H="1">
            <a:off x="2743200" y="3733920"/>
            <a:ext cx="838080" cy="304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9"/>
          <p:cNvSpPr/>
          <p:nvPr/>
        </p:nvSpPr>
        <p:spPr>
          <a:xfrm flipH="1" flipV="1">
            <a:off x="2133360" y="1600200"/>
            <a:ext cx="1066680" cy="99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0"/>
          <p:cNvSpPr/>
          <p:nvPr/>
        </p:nvSpPr>
        <p:spPr>
          <a:xfrm flipH="1" flipV="1">
            <a:off x="2590920" y="2819160"/>
            <a:ext cx="761760" cy="152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1"/>
          <p:cNvSpPr/>
          <p:nvPr/>
        </p:nvSpPr>
        <p:spPr>
          <a:xfrm flipH="1" flipV="1">
            <a:off x="4038120" y="1981080"/>
            <a:ext cx="304920" cy="533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 flipV="1">
            <a:off x="5105520" y="2057400"/>
            <a:ext cx="15228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 flipV="1">
            <a:off x="5943600" y="1600200"/>
            <a:ext cx="1143000" cy="838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 flipV="1">
            <a:off x="5943600" y="2666880"/>
            <a:ext cx="685800" cy="152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35"/>
          <p:cNvSpPr/>
          <p:nvPr/>
        </p:nvSpPr>
        <p:spPr>
          <a:xfrm>
            <a:off x="5867280" y="3733920"/>
            <a:ext cx="685800" cy="304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D:\СОЦ ПЕДАГОГ  2011\МОИ презентации\Жестокое обращение с детьми\gill_greenberg_01.jpg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967280" y="259920"/>
            <a:ext cx="417672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d30b19"/>
                </a:solidFill>
                <a:latin typeface="Trebuchet MS"/>
              </a:rPr>
              <a:t>Формы  </a:t>
            </a:r>
            <a:r>
              <a:rPr b="1" lang="ru-RU" sz="1800" spc="-1" strike="noStrike">
                <a:solidFill>
                  <a:srgbClr val="d30b19"/>
                </a:solidFill>
                <a:latin typeface="Arial"/>
              </a:rPr>
              <a:t>жестокого обращения с детьми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rebuchet MS"/>
              </a:rPr>
              <a:t>Физическо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rebuchet MS"/>
              </a:rPr>
              <a:t>Психологическое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rebuchet MS"/>
              </a:rPr>
              <a:t>Сексуальное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rebuchet MS"/>
              </a:rPr>
              <a:t>Пренебрежение основными нуждами ребёнк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30b19"/>
                </a:solidFill>
                <a:latin typeface="Trebuchet MS"/>
              </a:rPr>
              <a:t>Физическое насил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980640"/>
            <a:ext cx="41878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Нанесение ребенку родителями или лицами, их заменяющими, воспитателями физических травм, различных телесных повреждений, которые причиняют ущерб здоровью ребенка, нарушает его развитие или лишают жизни. Физическое насилие включает также вовлечение ребенка в употребление наркотиков, алкоголя, дачу ему отравляющих веществ или медицинских препаратов, а также попытки удушения или утопления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4" name="Picture 2" descr="D:\СОЦ ПЕДАГОГ  2011\МОИ презентации\Жестокое обращение с детьми\ortv_ruweb.jpg"/>
          <p:cNvPicPr/>
          <p:nvPr/>
        </p:nvPicPr>
        <p:blipFill>
          <a:blip r:embed="rId1"/>
          <a:stretch/>
        </p:blipFill>
        <p:spPr>
          <a:xfrm>
            <a:off x="4356000" y="1125360"/>
            <a:ext cx="47880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634824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d30b19"/>
                </a:solidFill>
                <a:latin typeface="Trebuchet MS"/>
              </a:rPr>
              <a:t>Дети, к которым применяется физическое насилие, имеют различные эмоциональные реакции: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чрезмерно агрессивны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импульсивны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клонны к разрушениям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огут вымещать свою враждебность и ярость на игрушках, животных и других детях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тановятся излишне требовательными в дружбе и любви, и это отпугивает от них возможных друзей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им трудно доверять кому-либо, так как поведение их собственных родителей непредсказуемо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896000" y="188640"/>
            <a:ext cx="4248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d30b19"/>
                </a:solidFill>
                <a:uFillTx/>
                <a:latin typeface="Comic Sans MS"/>
              </a:rPr>
              <a:t>Сексуальное насилие или       совращение </a:t>
            </a:r>
            <a:r>
              <a:rPr b="0" lang="ru-RU" sz="1800" spc="-1" strike="noStrike">
                <a:solidFill>
                  <a:srgbClr val="d30b19"/>
                </a:solidFill>
                <a:latin typeface="Comic Sans MS"/>
              </a:rPr>
              <a:t>–</a:t>
            </a:r>
            <a:r>
              <a:rPr b="0" lang="ru-RU" sz="1800" spc="-1" strike="noStrike">
                <a:solidFill>
                  <a:srgbClr val="99ca3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спользование ребенка взрослым или другим ребенком для удовлетворения сексуальной потребности или получения выгоды. К сексуальному развращению относится также вовлечение ребенка в проституцию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орнобизнес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8" name="Picture 2" descr="D:\СОЦ ПЕДАГОГ  2011\МОИ презентации\Жестокое обращение с детьми\10001.jpg"/>
          <p:cNvPicPr/>
          <p:nvPr/>
        </p:nvPicPr>
        <p:blipFill>
          <a:blip r:embed="rId1"/>
          <a:srcRect l="20563" t="0" r="24302" b="0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8:02:47Z</dcterms:created>
  <dc:creator>ДТГ</dc:creator>
  <dc:description/>
  <dc:language>en-US</dc:language>
  <cp:lastModifiedBy>Сергей</cp:lastModifiedBy>
  <dcterms:modified xsi:type="dcterms:W3CDTF">2018-07-11T20:52:53Z</dcterms:modified>
  <cp:revision>86</cp:revision>
  <dc:subject/>
  <dc:title>ЖЕСТОКОЕ ОБРАЩЕНИЕ С ДЕТЬМИ  КАК ПРОБЛЕМА СОВРЕМЕННОГО ОБЩЕСТВА</dc:title>
</cp:coreProperties>
</file>