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E97-D079-4E90-B77E-4ACCA2D1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1DF-7F3C-45C9-8BA6-AA218908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D99-2B26-459F-8DF7-4C8C0B41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895-71CC-44BD-830E-6BD111DE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C147-47B9-41F7-A288-C1C63B4A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98A5-06C0-47C8-8577-985DBC6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A38F-9BBC-44C8-B878-ECBB0F8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AAC-7854-4929-A1CA-626E4AE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B92A-C78D-4DCD-9C17-064D588C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2703-35C2-4924-8C62-20F4B0B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3D8-05D4-4B22-9E5E-A92B039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6BF-973D-4920-9D2A-DFFF2F70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6CEA-CFD4-4D18-8159-846CECC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883F-76FB-4DDF-AE40-1A592B3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4347-026E-418C-A440-F3E920A0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074E-A920-4396-97E6-7E8B777A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9B78-95C0-43DA-B574-ABCEB8A4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596F-8679-4F10-A1D7-50746A9F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F2B3-9FE0-4DBD-A3C8-A5C86D7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374E-0EE8-4833-92AF-03E09628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10F12-409F-46D0-9B19-A899705E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61E5-3296-417E-96FD-1E7379E9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F13-17C0-4838-AA1C-46858C62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CD12-BE07-443D-9977-89812DD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E51B-4E94-442C-B2E2-E0151B4E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2A88-31D5-4F5A-B307-1C2D8AB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59746-C636-4BE2-B943-841C27C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D8E8-5CF0-4CBD-B850-1F9F8DF1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88B1-166D-4F60-9B1A-71AE6FDC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42ED-2E78-4D9E-A028-D0971D1C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1180-0112-439C-B6A8-6C23EDE4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6170-EBA5-4C0E-8FC1-43A12A88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4805-5508-4503-BE0B-7CB0F791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B72-C800-4451-9949-402B3E98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82F03-C451-42E2-A912-757AC25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2D30-9677-4CAC-8DE2-FB8B757F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6DA7D-3D99-4C22-A092-7C6FEC37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64FA-8529-4ADF-B1DC-DBE0BF7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F772-0296-45D3-A06E-56CE309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4C6D-73A7-41B8-9728-B57C3249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9920C-6FB8-44DB-A8C1-00F8784D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7DF5-4A74-4196-8A7B-2E24F938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A510-960A-4CF4-9575-5B08C964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406-91D6-40C8-8DE7-9462FBAD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C65-C5BB-4D4E-9AB8-0F186B6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877-2134-48FB-A14A-320D7CE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70D-7BFE-4AA3-8727-D064BFB9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9F8-AB21-4051-A05E-CF1AA6E4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883E-0F49-476A-B4BD-B7A8E43E565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F53-5A7F-4B0B-85F2-2A069A49F30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25EF-35B9-4331-8E2B-3B4D5E7A6F8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D6B4-1AC0-47DF-BABD-1FBBBDD681C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349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30b19"/>
                </a:solidFill>
                <a:latin typeface="Broadway"/>
              </a:rPr>
              <a:t>ЖЕСТОКОЕ ОБРАЩЕНИЕ</a:t>
            </a:r>
            <a:br>
              <a:rPr sz="3600"/>
            </a:br>
            <a:r>
              <a:rPr b="1" lang="ru-RU" sz="3600" spc="-1" strike="noStrike">
                <a:solidFill>
                  <a:srgbClr val="d30b19"/>
                </a:solidFill>
                <a:latin typeface="Broadway"/>
              </a:rPr>
              <a:t>  С   ДЕТЬМИ </a:t>
            </a:r>
            <a:r>
              <a:rPr b="1" lang="ru-RU" sz="3600" spc="-1" strike="noStrike">
                <a:solidFill>
                  <a:srgbClr val="d30b19"/>
                </a:solidFill>
                <a:latin typeface="Trebuchet MS"/>
              </a:rPr>
              <a:t>-</a:t>
            </a:r>
            <a:r>
              <a:rPr b="1" lang="ru-RU" sz="3600" spc="-1" strike="noStrike">
                <a:solidFill>
                  <a:srgbClr val="d30b19"/>
                </a:solidFill>
                <a:latin typeface="Broadway"/>
              </a:rPr>
              <a:t> ПОРОЧНЫЙ КРУГ НАСИЛ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Объект 2"/>
          <p:cNvSpPr/>
          <p:nvPr/>
        </p:nvSpPr>
        <p:spPr>
          <a:xfrm>
            <a:off x="4411800" y="5600880"/>
            <a:ext cx="4701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Вивальди-Лето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5" name="Вивальди-Лето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6" name="Вивальди-Лето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Вивальди-Лето.wma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Вивальди-Лето.wma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1304348204_1256587837_60620-6590484-m750x740"/>
          <p:cNvPicPr/>
          <p:nvPr/>
        </p:nvPicPr>
        <p:blipFill>
          <a:blip r:embed="rId6"/>
          <a:stretch/>
        </p:blipFill>
        <p:spPr>
          <a:xfrm>
            <a:off x="3540240" y="0"/>
            <a:ext cx="560376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1"/>
          <p:cNvSpPr/>
          <p:nvPr/>
        </p:nvSpPr>
        <p:spPr>
          <a:xfrm>
            <a:off x="144360" y="543888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b995"/>
                </a:solidFill>
                <a:latin typeface="Georgia"/>
              </a:rPr>
              <a:t>Халимон М.Н., педагог-психол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295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632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295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63295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32959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32959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d30b19"/>
                </a:solidFill>
                <a:latin typeface="Trebuchet MS"/>
              </a:rPr>
              <a:t>Неотделимая часть сексуального насилия – феномен, который называется «невозможность говорить об этом»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Особенно если такое насилие произошло в собственной семье ребенка. Ребенок хочет рассказать о кошмаре, но просто не может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Ребенок с раннего детства привыкает к авторитету взрослых и послушанию. Когда к нему начинают приставать – он не понимает, что происходит, ему кажется, что он ошибся, что-то напутал, что такое больше не повторится. Ребенку кажется, что он тоже виноват в насилии – взрослые часто уверяют его в этом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-360" y="260280"/>
            <a:ext cx="4187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d30b19"/>
                </a:solidFill>
                <a:uFillTx/>
                <a:latin typeface="Comic Sans MS"/>
                <a:ea typeface="Comic Sans MS"/>
              </a:rPr>
              <a:t>Психологическое (эмоциональное) насилие </a:t>
            </a:r>
            <a:r>
              <a:rPr b="0" lang="ru-RU" sz="1800" spc="-1" strike="noStrike">
                <a:solidFill>
                  <a:srgbClr val="d30b19"/>
                </a:solidFill>
                <a:latin typeface="Comic Sans MS"/>
                <a:ea typeface="Comic Sans MS"/>
              </a:rPr>
              <a:t>–</a:t>
            </a:r>
            <a:r>
              <a:rPr b="0" lang="ru-RU" sz="1800" spc="-1" strike="noStrike">
                <a:solidFill>
                  <a:srgbClr val="99ca3c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Постоянные или периодические словесные оскорбления ребенка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 угроза со стороны родителя, опекунов, учителей,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унижение его человеческого достоинства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обвинение в том, в чем он не виноват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демонстрация нелюбви, неприязни к ребенку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постоянная ложь, обман ребенка,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-а также предъявляемые к ребенку требования, не соответствующие его возрастным возможностям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2" name="Picture 9" descr="плакат24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Психологическое насилие тормозит рост потенциальных способностей ребенка - ставится под угрозу его интеллектуальное развитие и способности к адаптации. Ребенок становится легко ранимым, теряет чувство собственного достоинства и самоуважение. Он легко попадает в конфликтные ситуации, ему трудно устанавливать прочные эмоциональные связи. Вступая в самостоятельную жизнь, ребенок, подвергавшийся эмоциональному и психологическому насилию, переносит характер отношений с родителями на отношения с собственными детьми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d30b19"/>
                </a:solidFill>
                <a:uFillTx/>
                <a:latin typeface="Times New Roman"/>
                <a:ea typeface="Times New Roman"/>
              </a:rPr>
              <a:t>Пренебрежение  интересами и нуждами ребенк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3640" y="1413000"/>
            <a:ext cx="450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Не удовлетворяются нужды и потребности ребенка</a:t>
            </a:r>
            <a:r>
              <a:rPr b="1" i="1" lang="ru-RU" sz="36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 в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Comic Sans MS"/>
                <a:ea typeface="Comic Sans MS"/>
              </a:rPr>
              <a:t>пище, одежде, жилье, воспитании, образовании, медицинской помощи.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7" descr="73559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d30b19"/>
                </a:solidFill>
                <a:latin typeface="Trebuchet MS"/>
              </a:rPr>
              <a:t>Признаками данного вида насилия являются</a:t>
            </a:r>
            <a:r>
              <a:rPr b="0" lang="ru-RU" sz="4000" spc="-1" strike="noStrike">
                <a:solidFill>
                  <a:srgbClr val="d30b19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Плохо или не по сезону одетый ребенок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Голодный ребенок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Грязный, неухоженный ребенок; имеющий стойкий запах грязного тела, мочи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Ребенок, гуляющий один без взрослых и допоздн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тказ со стороны родителей в медицинской помощи ребенку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тказ от вакцинации, осмотра ребенком педиатром, оказание сопротивления медицинскому патронажу новорожденного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Отказ ребенку в развитии, в посещении детских дошкольных и общеобразовательных учреждений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Педикулез, чесотк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0" y="0"/>
            <a:ext cx="46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ь родители, которые 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проявляют жестокос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 к своим детям, находясь в состоянии стресса. Такие родители просто никогда не учились тому, как любить детей, общаться с ними и воспитывать их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0" name="Picture 2" descr="C:\Users\ДТГ\Рабочий стол\29862.jpg"/>
          <p:cNvPicPr/>
          <p:nvPr/>
        </p:nvPicPr>
        <p:blipFill>
          <a:blip r:embed="rId1"/>
          <a:stretch/>
        </p:blipFill>
        <p:spPr>
          <a:xfrm>
            <a:off x="4572000" y="260280"/>
            <a:ext cx="432108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d30b19"/>
                </a:solidFill>
                <a:latin typeface="Trebuchet MS"/>
              </a:rPr>
              <a:t>Работа, направленная на повышение «родительской компетентности»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обучение родителей методам ненасильственного воспитания ребенка, -понимание причин детского поведения, -исключение нереальных родительских ожиданий по отношению ребенку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гармонизация семейных отношений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Это часто позволяет избежать использования психотропных медикаментозных препаратов для преодоления нарушений психического состояния и поведения ребенк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d30b19"/>
                </a:solidFill>
                <a:latin typeface="Trebuchet MS"/>
              </a:rPr>
              <a:t>ПРАКТИЧЕСКОЕ ЗАНЯТ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Выйти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 комнаты и позвонить приятелю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Включить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успокаивающую музыку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Сделать</a:t>
            </a:r>
            <a:r>
              <a:rPr b="1" i="1" lang="ru-RU" sz="22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0 глубоких вздохов и успокоиться; затем сделать еще 10 вздохов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Пойти</a:t>
            </a:r>
            <a:r>
              <a:rPr b="1" i="1" lang="ru-RU" sz="22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в другую комнату и выполни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дыхательные и расслабляющие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упражнения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Принять душ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</a:t>
            </a:r>
            <a:r>
              <a:rPr b="1" i="1" lang="ru-RU" sz="2600" spc="-1" strike="noStrike">
                <a:solidFill>
                  <a:srgbClr val="ba3924"/>
                </a:solidFill>
                <a:latin typeface="Trebuchet MS"/>
                <a:ea typeface="Times New Roman"/>
              </a:rPr>
              <a:t>Сесть,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крыть глаза и  представить себе, что находитесь в каком-нибудь приятном месте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—  </a:t>
            </a:r>
            <a:r>
              <a:rPr b="1" i="1" lang="ru-RU" sz="2600" spc="-1" strike="noStrike">
                <a:solidFill>
                  <a:srgbClr val="d30b19"/>
                </a:solidFill>
                <a:latin typeface="Arial"/>
                <a:ea typeface="Times New Roman"/>
              </a:rPr>
              <a:t>О</a:t>
            </a:r>
            <a:r>
              <a:rPr b="1" i="1" lang="ru-RU" sz="2600" spc="-1" strike="noStrike">
                <a:solidFill>
                  <a:srgbClr val="d30b19"/>
                </a:solidFill>
                <a:latin typeface="Trebuchet MS"/>
                <a:ea typeface="Times New Roman"/>
              </a:rPr>
              <a:t>бра</a:t>
            </a:r>
            <a:r>
              <a:rPr b="1" i="1" lang="ru-RU" sz="2600" spc="-1" strike="noStrike">
                <a:solidFill>
                  <a:srgbClr val="d30b19"/>
                </a:solidFill>
                <a:latin typeface="Arial"/>
                <a:ea typeface="Times New Roman"/>
              </a:rPr>
              <a:t>ти</a:t>
            </a:r>
            <a:r>
              <a:rPr b="1" i="1" lang="ru-RU" sz="2600" spc="-1" strike="noStrike">
                <a:solidFill>
                  <a:srgbClr val="d30b19"/>
                </a:solidFill>
                <a:latin typeface="Trebuchet MS"/>
                <a:ea typeface="Times New Roman"/>
              </a:rPr>
              <a:t>тесь за психологической помощью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8000" y="259920"/>
            <a:ext cx="8136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Aft>
                <a:spcPts val="7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d30b19"/>
                </a:solidFill>
                <a:latin typeface="Arial Narrow"/>
                <a:ea typeface="Comic Sans MS"/>
              </a:rPr>
              <a:t>Предотвращение жестокости по отношению к детям</a:t>
            </a:r>
            <a:br>
              <a:rPr sz="23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6" name="Picture 2" descr="C:\Users\ДТГ\Рабочий стол\2109100901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D:\СОЦ ПЕДАГОГ  2011\МОИ презентации\Жестокое обращение с детьми\769313251.jpg"/>
          <p:cNvPicPr/>
          <p:nvPr/>
        </p:nvPicPr>
        <p:blipFill>
          <a:blip r:embed="rId1"/>
          <a:stretch/>
        </p:blipFill>
        <p:spPr>
          <a:xfrm>
            <a:off x="57456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86407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Comic Sans MS"/>
              </a:rPr>
              <a:t>Механизмы предотвращения и защиты детей от насилия и жестокого обращения в семь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-360" y="0"/>
            <a:ext cx="4321080" cy="6858000"/>
          </a:xfrm>
          <a:prstGeom prst="rect">
            <a:avLst/>
          </a:prstGeom>
          <a:noFill/>
          <a:ln w="9360">
            <a:solidFill>
              <a:srgbClr val="99ca3c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30b19"/>
                </a:solidFill>
                <a:latin typeface="Trebuchet MS"/>
              </a:rPr>
              <a:t>Причины жестокого обращения</a:t>
            </a: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чностные особенности и родителей и ребенка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характер их взаимоотношений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емейный уклад и проблемы внутри семьи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трессы, вызванные социально-экономической средой, в которой проживает семья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2" descr="D:\СОЦ ПЕДАГОГ  2011\МОИ презентации\Жестокое обращение с детьми\91709bde5b43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d30b19"/>
                </a:solidFill>
                <a:latin typeface="Trebuchet MS"/>
              </a:rPr>
              <a:t>Нормативные документы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сеобщая декларация прав человек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Международный акт о гражданских и политических правах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Декларация прав ребёнка ОО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Конвенция о правах ребёнка ОО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емейный кодекс РФ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-360" y="259920"/>
            <a:ext cx="4211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d30b19"/>
                </a:solidFill>
                <a:latin typeface="Trebuchet MS"/>
              </a:rPr>
              <a:t>Статья 69.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Лишение родительских прав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татья семейного кодекса гласит: При осуществлении родительских прав родители не вправе причинять вред физическому или психическому здоровью детей, их нравственному развитию.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d30b19"/>
                </a:solidFill>
                <a:latin typeface="Trebuchet MS"/>
              </a:rPr>
              <a:t>Статья 156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УК Неисполнение обязанностей по воспитанию несовершеннолетнего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татья предусматривает  штраф до ста тысяч рублей, исправительные работы или лишение свободы до трех лет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Picture 2" descr="D:\СОЦ ПЕДАГОГ  2011\МОИ презентации\Жестокое обращение с детьми\big_364839.pn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D:\СОЦ ПЕДАГОГ  2011\МОИ презентации\Жестокое обращение с детьми\10002.jpg"/>
          <p:cNvPicPr/>
          <p:nvPr/>
        </p:nvPicPr>
        <p:blipFill>
          <a:blip r:embed="rId2"/>
          <a:stretch/>
        </p:blipFill>
        <p:spPr>
          <a:xfrm>
            <a:off x="4643280" y="328464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D:\СОЦ ПЕДАГОГ  2011\МОИ презентации\Жестокое обращение с детьми\200025401.jpg"/>
          <p:cNvPicPr/>
          <p:nvPr/>
        </p:nvPicPr>
        <p:blipFill>
          <a:blip r:embed="rId3"/>
          <a:stretch/>
        </p:blipFill>
        <p:spPr>
          <a:xfrm>
            <a:off x="-3636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708360" y="1125000"/>
            <a:ext cx="433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30b19"/>
                </a:solidFill>
                <a:latin typeface="Trebuchet MS"/>
              </a:rPr>
              <a:t>Сигналы </a:t>
            </a:r>
            <a:br>
              <a:rPr sz="2800"/>
            </a:br>
            <a:r>
              <a:rPr b="1" lang="ru-RU" sz="2800" spc="-1" strike="noStrike">
                <a:solidFill>
                  <a:srgbClr val="d30b19"/>
                </a:solidFill>
                <a:latin typeface="Trebuchet MS"/>
              </a:rPr>
              <a:t>для выявления</a:t>
            </a:r>
            <a:br>
              <a:rPr sz="2800"/>
            </a:br>
            <a:r>
              <a:rPr b="1" lang="ru-RU" sz="2800" spc="-1" strike="noStrike">
                <a:solidFill>
                  <a:srgbClr val="d30b19"/>
                </a:solidFill>
                <a:latin typeface="Trebuchet MS"/>
              </a:rPr>
              <a:t> семейного неблагополуч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4581000"/>
            <a:ext cx="82659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остояние здоровья и внешний вид ребёнк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собенности поведения ребёнк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изкий уровень педагогического потенциала семьи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Задолженность за коммунальные услуг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7" name="Picture 2" descr="C:\Users\ДТГ\Рабочий стол\s4786_1268392963_1.jpg"/>
          <p:cNvPicPr/>
          <p:nvPr/>
        </p:nvPicPr>
        <p:blipFill>
          <a:blip r:embed="rId1"/>
          <a:stretch/>
        </p:blipFill>
        <p:spPr>
          <a:xfrm>
            <a:off x="179280" y="0"/>
            <a:ext cx="4753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d30b19"/>
                </a:solidFill>
                <a:latin typeface="Trebuchet MS"/>
              </a:rPr>
              <a:t>Физическая боль со временем пройдет, психологическая травма остается на всю жизнь.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2366640"/>
            <a:ext cx="896472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Бьют взрослых – это уголовное преступление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Бьют животных – это жестокость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Почему же детей бьют «для их же блага»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плакат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0" y="259920"/>
            <a:ext cx="4114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17 тысяч детей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– жертвы насильственных преступлений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Около 2 миллионов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детей избиваются родителям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Более 10 тыс</a:t>
            </a:r>
            <a:r>
              <a:rPr b="0" lang="ru-RU" sz="2400" spc="-1" strike="noStrike">
                <a:solidFill>
                  <a:srgbClr val="d30b19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есовершеннолетних становятся инвалидам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Для 10%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детей побои заканчиваются смертью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2 тыс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. детей  заканчивают жизнь самоубийств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d30b19"/>
                </a:solidFill>
                <a:latin typeface="Trebuchet MS"/>
              </a:rPr>
              <a:t>Более 50 тыс</a:t>
            </a:r>
            <a:r>
              <a:rPr b="0" lang="ru-RU" sz="2400" spc="-1" strike="noStrike">
                <a:solidFill>
                  <a:srgbClr val="d30b19"/>
                </a:solidFill>
                <a:latin typeface="Trebuchet MS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детей уходят из дом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Picture 2" descr="D:\СОЦ ПЕДАГОГ  2011\МОИ презентации\Жестокое обращение с детьми\jestokoe_obraschenie.jpg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D:\СОЦ ПЕДАГОГ  2011\МОИ презентации\Жестокое обращение с детьми\4052.jpg"/>
          <p:cNvPicPr/>
          <p:nvPr/>
        </p:nvPicPr>
        <p:blipFill>
          <a:blip r:embed="rId1"/>
          <a:stretch/>
        </p:blipFill>
        <p:spPr>
          <a:xfrm>
            <a:off x="1835280" y="684360"/>
            <a:ext cx="730872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6172200" y="525780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3"/>
          <p:cNvSpPr/>
          <p:nvPr/>
        </p:nvSpPr>
        <p:spPr>
          <a:xfrm>
            <a:off x="1219320" y="525780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533520" y="350532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457200" y="19810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6"/>
          <p:cNvSpPr/>
          <p:nvPr/>
        </p:nvSpPr>
        <p:spPr>
          <a:xfrm>
            <a:off x="304920" y="30492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2438280" y="609480"/>
            <a:ext cx="198144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6934320" y="3808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858000" y="19810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6705720" y="3505320"/>
            <a:ext cx="198108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4648320" y="609480"/>
            <a:ext cx="1981080" cy="129564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3581280" y="4648320"/>
            <a:ext cx="1981440" cy="1295280"/>
          </a:xfrm>
          <a:prstGeom prst="ellipse">
            <a:avLst/>
          </a:prstGeom>
          <a:solidFill>
            <a:srgbClr val="93dd61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2741400" y="2484360"/>
            <a:ext cx="408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ffb9"/>
                </a:solidFill>
                <a:latin typeface="Times New Roman"/>
              </a:rPr>
              <a:t>Что та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ffb9"/>
                </a:solidFill>
                <a:latin typeface="Times New Roman"/>
              </a:rPr>
              <a:t>жестокое обращ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ffb9"/>
                </a:solidFill>
                <a:latin typeface="Times New Roman"/>
              </a:rPr>
              <a:t>с деть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4572000" y="411480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 flipH="1">
            <a:off x="3123720" y="4038480"/>
            <a:ext cx="76212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5486400" y="403848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911920" y="5286240"/>
            <a:ext cx="26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бь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или причиняют 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вред, сры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а нём з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410000" y="533520"/>
            <a:ext cx="24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показ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порнограф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матери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9"/>
          <p:cNvSpPr/>
          <p:nvPr/>
        </p:nvSpPr>
        <p:spPr>
          <a:xfrm>
            <a:off x="6895800" y="65880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отправ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в шко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6743160" y="2133720"/>
            <a:ext cx="23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бман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путём похищ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881400" y="3732120"/>
            <a:ext cx="17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забот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 здоров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2585160" y="843120"/>
            <a:ext cx="16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слуш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3595320" y="4952880"/>
            <a:ext cx="189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иш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одитель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а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914400" y="5286240"/>
            <a:ext cx="245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Не заботя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 том, что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ок был чис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одет, накорм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687600" y="3657600"/>
            <a:ext cx="15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дразн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и униж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77040" y="213192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азруш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у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уверенность в с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7"/>
          <p:cNvSpPr/>
          <p:nvPr/>
        </p:nvSpPr>
        <p:spPr>
          <a:xfrm>
            <a:off x="250920" y="449280"/>
            <a:ext cx="19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Ребёнка оставляют без присмо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743200" y="3733920"/>
            <a:ext cx="838080" cy="30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9"/>
          <p:cNvSpPr/>
          <p:nvPr/>
        </p:nvSpPr>
        <p:spPr>
          <a:xfrm flipH="1" flipV="1">
            <a:off x="2133360" y="1600200"/>
            <a:ext cx="1066680" cy="99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0"/>
          <p:cNvSpPr/>
          <p:nvPr/>
        </p:nvSpPr>
        <p:spPr>
          <a:xfrm flipH="1" flipV="1">
            <a:off x="2590920" y="2819160"/>
            <a:ext cx="761760" cy="152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 flipH="1" flipV="1">
            <a:off x="4038120" y="1981080"/>
            <a:ext cx="304920" cy="5335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 flipV="1">
            <a:off x="5105520" y="2057400"/>
            <a:ext cx="15228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 flipV="1">
            <a:off x="5943600" y="1600200"/>
            <a:ext cx="114300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 flipV="1">
            <a:off x="5943600" y="2666880"/>
            <a:ext cx="68580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5"/>
          <p:cNvSpPr/>
          <p:nvPr/>
        </p:nvSpPr>
        <p:spPr>
          <a:xfrm>
            <a:off x="5867280" y="3733920"/>
            <a:ext cx="685800" cy="30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D:\СОЦ ПЕДАГОГ  2011\МОИ презентации\Жестокое обращение с детьми\gill_greenberg_01.jpg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967280" y="259920"/>
            <a:ext cx="417672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30b19"/>
                </a:solidFill>
                <a:latin typeface="Trebuchet MS"/>
              </a:rPr>
              <a:t>Формы  </a:t>
            </a:r>
            <a:r>
              <a:rPr b="1" lang="ru-RU" sz="1800" spc="-1" strike="noStrike">
                <a:solidFill>
                  <a:srgbClr val="d30b19"/>
                </a:solidFill>
                <a:latin typeface="Arial"/>
              </a:rPr>
              <a:t>жестокого обращения с детьм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Физическо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Психологическое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Сексуальное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rebuchet MS"/>
              </a:rPr>
              <a:t>Пренебрежение основными нуждами ребёнк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30b19"/>
                </a:solidFill>
                <a:latin typeface="Trebuchet MS"/>
              </a:rPr>
              <a:t>Физическое насил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980640"/>
            <a:ext cx="4187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Нанесение ребенку родителями или лицами, их заменяющими, воспитателями физических травм, различных телесных повреждений, которые причиняют ущерб здоровью ребенка, нарушает его развитие или лишают жизни. Физическое насилие включает также вовлечение ребенка в употребление наркотиков, алкоголя, дачу ему отравляющих веществ или медицинских препаратов, а также попытки удушения или утопления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4" name="Picture 2" descr="D:\СОЦ ПЕДАГОГ  2011\МОИ презентации\Жестокое обращение с детьми\ortv_ruweb.jpg"/>
          <p:cNvPicPr/>
          <p:nvPr/>
        </p:nvPicPr>
        <p:blipFill>
          <a:blip r:embed="rId1"/>
          <a:stretch/>
        </p:blipFill>
        <p:spPr>
          <a:xfrm>
            <a:off x="4356000" y="1125360"/>
            <a:ext cx="4788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634824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d30b19"/>
                </a:solidFill>
                <a:latin typeface="Trebuchet MS"/>
              </a:rPr>
              <a:t>Дети, к которым применяется физическое насилие, имеют различные эмоциональные реакции: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чрезмерно агрессивны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импульсивны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клонны к разрушениям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огут вымещать свою враждебность и ярость на игрушках, животных и других детях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тановятся излишне требовательными в дружбе и любви, и это отпугивает от них возможных друзей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им трудно доверять кому-либо, так как поведение их собственных родителей непредсказуемо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896000" y="188640"/>
            <a:ext cx="4248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d30b19"/>
                </a:solidFill>
                <a:uFillTx/>
                <a:latin typeface="Comic Sans MS"/>
              </a:rPr>
              <a:t>Сексуальное насилие или       совращение </a:t>
            </a:r>
            <a:r>
              <a:rPr b="0" lang="ru-RU" sz="1800" spc="-1" strike="noStrike">
                <a:solidFill>
                  <a:srgbClr val="d30b19"/>
                </a:solidFill>
                <a:latin typeface="Comic Sans MS"/>
              </a:rPr>
              <a:t>–</a:t>
            </a:r>
            <a:r>
              <a:rPr b="0" lang="ru-RU" sz="1800" spc="-1" strike="noStrike">
                <a:solidFill>
                  <a:srgbClr val="99ca3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спользование ребенка взрослым или другим ребенком для удовлетворения сексуальной потребности или получения выгоды. К сексуальному развращению относится также вовлечение ребенка в проституцию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орнобизнес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8" name="Picture 2" descr="D:\СОЦ ПЕДАГОГ  2011\МОИ презентации\Жестокое обращение с детьми\10001.jpg"/>
          <p:cNvPicPr/>
          <p:nvPr/>
        </p:nvPicPr>
        <p:blipFill>
          <a:blip r:embed="rId1"/>
          <a:srcRect l="20563" t="0" r="24302" b="0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8:02:47Z</dcterms:created>
  <dc:creator>ДТГ</dc:creator>
  <dc:description/>
  <dc:language>en-US</dc:language>
  <cp:lastModifiedBy>Сергей</cp:lastModifiedBy>
  <dcterms:modified xsi:type="dcterms:W3CDTF">2018-07-11T20:52:53Z</dcterms:modified>
  <cp:revision>86</cp:revision>
  <dc:subject/>
  <dc:title>ЖЕСТОКОЕ ОБРАЩЕНИЕ С ДЕТЬМИ  КАК ПРОБЛЕМА СОВРЕМЕННОГО ОБЩЕСТВА</dc:title>
</cp:coreProperties>
</file>