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9DA-59D0-4E4D-9F44-327BFF1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63-FACB-4165-B61A-9E0D6B8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234-527A-4D24-923C-D654DB1C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5B3-66AD-4BB4-9DD6-37F4BD8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58A-041B-49B2-9668-4E8BAE3A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00B-E229-4347-B649-B309CC8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BA34-31BC-4C70-A0E5-B09DCD7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97F-89D9-4993-829C-A6F44537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51E5-9BEC-496D-B487-5606DE2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86BC-F7A3-4E95-A3F6-11163449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F40-D18A-48FD-B02D-5E516A8A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130-8F7A-4B49-A733-BBCCFD8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EC4-87F1-4992-A968-33AE636C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CE7-13E0-4CC8-8A74-9546BD2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FE11-077E-4B78-A14F-7F6092F2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CD66-7A94-47FF-93E5-FDE55A6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BE9-11C6-4524-8BA3-72C0D0C9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78D-FF40-40A1-BC75-BDB84C04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838-18B7-4816-99DC-4ACE88CD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80F-6E72-42BA-B8B4-A72C1EB6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E28-EE7E-4D57-BAA0-C5EE3309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868-CB11-42A3-9C1D-0001A41D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9CA-52E2-4C42-9F17-317D57A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8A9-E896-4EFE-857D-B1DF3E3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T 배경작업\BB_20\BB_20_ 선정\bb-20(4-2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cbca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Click to edit the outline text format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1" marL="743040" indent="-28584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con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2" marL="11430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Thir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3" marL="16002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our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4" marL="20574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if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ix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ven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495-8CD4-4344-B710-A6790D9058FB}" type="slidenum">
              <a:rPr b="0" lang="en-US" sz="1400" spc="-1" strike="noStrike">
                <a:solidFill>
                  <a:srgbClr val="000000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T 배경작업\BB_20\BB_20_ 선정\bb-20(4-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cbca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Click to edit the outline text format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1" marL="743040" indent="-28584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con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2" marL="11430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Third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3" marL="16002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our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4" marL="2057400" indent="-22860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Fif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5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ix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lvl="6" marL="2057400" indent="-228600">
              <a:spcBef>
                <a:spcPts val="575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c3c3c"/>
                </a:solidFill>
                <a:latin typeface="-보람M"/>
              </a:rPr>
              <a:t>Seventh Outline Level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D9F-8328-4AD5-AFEA-681632090FDF}" type="slidenum">
              <a:rPr b="0" lang="en-US" sz="1400" spc="-1" strike="noStrike">
                <a:solidFill>
                  <a:srgbClr val="cbcbcb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-보람B"/>
              </a:rPr>
              <a:t>Дары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-보람B"/>
              </a:rPr>
              <a:t>Фрёбеля</a:t>
            </a:r>
            <a:endParaRPr b="0" lang="en-US" sz="60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4000" y="537372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Подготовил педагог-психолог</a:t>
            </a:r>
            <a:endParaRPr b="0" lang="en-US" sz="2400" spc="-1" strike="noStrike">
              <a:solidFill>
                <a:srgbClr val="3c3c3c"/>
              </a:solidFill>
              <a:latin typeface="-보람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-보람M"/>
              </a:rPr>
              <a:t>Елкина О.А.</a:t>
            </a:r>
            <a:endParaRPr b="0" lang="en-US" sz="24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2479680" y="2924280"/>
            <a:ext cx="51116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4475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Шестой 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кубик, разделённый  тоже  на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двадцать  семь  кубиков, многие  из  которых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ены  ещё  на части: на плитки, по диагонали и пр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2195640" y="3452760"/>
            <a:ext cx="47131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447560"/>
            <a:ext cx="878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75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гры с дарами имели у Фрёбеля философскую основу. Он считал, что через них ребенок понимает единство и многообразие мира и его божественное начало, философские законы построения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селенной.  И шар, куб и цилиндр существовали в его играх не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ами по себе, а как определенные символы, которые ребенок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стигает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ак,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ша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был символом «единства в единстве», бесконечности,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движения.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Куб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 - символом покоя, «единства в многообразии»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( он по-разному представлен нам, если мы посмотрим на ег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ершину, на ребро или на сторону). А </a:t>
            </a: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цилинд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сочетает в себ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войства куба и шара – он устойчив в вертикальном положении,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 подвижен и катится в горизонтальном положении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8960" indent="-318960">
              <a:lnSpc>
                <a:spcPct val="100000"/>
              </a:lnSpc>
              <a:spcBef>
                <a:spcPts val="575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fcbca"/>
                </a:solidFill>
                <a:latin typeface="-보람B"/>
              </a:rPr>
              <a:t>Фридрих Фрёбель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40192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(21 апреля 1782 – 21 июня 1852)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Немецкий педагог, теоретик дошкольног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1212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3c3c3c"/>
                </a:solidFill>
                <a:latin typeface="-보람M"/>
              </a:rPr>
              <a:t>воспитания, создатель понятия «детский сад»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Теория развития </a:t>
            </a: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ребёнка</a:t>
            </a:r>
            <a:r>
              <a:rPr b="0" lang="ru-RU" sz="3200" spc="-1" strike="noStrike">
                <a:solidFill>
                  <a:srgbClr val="afcbca"/>
                </a:solidFill>
                <a:latin typeface="-보람B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440" y="1447560"/>
            <a:ext cx="784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c3c3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рёбель, воспитанный в духе идеалистической  немецкой 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илософии, в своих  взглядах  на природу, общество,  человека  был  идеалистом  и считал, что педагогика  должна  основываться на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идеалистической  философии. По мнению Фрёбеля,  ребёнок от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рироды наделен четырьмя инстинктами: </a:t>
            </a: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деятельности, познания,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художественным и религиозным.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 своих педагогических воззрениях исходил из всеобщности законов бытия: «Во всем присутствует, действует и царит вечный закон… и во внешнем мире, в природе, и во внутреннем мире, духе…» Назначение человека, по Фрёбелю, — включиться в осеняемый этим законом «божественный порядок», развивать «свою сущность» и «своё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божественное начало». </a:t>
            </a:r>
            <a:endParaRPr b="0" lang="en-US" sz="20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8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Педагогика и методика воспитания в </a:t>
            </a:r>
            <a:br>
              <a:rPr sz="3200"/>
            </a:br>
            <a:r>
              <a:rPr b="1" lang="ru-RU" sz="3200" spc="-1" strike="noStrike">
                <a:solidFill>
                  <a:srgbClr val="afcbca"/>
                </a:solidFill>
                <a:latin typeface="-보람B"/>
              </a:rPr>
              <a:t>детском саду.</a:t>
            </a:r>
            <a:br>
              <a:rPr sz="3200"/>
            </a:b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56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 1839 году Ф. Фрёбель в Блакенбурге открыл учебно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заведение для игр и занятий взрослых с детьми дошкольного возраста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Через год Ф. Фрёбель назвал созданное им учебное заведение «детским садом», а работающих в нем педагогов называл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огда  «садовницами». Название «детский сад» прижилось 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существует до сих пор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чему это именно «сад»?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Ф.Фрёбель объяснял это так: «1) настоящий сад как место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общения ребенка с природой должен составлять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неотъемле­мую принадлежность заведения;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2) дети, подобно растениям, нуждают­ся в умелом уходе»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fcbca"/>
                </a:solidFill>
                <a:latin typeface="Times New Roman"/>
                <a:ea typeface="Times New Roman"/>
              </a:rPr>
              <a:t>Для развития  ребёнка  в самом  раннем  </a:t>
            </a:r>
            <a:br>
              <a:rPr sz="3200"/>
            </a:br>
            <a:r>
              <a:rPr b="0" lang="ru-RU" sz="3200" spc="-1" strike="noStrike">
                <a:solidFill>
                  <a:srgbClr val="afcbca"/>
                </a:solidFill>
                <a:latin typeface="Times New Roman"/>
                <a:ea typeface="Times New Roman"/>
              </a:rPr>
              <a:t>возрасте  Фрёбель  предложил шесть «даров».</a:t>
            </a:r>
            <a:endParaRPr b="0" lang="en-US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4000" y="148428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Первым  даром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является  мяч. Мячи  должны быть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небольшие, мягкие, связанные из шерсти, окрашенные  в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личные цвета — красный, оранжевый,  жёлтый, зелёный, синий, фиолетовый (то есть цвета радуги) и белый.  Каждый мяч-шар — на ниточке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771640" y="4869000"/>
            <a:ext cx="32403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484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Вторым даром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являются  небольшие и  деревянные -  шар, кубик и цилиндр (диаметр шара, основание  цилиндра и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торона кубика одинаковые). С помощью их ребёнок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  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знакомится с разными формами предметов.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3851280" y="4498920"/>
            <a:ext cx="2305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447560"/>
            <a:ext cx="871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Третий  дар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 — куб, разделённый на восемь кубиков (куб разрезан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полам, каждая половина — на четыре части)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осредством этого дара ребёнок, считал Фребель, получает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представление о целом и составляющих его частях («сложно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единство», «единство и многообразие»); с его помощью он имеет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возможность развивать своё творчество, строить  из  кубиков,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Times New Roman"/>
                <a:ea typeface="Times New Roman"/>
              </a:rPr>
              <a:t>различно  их комбинируя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3492360" y="4822920"/>
            <a:ext cx="3422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Четвёртый 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тех же размеров  кубик,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ённый  на  восемь плиток (кубик делится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пополам, а  каждая  половина — на четыре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удлиненные плитки, длина  каждой  плитки  равна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 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тороне  кубика, толщина  равна  одной  четвёртой  этой  стороны)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4792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afcbca"/>
              </a:solidFill>
              <a:latin typeface="-보람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c3c3c"/>
                </a:solidFill>
                <a:latin typeface="-보람M"/>
              </a:rPr>
              <a:t>Пятый дар</a:t>
            </a: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 — кубик, разделённый   на  двадцать 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семь  маленьких  кубиков, причём  девять из них 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c3c3c"/>
                </a:solidFill>
                <a:latin typeface="-보람M"/>
              </a:rPr>
              <a:t>разделены  на более  мелкие  части.</a:t>
            </a: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  <a:p>
            <a:pPr marL="343080" indent="-343080">
              <a:spcBef>
                <a:spcPts val="575"/>
              </a:spcBef>
              <a:buClr>
                <a:srgbClr val="3c3c3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c3c3c"/>
              </a:solidFill>
              <a:latin typeface="-보람M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2800440" y="3429000"/>
            <a:ext cx="35431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Master</cp:lastModifiedBy>
  <dcterms:modified xsi:type="dcterms:W3CDTF">2018-07-13T11:59:43Z</dcterms:modified>
  <cp:revision>47</cp:revision>
  <dc:subject/>
  <dc:title>PowerPoint 프레젠테이션</dc:title>
</cp:coreProperties>
</file>