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E505-108E-403D-938A-C6F519F18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FAF2-34C6-4E66-B2CA-B4EBA91C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9575-5966-4292-8A36-C89CA399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FE73-4E27-456E-B6D6-189265D8B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6596-B829-4E65-9BE8-D76554CB0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5D9D-70ED-47AB-AF20-572B685E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7DC2-2A62-42EF-9111-D2C0F183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730F-1973-4A1F-AB3E-B862F8AC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0335-A6C6-4C61-8958-4D9C109B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228600"/>
            <a:ext cx="4800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7740-9435-4CA3-A064-3FC904EC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00DF-B8C9-4BC9-8E37-6A15FD4B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CC0D-2FC9-4354-983F-7C97A2C3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791D-4460-4024-8712-2467716D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1211-3E5F-44DE-8350-08E9E469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0A95-4C54-4071-B614-59C64E82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078A-5281-4D08-9EF5-8680C3563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FB51-0BE0-4943-89C9-C24A8C5C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C06D-37E9-4ECF-8530-B7FF3737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8BA8-0414-4469-911E-C4A63713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DFD7-C586-48BB-BA95-947D0B72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28600"/>
            <a:ext cx="4800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2D86-D4D7-46DA-9E83-97C73995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E8A1-AB8B-4F8F-92AB-D1F2452E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2E57-E34D-4C6E-9B0F-22E6E8ED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A5A0-20AB-4EF1-AD0B-95AD80BE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PT 배경작업\BB_20\BB_20_ 선정\bb-20(4-2)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cbca"/>
                </a:solidFill>
                <a:latin typeface="-보람B"/>
              </a:rPr>
              <a:t>Click to edit the title text format</a:t>
            </a:r>
            <a:endParaRPr b="0" lang="en-US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3c3c3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c3c3c"/>
                </a:solidFill>
                <a:latin typeface="-보람M"/>
              </a:rPr>
              <a:t>Click to edit the outline text format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lvl="1" marL="743040" indent="-285840">
              <a:spcBef>
                <a:spcPts val="575"/>
              </a:spcBef>
              <a:buClr>
                <a:srgbClr val="3c3c3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c3c3c"/>
                </a:solidFill>
                <a:latin typeface="-보람M"/>
              </a:rPr>
              <a:t>Second Outline Level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lvl="2" marL="1143000" indent="-228600">
              <a:spcBef>
                <a:spcPts val="575"/>
              </a:spcBef>
              <a:buClr>
                <a:srgbClr val="3c3c3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c3c3c"/>
                </a:solidFill>
                <a:latin typeface="-보람M"/>
              </a:rPr>
              <a:t>Third Outline Level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lvl="3" marL="1600200" indent="-228600">
              <a:spcBef>
                <a:spcPts val="575"/>
              </a:spcBef>
              <a:buClr>
                <a:srgbClr val="3c3c3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c3c3c"/>
                </a:solidFill>
                <a:latin typeface="-보람M"/>
              </a:rPr>
              <a:t>Fourth Outline Level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lvl="4" marL="2057400" indent="-228600">
              <a:spcBef>
                <a:spcPts val="575"/>
              </a:spcBef>
              <a:buClr>
                <a:srgbClr val="3c3c3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c3c3c"/>
                </a:solidFill>
                <a:latin typeface="-보람M"/>
              </a:rPr>
              <a:t>Fifth Outline Level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lvl="5" marL="2057400" indent="-228600">
              <a:spcBef>
                <a:spcPts val="575"/>
              </a:spcBef>
              <a:buClr>
                <a:srgbClr val="000000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c3c3c"/>
                </a:solidFill>
                <a:latin typeface="-보람M"/>
              </a:rPr>
              <a:t>Sixth Outline Level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lvl="6" marL="2057400" indent="-228600">
              <a:spcBef>
                <a:spcPts val="575"/>
              </a:spcBef>
              <a:buClr>
                <a:srgbClr val="000000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c3c3c"/>
                </a:solidFill>
                <a:latin typeface="-보람M"/>
              </a:rPr>
              <a:t>Seventh Outline Level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보람M"/>
                <a:ea typeface="-보람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3F04-533D-4A60-B0FC-9AEAB167F4E4}" type="slidenum">
              <a:rPr b="0" lang="en-US" sz="1400" spc="-1" strike="noStrike">
                <a:solidFill>
                  <a:srgbClr val="000000"/>
                </a:solidFill>
                <a:latin typeface="-보람M"/>
                <a:ea typeface="-보람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PT 배경작업\BB_20\BB_20_ 선정\bb-20(4-1)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cbca"/>
                </a:solidFill>
                <a:latin typeface="-보람B"/>
              </a:rPr>
              <a:t>Click to edit the title text format</a:t>
            </a:r>
            <a:endParaRPr b="0" lang="en-US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3c3c3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c3c3c"/>
                </a:solidFill>
                <a:latin typeface="-보람M"/>
              </a:rPr>
              <a:t>Click to edit the outline text format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lvl="1" marL="743040" indent="-285840">
              <a:spcBef>
                <a:spcPts val="575"/>
              </a:spcBef>
              <a:buClr>
                <a:srgbClr val="3c3c3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c3c3c"/>
                </a:solidFill>
                <a:latin typeface="-보람M"/>
              </a:rPr>
              <a:t>Second Outline Level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lvl="2" marL="1143000" indent="-228600">
              <a:spcBef>
                <a:spcPts val="575"/>
              </a:spcBef>
              <a:buClr>
                <a:srgbClr val="3c3c3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c3c3c"/>
                </a:solidFill>
                <a:latin typeface="-보람M"/>
              </a:rPr>
              <a:t>Third Outline Level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lvl="3" marL="1600200" indent="-228600">
              <a:spcBef>
                <a:spcPts val="575"/>
              </a:spcBef>
              <a:buClr>
                <a:srgbClr val="3c3c3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c3c3c"/>
                </a:solidFill>
                <a:latin typeface="-보람M"/>
              </a:rPr>
              <a:t>Fourth Outline Level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lvl="4" marL="2057400" indent="-228600">
              <a:spcBef>
                <a:spcPts val="575"/>
              </a:spcBef>
              <a:buClr>
                <a:srgbClr val="3c3c3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c3c3c"/>
                </a:solidFill>
                <a:latin typeface="-보람M"/>
              </a:rPr>
              <a:t>Fifth Outline Level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lvl="5" marL="2057400" indent="-228600">
              <a:spcBef>
                <a:spcPts val="575"/>
              </a:spcBef>
              <a:buClr>
                <a:srgbClr val="000000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c3c3c"/>
                </a:solidFill>
                <a:latin typeface="-보람M"/>
              </a:rPr>
              <a:t>Sixth Outline Level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lvl="6" marL="2057400" indent="-228600">
              <a:spcBef>
                <a:spcPts val="575"/>
              </a:spcBef>
              <a:buClr>
                <a:srgbClr val="000000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c3c3c"/>
                </a:solidFill>
                <a:latin typeface="-보람M"/>
              </a:rPr>
              <a:t>Seventh Outline Level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bcbcb"/>
                </a:solidFill>
                <a:latin typeface="-보람M"/>
                <a:ea typeface="-보람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B6E5-8F78-427B-BFC4-9A05E968AB8B}" type="slidenum">
              <a:rPr b="0" lang="en-US" sz="1400" spc="-1" strike="noStrike">
                <a:solidFill>
                  <a:srgbClr val="cbcbcb"/>
                </a:solidFill>
                <a:latin typeface="-보람M"/>
                <a:ea typeface="-보람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-보람B"/>
              </a:rPr>
              <a:t>Дары 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-보람B"/>
              </a:rPr>
              <a:t>Фрёбеля</a:t>
            </a:r>
            <a:endParaRPr b="0" lang="en-US" sz="60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564000" y="5373720"/>
            <a:ext cx="53337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cbcb"/>
                </a:solidFill>
                <a:latin typeface="-보람M"/>
              </a:rPr>
              <a:t>Подготовил педагог-психолог</a:t>
            </a:r>
            <a:endParaRPr b="0" lang="en-US" sz="2400" spc="-1" strike="noStrike">
              <a:solidFill>
                <a:srgbClr val="3c3c3c"/>
              </a:solidFill>
              <a:latin typeface="-보람M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cbcb"/>
                </a:solidFill>
                <a:latin typeface="-보람M"/>
              </a:rPr>
              <a:t> </a:t>
            </a:r>
            <a:r>
              <a:rPr b="0" lang="ru-RU" sz="2400" spc="-1" strike="noStrike">
                <a:solidFill>
                  <a:srgbClr val="cbcbcb"/>
                </a:solidFill>
                <a:latin typeface="-보람M"/>
              </a:rPr>
              <a:t>Елкина О.А.</a:t>
            </a:r>
            <a:endParaRPr b="0" lang="en-US" sz="2400" spc="-1" strike="noStrike">
              <a:solidFill>
                <a:srgbClr val="3c3c3c"/>
              </a:solidFill>
              <a:latin typeface="-보람M"/>
            </a:endParaRPr>
          </a:p>
        </p:txBody>
      </p:sp>
      <p:pic>
        <p:nvPicPr>
          <p:cNvPr id="86" name="Рисунок 1" descr=""/>
          <p:cNvPicPr/>
          <p:nvPr/>
        </p:nvPicPr>
        <p:blipFill>
          <a:blip r:embed="rId1"/>
          <a:stretch/>
        </p:blipFill>
        <p:spPr>
          <a:xfrm>
            <a:off x="2479680" y="2924280"/>
            <a:ext cx="511164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447560"/>
            <a:ext cx="8207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3c3c3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c3c3c"/>
                </a:solidFill>
                <a:latin typeface="-보람M"/>
              </a:rPr>
              <a:t> </a:t>
            </a:r>
            <a:r>
              <a:rPr b="1" lang="ru-RU" sz="2300" spc="-1" strike="noStrike">
                <a:solidFill>
                  <a:srgbClr val="3c3c3c"/>
                </a:solidFill>
                <a:latin typeface="-보람M"/>
              </a:rPr>
              <a:t>Шестой  дар</a:t>
            </a:r>
            <a:r>
              <a:rPr b="0" lang="ru-RU" sz="2300" spc="-1" strike="noStrike">
                <a:solidFill>
                  <a:srgbClr val="3c3c3c"/>
                </a:solidFill>
                <a:latin typeface="-보람M"/>
              </a:rPr>
              <a:t> — кубик, разделённый  тоже  на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-보람M"/>
              </a:rPr>
              <a:t>двадцать  семь  кубиков, многие  из  которых 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-보람M"/>
              </a:rPr>
              <a:t>разделены  ещё  на части: на плитки, по диагонали и пр.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pic>
        <p:nvPicPr>
          <p:cNvPr id="111" name="Рисунок 3" descr=""/>
          <p:cNvPicPr/>
          <p:nvPr/>
        </p:nvPicPr>
        <p:blipFill>
          <a:blip r:embed="rId1"/>
          <a:stretch/>
        </p:blipFill>
        <p:spPr>
          <a:xfrm>
            <a:off x="2195640" y="3452760"/>
            <a:ext cx="471312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79280" y="1447560"/>
            <a:ext cx="8785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575"/>
              </a:spcBef>
              <a:buClr>
                <a:srgbClr val="3c3c3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Игры с дарами имели у Фрёбеля философскую основу. Он считал, что через них ребенок понимает единство и многообразие мира и его божественное начало, философские законы построения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18960" indent="-31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     </a:t>
            </a: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Вселенной.  И шар, куб и цилиндр существовали в его играх не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18960" indent="-31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     </a:t>
            </a: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сами по себе, а как определенные символы, которые ребенок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18960" indent="-31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     </a:t>
            </a: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постигает.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18960" indent="-31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     </a:t>
            </a: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Так, </a:t>
            </a:r>
            <a:r>
              <a:rPr b="1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шар</a:t>
            </a: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 был символом «единства в единстве», бесконечности,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18960" indent="-31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     </a:t>
            </a: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движения. </a:t>
            </a:r>
            <a:r>
              <a:rPr b="1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Куб </a:t>
            </a: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 - символом покоя, «единства в многообразии»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18960" indent="-31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    </a:t>
            </a: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( он по-разному представлен нам, если мы посмотрим на его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18960" indent="-31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    </a:t>
            </a: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вершину, на ребро или на сторону). А </a:t>
            </a:r>
            <a:r>
              <a:rPr b="1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цилиндр</a:t>
            </a: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 сочетает в себе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18960" indent="-31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    </a:t>
            </a: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свойства куба и шара – он устойчив в вертикальном положении,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18960" indent="-31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    </a:t>
            </a: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и подвижен и катится в горизонтальном положении.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18960" indent="-318960">
              <a:lnSpc>
                <a:spcPct val="100000"/>
              </a:lnSpc>
              <a:spcBef>
                <a:spcPts val="575"/>
              </a:spcBef>
              <a:buClr>
                <a:srgbClr val="3c3c3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84000" y="2599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fcbca"/>
                </a:solidFill>
                <a:latin typeface="-보람B"/>
              </a:rPr>
              <a:t>Фридрих Фрёбель</a:t>
            </a:r>
            <a:endParaRPr b="0" lang="en-US" sz="3200" spc="-1" strike="noStrike">
              <a:solidFill>
                <a:srgbClr val="afcbca"/>
              </a:solidFill>
              <a:latin typeface="-보람B"/>
            </a:endParaRPr>
          </a:p>
        </p:txBody>
      </p:sp>
      <p:pic>
        <p:nvPicPr>
          <p:cNvPr id="88" name="Рисунок 1" descr=""/>
          <p:cNvPicPr/>
          <p:nvPr/>
        </p:nvPicPr>
        <p:blipFill>
          <a:blip r:embed="rId1"/>
          <a:stretch/>
        </p:blipFill>
        <p:spPr>
          <a:xfrm>
            <a:off x="3276720" y="1447920"/>
            <a:ext cx="2401920" cy="3267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121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121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121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121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121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121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121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1212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3c3c3c"/>
                </a:solidFill>
                <a:latin typeface="-보람M"/>
              </a:rPr>
              <a:t>(21 апреля 1782 – 21 июня 1852)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1212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3c3c3c"/>
                </a:solidFill>
                <a:latin typeface="-보람M"/>
              </a:rPr>
              <a:t>Немецкий педагог, теоретик дошкольного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1212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3c3c3c"/>
                </a:solidFill>
                <a:latin typeface="-보람M"/>
              </a:rPr>
              <a:t>воспитания, создатель понятия «детский сад»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afcbca"/>
                </a:solidFill>
                <a:latin typeface="-보람B"/>
              </a:rPr>
              <a:t>Теория развития </a:t>
            </a:r>
            <a:br>
              <a:rPr sz="3200"/>
            </a:br>
            <a:r>
              <a:rPr b="1" lang="ru-RU" sz="3200" spc="-1" strike="noStrike">
                <a:solidFill>
                  <a:srgbClr val="afcbca"/>
                </a:solidFill>
                <a:latin typeface="-보람B"/>
              </a:rPr>
              <a:t>ребёнка</a:t>
            </a:r>
            <a:r>
              <a:rPr b="0" lang="ru-RU" sz="3200" spc="-1" strike="noStrike">
                <a:solidFill>
                  <a:srgbClr val="afcbca"/>
                </a:solidFill>
                <a:latin typeface="-보람B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440" y="1447560"/>
            <a:ext cx="7846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c3c3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Фрёбель, воспитанный в духе идеалистической  немецкой  </a:t>
            </a:r>
            <a:endParaRPr b="0" lang="en-US" sz="2000" spc="-1" strike="noStrike">
              <a:solidFill>
                <a:srgbClr val="3c3c3c"/>
              </a:solidFill>
              <a:latin typeface="-보람M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философии, в своих  взглядах  на природу, общество,  человека  был  идеалистом  и считал, что педагогика  должна  основываться на </a:t>
            </a:r>
            <a:endParaRPr b="0" lang="en-US" sz="2000" spc="-1" strike="noStrike">
              <a:solidFill>
                <a:srgbClr val="3c3c3c"/>
              </a:solidFill>
              <a:latin typeface="-보람M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идеалистической  философии. По мнению Фрёбеля,  ребёнок от </a:t>
            </a:r>
            <a:endParaRPr b="0" lang="en-US" sz="2000" spc="-1" strike="noStrike">
              <a:solidFill>
                <a:srgbClr val="3c3c3c"/>
              </a:solidFill>
              <a:latin typeface="-보람M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природы наделен четырьмя инстинктами: </a:t>
            </a:r>
            <a:r>
              <a:rPr b="1" lang="ru-RU" sz="20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деятельности, познания,</a:t>
            </a:r>
            <a:endParaRPr b="0" lang="en-US" sz="2000" spc="-1" strike="noStrike">
              <a:solidFill>
                <a:srgbClr val="3c3c3c"/>
              </a:solidFill>
              <a:latin typeface="-보람M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художественным и религиозным.</a:t>
            </a:r>
            <a:endParaRPr b="0" lang="en-US" sz="2000" spc="-1" strike="noStrike">
              <a:solidFill>
                <a:srgbClr val="3c3c3c"/>
              </a:solidFill>
              <a:latin typeface="-보람M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В своих педагогических воззрениях исходил из всеобщности законов бытия: «Во всем присутствует, действует и царит вечный закон… и во внешнем мире, в природе, и во внутреннем мире, духе…» Назначение человека, по Фрёбелю, — включиться в осеняемый этим законом «божественный порядок», развивать «свою сущность» и «своё </a:t>
            </a:r>
            <a:endParaRPr b="0" lang="en-US" sz="2000" spc="-1" strike="noStrike">
              <a:solidFill>
                <a:srgbClr val="3c3c3c"/>
              </a:solidFill>
              <a:latin typeface="-보람M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божественное начало». </a:t>
            </a:r>
            <a:endParaRPr b="0" lang="en-US" sz="2000" spc="-1" strike="noStrike">
              <a:solidFill>
                <a:srgbClr val="3c3c3c"/>
              </a:solidFill>
              <a:latin typeface="-보람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18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afcbca"/>
                </a:solidFill>
                <a:latin typeface="-보람B"/>
              </a:rPr>
              <a:t>Педагогика и методика воспитания в </a:t>
            </a:r>
            <a:br>
              <a:rPr sz="3200"/>
            </a:br>
            <a:r>
              <a:rPr b="1" lang="ru-RU" sz="3200" spc="-1" strike="noStrike">
                <a:solidFill>
                  <a:srgbClr val="afcbca"/>
                </a:solidFill>
                <a:latin typeface="-보람B"/>
              </a:rPr>
              <a:t>детском саду.</a:t>
            </a:r>
            <a:br>
              <a:rPr sz="3200"/>
            </a:br>
            <a:endParaRPr b="0" lang="en-US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447560"/>
            <a:ext cx="7989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В 1839 году Ф. Фрёбель в Блакенбурге открыл учебное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заведение для игр и занятий взрослых с детьми дошкольного возраста.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Через год Ф. Фрёбель назвал созданное им учебное заведение «детским садом», а работающих в нем педагогов называли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тогда  «садовницами». Название «детский сад» прижилось и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существует до сих пор.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Почему это именно «сад»?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Ф.Фрёбель объяснял это так: «1) настоящий сад как место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общения ребенка с природой должен составлять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неотъемле­мую принадлежность заведения;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2) дети, подобно растениям, нуждают­ся в умелом уходе».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35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fcbca"/>
                </a:solidFill>
                <a:latin typeface="Times New Roman"/>
                <a:ea typeface="Times New Roman"/>
              </a:rPr>
              <a:t>Для развития  ребёнка  в самом  раннем  </a:t>
            </a:r>
            <a:br>
              <a:rPr sz="3200"/>
            </a:br>
            <a:r>
              <a:rPr b="0" lang="ru-RU" sz="3200" spc="-1" strike="noStrike">
                <a:solidFill>
                  <a:srgbClr val="afcbca"/>
                </a:solidFill>
                <a:latin typeface="Times New Roman"/>
                <a:ea typeface="Times New Roman"/>
              </a:rPr>
              <a:t>возрасте  Фрёбель  предложил шесть «даров».</a:t>
            </a:r>
            <a:endParaRPr b="0" lang="en-US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24000" y="1484280"/>
            <a:ext cx="871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c3c3c"/>
                </a:solidFill>
                <a:latin typeface="-보람M"/>
              </a:rPr>
              <a:t>Первым  даром</a:t>
            </a:r>
            <a:r>
              <a:rPr b="0" lang="ru-RU" sz="2300" spc="-1" strike="noStrike">
                <a:solidFill>
                  <a:srgbClr val="3c3c3c"/>
                </a:solidFill>
                <a:latin typeface="-보람M"/>
              </a:rPr>
              <a:t>  является  мяч. Мячи  должны быть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-보람M"/>
              </a:rPr>
              <a:t>небольшие, мягкие, связанные из шерсти, окрашенные  в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-보람M"/>
              </a:rPr>
              <a:t>различные цвета — красный, оранжевый,  жёлтый, зелёный, синий, фиолетовый (то есть цвета радуги) и белый.  Каждый мяч-шар — на ниточке.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pic>
        <p:nvPicPr>
          <p:cNvPr id="96" name="Рисунок 3" descr=""/>
          <p:cNvPicPr/>
          <p:nvPr/>
        </p:nvPicPr>
        <p:blipFill>
          <a:blip r:embed="rId1"/>
          <a:stretch/>
        </p:blipFill>
        <p:spPr>
          <a:xfrm>
            <a:off x="2771640" y="4869000"/>
            <a:ext cx="324036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14842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3c3c3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c3c3c"/>
                </a:solidFill>
                <a:latin typeface="-보람M"/>
              </a:rPr>
              <a:t> </a:t>
            </a:r>
            <a:r>
              <a:rPr b="1" lang="ru-RU" sz="2300" spc="-1" strike="noStrike">
                <a:solidFill>
                  <a:srgbClr val="3c3c3c"/>
                </a:solidFill>
                <a:latin typeface="-보람M"/>
              </a:rPr>
              <a:t>Вторым даром</a:t>
            </a:r>
            <a:r>
              <a:rPr b="0" lang="ru-RU" sz="2300" spc="-1" strike="noStrike">
                <a:solidFill>
                  <a:srgbClr val="3c3c3c"/>
                </a:solidFill>
                <a:latin typeface="-보람M"/>
              </a:rPr>
              <a:t> являются  небольшие и  деревянные -  шар, кубик и цилиндр (диаметр шара, основание  цилиндра и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-보람M"/>
              </a:rPr>
              <a:t>    </a:t>
            </a:r>
            <a:r>
              <a:rPr b="0" lang="ru-RU" sz="2300" spc="-1" strike="noStrike">
                <a:solidFill>
                  <a:srgbClr val="3c3c3c"/>
                </a:solidFill>
                <a:latin typeface="-보람M"/>
              </a:rPr>
              <a:t>сторона кубика одинаковые). С помощью их ребёнок 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-보람M"/>
              </a:rPr>
              <a:t>    </a:t>
            </a:r>
            <a:r>
              <a:rPr b="0" lang="ru-RU" sz="2300" spc="-1" strike="noStrike">
                <a:solidFill>
                  <a:srgbClr val="3c3c3c"/>
                </a:solidFill>
                <a:latin typeface="-보람M"/>
              </a:rPr>
              <a:t>знакомится с разными формами предметов.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pic>
        <p:nvPicPr>
          <p:cNvPr id="99" name="Рисунок 3" descr=""/>
          <p:cNvPicPr/>
          <p:nvPr/>
        </p:nvPicPr>
        <p:blipFill>
          <a:blip r:embed="rId1"/>
          <a:stretch/>
        </p:blipFill>
        <p:spPr>
          <a:xfrm>
            <a:off x="3851280" y="4498920"/>
            <a:ext cx="230508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50560" y="1447560"/>
            <a:ext cx="871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Третий  дар</a:t>
            </a: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 — куб, разделённый на восемь кубиков (куб разрезан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пополам, каждая половина — на четыре части).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Посредством этого дара ребёнок, считал Фребель, получает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представление о целом и составляющих его частях («сложное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единство», «единство и многообразие»); с его помощью он имеет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возможность развивать своё творчество, строить  из  кубиков,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различно  их комбинируя.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pic>
        <p:nvPicPr>
          <p:cNvPr id="102" name="Рисунок 3" descr=""/>
          <p:cNvPicPr/>
          <p:nvPr/>
        </p:nvPicPr>
        <p:blipFill>
          <a:blip r:embed="rId1"/>
          <a:stretch/>
        </p:blipFill>
        <p:spPr>
          <a:xfrm>
            <a:off x="3492360" y="4822920"/>
            <a:ext cx="342288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c3c3c"/>
                </a:solidFill>
                <a:latin typeface="-보람M"/>
              </a:rPr>
              <a:t> </a:t>
            </a:r>
            <a:r>
              <a:rPr b="1" lang="ru-RU" sz="2300" spc="-1" strike="noStrike">
                <a:solidFill>
                  <a:srgbClr val="3c3c3c"/>
                </a:solidFill>
                <a:latin typeface="-보람M"/>
              </a:rPr>
              <a:t>Четвёртый  дар</a:t>
            </a:r>
            <a:r>
              <a:rPr b="0" lang="ru-RU" sz="2300" spc="-1" strike="noStrike">
                <a:solidFill>
                  <a:srgbClr val="3c3c3c"/>
                </a:solidFill>
                <a:latin typeface="-보람M"/>
              </a:rPr>
              <a:t> — тех же размеров  кубик, 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-보람M"/>
              </a:rPr>
              <a:t>разделённый  на  восемь плиток (кубик делится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-보람M"/>
              </a:rPr>
              <a:t>пополам, а  каждая  половина — на четыре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-보람M"/>
              </a:rPr>
              <a:t>удлиненные плитки, длина  каждой  плитки  равна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-보람M"/>
              </a:rPr>
              <a:t> </a:t>
            </a:r>
            <a:r>
              <a:rPr b="0" lang="ru-RU" sz="2300" spc="-1" strike="noStrike">
                <a:solidFill>
                  <a:srgbClr val="3c3c3c"/>
                </a:solidFill>
                <a:latin typeface="-보람M"/>
              </a:rPr>
              <a:t>стороне  кубика, толщина  равна  одной  четвёртой  этой  стороны).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>
              <a:spcBef>
                <a:spcPts val="575"/>
              </a:spcBef>
              <a:buClr>
                <a:srgbClr val="3c3c3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pic>
        <p:nvPicPr>
          <p:cNvPr id="105" name="Рисунок 3" descr=""/>
          <p:cNvPicPr/>
          <p:nvPr/>
        </p:nvPicPr>
        <p:blipFill>
          <a:blip r:embed="rId1"/>
          <a:stretch/>
        </p:blipFill>
        <p:spPr>
          <a:xfrm>
            <a:off x="2050920" y="3933720"/>
            <a:ext cx="47926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3c3c3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c3c3c"/>
                </a:solidFill>
                <a:latin typeface="-보람M"/>
              </a:rPr>
              <a:t>Пятый дар</a:t>
            </a:r>
            <a:r>
              <a:rPr b="0" lang="ru-RU" sz="2300" spc="-1" strike="noStrike">
                <a:solidFill>
                  <a:srgbClr val="3c3c3c"/>
                </a:solidFill>
                <a:latin typeface="-보람M"/>
              </a:rPr>
              <a:t> — кубик, разделённый   на  двадцать 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-보람M"/>
              </a:rPr>
              <a:t>семь  маленьких  кубиков, причём  девять из них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-보람M"/>
              </a:rPr>
              <a:t>разделены  на более  мелкие  части.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43080" indent="-343080">
              <a:spcBef>
                <a:spcPts val="575"/>
              </a:spcBef>
              <a:buClr>
                <a:srgbClr val="3c3c3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pic>
        <p:nvPicPr>
          <p:cNvPr id="108" name="Рисунок 3" descr=""/>
          <p:cNvPicPr/>
          <p:nvPr/>
        </p:nvPicPr>
        <p:blipFill>
          <a:blip r:embed="rId1"/>
          <a:stretch/>
        </p:blipFill>
        <p:spPr>
          <a:xfrm>
            <a:off x="2800440" y="3429000"/>
            <a:ext cx="354312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4T02:41:22Z</dcterms:created>
  <dc:creator>art5</dc:creator>
  <dc:description/>
  <dc:language>en-US</dc:language>
  <cp:lastModifiedBy>Master</cp:lastModifiedBy>
  <dcterms:modified xsi:type="dcterms:W3CDTF">2018-07-13T11:59:43Z</dcterms:modified>
  <cp:revision>47</cp:revision>
  <dc:subject/>
  <dc:title>PowerPoint 프레젠테이션</dc:title>
</cp:coreProperties>
</file>