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28D7-0AED-4E24-9D5B-923E67F2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4A1F-64BA-4A6A-9A5E-E850FCB5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4E93-91E4-4C22-8A77-2761B191C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0F80-99E1-487F-B0DB-6F7588ED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91D1-C95E-4DC8-B595-FD77398A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51D7-F2EE-4364-A069-12A81590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DDC6-C0EB-43CF-8DBA-FE2C8584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0031-9FBB-4368-A3C8-6A412E37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A16B-BC15-4ADF-8DA6-696A88E8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E365-35EC-4A4E-902F-8CA4A7C4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C8CF-60AC-45EB-B690-CD392DA6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1ED6-78A2-4C0C-9A89-5FDA245B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DC8C-4719-4DD6-AF90-4E5DAA1463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5777c80c18e2d14674677889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animacija-cvetka10"/>
          <p:cNvPicPr/>
          <p:nvPr/>
        </p:nvPicPr>
        <p:blipFill>
          <a:blip r:embed="rId2"/>
          <a:stretch/>
        </p:blipFill>
        <p:spPr>
          <a:xfrm rot="2411400">
            <a:off x="4964040" y="4539960"/>
            <a:ext cx="1873440" cy="1800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animacija-cvetka10"/>
          <p:cNvPicPr/>
          <p:nvPr/>
        </p:nvPicPr>
        <p:blipFill>
          <a:blip r:embed="rId3"/>
          <a:stretch/>
        </p:blipFill>
        <p:spPr>
          <a:xfrm rot="1821600">
            <a:off x="4211640" y="374760"/>
            <a:ext cx="1873080" cy="1833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animacija-cvetka10"/>
          <p:cNvPicPr/>
          <p:nvPr/>
        </p:nvPicPr>
        <p:blipFill>
          <a:blip r:embed="rId4"/>
          <a:stretch/>
        </p:blipFill>
        <p:spPr>
          <a:xfrm rot="1579800">
            <a:off x="511200" y="4916520"/>
            <a:ext cx="1333440" cy="145260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5904000" y="621180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: Булекова Е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. «Непосед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56786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319506_186898994721042_159928490751426_403454_1260425527_n-e13260592288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49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2"/>
          <a:stretch/>
        </p:blipFill>
        <p:spPr>
          <a:xfrm>
            <a:off x="3492360" y="4724280"/>
            <a:ext cx="1562400" cy="1871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3"/>
          <a:stretch/>
        </p:blipFill>
        <p:spPr>
          <a:xfrm>
            <a:off x="7020000" y="260280"/>
            <a:ext cx="1682640" cy="2016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4"/>
          <a:stretch/>
        </p:blipFill>
        <p:spPr>
          <a:xfrm>
            <a:off x="324000" y="549360"/>
            <a:ext cx="1441440" cy="17272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5"/>
          <p:cNvSpPr/>
          <p:nvPr/>
        </p:nvSpPr>
        <p:spPr>
          <a:xfrm>
            <a:off x="1332000" y="333360"/>
            <a:ext cx="48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17"/>
          <p:cNvSpPr txBox="1"/>
          <p:nvPr/>
        </p:nvSpPr>
        <p:spPr>
          <a:xfrm>
            <a:off x="1619280" y="189000"/>
            <a:ext cx="5545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радиции семьи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5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vsemirnyy-den-semi-kartinki-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Пусть такое СЧАСТЬЕ придет в каждый дом. - Babyblog.r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7T17:25:51Z</dcterms:created>
  <dc:creator>GYPNORION</dc:creator>
  <dc:description/>
  <dc:language>en-US</dc:language>
  <cp:lastModifiedBy>USER</cp:lastModifiedBy>
  <dcterms:modified xsi:type="dcterms:W3CDTF">2018-07-13T10:58:22Z</dcterms:modified>
  <cp:revision>10</cp:revision>
  <dc:subject/>
  <dc:title>Слайд 1</dc:title>
</cp:coreProperties>
</file>