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4E1-44BB-4551-9EFF-609C6F8B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2BB-BCC8-43EE-8B4E-E0BFDC3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BF5-AC81-49D4-B6CB-63A7D1DB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427-C004-4190-AFD2-B33F5DDA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EB9-22BD-4702-AAD6-C1D4E87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733-0864-4562-ADD1-800C99FE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900-B6DE-4ADB-9490-1326C652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0B4-0257-4871-B2DC-791AA5B2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844-CFCE-4021-A4F4-29B6FE33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7E3-B9B6-48B8-9A82-D4EA3D9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7F1-25EF-4E8C-9DFA-EB98ACBF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399-F73E-4AE9-9244-E8D4470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1D32-43C8-487D-B19C-582FA7AF0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777c80c18e2d1467467788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animacija-cvetka10"/>
          <p:cNvPicPr/>
          <p:nvPr/>
        </p:nvPicPr>
        <p:blipFill>
          <a:blip r:embed="rId2"/>
          <a:stretch/>
        </p:blipFill>
        <p:spPr>
          <a:xfrm rot="2411400">
            <a:off x="4964040" y="4539960"/>
            <a:ext cx="1873440" cy="18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nimacija-cvetka10"/>
          <p:cNvPicPr/>
          <p:nvPr/>
        </p:nvPicPr>
        <p:blipFill>
          <a:blip r:embed="rId3"/>
          <a:stretch/>
        </p:blipFill>
        <p:spPr>
          <a:xfrm rot="1821600">
            <a:off x="4211640" y="374760"/>
            <a:ext cx="1873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nimacija-cvetka10"/>
          <p:cNvPicPr/>
          <p:nvPr/>
        </p:nvPicPr>
        <p:blipFill>
          <a:blip r:embed="rId4"/>
          <a:stretch/>
        </p:blipFill>
        <p:spPr>
          <a:xfrm rot="1579800">
            <a:off x="511200" y="4916520"/>
            <a:ext cx="1333440" cy="1452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904000" y="62118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Буле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. «Непосе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56786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319506_186898994721042_159928490751426_403454_1260425527_n-e13260592288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492360" y="4724280"/>
            <a:ext cx="156240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20000" y="260280"/>
            <a:ext cx="168264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324000" y="549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5"/>
          <p:cNvSpPr/>
          <p:nvPr/>
        </p:nvSpPr>
        <p:spPr>
          <a:xfrm>
            <a:off x="1332000" y="33336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1619280" y="189000"/>
            <a:ext cx="55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адиции семьи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vsemirnyy-den-semi-kartinki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Пусть такое СЧАСТЬЕ придет в каждый дом. - Babyblog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17:25:51Z</dcterms:created>
  <dc:creator>GYPNORION</dc:creator>
  <dc:description/>
  <dc:language>en-US</dc:language>
  <cp:lastModifiedBy>USER</cp:lastModifiedBy>
  <dcterms:modified xsi:type="dcterms:W3CDTF">2018-07-13T10:58:22Z</dcterms:modified>
  <cp:revision>10</cp:revision>
  <dc:subject/>
  <dc:title>Слайд 1</dc:title>
</cp:coreProperties>
</file>