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E80C-E657-4FC8-83A4-8F57A4B3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9AD-890C-4ADF-9C72-DE09E6E3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8B8-D674-4CB3-9BA4-5BE6750D1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B4E8-86EC-4805-8A8D-9E49A7BD5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D45B-3421-4E75-882E-118C8280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F759-2EB1-4A27-9732-287147B02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47F9-1E2A-4A22-93DD-9B5C9471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AFFE-90B8-4D16-BF03-41C21B3F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401B-5FA2-4183-9016-43255994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70E8-1CF5-4F16-A75E-DB431DB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DB4-5B6A-47D7-B12D-8E961332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8595-2940-4310-B53A-367C01E3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E30AC-FC23-494E-A32C-C9ADD0F271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73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одготовка к пробному ОГЭ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о русскому  язы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лных страдательных причастиях пишется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, забро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елаННой, увеш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й, заме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кратких причастиях всегда пишется одна букв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рука порезана, книги прочи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вещи сло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ошибки замеч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следы уви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абзацы отмеч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вы услыш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работы просмотр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ва Н пишется в прилагательных, образованных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 помощью суффикса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Н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т сущ. с основой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3357720"/>
            <a:ext cx="8713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л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лу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со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стар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карма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был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, что вам может встретиться не тольк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ВУСОСТАВНО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котором есть и подлежащее, и сказуемое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Люблю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отчизну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но странною любовью.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о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НОСОСТАВНО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котором есть или только подлежащее, или только сказуем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Люблю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грозу в начале мая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+ я люблю = определённо - личное.).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Виды односоставных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765000"/>
          <a:ext cx="8713440" cy="5916960"/>
        </p:xfrm>
        <a:graphic>
          <a:graphicData uri="http://schemas.openxmlformats.org/drawingml/2006/table">
            <a:tbl>
              <a:tblPr/>
              <a:tblGrid>
                <a:gridCol w="1928160"/>
                <a:gridCol w="2286360"/>
                <a:gridCol w="2064600"/>
                <a:gridCol w="24343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ывны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ённо-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ённо-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3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главный член - 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лежащее в таких предложениях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 восстанавливается путём введения, подстановки личных местоимений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, ты, мы, в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лежащее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слится неопределённо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одставить несколько лиц, то есть подлежащ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длежащего нет и быть не может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казуемое выражается безличными  глагол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лепная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и ре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шу домой (1-е л., изъявит. накл.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спешу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Спешим в школу (1-е л. изъявит. накл.) Спешите в школу! (2-е л. повелит. накл.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 спешит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азетах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шу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 новых достижениях учёных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 они, журналист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доровится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й глаго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ет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безличный глаго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терком. 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личная форма личного глагол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аехал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стей. Друзей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у двер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ткры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йдите основу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нас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ыло в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а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елся и пошё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чего из этог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вы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имер задания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Выпишите грамматическую основу предложения 22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тому что у нас в школе создают музей ко Дню великой Победы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Ответ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здаю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16360" y="1197000"/>
            <a:ext cx="338436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Составное именн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195640" y="2205000"/>
            <a:ext cx="2663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Прост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43280" y="3357720"/>
            <a:ext cx="2376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Прост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ыделяя в предложении грамматическую основу, необходимо помнить следующе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Ф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лагол в неопределён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сегда входит в состав сказуемого, а может быть и второстепенным членом предложени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 пришли в музей посмотреть новую экспозицию. В данном предложен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зуемым является глагол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шл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нфг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мотре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стоятельство це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.к. отвечает на вопрос пришли с какой целью? посмотр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едка попросила нас помочь при перевозке мебели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данном предложении сказуемым является глаг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ро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фг помо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вляется дополн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.к. отвечает на вопрос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росила о чём? помо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27280" y="2421000"/>
            <a:ext cx="230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03080" y="2176560"/>
            <a:ext cx="17931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 какой цел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4149360"/>
            <a:ext cx="20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07800" y="3976560"/>
            <a:ext cx="89712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 чё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менить разговорное слово нейтра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Я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трашн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забол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Ребёнок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шлёпнулс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на по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Эки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взор ты несё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Я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аска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дом д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1763640" y="443700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476360" y="4437000"/>
            <a:ext cx="1511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к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221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582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йдите обособленное прило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определение, выраженное существительны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зазнайка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ш Кос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т он пришёл ко мне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й бывший одноклассник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рассказал мне о сво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айдите вводное слово и вводную констр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жет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втра зайду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жетс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верное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ты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им образом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я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так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одолжим наш раз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правило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тро начинаем с заря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6680" y="3645000"/>
            <a:ext cx="4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ло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определение, выраженное сущ. Оно согласуется с определяемым сущ. в падеж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 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лож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является подлежащим или сказуемы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оно является определени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кто т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т наша Леночка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тличница и активистка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Отличница и активист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это приложение, Леночка -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одлежащ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3644640"/>
            <a:ext cx="20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и предложени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−4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йдите сложноподчинённое предлож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 последовательным подчинением придаточ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)Сердце мальчика было наполнено горем. (41)Только сейчас он понял, что значит — потерять отца. (42)Ему хотелось плакать. (43)Он посмотрел на мать, но она молчала. (44)Молчал и он. (45)Он был рад, что мать не видит его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6)  Он не знал, что с этого часа в нём начал жить отец, который давно погиб на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Как оформляем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лова в бланк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исываются печатными заглавными бук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оответствии с образцом написан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чёрной гелевой ручко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чиная с первой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ждая буква записывается в отдельной кле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словам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летка не пропуск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ятая ставится в отдельной кле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предложении между подлежащим и сказуемым ставится тире, то в бланке тире не писать.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Яблоко - мой любимый фрукт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 бланке пишем та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блокофру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Если в предложении сказуемое стоит перед подлежащим, то в ответе желательно писать сначала подлежащее, потом - сказуемое. 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его добрых глазах искрится огонё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гонёкиск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Если сказуемое составное и нфг или именная часть в предложении стоят перед вспомогательным глаголом или глаголом-связкой, то в ответе писать сначала - вспомогательный глагол или глагол-связка, потом нфг или именная часть. 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рыгать от радости готов!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яготовпрыга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м классе был первым всегда 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ябыл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по написанию сжатого изло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вом прослушивании аудиозаписи текста сосредоточьтесь, чтобы понять основную мысль и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следить последовательность и логическую связь микроте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сывайте только ключевые слова и словосочетания (мож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кращенно) отдельно для каждого абз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каждом абзаце своя микротема, поэтому важно не нарушать абзацное чл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первого прослушивания у вас есть время, чтобы поработать с черновиком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авляйте на черновом листе широкие поля и интервалы между строчк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уда вы сможете потом вписать слова и даже предложени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ушая текст второй р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верьте, верно ли вы излагаете содержание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время у вас есть возможность дописать слова и фраз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Затем приступайте к редактированию тек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бывайте, что ваша задача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едать содержание текста и каждой микротем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бавляя ничего от себя, как бы сильно вам этого ни хотелос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ля сжатия изложения используйте следующие приём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лючени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исключать можно только второстепенную информацию: повторы, подробности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т несчастнее человека ленивого,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вечно избегающего труда, усил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— 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ет несчастнее человека лен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149720"/>
            <a:ext cx="1871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ожно творить просто добрую атмосферу вокруг себя, как сейчас выражаются, ауру добра вокруг себя., как сейчас выражаются, ауру добра вокруг себя.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Можно творить просто добрую атмосферу вокруг себя, как сейчас выражаются, ауру добра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прощ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астроение преимущественно зависит не от событий как таковых, а от того, как мы их воспринимаем. –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Настроение зависит не от самих событий, а от их восприятия 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прощ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Шофер затормозил машину, когда заметил впереди разрушенный мост. — 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Шофер затормозил машину, заметив впереди разрушенный мост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 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ногие утверждают, что слушать музыку дома даже лучше, чем в зале: никто не шепчется, не шуршит конфетными бумажками, не кашляет, не скрипит креслами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Многие утверждают, что слушать музыку дома даже лучше, чем в зале: никто не меш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ять эти способы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ин или несколько) необходимо на протяжении всего текст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о помните: ведь в изложени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лжно остаться не менее 70 слов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 перечитайте то, что у вас получилось. Если во время прочтения вы что-то изменили, перечитайте полностью ещё раз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, написание которых вызывает сомнения, замените синонима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уверены в постановке запятой– перестройте предложение или превратите в д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8686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7280" y="549360"/>
            <a:ext cx="56325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 Удачи !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оформляем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 грамматической основе есть однородные подлежащие или сказуемые, то между ними в бланке ставьте тот знак препинани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запятая) или союз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торый стоит в предложении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весело резвились на площадке, прыгали и бега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тирезвились,прыгалиибег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сказуемое употребляется с союзом 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или частицами ЛИ, Б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то данную служебную часть речи выписывайте вместе со сказуемым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 двор как сад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воркаксад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желаете ли кофе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желаетели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хотел бы обнять весь мир!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хотелбыоб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помните эти просты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и переписывани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рамматической основ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в бланк не делайте ошибок в словах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Запоминайте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омер предложени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из которого вам надо выписать грамматическую основу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оформляем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имательно читайте задание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некоторых тестах задание может быть сформулировано так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шите грамматическую основу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безличного предложен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То есть нужно выписать грамматическую основ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всего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из его част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безличного предложения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мили плохо, вечно хотелось есть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Данное предложение сложное, состоит из двух простых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рмили плохо - 1-ое простое, оно неопределённо-личное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вечно хотелось есть - 2-ое простое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о безличное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Таким образом, выписываем грамматическую основу 2-го предложения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телось е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2305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ыпишите предложения 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бессоюзной и союзной сочинительной связь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пришёл ко мне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 него были опухшие глаз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он всю ночь плак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43280" y="3141720"/>
            <a:ext cx="2592720" cy="503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entury Gothic"/>
              </a:rPr>
              <a:t>Сочинитель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508720" y="4005360"/>
            <a:ext cx="1417680" cy="266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entury Gothic"/>
              </a:rPr>
              <a:t>бессою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Готовимся к О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лицетвор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мотре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а нас пугаю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орит вост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зарёю ново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пор разгоре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Фразеологизм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ё видит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 розовом све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ходили эту дорогу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ДОЛЬ и ПОПЕРЁ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ы перерыл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 шкаф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всё верх д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авописание приставки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не зависи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от последующего согласно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45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ж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ть, сдвину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ечь,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авописание приставки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зависит от последующего согласного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тали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осы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ание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ставка обозначает 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дела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 двери задвиж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14:48:32Z</dcterms:created>
  <dc:creator>админ</dc:creator>
  <dc:description/>
  <dc:language>en-US</dc:language>
  <cp:lastModifiedBy>админ</cp:lastModifiedBy>
  <dcterms:modified xsi:type="dcterms:W3CDTF">2018-07-13T18:54:13Z</dcterms:modified>
  <cp:revision>20</cp:revision>
  <dc:subject/>
  <dc:title>Готовимся к пробному ОГЭ.  2016 (ноябрь).</dc:title>
</cp:coreProperties>
</file>