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9F70-4E93-4AD6-82CB-4085DB6E7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FB7-0E92-4012-93E9-4FD4D838D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A683-7041-45D9-A3F7-28FF6640A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39B0-9F58-44D0-8D30-9A2593051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A187-5D3C-4E49-B6B6-A2E1C97A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341C-28F1-46EF-93B9-1522F2CC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6D53-CDDB-44EE-BF15-0056BAF5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B906-B2F8-4EDF-A3C7-2372C36A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D27-ADDF-4A53-A40B-98C53E3C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C25D-5D5B-40C1-9110-CEE11DAD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9FC4-468D-4E2F-9957-8B69CCC1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4458-5006-46E0-83F0-33FB0FEB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DC1A-8527-4234-B220-AE43ACBBB7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7989840" cy="27352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одготовка к пробному ОГЭ</a:t>
            </a:r>
            <a:br>
              <a:rPr sz="6000"/>
            </a:br>
            <a:r>
              <a:rPr b="1" lang="en-US" sz="6000" spc="-1" strike="noStrike">
                <a:solidFill>
                  <a:srgbClr val="ff0066"/>
                </a:solidFill>
                <a:latin typeface="Arial"/>
              </a:rPr>
              <a:t>по русскому  язык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57360"/>
            <a:ext cx="6400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 полных страдательных причастиях пишется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40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вид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, забро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й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оделаННой, увеш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й, замеч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ЕН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кратких причастиях всегда пишется одна буква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рука порезана, книги прочи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вещи слож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ошибки замеч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следы увид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абзацы отмеч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вы услыш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, работы просмотре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Два Н пишется в прилагательных, образованных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с помощью суффикса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Н 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от сущ. с основой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на </a:t>
            </a:r>
            <a:r>
              <a:rPr b="1" lang="en-US" sz="4000" spc="-1" strike="noStrike">
                <a:solidFill>
                  <a:srgbClr val="990000"/>
                </a:solidFill>
                <a:latin typeface="Arial"/>
              </a:rPr>
              <a:t>Н</a:t>
            </a:r>
            <a:r>
              <a:rPr b="0" lang="en-US" sz="4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3357720"/>
            <a:ext cx="87138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л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лу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со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стар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карма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, былин+</a:t>
            </a: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Н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ы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мните, что вам может встретиться не только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ВУСОСТАВНОЕ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редлож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в котором есть и подлежащее, и сказуемое 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Люблю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 отчизну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я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, но странною любовью.)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о 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НОСОСТАВНОЕ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 котором есть или только подлежащее, или только сказуемо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Люблю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грозу в начале мая </a:t>
            </a: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(+ я люблю = определённо - личное.).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Виды односоставных предложе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50920" y="765000"/>
          <a:ext cx="8713440" cy="5916960"/>
        </p:xfrm>
        <a:graphic>
          <a:graphicData uri="http://schemas.openxmlformats.org/drawingml/2006/table">
            <a:tbl>
              <a:tblPr/>
              <a:tblGrid>
                <a:gridCol w="1928160"/>
                <a:gridCol w="2286360"/>
                <a:gridCol w="2064600"/>
                <a:gridCol w="2434320"/>
              </a:tblGrid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зывные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ённо-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пределённо-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3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ько один главный член - подлежащ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лежащее в таких предложениях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гко восстанавливается путём введения, подстановки личных местоимений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, ты, мы, в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лежащее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ыслится неопределённо,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можно подставить несколько лиц, то есть подлежащи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длежащего нет и быть не может.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казуемое выражается безличными  глагол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6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ликолепная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огод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т и рек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ешу домой (1-е л., изъявит. накл.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Я спешу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Спешим в школу (1-е л. изъявит. накл.) Спешите в школу! (2-е л. повелит. накл.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Вы спешите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 газетах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ишут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о новых достижениях учёных </a:t>
                      </a: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 они, журналисты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не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здоровится.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личный глагол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етает.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безличный глагол)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е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ветерком. (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безличная форма личного глагол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наехало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гостей. Друзей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т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ту дверь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 открыт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Arial"/>
              </a:rPr>
              <a:t>Найдите основу предло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 нас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с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ыло в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Вас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елся и пошё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на улиц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ичего из этого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е вышл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имер задания 8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Выпишите грамматическую основу предложения 22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Потому что у нас в школе создают музей ко Дню великой Победы.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Ответ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оздаю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2916360" y="1197000"/>
            <a:ext cx="3384360" cy="411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Составное именн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195640" y="2205000"/>
            <a:ext cx="266364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Прост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643280" y="3357720"/>
            <a:ext cx="2376720" cy="50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Простое сказуем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8506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Выделяя в предложении грамматическую основу, необходимо помнить следующе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ФГ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глагол в неопределённой форм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всегда входит в состав сказуемого, а может быть и второстепенным членом предложения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бята пришли в музей посмотреть новую экспозицию. В данном предложени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зуемым является глагол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шли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а нфг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посмотрет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- эт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обстоятельство цели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т.к. отвечает на вопрос пришли с какой целью? посмотре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едка попросила нас помочь при перевозке мебели.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В данном предложении сказуемым является глаго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ро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нфг помо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вляется дополн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.к. отвечает на вопрос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опросила о чём? помоч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627280" y="2421000"/>
            <a:ext cx="23050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203080" y="2176560"/>
            <a:ext cx="1793160" cy="337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С какой целью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4149360"/>
            <a:ext cx="208728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07800" y="3976560"/>
            <a:ext cx="897120" cy="337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О чём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Заменить разговорное слово нейтральн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Я </a:t>
            </a: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страшно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заболе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Ребёнок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шлёпнулся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на по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Экий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взор ты несёшь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 Я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таскал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в дом др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 flipH="1">
            <a:off x="1763640" y="4437000"/>
            <a:ext cx="6494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476360" y="4437000"/>
            <a:ext cx="1511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entury Gothic"/>
              </a:rPr>
              <a:t>ка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4221000"/>
            <a:ext cx="7128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5829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айдите обособленное прило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определение, выраженное существительны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713800" cy="44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зазнайка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ш Кост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от он пришёл ко мне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й бывший одноклассник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рассказал мне о свое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Найдите вводное слово и вводную конструкц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Может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завтра зайду к теб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жется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он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верное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ты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Таким образом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я пра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Итак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продолжим наш разгов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ы,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как правило,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утро начинаем с заряд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16680" y="3645000"/>
            <a:ext cx="4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2.</a:t>
            </a:r>
            <a:r>
              <a:rPr b="1" lang="en-US" sz="1600" spc="-1" strike="noStrike">
                <a:solidFill>
                  <a:srgbClr val="000099"/>
                </a:solidFill>
                <a:latin typeface="Century Gothi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1569960"/>
          </a:xfrm>
          <a:prstGeom prst="rect">
            <a:avLst/>
          </a:prstGeom>
          <a:solidFill>
            <a:srgbClr val="66ffff"/>
          </a:solidFill>
          <a:ln w="936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ложе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определение, выраженное сущ. Оно согласуется с определяемым сущ. в падеже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 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Приложен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является подлежащим или сказуемым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, оно является определени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кто така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от наша Леночка,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отличница и активистка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Отличница и активистка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- это приложение, Леночка - 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подлежащее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708360" y="3644640"/>
            <a:ext cx="2087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549360"/>
            <a:ext cx="843588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реди предложений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40−46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найдите сложноподчинённое предложение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с последовательным подчинением придаточны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Напишите номер этого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0)Сердце мальчика было наполнено горем. (41)Только сейчас он понял, что значит — потерять отца. (42)Ему хотелось плакать. (43)Он посмотрел на мать, но она молчала. (44)Молчал и он. (45)Он был рад, что мать не видит его слё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46)  Он не знал, что с этого часа в нём начал жить отец, который давно погиб на вой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4316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Как оформляем отв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78544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слова в бланк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аписываются печатными заглавными буквами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 соответствии с образцом написания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чёрной гелевой ручкой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начиная с первой клет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аждая буква записывается в отдельной клетк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жду словами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клетка не пропускаетс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пятая ставится в отдельной клет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в предложении между подлежащим и сказуемым ставится тире, то в бланке тире не писать.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 Яблоко - мой любимый фрукт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 бланке пишем та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яблокофрук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Если в предложении сказуемое стоит перед подлежащим, то в ответе желательно писать сначала подлежащее, потом - сказуемое. 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его добрых глазах искрится огонёк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гонёкискри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Если сказуемое составное и нфг или именная часть в предложении стоят перед вспомогательным глаголом или глаголом-связкой, то в ответе писать сначала - вспомогательный глагол или глагол-связка, потом нфг или именная часть. 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пример: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прыгать от радости готов!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: яготовпрыгать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шем классе был первым всегда я.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бланке пишем так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ябылпер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600" spc="-1" strike="noStrike" u="sng">
                <a:solidFill>
                  <a:srgbClr val="ff0000"/>
                </a:solidFill>
                <a:uFillTx/>
                <a:latin typeface="Arial"/>
              </a:rPr>
              <a:t>Советы по написанию сжатого изло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первом прослушивании аудиозаписи текста сосредоточьтесь, чтобы понять основную мысль и 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следить последовательность и логическую связь микроте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писывайте только ключевые слова и словосочетания (можн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кращенно) отдельно для каждого абзац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-126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50560" y="404640"/>
            <a:ext cx="843588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В каждом абзаце своя микротема, поэтому важно не нарушать абзацное член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ле первого прослушивания у вас есть время, чтобы поработать с черновиком.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ставляйте на черновом листе широкие поля и интервалы между строчкам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куда вы сможете потом вписать слова и даже предложения.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9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50560" y="836280"/>
            <a:ext cx="84358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лушая текст второй ра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роверьте, верно ли вы излагаете содержание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это время у вас есть возможность дописать слова и фраз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ru-RU" sz="3200" spc="-1" strike="noStrike" u="sng">
                <a:solidFill>
                  <a:srgbClr val="990000"/>
                </a:solidFill>
                <a:uFillTx/>
                <a:latin typeface="Arial"/>
              </a:rPr>
              <a:t>Затем приступайте к редактированию текс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абывайте, что ваша задача –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ередать содержание текста и каждой микротемы,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добавляя ничего от себя, как бы сильно вам этого ни хотелось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Для сжатия изложения используйте следующие приёмы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ключение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исключать можно только второстепенную информацию: повторы, подробности и т.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ет несчастнее человека ленивого, </a:t>
            </a: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вечно избегающего труда, усили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 — 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ет несчастнее человека ленивог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4149720"/>
            <a:ext cx="1871640" cy="21600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сократ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333360"/>
            <a:ext cx="843588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Можно творить просто добрую атмосферу вокруг себя, как сейчас выражаются, ауру добра вокруг себя., как сейчас выражаются, ауру добра вокруг себя.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Можно творить просто добрую атмосферу вокруг себя, как сейчас выражаются, ауру добра вокруг себ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прощ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50752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Настроение преимущественно зависит не от событий как таковых, а от того, как мы их воспринимаем. – </a:t>
            </a:r>
            <a:r>
              <a:rPr b="1" i="1" lang="en-US" sz="4000" spc="-1" strike="noStrike">
                <a:solidFill>
                  <a:srgbClr val="000099"/>
                </a:solidFill>
                <a:latin typeface="Arial"/>
              </a:rPr>
              <a:t>Настроение зависит не от самих событий, а от их восприятия нам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Упрощени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Шофер затормозил машину, когда заметил впереди разрушенный мост. — </a:t>
            </a:r>
            <a:r>
              <a:rPr b="1" i="1" lang="en-US" sz="4800" spc="-1" strike="noStrike">
                <a:solidFill>
                  <a:srgbClr val="000099"/>
                </a:solidFill>
                <a:latin typeface="Arial"/>
              </a:rPr>
              <a:t>Шофер затормозил машину, заметив впереди разрушенный мост</a:t>
            </a: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- Обобщ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Многие утверждают, что слушать музыку дома даже лучше, чем в зале: никто не шепчется, не шуршит конфетными бумажками, не кашляет, не скрипит креслами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1" i="1" lang="en-US" sz="3600" spc="-1" strike="noStrike">
                <a:solidFill>
                  <a:srgbClr val="000099"/>
                </a:solidFill>
                <a:latin typeface="Arial"/>
              </a:rPr>
              <a:t>Многие утверждают, что слушать музыку дома даже лучше, чем в зале: никто не меш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333000"/>
            <a:ext cx="8785440" cy="488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именять эти способы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один или несколько) необходимо на протяжении всего текст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о помните: ведь в изложении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должно остаться не менее 70 слов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язательно перечитайте то, что у вас получилось. Если во время прочтения вы что-то изменили, перечитайте полностью ещё раз.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Слова, написание которых вызывает сомнения, замените синонимам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е уверены в постановке запятой– перестройте предложение или превратите в д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920" y="475920"/>
            <a:ext cx="86868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187280" y="549360"/>
            <a:ext cx="5632560" cy="46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! Удачи ! </a:t>
            </a:r>
            <a:endParaRPr b="0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5619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оформляем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в грамматической основе есть однородные подлежащие или сказуемые, то между ними в бланке ставьте тот знак препинания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(запятая) или союз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который стоит в предложении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ти весело резвились на площадке, прыгали и бегали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етирезвились,прыгалиибега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сли сказуемое употребляется с союзом 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КАК или частицами ЛИ, БЫ,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то данную служебную часть речи выписывайте вместе со сказуемым.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имер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ш двор как сад.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воркаксад.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 желаете ли кофе?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ежелаетели</a:t>
            </a:r>
            <a:br>
              <a:rPr sz="2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 хотел бы обнять весь мир!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 бланке пишем та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яхотелбыобня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апомните эти простые прави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3640" y="1052280"/>
            <a:ext cx="8569080" cy="5616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При переписывани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грамматической основ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в бланк не делайте ошибок в словах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Запоминайте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номер предложения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из которого вам надо выписать грамматическую основу!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Как оформляем отве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Внимательно читайте задание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некоторых тестах задание может быть сформулировано так: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ишите грамматическую основу </a:t>
            </a:r>
            <a:r>
              <a:rPr b="1" i="1" lang="en-US" sz="2800" spc="-1" strike="noStrike">
                <a:solidFill>
                  <a:srgbClr val="800000"/>
                </a:solidFill>
                <a:latin typeface="Arial"/>
              </a:rPr>
              <a:t>безличного предложения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2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 То есть нужно выписать грамматическую основ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е всего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а из его част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безличного предложения)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на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ормили плохо, вечно хотелось есть.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(Данное предложение сложное, состоит из двух простых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рмили плохо - 1-ое простое, оно неопределённо-личное,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вечно хотелось есть - 2-ое простое,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но безличное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Таким образом, выписываем грамматическую основу 2-го предложения -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хотелось ест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230508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Выпишите предложения с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бессоюзной и союзной сочинительной связью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н пришёл ко мне,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у него были опухшие глаза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он всю ночь плака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643280" y="3141720"/>
            <a:ext cx="2592720" cy="5032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entury Gothic"/>
              </a:rPr>
              <a:t>Сочинитель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508720" y="4005360"/>
            <a:ext cx="1417680" cy="266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Century Gothic"/>
              </a:rPr>
              <a:t>бессою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60093"/>
                </a:solidFill>
                <a:latin typeface="Arial"/>
              </a:rPr>
              <a:t>Готовимся к ОГ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Олицетворе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 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смотре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на нас пугающ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Метаф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Горит восто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зарёю новой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Спор разгорел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Фразеологизмы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сё видит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 розовом свет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сходили эту дорогу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ВДОЛЬ и ПОПЕРЁК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Мы перерыли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в шкафу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 всё верх дн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Правописание приставки </a:t>
            </a:r>
            <a:r>
              <a:rPr b="1" lang="en-US" sz="3600" spc="-1" strike="noStrike" u="sng">
                <a:solidFill>
                  <a:srgbClr val="000099"/>
                </a:solidFill>
                <a:uFillTx/>
                <a:latin typeface="Arial"/>
              </a:rPr>
              <a:t>не зависи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от последующего согласног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445600" cy="502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ел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еж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уть, сдвину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ечь,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 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жать, </a:t>
            </a: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с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р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Правописание приставки </a:t>
            </a:r>
            <a:r>
              <a:rPr b="1" lang="ru-RU" sz="2800" spc="-1" strike="noStrike" u="sng">
                <a:solidFill>
                  <a:srgbClr val="800000"/>
                </a:solidFill>
                <a:uFillTx/>
                <a:latin typeface="Arial"/>
              </a:rPr>
              <a:t>зависит от последующего согласного</a:t>
            </a:r>
            <a:r>
              <a:rPr b="1" lang="ru-RU" sz="2800" spc="-1" strike="noStrike" u="sng">
                <a:solidFill>
                  <a:srgbClr val="000099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х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тали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росы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ание,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пи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иставка обозначает присоеди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стя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иделал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к двери задвиж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2T14:48:32Z</dcterms:created>
  <dc:creator>админ</dc:creator>
  <dc:description/>
  <dc:language>en-US</dc:language>
  <cp:lastModifiedBy>админ</cp:lastModifiedBy>
  <dcterms:modified xsi:type="dcterms:W3CDTF">2018-07-13T18:54:13Z</dcterms:modified>
  <cp:revision>20</cp:revision>
  <dc:subject/>
  <dc:title>Готовимся к пробному ОГЭ.  2016 (ноябрь).</dc:title>
</cp:coreProperties>
</file>