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camera.wav" ContentType="audio/x-wav"/>
  <Override PartName="/ppt/media/image5.wmf" ContentType="image/x-wmf"/>
  <Override PartName="/ppt/media/image4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70DB-FB77-4292-8359-2CE910CB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1A86-567E-4F5A-BE9B-8064B6DF4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AC7-92C5-412E-B341-1D1330B9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8FBD-652A-48CE-956E-F0047A547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297B5-6A15-43C8-96B0-4C96CA27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D2CD9-F857-443C-9CAD-D9E4825FD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73DC6-8DFD-4D21-AD30-C5DB91E3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15E92-2014-4DF8-8235-98FF7E82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F33A-2658-44A4-9E9B-094A24C1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D61D8-396B-464D-8FDA-3411C058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0DD1C-35D8-47EF-8481-6083DF739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C41-D634-47BB-A9FA-EF29355C3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0FEB0-69EA-4DBD-A5F4-777D665E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7A815-A066-4A5C-9E48-3E535263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D284-4437-4A45-8559-485AB6882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3F04-DB2D-4A41-9CE1-CC7E76D84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2FE9-2478-4BBD-893C-2DC5EA340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1B5-939E-4B26-A313-07C48D6C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9029-3C0E-41D4-A6E6-A8FE5884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AA2-E88B-4E47-A4FB-D8C7F31F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1ABA-C056-4F0B-81C8-0604C37A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24AA-5D4D-43CF-9004-62A6248CC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875-C138-4F24-9774-260085677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B02C-B515-43D5-975C-A2F8237F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0A81-BBB5-4A7F-9117-68900D0DD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0D47-1363-4DFA-A2EE-F345418A2E0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amera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1835280" y="836640"/>
            <a:ext cx="681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WordArt 20"/>
          <p:cNvSpPr txBox="1"/>
          <p:nvPr/>
        </p:nvSpPr>
        <p:spPr>
          <a:xfrm>
            <a:off x="1143000" y="1000080"/>
            <a:ext cx="106902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Как  помочь ребёнку научиться читать"                                   </a:t>
            </a:r>
            <a:endParaRPr b="1" i="1" lang="en-US" sz="32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2" name="Picture 21" descr=""/>
          <p:cNvPicPr/>
          <p:nvPr/>
        </p:nvPicPr>
        <p:blipFill>
          <a:blip r:embed="rId1"/>
          <a:stretch/>
        </p:blipFill>
        <p:spPr>
          <a:xfrm>
            <a:off x="3419640" y="3213000"/>
            <a:ext cx="5052960" cy="26067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26"/>
          <p:cNvSpPr/>
          <p:nvPr/>
        </p:nvSpPr>
        <p:spPr>
          <a:xfrm flipH="1">
            <a:off x="1691640" y="765000"/>
            <a:ext cx="2667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2843280" y="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WordArt 2"/>
          <p:cNvSpPr txBox="1"/>
          <p:nvPr/>
        </p:nvSpPr>
        <p:spPr>
          <a:xfrm rot="5400000">
            <a:off x="-1409400" y="2933640"/>
            <a:ext cx="5562360" cy="761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12600">
                  <a:solidFill>
                    <a:srgbClr val="c4b596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bcbcb"/>
                  </a:outerShdw>
                </a:effectLst>
                <a:latin typeface="Times New Roman"/>
              </a:rPr>
              <a:t>советы</a:t>
            </a:r>
            <a:endParaRPr b="1" i="1" lang="en-US" sz="7200" spc="1" strike="noStrike">
              <a:ln w="12600">
                <a:solidFill>
                  <a:srgbClr val="c4b596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cbcbcb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6707160" y="53352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9"/>
          <p:cNvSpPr/>
          <p:nvPr/>
        </p:nvSpPr>
        <p:spPr>
          <a:xfrm>
            <a:off x="1905120" y="533520"/>
            <a:ext cx="7772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тение должно быть совместны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читесь читать в игр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Беседуйте с ребёнком о прочитанно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Развивайте интерес к чтению собственным примером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Книга выбирается исходя из интереса читателя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9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3124080"/>
            <a:ext cx="784836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Rectangle 9"/>
          <p:cNvSpPr/>
          <p:nvPr/>
        </p:nvSpPr>
        <p:spPr>
          <a:xfrm>
            <a:off x="1066680" y="1887480"/>
            <a:ext cx="7315200" cy="67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i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ниг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– великий учитель и друг, без  неё  немыслимо  гармоничное развитие человека, потому  что она формирует  не  только  память  и  интеллект,   но   и   воображение, нравственное  и  духовное   лицо каждого из  нас.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0"/>
          <p:cNvSpPr/>
          <p:nvPr/>
        </p:nvSpPr>
        <p:spPr>
          <a:xfrm>
            <a:off x="1143000" y="304920"/>
            <a:ext cx="17403840" cy="29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« Скажи мне, что ты читаешь, и я скажу,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кто ты»,-так можно перефразировать 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66"/>
                </a:solidFill>
                <a:latin typeface="Times New Roman"/>
              </a:rPr>
              <a:t>мудрое изречение.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5"/>
          <p:cNvSpPr/>
          <p:nvPr/>
        </p:nvSpPr>
        <p:spPr>
          <a:xfrm>
            <a:off x="1066680" y="533520"/>
            <a:ext cx="7543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3600" spc="-1" strike="noStrike">
                <a:solidFill>
                  <a:srgbClr val="666699"/>
                </a:solidFill>
                <a:latin typeface="Times New Roman"/>
              </a:rPr>
              <a:t>Чтение – это двигатель познания жизни, без него она лишается чего-то  очень  важного,  тускнеет, мертвеет   и   наполняется пустотой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6699"/>
                </a:solidFill>
                <a:latin typeface="Times New Roman"/>
              </a:rPr>
              <a:t>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3600" spc="-1" strike="noStrike">
                <a:solidFill>
                  <a:srgbClr val="660066"/>
                </a:solidFill>
                <a:latin typeface="Times New Roman"/>
              </a:rPr>
              <a:t>Книга, особенно умная и добрая, добавляет  оптимизма  и  учит размышлять, изменяет жизнь и преобразовывает пространство.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21304"/>
                </a:solidFill>
                <a:latin typeface="Times New Roman"/>
              </a:rPr>
              <a:t>Игры с книгой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ужные ребя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йди близнец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ракадабр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в слов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думай рифм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5410080" y="2286000"/>
            <a:ext cx="304812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Times New Roman"/>
              </a:rPr>
              <a:t>Дружные ребята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495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уквы  одушевляются, одна буковка «Д» словно бежит навстречу другой.Звук тянется, пока не достигнет нового звука «А». И вместе они заговорят и скажут нам коротенькое слово «да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SY01265_"/>
          <p:cNvPicPr/>
          <p:nvPr/>
        </p:nvPicPr>
        <p:blipFill>
          <a:blip r:embed="rId1"/>
          <a:stretch/>
        </p:blipFill>
        <p:spPr>
          <a:xfrm>
            <a:off x="6172200" y="2819520"/>
            <a:ext cx="1940040" cy="22096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7010280" y="1600200"/>
            <a:ext cx="1143000" cy="152388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Д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781680" y="4876920"/>
            <a:ext cx="1447920" cy="1447560"/>
          </a:xfrm>
          <a:prstGeom prst="rect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694b6"/>
                </a:solidFill>
                <a:latin typeface="Times New Roman"/>
              </a:rPr>
              <a:t>Найди близнецов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9360">
            <a:solidFill>
              <a:srgbClr val="fefde3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а заключается в том, что уже прочитанный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 ребёнок ищет в печатном тексте.Хорошо, если это люби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книга или просто газета, журнал. Ребёнок пони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т, что книги бывают разные, не только с красивыми иллюстрациями.Постепенно визуальное привыкание к виду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ов приведёт к авто</a:t>
            </a: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ическому соединению букв в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и и с</a:t>
            </a: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ло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1295280" y="762120"/>
            <a:ext cx="73915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АБРАКАДАБРА</a:t>
            </a:r>
            <a:endParaRPr b="1" i="1" lang="en-US" sz="72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219320" y="2252520"/>
            <a:ext cx="7467480" cy="277668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Ж У Н А Н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7200" spc="-1" strike="noStrike">
                <a:solidFill>
                  <a:srgbClr val="000000"/>
                </a:solidFill>
                <a:latin typeface="Times New Roman"/>
              </a:rPr>
              <a:t>У К А Ш П</a:t>
            </a: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600200" y="5486400"/>
            <a:ext cx="6553080" cy="990720"/>
          </a:xfrm>
          <a:prstGeom prst="rect">
            <a:avLst/>
          </a:prstGeom>
          <a:solidFill>
            <a:srgbClr val="a1bd6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(НУЖНА ПУШКА)</a:t>
            </a:r>
            <a:endParaRPr b="1" i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2"/>
          <p:cNvSpPr txBox="1"/>
          <p:nvPr/>
        </p:nvSpPr>
        <p:spPr>
          <a:xfrm>
            <a:off x="1523880" y="762120"/>
            <a:ext cx="66294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ИГРА В СЛОВА</a:t>
            </a:r>
            <a:endParaRPr b="1" i="1" lang="en-US" sz="72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066680" y="1828800"/>
            <a:ext cx="74678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Переставь буквы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КАРП – ПАР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Убери букву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ГОРСТЬ – ГОСТ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Из букв этого слова составь новые слова: </a:t>
            </a:r>
            <a:r>
              <a:rPr b="1" i="1" lang="ru-RU" sz="3200" spc="-1" strike="noStrike">
                <a:solidFill>
                  <a:srgbClr val="3694b6"/>
                </a:solidFill>
                <a:latin typeface="Times New Roman"/>
              </a:rPr>
              <a:t>ВЛАДИМИРЦЕВ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( Дима,  мир, Рим, лад, дар, вера, Вера, Влад, …)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4.  Тю                               к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о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лень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        но         сок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ува                               бру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о                                пе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2209680" y="45720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2057400" y="5105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21"/>
          <p:cNvSpPr/>
          <p:nvPr/>
        </p:nvSpPr>
        <p:spPr>
          <a:xfrm flipV="1">
            <a:off x="2209680" y="54097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22"/>
          <p:cNvSpPr/>
          <p:nvPr/>
        </p:nvSpPr>
        <p:spPr>
          <a:xfrm flipV="1">
            <a:off x="228600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23"/>
          <p:cNvSpPr/>
          <p:nvPr/>
        </p:nvSpPr>
        <p:spPr>
          <a:xfrm>
            <a:off x="5791320" y="457200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5867280" y="510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25"/>
          <p:cNvSpPr/>
          <p:nvPr/>
        </p:nvSpPr>
        <p:spPr>
          <a:xfrm flipV="1">
            <a:off x="5943600" y="54097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6"/>
          <p:cNvSpPr/>
          <p:nvPr/>
        </p:nvSpPr>
        <p:spPr>
          <a:xfrm flipV="1">
            <a:off x="6019920" y="563868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Oval 27"/>
          <p:cNvSpPr/>
          <p:nvPr/>
        </p:nvSpPr>
        <p:spPr>
          <a:xfrm>
            <a:off x="2971800" y="4800600"/>
            <a:ext cx="838080" cy="6094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ень</a:t>
            </a:r>
            <a:endParaRPr b="1" i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28"/>
          <p:cNvSpPr/>
          <p:nvPr/>
        </p:nvSpPr>
        <p:spPr>
          <a:xfrm>
            <a:off x="6553080" y="4800600"/>
            <a:ext cx="762120" cy="53352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сок</a:t>
            </a:r>
            <a:endParaRPr b="1" i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1447920" y="762120"/>
            <a:ext cx="68580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0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Придумай рифму</a:t>
            </a:r>
            <a:endParaRPr b="1" i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295280" y="2133720"/>
            <a:ext cx="7010640" cy="1904760"/>
          </a:xfrm>
          <a:prstGeom prst="rect">
            <a:avLst/>
          </a:prstGeom>
          <a:solidFill>
            <a:srgbClr val="fefde3"/>
          </a:solidFill>
          <a:ln w="9360">
            <a:solidFill>
              <a:srgbClr val="fefd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371600" y="2209680"/>
            <a:ext cx="723888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Метро-кино,    чудак-пятак, шило-мыло,    индюк-сундук, удочка-дудочка  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Мы поехали в метро                       Шел чудак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И приехали в кино.                           Нашёл пятак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Купил шило,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Обменял на мыло.</a:t>
            </a: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4:17:46Z</dcterms:created>
  <dc:creator>User</dc:creator>
  <dc:description/>
  <dc:language>en-US</dc:language>
  <cp:lastModifiedBy>user</cp:lastModifiedBy>
  <dcterms:modified xsi:type="dcterms:W3CDTF">2017-03-15T15:32:55Z</dcterms:modified>
  <cp:revision>12</cp:revision>
  <dc:subject/>
  <dc:title>    а · (b+c) = ab + ac  -a (b+c) = -ab –ac a (-b+c) = -ab +ac a (-b –c) = -ab –ac - a (-b + c) = ab –ac -a (b – c) = -ab +ac -a (-b –c) = ab +ac      </dc:title>
</cp:coreProperties>
</file>