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5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046E6-4D2E-47D3-83FE-4D9BC58E8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B3342-9346-4D7C-BBBE-87B117AB2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36527-8BC9-4988-B570-E1B0D79A3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9D56B-6114-4CA0-8170-00D8DFD6E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228-674D-4952-8290-DAD60820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DF6A-FF73-4AD7-A829-8FC089DE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CC03-844C-4735-B67E-3BC47346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EB349-6FFE-4F1B-8557-3DBB20DE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F780-6221-4332-8545-AD61C523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E6DB4-79E1-4797-B38E-423311D3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07117-FF31-499B-A1B1-5B0557FF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B5B0F-EEAE-4453-8F11-72266510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E172-59DB-4110-84C6-B36C73C3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EFA4-DFEB-4165-B72E-8C35B707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EB5F-E30C-4ECB-A7C7-66F6AFC04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4FBF-E345-4B3E-80C0-CEEF6F94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0B58-C3ED-48C8-8F65-C9A1E0C84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E1F20-66F8-4F58-AA79-7869554A9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E1E0E-F766-4F29-92FF-553FFF86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C157-0B9D-4C06-B56C-DE2F1E4A5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7E5DA-AE6E-4654-985B-398D8A4C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34437-784F-4A3B-948B-DAB3E293D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83F6D-D38B-4986-8F21-153C8AC5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BF38CC-8566-45C0-8105-F4801B46C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9D423-6476-4CBF-93E5-3A19BDE2930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472EF-F5DE-41E4-91A4-ED378F98A58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11280" y="-316440"/>
            <a:ext cx="805968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ebf25a"/>
                </a:solidFill>
                <a:latin typeface="Tahoma"/>
              </a:rPr>
              <a:t>Круглый стол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419280" y="2421000"/>
            <a:ext cx="5400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Учитель – филолог, профессионал, творец… Какой он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24000" y="2205000"/>
            <a:ext cx="3355920" cy="33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ahoma"/>
              </a:rPr>
              <a:t>Применять 4 уровня усвоения изученного материала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сво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знава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полнение действий по образцу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Выполнение действий в других условия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580000" y="4221000"/>
            <a:ext cx="3276720" cy="21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00"/>
                </a:solidFill>
                <a:latin typeface="Tahoma"/>
              </a:rPr>
              <a:t>Что должен понять учитель -филолог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Качество образования сегодня рассматривается на уровне педагога.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Успех школы зависит от не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Работать по – старому, без использования новых технологий сегодня недопустим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читель обязан услышать каждого ученика, понять его, а главное – отслеживать его результа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заинтересованности учителя в результатах своего труда не может быть высоких результат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19040" y="552600"/>
            <a:ext cx="8305920" cy="57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66"/>
                </a:solidFill>
                <a:latin typeface="Tahoma"/>
              </a:rPr>
              <a:t>Что должно отличать учителя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громный талант человеколюбия и  человечности, любовь к детям, способность увидеть и услышать каждог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сокий интеллек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Любовь к професс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рганизаторский талант, способность познать детей умом и сердце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офессионализм, лингвистическая и литературоведческая компетент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Мудрая и строгая требовательнос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743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66"/>
                </a:solidFill>
                <a:latin typeface="Tahoma"/>
              </a:rPr>
              <a:t>Без чего не может состояться учитель?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знания психологических особенностей обучаем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профессионального роста, стремления познать ново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умения находить подход к каждому ребёнк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знаний проблем современного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воспитания нравственных и волевых качеств у своих воспитанни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компьютерной грамот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Без взаимопонимания с ученик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659640" y="1197000"/>
            <a:ext cx="175716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ff66"/>
                </a:solidFill>
                <a:latin typeface="Tahoma"/>
              </a:rPr>
              <a:t>Чем должен владеть современный учитель – филолог?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600200"/>
            <a:ext cx="8497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соким педагогическим мастерством, знать структурные элементы современного урока и их развивающийся потенциа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екретами инновационных методик: использованием теоретических и наглядных опор на всех этапах обуч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ёмами развития мышления, памяти, внимания, воображе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Уметь организовать исследовательскую деятельность на уроке и вне уро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11280" y="404640"/>
            <a:ext cx="627552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66ff66"/>
                </a:solidFill>
                <a:latin typeface="Tahoma"/>
              </a:rPr>
              <a:t>Чем должен владеть современный учитель – филолог?</a:t>
            </a:r>
            <a:endParaRPr b="0" lang="en-US" sz="3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ладеть методикой развивающего обучения, давать задания не только те, которые направлены на формирование знаний, но и на развитие мышления и речи учащихся. Это является сегодня первым условием овладения методико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66ff66"/>
                </a:solidFill>
                <a:latin typeface="Tahoma"/>
              </a:rPr>
              <a:t>«НОВОГО ПОКОЛЕНИЯ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Выявлять и поддерживать одарённых детей. </a:t>
            </a:r>
            <a:r>
              <a:rPr b="1" lang="en-US" sz="2800" spc="-1" strike="noStrike">
                <a:solidFill>
                  <a:srgbClr val="ebf25a"/>
                </a:solidFill>
                <a:latin typeface="Tahoma"/>
              </a:rPr>
              <a:t>В новом ФГОС выходят на первое место личные способности учен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рименять в учебном процессе здоровьесберегающие технологи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858080" y="5373720"/>
            <a:ext cx="1285920" cy="10476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9280" y="317520"/>
            <a:ext cx="164016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200" spc="-1" strike="noStrike">
                <a:solidFill>
                  <a:srgbClr val="ffffcc"/>
                </a:solidFill>
                <a:latin typeface="Tahoma"/>
              </a:rPr>
              <a:t>Что должен знать учитель?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1874880"/>
            <a:ext cx="1944720" cy="1338120"/>
          </a:xfrm>
          <a:prstGeom prst="rect">
            <a:avLst/>
          </a:prstGeom>
          <a:ln w="0">
            <a:noFill/>
          </a:ln>
        </p:spPr>
      </p:pic>
      <p:grpSp>
        <p:nvGrpSpPr>
          <p:cNvPr id="143" name=""/>
          <p:cNvGrpSpPr/>
          <p:nvPr/>
        </p:nvGrpSpPr>
        <p:grpSpPr>
          <a:xfrm>
            <a:off x="457200" y="1370160"/>
            <a:ext cx="9802080" cy="4759200"/>
            <a:chOff x="457200" y="1370160"/>
            <a:chExt cx="9802080" cy="4759200"/>
          </a:xfrm>
        </p:grpSpPr>
        <p:cxnSp>
          <p:nvCxnSpPr>
            <p:cNvPr id="144" name="_s10254"/>
            <p:cNvCxnSpPr>
              <a:stCxn id="145" idx="0"/>
              <a:endCxn id="146" idx="2"/>
            </p:cNvCxnSpPr>
            <p:nvPr/>
          </p:nvCxnSpPr>
          <p:spPr>
            <a:xfrm flipV="1" rot="16200000">
              <a:off x="6597360" y="2033640"/>
              <a:ext cx="952560" cy="343152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7" name="_s10253"/>
            <p:cNvCxnSpPr>
              <a:stCxn id="148" idx="0"/>
              <a:endCxn id="146" idx="2"/>
            </p:cNvCxnSpPr>
            <p:nvPr/>
          </p:nvCxnSpPr>
          <p:spPr>
            <a:xfrm flipV="1">
              <a:off x="5358240" y="3273480"/>
              <a:ext cx="3600" cy="952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49" name="_s10252"/>
            <p:cNvCxnSpPr>
              <a:stCxn id="150" idx="0"/>
              <a:endCxn id="146" idx="2"/>
            </p:cNvCxnSpPr>
            <p:nvPr/>
          </p:nvCxnSpPr>
          <p:spPr>
            <a:xfrm flipH="1" flipV="1" rot="5400000">
              <a:off x="3166560" y="2034000"/>
              <a:ext cx="952560" cy="3431520"/>
            </a:xfrm>
            <a:prstGeom prst="bentConnector3">
              <a:avLst>
                <a:gd name="adj1" fmla="val 2090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46" name="_s10248"/>
            <p:cNvSpPr/>
            <p:nvPr/>
          </p:nvSpPr>
          <p:spPr>
            <a:xfrm>
              <a:off x="3888000" y="137016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00"/>
                  </a:solidFill>
                  <a:latin typeface="Tahoma"/>
                </a:rPr>
                <a:t>Методы обучения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_s10249"/>
            <p:cNvSpPr/>
            <p:nvPr/>
          </p:nvSpPr>
          <p:spPr>
            <a:xfrm>
              <a:off x="457200" y="422568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Tahoma"/>
                </a:rPr>
                <a:t>Словесные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_s10250"/>
            <p:cNvSpPr/>
            <p:nvPr/>
          </p:nvSpPr>
          <p:spPr>
            <a:xfrm>
              <a:off x="3888000" y="422568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900" spc="-1" strike="noStrike">
                  <a:solidFill>
                    <a:srgbClr val="ffffff"/>
                  </a:solidFill>
                  <a:latin typeface="Tahoma"/>
                </a:rPr>
                <a:t>Наглядные</a:t>
              </a:r>
              <a:endParaRPr b="0" lang="en-US" sz="3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10251"/>
            <p:cNvSpPr/>
            <p:nvPr/>
          </p:nvSpPr>
          <p:spPr>
            <a:xfrm>
              <a:off x="7318800" y="4225680"/>
              <a:ext cx="2940480" cy="1903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500" spc="-1" strike="noStrike">
                  <a:solidFill>
                    <a:srgbClr val="ffffff"/>
                  </a:solidFill>
                  <a:latin typeface="Tahoma"/>
                </a:rPr>
                <a:t>Практические</a:t>
              </a:r>
              <a:endParaRPr b="0" lang="en-US" sz="3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66ff66"/>
                </a:solidFill>
                <a:latin typeface="Tahoma"/>
              </a:rPr>
              <a:t>Формы организации познавательной деятельности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57200" y="1600200"/>
            <a:ext cx="8228880" cy="4529160"/>
            <a:chOff x="457200" y="1600200"/>
            <a:chExt cx="8228880" cy="4529160"/>
          </a:xfrm>
        </p:grpSpPr>
        <p:cxnSp>
          <p:nvCxnSpPr>
            <p:cNvPr id="153" name="_s1230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558400" y="242388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6" name="_s12299"/>
            <p:cNvCxnSpPr>
              <a:stCxn id="157" idx="0"/>
              <a:endCxn id="155" idx="2"/>
            </p:cNvCxnSpPr>
            <p:nvPr/>
          </p:nvCxnSpPr>
          <p:spPr>
            <a:xfrm flipV="1">
              <a:off x="4571280" y="3411360"/>
              <a:ext cx="3240" cy="906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58" name="_s12298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678040" y="2424240"/>
              <a:ext cx="906480" cy="2880720"/>
            </a:xfrm>
            <a:prstGeom prst="bentConnector3">
              <a:avLst>
                <a:gd name="adj1" fmla="val 20897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55" name="_s12294"/>
            <p:cNvSpPr/>
            <p:nvPr/>
          </p:nvSpPr>
          <p:spPr>
            <a:xfrm>
              <a:off x="3337200" y="160020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Фронт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_s12295"/>
            <p:cNvSpPr/>
            <p:nvPr/>
          </p:nvSpPr>
          <p:spPr>
            <a:xfrm>
              <a:off x="45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000000"/>
                  </a:solidFill>
                  <a:latin typeface="Tahoma"/>
                </a:rPr>
                <a:t>Групповые</a:t>
              </a:r>
              <a:endParaRPr b="0" lang="en-US" sz="2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_s12296"/>
            <p:cNvSpPr/>
            <p:nvPr/>
          </p:nvSpPr>
          <p:spPr>
            <a:xfrm>
              <a:off x="333720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</a:rPr>
                <a:t>Индивидуальные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12297"/>
            <p:cNvSpPr/>
            <p:nvPr/>
          </p:nvSpPr>
          <p:spPr>
            <a:xfrm>
              <a:off x="6217560" y="4317840"/>
              <a:ext cx="2468520" cy="1811520"/>
            </a:xfrm>
            <a:prstGeom prst="roundRect">
              <a:avLst>
                <a:gd name="adj" fmla="val 16667"/>
              </a:avLst>
            </a:prstGeom>
            <a:solidFill>
              <a:srgbClr val="66ff6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Tahoma"/>
                </a:rPr>
                <a:t>Коллективные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66ff66"/>
                </a:solidFill>
                <a:latin typeface="Tahoma"/>
              </a:rPr>
              <a:t>Знать 5 оценочных технологий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2419200" y="2001960"/>
            <a:ext cx="4305600" cy="3728520"/>
            <a:chOff x="2419200" y="2001960"/>
            <a:chExt cx="4305600" cy="3728520"/>
          </a:xfrm>
        </p:grpSpPr>
        <p:sp>
          <p:nvSpPr>
            <p:cNvPr id="162" name="_s14342"/>
            <p:cNvSpPr/>
            <p:nvPr/>
          </p:nvSpPr>
          <p:spPr>
            <a:xfrm flipV="1">
              <a:off x="4033800" y="2001960"/>
              <a:ext cx="1076400" cy="931680"/>
            </a:xfrm>
            <a:custGeom>
              <a:avLst/>
              <a:gdLst>
                <a:gd name="textAreaLeft" fmla="*/ 386280 w 1076400"/>
                <a:gd name="textAreaRight" fmla="*/ 690120 w 1076400"/>
                <a:gd name="textAreaTop" fmla="*/ 334080 h 931680"/>
                <a:gd name="textAreaBottom" fmla="*/ 59760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Ретин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говы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_s14343"/>
            <p:cNvSpPr/>
            <p:nvPr/>
          </p:nvSpPr>
          <p:spPr>
            <a:xfrm flipV="1">
              <a:off x="3495600" y="2932920"/>
              <a:ext cx="2152800" cy="932040"/>
            </a:xfrm>
            <a:custGeom>
              <a:avLst/>
              <a:gdLst>
                <a:gd name="textAreaLeft" fmla="*/ 473400 w 2152800"/>
                <a:gd name="textAreaRight" fmla="*/ 1679400 w 2152800"/>
                <a:gd name="textAreaTop" fmla="*/ 204840 h 932040"/>
                <a:gd name="textAreaBottom" fmla="*/ 727200 h 93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Оценочные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_s14345"/>
            <p:cNvSpPr/>
            <p:nvPr/>
          </p:nvSpPr>
          <p:spPr>
            <a:xfrm flipV="1">
              <a:off x="2957400" y="3865680"/>
              <a:ext cx="3229200" cy="931680"/>
            </a:xfrm>
            <a:custGeom>
              <a:avLst/>
              <a:gdLst>
                <a:gd name="textAreaLeft" fmla="*/ 560520 w 3229200"/>
                <a:gd name="textAreaRight" fmla="*/ 2668680 w 3229200"/>
                <a:gd name="textAreaTop" fmla="*/ 161640 h 931680"/>
                <a:gd name="textAreaBottom" fmla="*/ 770040 h 93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Шка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_s14347"/>
            <p:cNvSpPr/>
            <p:nvPr/>
          </p:nvSpPr>
          <p:spPr>
            <a:xfrm flipV="1">
              <a:off x="2419200" y="4796640"/>
              <a:ext cx="4305600" cy="933480"/>
            </a:xfrm>
            <a:custGeom>
              <a:avLst/>
              <a:gdLst>
                <a:gd name="textAreaLeft" fmla="*/ 647640 w 4305600"/>
                <a:gd name="textAreaRight" fmla="*/ 3657960 w 4305600"/>
                <a:gd name="textAreaTop" fmla="*/ 140400 h 933480"/>
                <a:gd name="textAreaBottom" fmla="*/ 793080 h 933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ff3300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Балльны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6948360" y="3141720"/>
            <a:ext cx="71640" cy="712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Tahoma"/>
              </a:rPr>
              <a:t>Тестовы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28875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66ff66"/>
                </a:solidFill>
                <a:latin typeface="Tahoma"/>
              </a:rPr>
              <a:t>Владеть методами обучен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одуль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блем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Информационным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Технологией развития критического мышления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Методом проекта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8T06:57:23Z</dcterms:created>
  <dc:creator>админ</dc:creator>
  <dc:description/>
  <dc:language>en-US</dc:language>
  <cp:lastModifiedBy>админ</cp:lastModifiedBy>
  <dcterms:modified xsi:type="dcterms:W3CDTF">2018-07-13T16:57:48Z</dcterms:modified>
  <cp:revision>7</cp:revision>
  <dc:subject/>
  <dc:title>Круглый стол</dc:title>
</cp:coreProperties>
</file>