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6DE49-3F63-4430-8E96-EFA83837A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60898-3056-4DB2-BA0E-682BCEC2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682F6-EE54-4706-A269-898359BC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E529-4F74-4342-A7A4-0A75DB70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F6EF-B4B6-4235-82E1-205DDB40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C2AA0-64F9-4C15-9BD2-02D073D7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C1C6-B33E-4316-A18B-1B194F50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DCCF-2235-4596-9A24-BC44C4DB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2293-FB25-458A-B32E-4032F4A5B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DA76-1FD1-4E42-8C0B-88D565B1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BCDAC-5D76-4DF6-8D3C-A589F65B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DDBAB-0437-43DD-8E6B-55891C3C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CD61C-A5C7-4EA8-8241-37DF6180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0201-A6C6-4863-B758-E5EAA2D0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53BA-3007-4F08-8FF0-E8F4C1041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537B-114C-4C53-920E-3AF0C2F1C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FD34-6235-4996-86FD-BEF82B5EF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5FB0A-33E4-4EC3-B8A9-9FA672B9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095AC-984D-40AB-B42F-F03667C6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3D1D-C24A-404A-ADC0-CB65C529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A6EEE-E976-417D-8132-E7614E4A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F4536-5FE1-4EAF-9ADD-EF483571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D8A4-ADE1-4621-A663-0C67DA6A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601C2-396C-46C6-8F5F-541C94B5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82E8-232A-457D-8D98-EBA734E4F81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8EDE-B014-4934-A664-6E61BD26C3E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-316440"/>
            <a:ext cx="80596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bf25a"/>
                </a:solidFill>
                <a:latin typeface="Tahoma"/>
              </a:rPr>
              <a:t>Круглый сто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19280" y="2421000"/>
            <a:ext cx="540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Учитель – филолог, профессионал, творец… Какой он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3559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ahoma"/>
              </a:rPr>
              <a:t>Применять 4 уровня усвоения изученного материал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во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зна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ыполнение действий по образц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ыполнение действий в други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580000" y="4221000"/>
            <a:ext cx="3276720" cy="21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ahoma"/>
              </a:rPr>
              <a:t>Что должен понять учитель -филолог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чество образования сегодня рассматривается на уровне педагога. </a:t>
            </a: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Успех школы зависит от не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ботать по – старому, без использования новых технологий сегодня недопустим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читель обязан услышать каждого ученика, понять его, а главное – отслеживать его результа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заинтересованности учителя в результатах своего труда не может быть высоких результ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9040" y="552600"/>
            <a:ext cx="830592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ff66"/>
                </a:solidFill>
                <a:latin typeface="Tahoma"/>
              </a:rPr>
              <a:t>Что должно отличать учителя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громный талант человеколюбия и  человечности, любовь к детям, способность увидеть и услышать кажд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сокий интеллек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юбовь к профе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рганизаторский талант, способность познать детей умом и сердц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фессионализм, лингвистическая и литературоведческая компетент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удрая и строгая требовате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43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ff66"/>
                </a:solidFill>
                <a:latin typeface="Tahoma"/>
              </a:rPr>
              <a:t>Без чего не может состояться учитель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знания психологических особенностей обучаем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профессионального роста, стремления познать нов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умения находить подход к каждому ребён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знаний проблем современного ур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воспитания нравственных и волевых качеств у своих воспитан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компьютерной грамо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взаимопонимания с учени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197000"/>
            <a:ext cx="17571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ff66"/>
                </a:solidFill>
                <a:latin typeface="Tahoma"/>
              </a:rPr>
              <a:t>Чем должен владеть современный учитель – филолог?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соким педагогическим мастерством, знать структурные элементы современного урока и их развивающийся потенци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екретами инновационных методик: использованием теоретических и наглядных опор на всех этапах обуч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ёмами развития мышления, памяти, внимания, вообра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меть организовать исследовательскую деятельность на уроке и вне ур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11280" y="404640"/>
            <a:ext cx="62755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ff66"/>
                </a:solidFill>
                <a:latin typeface="Tahoma"/>
              </a:rPr>
              <a:t>Чем должен владеть современный учитель – филолог?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ладеть методикой развивающего обучения, давать задания не только те, которые направлены на формирование знаний, но и на развитие мышления и речи учащихся. Это является сегодня первым условием овладения методико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«НОВОГО ПОКОЛЕНИ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являть и поддерживать одарённых детей. </a:t>
            </a: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В новом ФГОС выходят на первое место личные способности учен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менять в учебном процессе здоровьесберегающие техноло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858080" y="5373720"/>
            <a:ext cx="1285920" cy="1047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317520"/>
            <a:ext cx="1640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Что должен знать учитель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1944720" cy="133812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457200" y="1370160"/>
            <a:ext cx="9802080" cy="4759200"/>
            <a:chOff x="457200" y="1370160"/>
            <a:chExt cx="9802080" cy="4759200"/>
          </a:xfrm>
        </p:grpSpPr>
        <p:cxnSp>
          <p:nvCxnSpPr>
            <p:cNvPr id="144" name="_s10254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6597360" y="2033640"/>
              <a:ext cx="952560" cy="343152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253"/>
            <p:cNvCxnSpPr>
              <a:stCxn id="148" idx="0"/>
              <a:endCxn id="146" idx="2"/>
            </p:cNvCxnSpPr>
            <p:nvPr/>
          </p:nvCxnSpPr>
          <p:spPr>
            <a:xfrm flipV="1">
              <a:off x="5358240" y="3273480"/>
              <a:ext cx="3600" cy="952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252"/>
            <p:cNvCxnSpPr>
              <a:stCxn id="150" idx="0"/>
              <a:endCxn id="146" idx="2"/>
            </p:cNvCxnSpPr>
            <p:nvPr/>
          </p:nvCxnSpPr>
          <p:spPr>
            <a:xfrm flipH="1" flipV="1" rot="5400000">
              <a:off x="3166560" y="2034000"/>
              <a:ext cx="952560" cy="343152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10248"/>
            <p:cNvSpPr/>
            <p:nvPr/>
          </p:nvSpPr>
          <p:spPr>
            <a:xfrm>
              <a:off x="3888000" y="1370160"/>
              <a:ext cx="2940480" cy="19036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00"/>
                  </a:solidFill>
                  <a:latin typeface="Tahoma"/>
                </a:rPr>
                <a:t>Методы обучения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10249"/>
            <p:cNvSpPr/>
            <p:nvPr/>
          </p:nvSpPr>
          <p:spPr>
            <a:xfrm>
              <a:off x="457200" y="4225680"/>
              <a:ext cx="2940480" cy="19036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Tahoma"/>
                </a:rPr>
                <a:t>Словесные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10250"/>
            <p:cNvSpPr/>
            <p:nvPr/>
          </p:nvSpPr>
          <p:spPr>
            <a:xfrm>
              <a:off x="3888000" y="4225680"/>
              <a:ext cx="2940480" cy="19036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Tahoma"/>
                </a:rPr>
                <a:t>Наглядные</a:t>
              </a:r>
              <a:endParaRPr b="0" lang="en-US" sz="3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10251"/>
            <p:cNvSpPr/>
            <p:nvPr/>
          </p:nvSpPr>
          <p:spPr>
            <a:xfrm>
              <a:off x="7318800" y="4225680"/>
              <a:ext cx="2940480" cy="19036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Tahoma"/>
                </a:rPr>
                <a:t>Практические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ff66"/>
                </a:solidFill>
                <a:latin typeface="Tahoma"/>
              </a:rPr>
              <a:t>Формы организации познавательной деятельност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53" name="_s12300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6" name="_s12299"/>
            <p:cNvCxnSpPr>
              <a:stCxn id="157" idx="0"/>
              <a:endCxn id="155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8" name="_s12298"/>
            <p:cNvCxnSpPr>
              <a:stCxn id="159" idx="0"/>
              <a:endCxn id="155" idx="2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5" name="_s12294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Фронт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12295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ahoma"/>
                </a:rPr>
                <a:t>Групповые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12296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Индивидуаль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2297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Коллективные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ff66"/>
                </a:solidFill>
                <a:latin typeface="Tahoma"/>
              </a:rPr>
              <a:t>Знать 5 оценочных технологи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19200" y="2001960"/>
            <a:ext cx="4305600" cy="3728520"/>
            <a:chOff x="2419200" y="2001960"/>
            <a:chExt cx="4305600" cy="3728520"/>
          </a:xfrm>
        </p:grpSpPr>
        <p:sp>
          <p:nvSpPr>
            <p:cNvPr id="162" name="_s14342"/>
            <p:cNvSpPr/>
            <p:nvPr/>
          </p:nvSpPr>
          <p:spPr>
            <a:xfrm flipV="1">
              <a:off x="4033800" y="2001960"/>
              <a:ext cx="1076400" cy="931680"/>
            </a:xfrm>
            <a:custGeom>
              <a:avLst/>
              <a:gdLst>
                <a:gd name="textAreaLeft" fmla="*/ 386280 w 1076400"/>
                <a:gd name="textAreaRight" fmla="*/ 690120 w 1076400"/>
                <a:gd name="textAreaTop" fmla="*/ 334080 h 931680"/>
                <a:gd name="textAreaBottom" fmla="*/ 59760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Рети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гов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14343"/>
            <p:cNvSpPr/>
            <p:nvPr/>
          </p:nvSpPr>
          <p:spPr>
            <a:xfrm flipV="1">
              <a:off x="3495600" y="2932920"/>
              <a:ext cx="2152800" cy="932040"/>
            </a:xfrm>
            <a:custGeom>
              <a:avLst/>
              <a:gdLst>
                <a:gd name="textAreaLeft" fmla="*/ 473400 w 2152800"/>
                <a:gd name="textAreaRight" fmla="*/ 1679400 w 2152800"/>
                <a:gd name="textAreaTop" fmla="*/ 204840 h 932040"/>
                <a:gd name="textAreaBottom" fmla="*/ 7272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Оценоч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14345"/>
            <p:cNvSpPr/>
            <p:nvPr/>
          </p:nvSpPr>
          <p:spPr>
            <a:xfrm flipV="1">
              <a:off x="2957400" y="3865680"/>
              <a:ext cx="3229200" cy="931680"/>
            </a:xfrm>
            <a:custGeom>
              <a:avLst/>
              <a:gdLst>
                <a:gd name="textAreaLeft" fmla="*/ 560520 w 3229200"/>
                <a:gd name="textAreaRight" fmla="*/ 2668680 w 3229200"/>
                <a:gd name="textAreaTop" fmla="*/ 161640 h 931680"/>
                <a:gd name="textAreaBottom" fmla="*/ 770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Шк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14347"/>
            <p:cNvSpPr/>
            <p:nvPr/>
          </p:nvSpPr>
          <p:spPr>
            <a:xfrm flipV="1">
              <a:off x="2419200" y="4796640"/>
              <a:ext cx="4305600" cy="933480"/>
            </a:xfrm>
            <a:custGeom>
              <a:avLst/>
              <a:gdLst>
                <a:gd name="textAreaLeft" fmla="*/ 647640 w 4305600"/>
                <a:gd name="textAreaRight" fmla="*/ 3657960 w 4305600"/>
                <a:gd name="textAreaTop" fmla="*/ 140400 h 933480"/>
                <a:gd name="textAreaBottom" fmla="*/ 79308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Бал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948360" y="314172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Тест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8875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66"/>
                </a:solidFill>
                <a:latin typeface="Tahoma"/>
              </a:rPr>
              <a:t>Владеть методами обуче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одульны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блемны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Информационны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Технологией развития критического мышл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етодом проек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6:57:23Z</dcterms:created>
  <dc:creator>админ</dc:creator>
  <dc:description/>
  <dc:language>en-US</dc:language>
  <cp:lastModifiedBy>админ</cp:lastModifiedBy>
  <dcterms:modified xsi:type="dcterms:W3CDTF">2018-07-13T16:57:48Z</dcterms:modified>
  <cp:revision>7</cp:revision>
  <dc:subject/>
  <dc:title>Круглый стол</dc:title>
</cp:coreProperties>
</file>