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7266-99FF-473E-909E-D821A9EE9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607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0D2F-7337-4F56-9FCF-AC3F0D9B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40EB-E192-49D2-94A7-B6014D74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6DCF-9847-4B34-ACE9-CB2312D25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857B-DFDC-4E11-B941-5ABE15D7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5E7D-F13B-46E7-8BFB-23FC0919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C23AB-E4E1-4ED3-A1CD-6F66A6F5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60BBF-4C58-432B-8E54-15E8994A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44550-944D-4FA5-A47B-C66B8BCE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BD6C-02F9-4907-A482-2033A53A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A7159-617F-4148-A849-0C4652222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FC2B-84BA-4E3B-B19C-86030329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8E95-7097-4513-9120-277C127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0F3AD-8027-479A-8945-2A5620A9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607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3382-DCA7-48BA-882D-B4BC52A81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343B-D267-45CE-9BDA-36F7865DC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6075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90045-94A0-43E5-9A6D-363BE96F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EDE0-ADE3-43E0-80E5-09E9F3F8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8393-5155-4C07-BED6-E8CD2751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A36-20D5-4FD9-A019-087A346B0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524-06DE-4713-8D45-D5DFC24C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422-E169-4435-A75D-99A2AABD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6075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BC0-FB35-4427-9577-62A90227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6075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24FC-905E-4B9B-9231-2FA2CAC62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3\nbl13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3\nbl13_1_2.png"/>
          <p:cNvPicPr/>
          <p:nvPr/>
        </p:nvPicPr>
        <p:blipFill>
          <a:blip r:embed="rId3"/>
          <a:stretch/>
        </p:blipFill>
        <p:spPr>
          <a:xfrm>
            <a:off x="8024760" y="5734080"/>
            <a:ext cx="978120" cy="112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-햇살B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햇살M"/>
                <a:ea typeface="-햇살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1728-38FD-4145-BBCB-684C403AC99D}" type="slidenum">
              <a:rPr b="0" lang="en-US" sz="1400" spc="-1" strike="noStrike">
                <a:solidFill>
                  <a:srgbClr val="000000"/>
                </a:solidFill>
                <a:latin typeface="-햇살M"/>
                <a:ea typeface="-햇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3\nbl13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3\nbl13_1.png"/>
          <p:cNvPicPr/>
          <p:nvPr/>
        </p:nvPicPr>
        <p:blipFill>
          <a:blip r:embed="rId3"/>
          <a:stretch/>
        </p:blipFill>
        <p:spPr>
          <a:xfrm>
            <a:off x="123840" y="457200"/>
            <a:ext cx="1071720" cy="1219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-햇살B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햇살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햇살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59436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594360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594360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햇살M"/>
                <a:ea typeface="-햇살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B23A-7188-4D79-A720-0091E697B83D}" type="slidenum">
              <a:rPr b="0" lang="en-US" sz="1400" spc="-1" strike="noStrike">
                <a:solidFill>
                  <a:srgbClr val="000000"/>
                </a:solidFill>
                <a:latin typeface="-햇살M"/>
                <a:ea typeface="-햇살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obj.altapress.ru/picture/width/584/27395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2786040"/>
            <a:ext cx="828648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«МОЙ РЕБЕНОК»</a:t>
            </a:r>
            <a:br>
              <a:rPr sz="4800"/>
            </a:br>
            <a:r>
              <a:rPr b="0" lang="ru-RU" sz="48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ru-RU" sz="36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подготовил: </a:t>
            </a:r>
            <a:br>
              <a:rPr sz="3600"/>
            </a:br>
            <a:r>
              <a:rPr b="0" lang="ru-RU" sz="36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                                        педагог-психолог </a:t>
            </a:r>
            <a:br>
              <a:rPr sz="3600"/>
            </a:br>
            <a:r>
              <a:rPr b="0" lang="ru-RU" sz="3600" spc="-1" strike="noStrike">
                <a:solidFill>
                  <a:srgbClr val="47007c"/>
                </a:solidFill>
                <a:latin typeface="Times New Roman"/>
                <a:ea typeface="Times New Roman"/>
              </a:rPr>
              <a:t>                                Елкина О.А.</a:t>
            </a:r>
            <a:br>
              <a:rPr sz="4800"/>
            </a:b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8920" y="1509840"/>
            <a:ext cx="85726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-햇살B"/>
              </a:rPr>
              <a:t>Практикум для родителей</a:t>
            </a:r>
            <a:endParaRPr b="0" lang="en-US" sz="36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88" name="Picture 8" descr="C:\Documents and Settings\Admin\Рабочий стол\картинки для детского сада\53752131_deti2[1].jpg"/>
          <p:cNvPicPr/>
          <p:nvPr/>
        </p:nvPicPr>
        <p:blipFill>
          <a:blip r:embed="rId1"/>
          <a:stretch/>
        </p:blipFill>
        <p:spPr>
          <a:xfrm>
            <a:off x="506520" y="3438360"/>
            <a:ext cx="3127320" cy="23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ра «Наш малыш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сли вы согласны с высказыванием – хлопните в ладоши 1 раз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стал очень любопытным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хочет все попробовать сделать сам!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стал довольно часто упрямиться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отказывается спать в привычное время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капризничает во время еды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 малыш не слушается, когда надо быстро одеваться в 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ский сад или уходить домой из детского сада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не хочет прибирать игрушки после игры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стал больше разговаривать, знает больше новых слов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ш малыш любит с нами играть.</a:t>
            </a: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258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-  часть природы, значит, его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во многом определяется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ественными причинами. Может быть, и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упки, которые мы принимаем за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лушание, и за которые наказываем,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го-навсего лишь проявление древнего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инкта? Советы ученых-этологов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т посмотреть на проблемы воспитания с иной точки зрения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ожденные инстинкты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бирательство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инкт собственности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мещающее поведение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ровство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абу, традиции, правила,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итуалы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бно животным, дети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ят жилища и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ячутся в пещерах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95" name="Рисунок 3" descr="http://im0-tub-ru.yandex.net/i?id=700dbbf7ce65920b525a2f083611a34d-78-144&amp;n=21"/>
          <p:cNvPicPr/>
          <p:nvPr/>
        </p:nvPicPr>
        <p:blipFill>
          <a:blip r:embed="rId1"/>
          <a:stretch/>
        </p:blipFill>
        <p:spPr>
          <a:xfrm>
            <a:off x="6000840" y="1785960"/>
            <a:ext cx="242892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-햇살B"/>
              </a:rPr>
              <a:t>5 вещей, за которые нельзя </a:t>
            </a:r>
            <a:br>
              <a:rPr sz="3600"/>
            </a:br>
            <a:r>
              <a:rPr b="1" i="1" lang="ru-RU" sz="3600" spc="-1" strike="noStrike">
                <a:solidFill>
                  <a:srgbClr val="ffffff"/>
                </a:solidFill>
                <a:latin typeface="-햇살B"/>
              </a:rPr>
              <a:t>ругать ребенка</a:t>
            </a: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7" name="Прямоугольник 2"/>
          <p:cNvSpPr/>
          <p:nvPr/>
        </p:nvSpPr>
        <p:spPr>
          <a:xfrm>
            <a:off x="395280" y="162864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ребенок совершил поступок нечаянно – что-то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ил или пролил, упал в лужу, порвал новые брюки и так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лее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огда ребенок старается, но все равно не справляется 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м, эмоциями или ситуацией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Если ребенок нарушает правила, которые мы и сами не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ень-то соблюдаем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Если внешность, характер или поведение ребенка не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ует нашим ожиданиям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Если ребенок совершил проступок из лучших побуждений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не надо себя вести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постоянно ругать и наказывать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ёнка за все неприятные для вас проявления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го самостоятельности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надо говорить "да" когда необходимо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ёрдое "нет"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дчёркивать свою силу и превосходство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ним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100" name="Рисунок 3" descr="Мики Маус"/>
          <p:cNvPicPr/>
          <p:nvPr/>
        </p:nvPicPr>
        <p:blipFill>
          <a:blip r:embed="rId1"/>
          <a:stretch/>
        </p:blipFill>
        <p:spPr>
          <a:xfrm>
            <a:off x="5572080" y="4286160"/>
            <a:ext cx="173376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любить своего ребёнк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перво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слушать своего ребёнка всегда и везде не перебивая и не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ахиваясь от него проявляя терпение и такт.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второ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говорить проявляя мягкость и уважительность исключая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дательность, грубость и хамство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треть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азывать не унижая, а сохраняя достоинство ребёнка вселяя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ежду на исправление.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четвёрто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чь успехов в воспитании можно лишь тогда,  когда родители –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для подражания.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авило пятое: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вать свои ошибки, просить прощение за неправильные 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и поступки, быть справедливым в оценке себя и других.</a:t>
            </a:r>
            <a:endParaRPr b="0" lang="en-US" sz="18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햇살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Когда в товарищах согласья нет, на лад их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 не пойдёт, а выйдет из него не дело, а 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мука".</a:t>
            </a:r>
            <a:endParaRPr b="0" lang="en-US" sz="28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105" name="Picture 2" descr="Картинка 893 из 1359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63720" y="2998800"/>
            <a:ext cx="5708520" cy="32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0344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ffffff"/>
              </a:solidFill>
              <a:latin typeface="-햇살B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 успехов !!!</a:t>
            </a:r>
            <a:endParaRPr b="0" lang="en-US" sz="4800" spc="-1" strike="noStrike">
              <a:solidFill>
                <a:srgbClr val="000000"/>
              </a:solidFill>
              <a:latin typeface="-햇살M"/>
            </a:endParaRPr>
          </a:p>
        </p:txBody>
      </p:sp>
      <p:pic>
        <p:nvPicPr>
          <p:cNvPr id="108" name="Рисунок 3" descr="http://im3-tub-ru.yandex.net/i?id=5b42a2d51132ce6e80289d62b7d06493-143-144&amp;n=21"/>
          <p:cNvPicPr/>
          <p:nvPr/>
        </p:nvPicPr>
        <p:blipFill>
          <a:blip r:embed="rId1"/>
          <a:stretch/>
        </p:blipFill>
        <p:spPr>
          <a:xfrm>
            <a:off x="2000160" y="2357280"/>
            <a:ext cx="521496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4T02:41:22Z</dcterms:created>
  <dc:creator>art5</dc:creator>
  <dc:description/>
  <dc:language>en-US</dc:language>
  <cp:lastModifiedBy>Master</cp:lastModifiedBy>
  <dcterms:modified xsi:type="dcterms:W3CDTF">2018-07-13T12:03:24Z</dcterms:modified>
  <cp:revision>78</cp:revision>
  <dc:subject/>
  <dc:title>PowerPoint 프레젠테이션</dc:title>
</cp:coreProperties>
</file>