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2DA0-E0A6-44FB-85B4-211931F6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6075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BE3C-C99F-4C95-BEB2-BB645A49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075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6075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F437-C1CD-4ED8-999F-DBF58A1EE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6075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6075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6075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DB3C-FF7F-4554-BEE5-7EB8A38DB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7F01-ECD2-40C7-9305-38041D8B4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F38A-45C1-4FF9-8C0C-DBA076BB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EF32C-1DAE-4C87-A0EF-920FBDA1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4887-5683-4C30-95C8-1EAB3776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A4AB1-3E36-4E5C-B445-97564D8B1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F132-FDA9-4448-9402-FBCCAEC0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6075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EFB8-2FBE-48E0-B5D9-B9C20693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581C-7B26-4A61-B428-CB25CDE4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6075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33DC-3CA3-4126-B18F-D35ED4E02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6075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E644-A6B0-4386-A429-39CEA0DD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6075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F80ED-5532-4179-9C7C-A27831A36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6075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6075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EBAF-D7A6-423D-AA87-05209DB5A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6075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6075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6075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49C6E-AB81-4EBF-A2B3-2D3007CCC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4440-563B-496E-A585-8D2BAE95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6F68-C50A-48B4-8546-A7E65A94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E195-E3C9-49AD-A708-CFD5CA97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72E8-A248-42B8-B3CB-71190F41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6075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B388-2EAA-4215-A7A4-AF27C080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6075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6CC0-67CD-4B40-BE31-981D8B27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6075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1ED4-255F-4CAA-8B70-C167E034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coolPT25\nbl13\nbl13_1_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E:\coolPT25\nbl13\nbl13_1_2.png"/>
          <p:cNvPicPr/>
          <p:nvPr/>
        </p:nvPicPr>
        <p:blipFill>
          <a:blip r:embed="rId3"/>
          <a:stretch/>
        </p:blipFill>
        <p:spPr>
          <a:xfrm>
            <a:off x="8024760" y="5734080"/>
            <a:ext cx="9781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-햇살B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햇살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햇살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햇살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햇살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햇살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햇살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햇살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햇살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햇살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햇살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햇살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햇살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햇살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햇살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5700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9528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2464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햇살M"/>
                <a:ea typeface="-햇살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45EB-C6E4-4952-ACAA-5DCCB74F9ADB}" type="slidenum">
              <a:rPr b="0" lang="en-US" sz="1400" spc="-1" strike="noStrike">
                <a:solidFill>
                  <a:srgbClr val="000000"/>
                </a:solidFill>
                <a:latin typeface="-햇살M"/>
                <a:ea typeface="-햇살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E:\coolPT25\nbl13\nbl13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E:\coolPT25\nbl13\nbl13_1.png"/>
          <p:cNvPicPr/>
          <p:nvPr/>
        </p:nvPicPr>
        <p:blipFill>
          <a:blip r:embed="rId3"/>
          <a:stretch/>
        </p:blipFill>
        <p:spPr>
          <a:xfrm>
            <a:off x="123840" y="457200"/>
            <a:ext cx="1071720" cy="1219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-햇살B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햇살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햇살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햇살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햇살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햇살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햇살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햇살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햇살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햇살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햇살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햇살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햇살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햇살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햇살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3440" y="594360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65480" y="594360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41920" y="594360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햇살M"/>
                <a:ea typeface="-햇살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94FD-4EC4-4262-983C-068904866899}" type="slidenum">
              <a:rPr b="0" lang="en-US" sz="1400" spc="-1" strike="noStrike">
                <a:solidFill>
                  <a:srgbClr val="000000"/>
                </a:solidFill>
                <a:latin typeface="-햇살M"/>
                <a:ea typeface="-햇살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obj.altapress.ru/picture/width/584/27395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1680" y="2786040"/>
            <a:ext cx="828648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7007c"/>
                </a:solidFill>
                <a:latin typeface="Times New Roman"/>
                <a:ea typeface="Times New Roman"/>
              </a:rPr>
              <a:t>«МОЙ РЕБЕНОК»</a:t>
            </a:r>
            <a:br>
              <a:rPr sz="4800"/>
            </a:br>
            <a:r>
              <a:rPr b="0" lang="ru-RU" sz="4800" spc="-1" strike="noStrike">
                <a:solidFill>
                  <a:srgbClr val="47007c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3600" spc="-1" strike="noStrike">
                <a:solidFill>
                  <a:srgbClr val="47007c"/>
                </a:solidFill>
                <a:latin typeface="Times New Roman"/>
                <a:ea typeface="Times New Roman"/>
              </a:rPr>
              <a:t>подготовил: </a:t>
            </a:r>
            <a:br>
              <a:rPr sz="3600"/>
            </a:br>
            <a:r>
              <a:rPr b="0" lang="ru-RU" sz="3600" spc="-1" strike="noStrike">
                <a:solidFill>
                  <a:srgbClr val="47007c"/>
                </a:solidFill>
                <a:latin typeface="Times New Roman"/>
                <a:ea typeface="Times New Roman"/>
              </a:rPr>
              <a:t>                                        педагог-психолог </a:t>
            </a:r>
            <a:br>
              <a:rPr sz="3600"/>
            </a:br>
            <a:r>
              <a:rPr b="0" lang="ru-RU" sz="3600" spc="-1" strike="noStrike">
                <a:solidFill>
                  <a:srgbClr val="47007c"/>
                </a:solidFill>
                <a:latin typeface="Times New Roman"/>
                <a:ea typeface="Times New Roman"/>
              </a:rPr>
              <a:t>                                Елкина О.А.</a:t>
            </a:r>
            <a:br>
              <a:rPr sz="4800"/>
            </a:b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8920" y="1509840"/>
            <a:ext cx="857268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-햇살B"/>
              </a:rPr>
              <a:t>Практикум для родителей</a:t>
            </a:r>
            <a:endParaRPr b="0" lang="en-US" sz="3600" spc="-1" strike="noStrike">
              <a:solidFill>
                <a:srgbClr val="000000"/>
              </a:solidFill>
              <a:latin typeface="-햇살M"/>
            </a:endParaRPr>
          </a:p>
        </p:txBody>
      </p:sp>
      <p:pic>
        <p:nvPicPr>
          <p:cNvPr id="88" name="Picture 8" descr="C:\Documents and Settings\Admin\Рабочий стол\картинки для детского сада\53752131_deti2[1].jpg"/>
          <p:cNvPicPr/>
          <p:nvPr/>
        </p:nvPicPr>
        <p:blipFill>
          <a:blip r:embed="rId1"/>
          <a:stretch/>
        </p:blipFill>
        <p:spPr>
          <a:xfrm>
            <a:off x="506520" y="3438360"/>
            <a:ext cx="3127320" cy="23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 «Наш малыш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сли вы согласны с высказыванием – хлопните в ладоши 1 раз.</a:t>
            </a: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ш малыш стал очень любопытным.</a:t>
            </a: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ш малыш хочет все попробовать сделать сам!</a:t>
            </a: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ш малыш стал довольно часто упрямиться.</a:t>
            </a: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ш малыш отказывается спать в привычное время.</a:t>
            </a: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ш малыш капризничает во время еды.</a:t>
            </a: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 малыш не слушается, когда надо быстро одеваться в </a:t>
            </a: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сад или уходить домой из детского сада.</a:t>
            </a: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ш малыш не хочет прибирать игрушки после игры.</a:t>
            </a: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ш малыш стал больше разговаривать, знает больше новых слов.</a:t>
            </a: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ш малыш любит с нами играть.</a:t>
            </a: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бенок -  часть природы, значит, его 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дение во многом определяется 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ественными причинами. Может быть, и 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ки, которые мы принимаем за 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лушание, и за которые наказываем, 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-навсего лишь проявление древнего 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инкта? Советы ученых-этологов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ют посмотреть на проблемы воспитания с иной точки зрения.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ожденные инстинкты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бирательство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стинкт собственности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мещающее поведение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ровство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абу, традиции, правила, 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итуалы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гра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но животным, дети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ят жилища и 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ячутся в пещерах.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</p:txBody>
      </p:sp>
      <p:pic>
        <p:nvPicPr>
          <p:cNvPr id="95" name="Рисунок 3" descr="http://im0-tub-ru.yandex.net/i?id=700dbbf7ce65920b525a2f083611a34d-78-144&amp;n=21"/>
          <p:cNvPicPr/>
          <p:nvPr/>
        </p:nvPicPr>
        <p:blipFill>
          <a:blip r:embed="rId1"/>
          <a:stretch/>
        </p:blipFill>
        <p:spPr>
          <a:xfrm>
            <a:off x="6000840" y="1785960"/>
            <a:ext cx="24289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-햇살B"/>
              </a:rPr>
              <a:t>5 вещей, за которые нельзя 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-햇살B"/>
              </a:rPr>
              <a:t>ругать ребенка</a:t>
            </a: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395280" y="1628640"/>
            <a:ext cx="820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бенок совершил поступок нечаянно – что-то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ил или пролил, упал в лужу, порвал новые брюки и так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ее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огда ребенок старается, но все равно не справляется 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м, эмоциями или ситуацией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сли ребенок нарушает правила, которые мы и сами не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-то соблюдаем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Если внешность, характер или поведение ребенка не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ет нашим ожиданиям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Если ребенок совершил проступок из лучших побуждений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не надо себя вести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до постоянно ругать и наказывать 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ёнка за все неприятные для вас проявления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самостоятельности.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до говорить "да" когда необходимо 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ёрдое "нет".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дчёркивать свою силу и превосходство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 ним.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</p:txBody>
      </p:sp>
      <p:pic>
        <p:nvPicPr>
          <p:cNvPr id="100" name="Рисунок 3" descr="Мики Маус"/>
          <p:cNvPicPr/>
          <p:nvPr/>
        </p:nvPicPr>
        <p:blipFill>
          <a:blip r:embed="rId1"/>
          <a:stretch/>
        </p:blipFill>
        <p:spPr>
          <a:xfrm>
            <a:off x="5572080" y="4286160"/>
            <a:ext cx="17337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любить своего ребёнк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ило первое:</a:t>
            </a:r>
            <a:endParaRPr b="0" lang="en-US" sz="1800" spc="-1" strike="noStrike">
              <a:solidFill>
                <a:srgbClr val="000000"/>
              </a:solidFill>
              <a:latin typeface="-햇살M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слушать своего ребёнка всегда и везде не перебивая и не </a:t>
            </a:r>
            <a:endParaRPr b="0" lang="en-US" sz="1800" spc="-1" strike="noStrike">
              <a:solidFill>
                <a:srgbClr val="000000"/>
              </a:solidFill>
              <a:latin typeface="-햇살M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ахиваясь от него проявляя терпение и такт.</a:t>
            </a:r>
            <a:endParaRPr b="0" lang="en-US" sz="1800" spc="-1" strike="noStrike">
              <a:solidFill>
                <a:srgbClr val="000000"/>
              </a:solidFill>
              <a:latin typeface="-햇살M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ило второе:</a:t>
            </a:r>
            <a:endParaRPr b="0" lang="en-US" sz="1800" spc="-1" strike="noStrike">
              <a:solidFill>
                <a:srgbClr val="000000"/>
              </a:solidFill>
              <a:latin typeface="-햇살M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говорить проявляя мягкость и уважительность исключая </a:t>
            </a:r>
            <a:endParaRPr b="0" lang="en-US" sz="1800" spc="-1" strike="noStrike">
              <a:solidFill>
                <a:srgbClr val="000000"/>
              </a:solidFill>
              <a:latin typeface="-햇살M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идательность, грубость и хамство</a:t>
            </a:r>
            <a:endParaRPr b="0" lang="en-US" sz="1800" spc="-1" strike="noStrike">
              <a:solidFill>
                <a:srgbClr val="000000"/>
              </a:solidFill>
              <a:latin typeface="-햇살M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ило третье:</a:t>
            </a:r>
            <a:endParaRPr b="0" lang="en-US" sz="1800" spc="-1" strike="noStrike">
              <a:solidFill>
                <a:srgbClr val="000000"/>
              </a:solidFill>
              <a:latin typeface="-햇살M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зывать не унижая, а сохраняя достоинство ребёнка вселяя </a:t>
            </a:r>
            <a:endParaRPr b="0" lang="en-US" sz="1800" spc="-1" strike="noStrike">
              <a:solidFill>
                <a:srgbClr val="000000"/>
              </a:solidFill>
              <a:latin typeface="-햇살M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ежду на исправление.</a:t>
            </a:r>
            <a:endParaRPr b="0" lang="en-US" sz="1800" spc="-1" strike="noStrike">
              <a:solidFill>
                <a:srgbClr val="000000"/>
              </a:solidFill>
              <a:latin typeface="-햇살M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ило четвёртое:</a:t>
            </a:r>
            <a:endParaRPr b="0" lang="en-US" sz="1800" spc="-1" strike="noStrike">
              <a:solidFill>
                <a:srgbClr val="000000"/>
              </a:solidFill>
              <a:latin typeface="-햇살M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чь успехов в воспитании можно лишь тогда,  когда родители – </a:t>
            </a:r>
            <a:endParaRPr b="0" lang="en-US" sz="1800" spc="-1" strike="noStrike">
              <a:solidFill>
                <a:srgbClr val="000000"/>
              </a:solidFill>
              <a:latin typeface="-햇살M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для подражания.</a:t>
            </a:r>
            <a:endParaRPr b="0" lang="en-US" sz="1800" spc="-1" strike="noStrike">
              <a:solidFill>
                <a:srgbClr val="000000"/>
              </a:solidFill>
              <a:latin typeface="-햇살M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ило пятое:</a:t>
            </a:r>
            <a:endParaRPr b="0" lang="en-US" sz="1800" spc="-1" strike="noStrike">
              <a:solidFill>
                <a:srgbClr val="000000"/>
              </a:solidFill>
              <a:latin typeface="-햇살M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вать свои ошибки, просить прощение за неправильные </a:t>
            </a:r>
            <a:endParaRPr b="0" lang="en-US" sz="1800" spc="-1" strike="noStrike">
              <a:solidFill>
                <a:srgbClr val="000000"/>
              </a:solidFill>
              <a:latin typeface="-햇살M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и поступки, быть справедливым в оценке себя и других.</a:t>
            </a:r>
            <a:endParaRPr b="0" lang="en-US" sz="1800" spc="-1" strike="noStrike">
              <a:solidFill>
                <a:srgbClr val="000000"/>
              </a:solidFill>
              <a:latin typeface="-햇살M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Когда в товарищах согласья нет, на лад их 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 не пойдёт, а выйдет из него не дело, а 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мука".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</p:txBody>
      </p:sp>
      <p:pic>
        <p:nvPicPr>
          <p:cNvPr id="105" name="Picture 2" descr="Картинка 893 из 13599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63720" y="2998800"/>
            <a:ext cx="570852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ем успехов !!!</a:t>
            </a:r>
            <a:endParaRPr b="0" lang="en-US" sz="4800" spc="-1" strike="noStrike">
              <a:solidFill>
                <a:srgbClr val="000000"/>
              </a:solidFill>
              <a:latin typeface="-햇살M"/>
            </a:endParaRPr>
          </a:p>
        </p:txBody>
      </p:sp>
      <p:pic>
        <p:nvPicPr>
          <p:cNvPr id="108" name="Рисунок 3" descr="http://im3-tub-ru.yandex.net/i?id=5b42a2d51132ce6e80289d62b7d06493-143-144&amp;n=21"/>
          <p:cNvPicPr/>
          <p:nvPr/>
        </p:nvPicPr>
        <p:blipFill>
          <a:blip r:embed="rId1"/>
          <a:stretch/>
        </p:blipFill>
        <p:spPr>
          <a:xfrm>
            <a:off x="2000160" y="2357280"/>
            <a:ext cx="521496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4T02:41:22Z</dcterms:created>
  <dc:creator>art5</dc:creator>
  <dc:description/>
  <dc:language>en-US</dc:language>
  <cp:lastModifiedBy>Master</cp:lastModifiedBy>
  <dcterms:modified xsi:type="dcterms:W3CDTF">2018-07-13T12:03:24Z</dcterms:modified>
  <cp:revision>78</cp:revision>
  <dc:subject/>
  <dc:title>PowerPoint 프레젠테이션</dc:title>
</cp:coreProperties>
</file>