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EC5E-8F8F-4946-97BE-F55A44E99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D8AC-E9E9-438B-83B5-56AB4A00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3701-9A27-49BB-82C1-CDA1B41FB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D01-B908-43CD-A197-6ADA838B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5961-CFFF-4E7E-AD8F-36019CF44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C704-C9AF-4524-A515-108638AA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0D05-3952-4D88-B1D5-6677B442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D7E5-A530-456F-BBD0-E17F0D1C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FB7C-6805-4278-9969-E974B7EF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287280"/>
            <a:ext cx="701820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9486-9027-4E4D-95C2-17468188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0260-4A14-4672-AD44-0C33402E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63E9-D30D-43FD-A686-A4CCC8CD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1BE0-BEB1-41CF-B148-50F22EF6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AA544-2991-4525-9059-A740B5B1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E125-E645-4345-BE28-1D72CE44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1F36-63F2-4290-AC91-46B4B4D7C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A1B7-B6A3-4238-8F31-E25DF431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EF30-1C93-43B4-8882-B738B516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486-6F90-402C-AD22-AE9F8A68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5271-5117-464B-9DBC-C72FA44E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87280"/>
            <a:ext cx="701820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D14B-E022-448C-AA3C-C4679382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95CB-91C6-43D6-94B3-5B9E25EF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3680-DAA5-428F-BB18-C30816B1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5C4-85FC-46E8-BC5F-C61DFF5F1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1E5CEA-CF7B-4318-AD95-25D6600BFDE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58680" y="108000"/>
            <a:ext cx="7794720" cy="1608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 fontScale="71000"/>
          </a:bodyPr>
          <a:p>
            <a:pPr marL="243360" indent="0">
              <a:lnSpc>
                <a:spcPct val="93000"/>
              </a:lnSpc>
              <a:spcAft>
                <a:spcPts val="203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243360" indent="-243360">
              <a:lnSpc>
                <a:spcPct val="93000"/>
              </a:lnSpc>
              <a:spcAft>
                <a:spcPts val="203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243360">
              <a:lnSpc>
                <a:spcPct val="93000"/>
              </a:lnSpc>
              <a:spcAft>
                <a:spcPts val="203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3" marL="243360" indent="-243360">
              <a:lnSpc>
                <a:spcPct val="93000"/>
              </a:lnSpc>
              <a:spcAft>
                <a:spcPts val="203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4" marL="243360" indent="-243360">
              <a:lnSpc>
                <a:spcPct val="93000"/>
              </a:lnSpc>
              <a:spcAft>
                <a:spcPts val="20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5" marL="243360" indent="-243360">
              <a:lnSpc>
                <a:spcPct val="93000"/>
              </a:lnSpc>
              <a:spcAft>
                <a:spcPts val="20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6" marL="243360" indent="-243360">
              <a:lnSpc>
                <a:spcPct val="93000"/>
              </a:lnSpc>
              <a:spcAft>
                <a:spcPts val="20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99F59-3736-4B40-8800-57427DD6CE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03280" y="287280"/>
            <a:ext cx="7020000" cy="57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2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Droid Sans Fallback"/>
              </a:rPr>
              <a:t>Задач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Droid Sans Fallback"/>
              </a:rPr>
              <a:t>воспитательно — образовательной деятельности в младшей груп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Ознакомление с миром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Дать представления о свойствах воды, песка, сн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Формировать умение понимать простейшие взаимосвязи в природе (чтобы растение росло, нужно его поливать и т. п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оказать, как растут комнатные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отражать полученные впечатления в речи и продуктивных видах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Образовательная область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«РЕЧЕВОЕ РАЗВИТ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6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Воспитывать интерес и любовь к чтению; развивать литературную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точнять названия и назначение предметов одежды, обуви, головных уборов, посуды, мебели, видов тран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понимать обобщающие слова (одежда, посуда, мебель, овощи, фрукты, птицы и т. п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родолжать учить детей внятно произносить в словах гласные и некоторые согласные зв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Вырабатывать правильный темп речи, интонационную вырази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Образовательная област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 «РЕЧЕВОЕ РАЗВИТ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4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детей согласовывать прилагательные с существительными в роде, числе, паде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омогать детям употреблять в речи имена существительные в форме единственного и множественного числа, обозначающие животных и их детенышей; форму множественного числа существительных в родительном падеже (ленточек, матрешек, книг, груш, сли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Вовлекать детей в разговор во время рассматривания предметов, картин, иллюстраций; наблюдений за живыми объектами; после просмотра спектаклей, мультфиль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Приобщение к художественной литера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Воспитывать умение слушать новые сказки, рассказы, стихи, следить за развитием действия, сопереживать героям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инсценировать  небольшие отрывки из народных ска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детей читать наизусть потешки и небольшие стихотво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70200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разовательная область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ХУДОЖЕСТВЕННО-ЭСТЕТИЧЕСКОЕ РАЗВИТ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0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правильно держать карандаш, фломастер, кисть, не напрягая мышц и не сжимая сильно пальцы; добиваться свободного движения руки с карандашом и кистью во время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акреплять знание названий цветов (красный, синий, зеленый, желтый, белый, черный), познакомить с оттенками (розовый, голубой, серы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Обращать внимание детей на подбор цвета, соответствующего изображаемому предм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располагать изображения по всему лис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Ле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раскатывать комочки прямыми и круговыми движениями, соединять концы получившейся палочки, сплющивать шар, сминая его ладонями обеих р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создавать предметы, состоящие из 2–3 частей, соединяя их путем прижимания друг к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акреплять умение аккуратно пользоваться глиной, класть комочки и вылепленные предметы на доще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Аппл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2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предварительно выкладывать на листе бумаги готовые детали разной формы, величины, цвета, составляя изображение  и наклеивать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аккуратно пользоваться клеем: намазывать его кисточкой тонким слоем на обратную сторону наклеиваемой фигуры; прикладывать стороной, намазанной клеем, к листу бумаги и плотно прижимать салфет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создавать в аппликации на бумаге  предметные и декоративные композиции из геометрических форм и природных материалов, повторяя и чередуя их по форме и цв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Конструктивно-модель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различать, называть и использовать основные строительные детали (кубики, кирпичики, пластины, цилиндры, трехгранные приз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изменять постройки двумя способами: заменяя одни детали другими или надстраивая их в высоту, длину (низкая и высокая башенка, короткий и длинный поезд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родолжать учить детей обыгрывать постройки, объединять их по сюжету: дорожка и дома — улица; стол, стул, диван — мебель для куко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Образовательная область «ФИЗИЧЕСКОЕ РАЗВИТ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6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энергично отталкиваться двумя ногами и правильно приземляться в прыжках с высоты, на месте и с продвижением впе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акреплять умение энергично отталкивать мячи при катании, бросании, учить ловить мяч двумя руками одноврем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Обучать хвату за перекладину во время лаза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сохранять правильную осанку в положениях сидя, стоя, в движении, при выполнении упражнений в равнове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реагировать на сигналы «беги», «лови», «стой» и др.; выполнять правила в подвижных иг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34440"/>
            <a:ext cx="7199280" cy="1203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тельная область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СОЦИАЛЬНО-КОММУНИКАТИВНОЕ РАЗВИТ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8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Совершенствовать культурно-гигиенические навыки, формировать простейшие навыки поведения во время еды, ум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детей самостоятельно одеваться и раздеваться в определенной последова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Воспитывать навыки опрятности, умение замечать непорядок в одежде и устранять 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Формировать желание участвовать в посильном труде, умение преодолевать небольшие труд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Формирование основ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3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Формировать представления о простейших взаимосвязях в живой и неживой природе. Знакомить с правилами поведения в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накомить детей с правилами дорожно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накомить с источниками опасности дома (горячая плита, утюг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Формировать умение соблюдать правила в играх с мелкими предм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звивать умение обращаться за помощью к взрослым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-287280"/>
            <a:ext cx="702000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Образовательная область «ПОЗНАВАТЕЛЬНОЕ РАЗВИТИЕ»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Формирование элементарных математических представлений: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6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звивать умение видеть общий признак предметов групп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составлять группы из однородных предметов и выделять из них отдельные предметы; различать понятия «много», «один», «по одному», «ни одного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Сравнивать две равные (неравные) группы предметов на основе взаимного сопоставления элементов (предметов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устанавливать равенство между неравными по количеству группами предметов путем добавления одного предмета или предметов к меньшей по количеству группе или убавления одного предмета из большей групп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Формирование элементарных математических представл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ивать предметы контрастных и одинаковых размеров;  обозначать результат сравнения сло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звивать умение ориентироваться в расположении частей своего тела и в соответствии с ними различать пространственные направления от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зличать правую и левую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ориентироваться в контрастных частях суто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день — ночь, утро — веч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Сенсорное развит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0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Создавать условия для ознакомления детей с цветом, формой, величиной, осязаемыми свойствами предметов (теплый, холодный, твердый, мягкий, пушистый и т. 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звивать умение воспринимать звучание различных музыкальных инструментов, родной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акреплять умение выделять цвет, форму, величину как особые свойства предметов; группировать однородные предметы по нескольким сенсорным признакам: величине, форме, цв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одсказывать детям название форм (круглая, треугольная, прямоугольная и квадратна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Ознакомление с предметным окруже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8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обуждать вычленять некоторые особенности предметов домашнего обихода (части, размеры, форму, цвет), устанавливать связи между строением и функ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сширять представления детей о свойствах (прочность, твердость, мягкость) материала (дерево, бумага, ткань, гли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редлагать группировать (чайная, столовая, кухонная посуда) и классифицировать (посуда — одежда) хорошо знакомые предм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ссказывать о том, что одни предметы сделаны руками человека (посуда, мебель и т. п.), другие созданы природой (камень, шишк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Ознакомление с социальным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накомить с театром через мини-спектакли и представления, а также через игры-драматизации по произведениям детск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накомить с ближайшим окружением (основными объектами городской инфраструктуры): дом, улица, магазин, поликлиника, парикмахерск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ссказывать детям о понятных им профессиях, расширять и обогащать представления о трудовых действиях, результатах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Ознакомление с миром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6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сширять представления детей о растениях и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наблюдать за птицами,  подкармливать их зи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сширять представления детей о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отличать и называть по внешнему виду овощи, фрукты,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Дать элементарные представления о растениях данной местности: деревьях, цветущих травянистых раст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накомить с характерными особенностями следующих друг за другом времен года и теми изменениями, которые происходят в связи с этим в жизни и деятельности взрослых 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3T09:36:25Z</dcterms:created>
  <dc:creator/>
  <dc:description/>
  <dc:language>en-US</dc:language>
  <cp:lastModifiedBy/>
  <dcterms:modified xsi:type="dcterms:W3CDTF">2016-10-23T11:34:05Z</dcterms:modified>
  <cp:revision>1</cp:revision>
  <dc:subject/>
  <dc:title/>
</cp:coreProperties>
</file>