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1CD7-6597-4A3A-924C-255AB5325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804-406D-4CDB-AB66-BAA8771A9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CEF3-C6DC-40FE-A434-3A9BBC02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0C04-B3A0-4D16-8659-6D255A0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27FD-EAFB-4672-B2CE-51A6F7259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5FAF-5EB9-40C5-8795-998679AB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A279-26E2-4BCC-9FB3-829663DC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D92D-9375-4178-BA80-A71CBD8F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C2A6-1858-43BA-944A-7651A4C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7018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C483-0311-466F-9633-D1A5020F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EAC9-5E22-4DF4-B6E2-ED29B7D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5014-A7FB-4F00-98A8-6DE54D77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D1A9-65BA-463C-835C-7BEAF096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AC39D-25C7-409C-8B3A-E59F24E9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00937-7755-4316-835F-0DE79AB3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CF27-EBBA-4234-A680-55841066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7012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36960" y="18237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29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7012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36960" y="4113360"/>
            <a:ext cx="29206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CB57-D1F8-4A23-A04C-C5CE59258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073B-19FD-4BF1-A8E3-E1F4D7BF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507E-CBDB-47C3-A8A5-231313316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DD75-32D7-4D22-951E-2AA1F43E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87280"/>
            <a:ext cx="7018200" cy="57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19F-56A1-40D0-8639-AA21C371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6060-4355-449E-8DCE-68BF1AD49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1133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96BF-BEF5-465F-8C95-B2052A08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823760"/>
            <a:ext cx="44265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113360"/>
            <a:ext cx="907092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573E-2296-4B99-95F2-9BE5BFDA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8C9B48-841F-4651-A025-7D7A464757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-58680" y="108000"/>
            <a:ext cx="7794720" cy="1608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287280"/>
            <a:ext cx="701820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6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1823760"/>
            <a:ext cx="9070920" cy="4383000"/>
          </a:xfrm>
          <a:prstGeom prst="rect">
            <a:avLst/>
          </a:prstGeom>
          <a:noFill/>
          <a:ln w="0">
            <a:noFill/>
          </a:ln>
        </p:spPr>
        <p:txBody>
          <a:bodyPr lIns="0" rIns="0" tIns="41040" bIns="0" anchor="t">
            <a:normAutofit fontScale="71000"/>
          </a:bodyPr>
          <a:p>
            <a:pPr marL="243360" indent="0">
              <a:lnSpc>
                <a:spcPct val="93000"/>
              </a:lnSpc>
              <a:spcAft>
                <a:spcPts val="203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1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2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3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4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5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lvl="6" marL="243360" indent="-243360">
              <a:lnSpc>
                <a:spcPct val="93000"/>
              </a:lnSpc>
              <a:spcAft>
                <a:spcPts val="203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44664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7C2B1-75D2-4E65-AE0F-4859B480FE5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03280" y="287280"/>
            <a:ext cx="7020000" cy="57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204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Droid Sans Fallback"/>
              </a:rPr>
              <a:t>Задач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  <a:ea typeface="Droid Sans Fallback"/>
              </a:rPr>
              <a:t>воспитательно — образовательной деятельности в младшей групп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миром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ать представления о свойствах воды, песка, сне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умение понимать простейшие взаимосвязи в природе (чтобы растение росло, нужно его поливать и т. п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казать, как растут комнатные рас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тражать полученные впечатления в речи и продуктивных видах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«РЕЧЕВ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интерес и любовь к чтению; развивать литературную ре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точнять названия и назначение предметов одежды, обуви, головных уборов, посуды, мебели, видов транс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онимать обобщающие слова (одежда, посуда, мебель, овощи, фрукты, птицы и т. п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должать учить детей внятно произносить в словах гласные и некоторые согласные зв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ырабатывать правильный темп речи, интонационную выразительнос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 «РЕЧЕВ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4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согласовывать прилагательные с существительными в роде, числе, паде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могать детям употреблять в речи имена существительные в форме единственного и множественного числа, обозначающие животных и их детенышей; форму множественного числа существительных в родительном падеже (ленточек, матрешек, книг, груш, сли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влекать детей в разговор во время рассматривания предметов, картин, иллюстраций; наблюдений за живыми объектами; после просмотра спектаклей, мультфильм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Приобщение к художественной литерату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умение слушать новые сказки, рассказы, стихи, следить за развитием действия, сопереживать героям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инсценировать  небольшие отрывки из народных сказ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читать наизусть потешки и небольшие стихотво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7020000" cy="13539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Образовательная область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ХУДОЖЕСТВЕННО-ЭСТЕТИЧЕСК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0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равильно держать карандаш, фломастер, кисть, не напрягая мышц и не сжимая сильно пальцы; добиваться свободного движения руки с карандашом и кистью во время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знание названий цветов (красный, синий, зеленый, желтый, белый, черный), познакомить с оттенками (розовый, голубой, серый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Обращать внимание детей на подбор цвета, соответствующего изображаемому предм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сполагать изображения по всему лис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Леп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скатывать комочки прямыми и круговыми движениями, соединять концы получившейся палочки, сплющивать шар, сминая его ладонями обеих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здавать предметы, состоящие из 2–3 частей, соединяя их путем прижимания друг к др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аккуратно пользоваться глиной, класть комочки и вылепленные предметы на дощеч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Апплик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2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предварительно выкладывать на листе бумаги готовые детали разной формы, величины, цвета, составляя изображение  и наклеивать 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аккуратно пользоваться клеем: намазывать его кисточкой тонким слоем на обратную сторону наклеиваемой фигуры; прикладывать стороной, намазанной клеем, к листу бумаги и плотно прижимать салфет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здавать в аппликации на бумаге  предметные и декоративные композиции из геометрических форм и природных материалов, повторяя и чередуя их по форме и ц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Конструктивно-мод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азличать, называть и использовать основные строительные детали (кубики, кирпичики, пластины, цилиндры, трехгранные приз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изменять постройки двумя способами: заменяя одни детали другими или надстраивая их в высоту, длину (низкая и высокая башенка, короткий и длинный поезд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одолжать учить детей обыгрывать постройки, объединять их по сюжету: дорожка и дома — улица; стол, стул, диван — мебель для куко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«ФИЗИЧЕСКОЕ РАЗВИТ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энергично отталкиваться двумя ногами и правильно приземляться в прыжках с высоты, на месте и с продвижением впере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энергично отталкивать мячи при катании, бросании, учить ловить мяч двумя руками одновремен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Обучать хвату за перекладину во время лазан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хранять правильную осанку в положениях сидя, стоя, в движении, при выполнении упражнений в равнове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реагировать на сигналы «беги», «лови», «стой» и др.; выполнять правила в подвижных игр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3280" y="334440"/>
            <a:ext cx="719928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Образовательная область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«СОЦИАЛЬНО-КОММУНИКАТИВНОЕ РАЗВИТ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8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вершенствовать культурно-гигиенические навыки, формировать простейшие навыки поведения во время еды, умы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детей самостоятельно одеваться и раздеваться в определенной последова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Воспитывать навыки опрятности, умение замечать непорядок в одежде и устранять е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желание участвовать в посильном труде, умение преодолевать небольшие труд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основ безопас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3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представления о простейших взаимосвязях в живой и неживой природе. Знакомить с правилами поведения в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детей с правилами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источниками опасности дома (горячая плита, утюг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Формировать умение соблюдать правила в играх с мелкими предме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обращаться за помощью к взрослым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-287280"/>
            <a:ext cx="7020000" cy="2401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бразовательная область «ПОЗНАВАТЕЛЬНОЕ РАЗВИТИЕ»</a:t>
            </a:r>
            <a:br>
              <a:rPr sz="3200"/>
            </a:b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элементарных математических представлений:</a:t>
            </a:r>
            <a:br>
              <a:rPr sz="32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видеть общий признак предметов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составлять группы из однородных предметов и выделять из них отдельные предметы; различать понятия «много», «один», «по одному», «ни одного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равнивать две равные (неравные) группы предметов на основе взаимного сопоставления элементов (предметов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устанавливать равенство между неравными по количеству группами предметов путем добавления одного предмета или предметов к меньшей по количеству группе или убавления одного предмета из большей групп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Формирование элементарных математических представл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равнивать предметы контрастных и одинаковых размеров;  обозначать результат сравнения слов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ориентироваться в расположении частей своего тела и в соответствии с ними различать пространственные направления от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личать правую и левую ру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риентироваться в контрастных частях сут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ень — ночь, утро — веч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Сенсорное развит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90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Создавать условия для ознакомления детей с цветом, формой, величиной, осязаемыми свойствами предметов (теплый, холодный, твердый, мягкий, пушистый и т. 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звивать умение воспринимать звучание различных музыкальных инструментов, родн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акреплять умение выделять цвет, форму, величину как особые свойства предметов; группировать однородные предметы по нескольким сенсорным признакам: величине, форме, цв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дсказывать детям название форм (круглая, треугольная, прямоугольная и квадратна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предметным окружение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8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обуждать вычленять некоторые особенности предметов домашнего обихода (части, размеры, форму, цвет), устанавливать связи между строением и функци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свойствах (прочность, твердость, мягкость) материала (дерево, бумага, ткань, глин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Предлагать группировать (чайная, столовая, кухонная посуда) и классифицировать (посуда — одежда) хорошо знакомы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сказывать о том, что одни предметы сделаны руками человека (посуда, мебель и т. п.), другие созданы природой (камень, шишки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социальным ми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театром через мини-спектакли и представления, а также через игры-драматизации по произведениям детской литерату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ближайшим окружением (основными объектами городской инфраструктуры): дом, улица, магазин, поликлиника, парикмахерска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сказывать детям о понятных им профессиях, расширять и обогащать представления о трудовых действиях, результатах тру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3280" y="287280"/>
            <a:ext cx="7020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Droid Sans Fallback"/>
              </a:rPr>
              <a:t>Ознакомление с миром прир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1823760"/>
            <a:ext cx="907236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 fontScale="86000"/>
          </a:bodyPr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растениях и живо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наблюдать за птицами,  подкармливать их зи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Расширять представления детей о насеком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Учить отличать и называть по внешнему виду овощи, фрукты, яг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Дать элементарные представления о растениях данной местности: деревьях, цветущих травянистых растени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spcAft>
                <a:spcPts val="203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roid Sans Fallback"/>
              </a:rPr>
              <a:t>Знакомить с характерными особенностями следующих друг за другом времен года и теми изменениями, которые происходят в связи с этим в жизни и деятельности взрослых и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3T09:36:25Z</dcterms:created>
  <dc:creator/>
  <dc:description/>
  <dc:language>en-US</dc:language>
  <cp:lastModifiedBy/>
  <dcterms:modified xsi:type="dcterms:W3CDTF">2016-10-23T11:34:05Z</dcterms:modified>
  <cp:revision>1</cp:revision>
  <dc:subject/>
  <dc:title/>
</cp:coreProperties>
</file>