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80E-A3FB-45D8-9154-BC8FE890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0E6-F7AC-4C43-9691-732C18D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B9C-5624-421C-A168-D6E77BA9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9E0-38AC-48F8-B7A3-635D6781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F88-C819-4CF8-8888-581EE42C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8938-7F52-4C74-9DF7-DB32223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7E48-1CF3-44BA-8943-8306A9D9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152-C6C9-4D09-ABB7-A6081921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FE85-6703-4DE0-A262-D555D27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216000"/>
            <a:ext cx="907092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D4E-5CDC-429B-9665-30D179F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1E9F-E881-4FBB-8E6F-5E91E74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101-B2D6-4599-89CB-E5F71955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2266-5056-4DA1-87CD-1E53580E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068-3EB5-4B48-BD54-27BEB1F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F882-A244-4EBA-BE53-79739C02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C220-1E44-436A-A34B-A384060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012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6960" y="136836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012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6960" y="3085200"/>
            <a:ext cx="29206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DDDA-166B-4339-B9CC-6BAE5EF8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9A0-D818-4A44-884D-A69D357F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61E-1F56-4D53-907F-B0DF5569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6FE-554E-41E0-BBF2-FAFA8DE0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16000"/>
            <a:ext cx="907092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1B9-95A2-4714-899F-15DFD0F5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224-8F36-4430-A3E7-034DF77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08520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DDE-2B52-49A7-9681-F1B2A47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368360"/>
            <a:ext cx="44265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85200"/>
            <a:ext cx="907092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C33-6394-4BE4-B3F9-F693E1B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BF191-D328-469F-8297-4FC6F6490DC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7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16000"/>
            <a:ext cx="9070920" cy="6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664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E33B9-8E19-41E6-A6AE-66D33C1C6E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3280" y="1243080"/>
            <a:ext cx="90723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образовательной деятельности в средне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C726-60D2-43E3-8C42-B73E87CB69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Лепка и аппликация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ищипыванию с легким оттягиванием всех краев сплюснутого шара, вытягиванию отдельных частей из целого куска, прищипыванию мелких деталей (ушки у котенка, клюв у птички). Учить сглаживать пальцами поверхность вылепленного предмета, фигу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иемам вдавливания середины шара, цилиндра для получения полой фо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у детей умение правильно держать ножницы и пользоваться 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вырезать круглые формы из квадрата и овальные из прямоугольника путем скругления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27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14A-C962-4331-AA77-E5DFA6D0D9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44000"/>
            <a:ext cx="9504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Конструктивно-модельная деятельность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90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развивать у детей способность различать и называть строительные детали (куб, пластина, кирпичик, брусо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ооружать постройки из крупного и мелкого строительного материала, использовать детали разного цвета для создания и украшения постро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ть конструированию из бумаги: сгибать прямоугольный лист бумаги пополам, совмещая стороны и уг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щать детей к изготовлению поделок из природ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FBCD-B5AB-4B20-9847-12DB2354030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72720"/>
            <a:ext cx="90723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ормирование начальных представлений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 здоровом образе жизни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е о значении частей тела и органов чувств для жизни и здоровья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е о необходимых человеку веществах и витами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устанавливать связь между совершаемым действием и состоянием организма, самочувств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я о здоровом образе жизни; о значении физических упражнений для организм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878D-8086-4303-BFEA-073F921A03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изическая культура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008000"/>
            <a:ext cx="907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5000"/>
          </a:bodyPr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авильную оса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и развивать умение ходить и бегать с согласованными движениями рук и ног, ползать, пролезать, подлезать, перелезать через предм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 отталкиваться и правильно приземляться в прыжках на двух ног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прыжкам через короткую скакал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умение отбивать мяч о землю правой и левой рукой, бросать и ловить его кистями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ходить на лыжах скользящим шагом, выполнять повороты, подниматься на го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840" indent="-2750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осознанно относиться к выполнению правил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A3C6-F429-4728-88AB-326A3D13FE9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ЭМП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223640"/>
            <a:ext cx="9288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равнивать части множества на основе составления пар предметов (не прибегая к счету) и на основе сч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считать до 5, пользуясь правильными приемами сч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представления о порядковом сче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ь уравнивать неравные группы двумя способ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ть умение сравнивать два предмета по величине (длине, ширине, высот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ть размерные отношения между 3–5 предметами разной длины (ширины, высо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871-7663-4497-A397-70F0077014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ФЭМП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007640"/>
            <a:ext cx="92152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представления детей о геометрических фигурах: круге, квадрате, треугольнике, а также шаре, кубе. Познакомить с прямоугольн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оотносить форму предметов с известными геометрическими фигу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я определять пространственные направления от себя, двигаться в заданном напра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частях суток, их характерных особенностях, последова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ь значение слов: «вчера», «сегодня», «завт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A625-1EE9-4FC2-AE37-F599C0DF69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предметным окружением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детей с признаками предметов, побуждать определять их цвет, форму, величину, ве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материалах (стекло, металл, резина, кожа, пластмасса), из которых сделаны предметы, об их свойствах и качествах. Объяснять целесообразность изготовления предмета из определе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элементарные представления об изменении видов человеческого труда и быта на примере истории игрушки и предметов оби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1AAB-FCDB-47E7-B93E-E0E176B574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социальным миром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368360"/>
            <a:ext cx="9072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9000"/>
          </a:bodyPr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о правилах поведения в общественных мес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с культурными явлениями (театром, цирком, зоопарком), их атрибутами, людьми, работающими в них, правилами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самых красивых местах родного города, его достопримечательност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 Российской армии, о воинах, которые охраняют нашу Род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знакомить с различными профессиями, расширять и обогащать представления о трудовых действиях, орудиях труда, результатах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деньгами, возможностями их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9973-3F64-462C-A59C-BBB7D95524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Ознакомление с миром природы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6360" y="1079640"/>
            <a:ext cx="91440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9000"/>
          </a:bodyPr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представления детей об условиях, необходимых для жизни людей, животных, растений (воздух, вода, питание и т. 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ть об охране растений и живот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пытнической деятельности расширять представления детей о свойствах песка, глины и кам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узнавать и называть 3–4 вида дерев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знания детей о травянистых и комнатных растениях, знакомить со способами ухода за н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о фруктах, овощах, ягодах и гриб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ять представления детей о некоторых насеком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25560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ить детей с представителями класса пресмыкающихся (ящерица, черепаха), их внешним видом и способами пере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5C8-F57C-40FD-8DDF-35AC5D522D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Развитие речи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152000"/>
            <a:ext cx="90723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8000"/>
          </a:bodyPr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правильное произношение гласных и согласных звуков, отрабатывать произношение свистящих, шипящих и сонорных (р, л) звуков. Развивать артикуляционный ап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работу над дикцией: совершенствовать отчетливое произнесение слов и словосочет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различать на слух и называть слова, начинающиеся на определенный зв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ть интонационную выразительность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формировать у детей умение согласовывать слова в предложении, правильно использовать предлоги в реч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2523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минать правильные формы повелительного наклонения некоторых глаголов (Ляг! Лежи! Поезжай! Беги! и т. п.), несклоняемых существительных (пальто, пианино, кофе, как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0648-9B7F-40F2-83C4-25BCBE5E91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Художественно — эстетическое развитие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36800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3000"/>
          </a:bodyPr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различать жанры и виды искусства: стихи, проза, загадки (литература), песни, танцы, музыка, картина (репродукция), скульптура (изобразительное искусство), здание и сооружение (архитекту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детей с архитек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внимание детей к сходству и различиям разных зданий, поощрять самостоятельное выделение частей здания, его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библиотекой как центром хранения книг, созданных писателями и поэ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оизведениям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3BB3-EF58-47C6-B60C-A111C1EE9C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9072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Рисование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079640"/>
            <a:ext cx="9072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1000"/>
          </a:bodyPr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представления о форме предметов, величине, расположении ча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ять внимание детей на передачу соотношения предметов по велич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уже известным цветам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тенк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бавить новые (коричневый, оранжевый, светло-зеленый); формировать представление о том, как можно получить эт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ять умение правильно держать карандаш, кисть, фломас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етей закрашивать рисунки кистью, карандашом, проводя линии и штрихи только в одном напра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560" indent="-262080">
              <a:lnSpc>
                <a:spcPct val="93000"/>
              </a:lnSpc>
              <a:spcAft>
                <a:spcPts val="1063"/>
              </a:spcAft>
              <a:buClr>
                <a:srgbClr val="0066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формировать умение создавать декоративные композиции по мотивам дымковских, филимоновских узоров. Познакомить детей с городецкими издел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AC93-1C75-4964-84C0-38CE25395B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1T13:23:14Z</dcterms:created>
  <dc:creator/>
  <dc:description/>
  <dc:language>en-US</dc:language>
  <cp:lastModifiedBy/>
  <dcterms:modified xsi:type="dcterms:W3CDTF">2017-10-01T15:26:21Z</dcterms:modified>
  <cp:revision>2</cp:revision>
  <dc:subject/>
  <dc:title>DNA</dc:title>
</cp:coreProperties>
</file>