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8858-EF3D-4BAA-BC7A-739EFF20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308520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4EDF-5D2C-412F-AAA5-09C3B7EC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24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308520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240" y="308520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A80-65BD-49AD-AAF0-6393B13A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0120" y="13683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6960" y="13683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308520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0120" y="308520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6960" y="308520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27B3-1D36-4F10-B770-3C709D95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7699-A8A8-494D-B871-DC1CC065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36836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0E5F-30AA-4F4D-BEEB-9CE40486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668A-3AF8-4877-9BB1-6D0BD10B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1240" y="136836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A170-A207-41C8-9EAB-CAB7BE88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80FE-7BB5-4E89-9C03-93A32B92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216000"/>
            <a:ext cx="907092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9CA8-F1AB-49A3-B25D-DC3DBBBA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36836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308520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7324-9C86-4FEF-BD5C-FC1BC402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36836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756E-845A-4F1D-9691-12236772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124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1240" y="308520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1F45-7C88-434A-BDB2-14A7B18C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124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308520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7100-B93E-4EB5-A4AA-4F54EF3F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308520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56EA-0A2F-4389-B280-D7326DF3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124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308520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1240" y="308520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DB0F-09BE-4453-9826-91BE20B9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70120" y="13683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6960" y="13683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308520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70120" y="308520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6960" y="308520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8E81-FA19-47BE-941F-543FEDE4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B732-1923-4A6A-8C91-332F3FE0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240" y="136836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0439-0615-4342-B30B-6F355259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BDE8-9CB6-4D12-8242-C17402DD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920" y="216000"/>
            <a:ext cx="907092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2D71-CFF1-43F8-BA1D-68E4D665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240" y="136836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308520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A7CC-AAE7-4286-841C-8BF82D19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24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240" y="308520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9FF6-EFF2-46A3-9961-DC6E58D6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24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308520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9BD6-0AF2-4486-9D5B-A5DFA9B4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5400" cy="567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50505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84000" y="5164200"/>
            <a:ext cx="23461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86280" y="5164200"/>
            <a:ext cx="31939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5164200"/>
            <a:ext cx="23464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2D76D-01EC-408C-966B-C337FD92BA9D}" type="slidenum"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567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36836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02920" y="5164200"/>
            <a:ext cx="23461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446640" y="5164200"/>
            <a:ext cx="31939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26280" y="5164200"/>
            <a:ext cx="23464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8870D-53AD-439C-96EF-87DBBC402C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f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03280" y="1243080"/>
            <a:ext cx="9072360" cy="30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и образовательной деятельности в средней групп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4BB8-C521-462C-8ED4-264AD7348E7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9072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Лепка и аппликация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368000"/>
            <a:ext cx="9072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1000"/>
          </a:bodyPr>
          <a:p>
            <a:pPr marL="392760" indent="-29448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прищипыванию с легким оттягиванием всех краев сплюснутого шара, вытягиванию отдельных частей из целого куска, прищипыванию мелких деталей (ушки у котенка, клюв у птички). Учить сглаживать пальцами поверхность вылепленного предмета, фигур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приемам вдавливания середины шара, цилиндра для получения полой фор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ть у детей умение правильно держать ножницы и пользоваться и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вырезать круглые формы из квадрата и овальные из прямоугольника путем скругления уг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27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0DE5-E6EB-4C20-A6E9-D084B855FA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000" y="144000"/>
            <a:ext cx="95043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Конструктивно-модельная деятельность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079280"/>
            <a:ext cx="90723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ать развивать у детей способность различать и называть строительные детали (куб, пластина, кирпичик, брусо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сооружать постройки из крупного и мелкого строительного материала, использовать детали разного цвета для создания и украшения построе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ать конструированию из бумаги: сгибать прямоугольный лист бумаги пополам, совмещая стороны и уг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общать детей к изготовлению поделок из природн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A2C8-2B6F-471F-BCE4-45CD299DDCE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72720"/>
            <a:ext cx="907236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Формирование начальных представлений</a:t>
            </a:r>
            <a:br>
              <a:rPr sz="3300"/>
            </a:b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о здоровом образе жизни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368000"/>
            <a:ext cx="907236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7000"/>
          </a:bodyPr>
          <a:p>
            <a:pPr marL="418680" indent="-31392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ть представление о значении частей тела и органов чувств для жизни и здоровья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ть представление о необходимых человеку веществах и витамин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умение устанавливать связь между совершаемым действием и состоянием организма, самочувстви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ть представления о здоровом образе жизни; о значении физических упражнений для организма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B100-5E1F-408A-B28F-25E52BC409E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92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Физическая культура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008000"/>
            <a:ext cx="90723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5000"/>
          </a:bodyPr>
          <a:p>
            <a:pPr marL="366840" indent="-2750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ть правильную осан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-2750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ять и развивать умение ходить и бегать с согласованными движениями рук и ног, ползать, пролезать, подлезать, перелезать через предме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-2750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 отталкиваться и правильно приземляться в прыжках на двух ног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-2750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прыжкам через короткую скакал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-2750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ять умение отбивать мяч о землю правой и левой рукой, бросать и ловить его кистями ру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-2750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детей ходить на лыжах скользящим шагом, выполнять повороты, подниматься на го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-2750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осознанно относиться к выполнению правил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9CC9-A393-4F15-ACDE-55A725D58E0E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9072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ФЭМП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1640" y="1223640"/>
            <a:ext cx="92887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ь сравнивать части множества на основе составления пар предметов (не прибегая к счету) и на основе сч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ь считать до 5, пользуясь правильными приемами сч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ть представления о порядковом счет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ь уравнивать неравные группы двумя способ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ствовать умение сравнивать два предмета по величине (длине, ширине, высот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авливать размерные отношения между 3–5 предметами разной длины (ширины, высот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1E98-28F8-4D7B-81A5-25CD921F390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9072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ФЭМП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1007640"/>
            <a:ext cx="92152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представления детей о геометрических фигурах: круге, квадрате, треугольнике, а также шаре, кубе. Познакомить с прямоугольни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соотносить форму предметов с известными геометрическими фигур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умения определять пространственные направления от себя, двигаться в заданном направл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ять представления детей о частях суток, их характерных особенностях, последова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снить значение слов: «вчера», «сегодня», «завтр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9A2F-4531-4F24-9B9A-262477A26D5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9072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Ознакомление с предметным окружением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368000"/>
            <a:ext cx="907236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8000"/>
          </a:bodyPr>
          <a:p>
            <a:pPr marL="423000" indent="-31716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ать знакомить детей с признаками предметов, побуждать определять их цвет, форму, величину, ве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зывать о материалах (стекло, металл, резина, кожа, пластмасса), из которых сделаны предметы, об их свойствах и качествах. Объяснять целесообразность изготовления предмета из определенного матер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ть элементарные представления об изменении видов человеческого труда и быта на примере истории игрушки и предметов обих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63D9-35C2-4611-A942-F4B4039A850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9072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Ознакомление с социальным миром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907236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79000"/>
          </a:bodyPr>
          <a:p>
            <a:pPr marL="340920" indent="-2556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ять представления о правилах поведения в общественных мест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2556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ать знакомить с культурными явлениями (театром, цирком, зоопарком), их атрибутами, людьми, работающими в них, правилами по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2556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зывать о самых красивых местах родного города, его достопримечательност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2556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зывать о Российской армии, о воинах, которые охраняют нашу Роди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2556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ать знакомить с различными профессиями, расширять и обогащать представления о трудовых действиях, орудиях труда, результатах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2556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ь детей с деньгами, возможностями их исполь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8057-9012-4644-94ED-747E4CF7AF0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9072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Ознакомление с миром природы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6360" y="1079640"/>
            <a:ext cx="914400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79000"/>
          </a:bodyPr>
          <a:p>
            <a:pPr marL="340920" indent="-2556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ять представления детей об условиях, необходимых для жизни людей, животных, растений (воздух, вода, питание и т. п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2556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зывать об охране растений и живот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2556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цессе опытнической деятельности расширять представления детей о свойствах песка, глины и кам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2556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узнавать и называть 3–4 вида деревь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2556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ять знания детей о травянистых и комнатных растениях, знакомить со способами ухода за ни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2556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ять представления о фруктах, овощах, ягодах и гриб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2556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ять представления детей о некоторых насекомы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2556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омить детей с представителями класса пресмыкающихся (ящерица, черепаха), их внешним видом и способами передви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1BBD-FC36-45E3-AB84-90BB864CC70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9072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Развитие речи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152000"/>
            <a:ext cx="907236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78000"/>
          </a:bodyPr>
          <a:p>
            <a:pPr marL="336600" indent="-25236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ять правильное произношение гласных и согласных звуков, отрабатывать произношение свистящих, шипящих и сонорных (р, л) звуков. Развивать артикуляционный аппар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25236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ать работу над дикцией: совершенствовать отчетливое произнесение слов и словосочет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25236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различать на слух и называть слова, начинающиеся на определенный зву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25236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енствовать интонационную выразительность ре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25236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ать формировать у детей умение согласовывать слова в предложении, правильно использовать предлоги в реч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25236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оминать правильные формы повелительного наклонения некоторых глаголов (Ляг! Лежи! Поезжай! Беги! и т. п.), несклоняемых существительных (пальто, пианино, кофе, кака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4BD2-A639-40D7-8A1F-39AD8FCE218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9072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Художественно — эстетическое развитие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368000"/>
            <a:ext cx="907236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3000"/>
          </a:bodyPr>
          <a:p>
            <a:pPr marL="358200" indent="-26856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различать жанры и виды искусства: стихи, проза, загадки (литература), песни, танцы, музыка, картина (репродукция), скульптура (изобразительное искусство), здание и сооружение (архитектур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200" indent="-26856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ь детей с архитектур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200" indent="-26856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кать внимание детей к сходству и различиям разных зданий, поощрять самостоятельное выделение частей здания, его особен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200" indent="-26856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ь с библиотекой как центром хранения книг, созданных писателями и поэт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200" indent="-26856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ывать бережное отношение к произведениям искус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65A9-F136-44C8-ABE0-A906FBCFA0A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9072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Рисование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079640"/>
            <a:ext cx="90723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1000"/>
          </a:bodyPr>
          <a:p>
            <a:pPr marL="349560" indent="-26208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ть представления о форме предметов, величине, расположении ча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560" indent="-26208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авлять внимание детей на передачу соотношения предметов по величи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560" indent="-26208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уже известным цветам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тенк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бавить новые (коричневый, оранжевый, светло-зеленый); формировать представление о том, как можно получить эти цв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560" indent="-26208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ять умение правильно держать карандаш, кисть, фломасте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560" indent="-26208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детей закрашивать рисунки кистью, карандашом, проводя линии и штрихи только в одном направл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560" indent="-26208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ать формировать умение создавать декоративные композиции по мотивам дымковских, филимоновских узоров. Познакомить детей с городецкими издел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4FD4-D70F-4A85-8167-624DB402BF4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1T13:23:14Z</dcterms:created>
  <dc:creator/>
  <dc:description/>
  <dc:language>en-US</dc:language>
  <cp:lastModifiedBy/>
  <dcterms:modified xsi:type="dcterms:W3CDTF">2017-10-01T15:26:21Z</dcterms:modified>
  <cp:revision>2</cp:revision>
  <dc:subject/>
  <dc:title>DNA</dc:title>
</cp:coreProperties>
</file>