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182-6957-4ACD-9FA7-E14EF6F4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131-C945-4A85-A9CC-F4BC799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AFB-AF4F-4DED-8729-A6599DBB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27F-4454-4830-BA88-62C021D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AF94-A3F0-4EC5-A7FA-4E95516C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993C-8EBE-4A49-92A9-7CE2995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E2AF-215E-4AC9-BF1F-FDE9A6E3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758-26E7-4FA0-8404-00FED75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4B2A-40DA-40C9-B47A-91486BF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D1F-AB3F-424B-BBC4-2023EA89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DB2-4E9C-464E-A3C4-2F8E0C1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AA8-2DC5-4629-80A6-209CA9A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76C-E857-40A9-9594-E425461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712-6370-4561-B8B9-3FDB85E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E38-6E10-49AE-BAFF-48F87983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7DC-21C5-4A1E-945A-EDD4F916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684B-FF39-4BAB-9D49-19A55D44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2DC-DF18-49FA-8EC7-F29FA64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553-5912-44F3-997D-98CF3B7E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C84-5441-4043-ABE8-4B024A80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030-0AED-497D-98B3-EDC1EF04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AD3-5386-44EB-B343-0C25BE7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C1C-F97D-431B-BCF7-3AE4547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8E9-0F9D-4315-B76B-6CE08FA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A41-91C5-48C1-ACEB-AC55420EE4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BAE-1FF3-46A7-B905-5424F54CED3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ект по развитию речи «Учимся говорить правильно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508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оки реализации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тябрь 2013г - апрель 2014г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частники проекта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ети средней группы, родители, педагог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работала 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спитатель МКДОУ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Детский сад № 31 «Аленуш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аманова Ольга Александр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:\проект Ламановой\IMG_404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:\проект Ламановой\IMG_404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Схема 4" descr=""/>
          <p:cNvPicPr/>
          <p:nvPr/>
        </p:nvPicPr>
        <p:blipFill>
          <a:blip r:embed="rId1"/>
          <a:stretch/>
        </p:blipFill>
        <p:spPr>
          <a:xfrm>
            <a:off x="3578400" y="426960"/>
            <a:ext cx="5419440" cy="444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:\проект Ламановой\IMG_4039.jpg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:\проект Ламановой\IMG_4047.jpg"/>
          <p:cNvPicPr/>
          <p:nvPr/>
        </p:nvPicPr>
        <p:blipFill>
          <a:blip r:embed="rId3"/>
          <a:stretch/>
        </p:blipFill>
        <p:spPr>
          <a:xfrm>
            <a:off x="106668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ОГ ПРОЕКТ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99072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езультате реализации проекта увеличилось количество детей, у которых звукопроизношение соответствует возрастной норме с 43% до 66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-152280" y="2362320"/>
          <a:ext cx="4549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362320"/>
                    <a:ext cx="4549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"/>
          <p:cNvGraphicFramePr/>
          <p:nvPr/>
        </p:nvGraphicFramePr>
        <p:xfrm>
          <a:off x="4594320" y="2362320"/>
          <a:ext cx="454968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2362320"/>
                    <a:ext cx="4549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1"/>
          <p:cNvSpPr/>
          <p:nvPr/>
        </p:nvSpPr>
        <p:spPr>
          <a:xfrm>
            <a:off x="5410080" y="3581280"/>
            <a:ext cx="9907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8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324480" y="403848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15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00200" y="365760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10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33520" y="4114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13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435240" y="51055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чало проек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5235480" y="51055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нец проек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619560"/>
            <a:ext cx="8001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Проведя  диагностику, заполнив экран по звукопроизношению вначале учебного года </a:t>
            </a:r>
            <a:r>
              <a:rPr b="1" lang="ru-RU" sz="28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столкнулась с такой проблем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: 10 моих воспитанников (43 %)  не выговаривают или заменяют на другой 1-2 звука.  6 детей (27%) не выговаривают или заменяют 3-4 звука и у 7 детей (30%)  очень невнятная речь, как будто у них «каша во рту»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Совместно с детьми и родителями на родительском собрании  было принято решение по созданию проекта «Учимся говорить правильно», направленного  на развитие звуковой культуры реч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2744640"/>
            <a:ext cx="815328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.Б. Эльконин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исал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29000" y="914400"/>
            <a:ext cx="5486400" cy="4724280"/>
          </a:xfrm>
          <a:prstGeom prst="cloudCallout">
            <a:avLst>
              <a:gd name="adj1" fmla="val -59634"/>
              <a:gd name="adj2" fmla="val 3807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Очевидно, что развитие связной речи у ребенка и тесно связанная с ним усвоение грамматического строя невозможны вне овладения звуковой системой язы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Цель: Создание активной речевой среды для совершенствования звуковой культуры речи детей среднего возраст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Задачи:</a:t>
            </a:r>
            <a:r>
              <a:rPr b="0" i="1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обогащать предметно-развивающую среду в групп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)способствовать развитию фонематического слуха, артикуляционного аппарат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) вырабатывать интонационную выразительность реч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) повышать компетентность родителей в вопросах речевого развития ребен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Предполагаемый проектный продукт: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Книга детских рассказов (высказываний) «Говорят дети»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H:\проект Ламановой\IMG_4046.jpg"/>
          <p:cNvPicPr/>
          <p:nvPr/>
        </p:nvPicPr>
        <p:blipFill>
          <a:blip r:embed="rId1"/>
          <a:stretch/>
        </p:blipFill>
        <p:spPr>
          <a:xfrm>
            <a:off x="1371600" y="1752480"/>
            <a:ext cx="6299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Organization Chart 5"/>
          <p:cNvGrpSpPr/>
          <p:nvPr/>
        </p:nvGrpSpPr>
        <p:grpSpPr>
          <a:xfrm>
            <a:off x="2895480" y="533520"/>
            <a:ext cx="6019200" cy="5028480"/>
            <a:chOff x="2895480" y="533520"/>
            <a:chExt cx="6019200" cy="5028480"/>
          </a:xfrm>
        </p:grpSpPr>
        <p:cxnSp>
          <p:nvCxnSpPr>
            <p:cNvPr id="125" name="_s1028"/>
            <p:cNvCxnSpPr>
              <a:stCxn id="126" idx="1"/>
              <a:endCxn id="127" idx="2"/>
            </p:cNvCxnSpPr>
            <p:nvPr/>
          </p:nvCxnSpPr>
          <p:spPr>
            <a:xfrm rot="10800000">
              <a:off x="4700520" y="1446840"/>
              <a:ext cx="602640" cy="3657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8" name="_s1029"/>
            <p:cNvCxnSpPr>
              <a:stCxn id="129" idx="1"/>
              <a:endCxn id="127" idx="2"/>
            </p:cNvCxnSpPr>
            <p:nvPr/>
          </p:nvCxnSpPr>
          <p:spPr>
            <a:xfrm rot="10800000">
              <a:off x="4700520" y="1446840"/>
              <a:ext cx="602640" cy="2286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0" name="_s1030"/>
            <p:cNvCxnSpPr>
              <a:stCxn id="131" idx="1"/>
              <a:endCxn id="127" idx="2"/>
            </p:cNvCxnSpPr>
            <p:nvPr/>
          </p:nvCxnSpPr>
          <p:spPr>
            <a:xfrm rot="10800000">
              <a:off x="4700520" y="1446840"/>
              <a:ext cx="602640" cy="914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7" name="_s1031"/>
            <p:cNvSpPr/>
            <p:nvPr/>
          </p:nvSpPr>
          <p:spPr>
            <a:xfrm>
              <a:off x="2895480" y="53352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. Подготовительный этап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5303160" y="19047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Оформление центра 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ечевого развития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5303160" y="32763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абота с родителями 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анкетирование)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5303160" y="46479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Экран звукопроизношения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32" name="Picture 12" descr="H:\проект Ламановой\DSC_0200.jpg"/>
          <p:cNvPicPr/>
          <p:nvPr/>
        </p:nvPicPr>
        <p:blipFill>
          <a:blip r:embed="rId1"/>
          <a:stretch/>
        </p:blipFill>
        <p:spPr>
          <a:xfrm>
            <a:off x="152280" y="2133720"/>
            <a:ext cx="4496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7"/>
          <p:cNvGrpSpPr/>
          <p:nvPr/>
        </p:nvGrpSpPr>
        <p:grpSpPr>
          <a:xfrm>
            <a:off x="2743200" y="609480"/>
            <a:ext cx="5942880" cy="5500080"/>
            <a:chOff x="2743200" y="609480"/>
            <a:chExt cx="5942880" cy="5500080"/>
          </a:xfrm>
        </p:grpSpPr>
        <p:cxnSp>
          <p:nvCxnSpPr>
            <p:cNvPr id="134" name="_s2052"/>
            <p:cNvCxnSpPr>
              <a:stCxn id="135" idx="1"/>
              <a:endCxn id="136" idx="2"/>
            </p:cNvCxnSpPr>
            <p:nvPr/>
          </p:nvCxnSpPr>
          <p:spPr>
            <a:xfrm rot="10800000">
              <a:off x="4525200" y="1158480"/>
              <a:ext cx="594720" cy="38509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7" name="_s2053"/>
            <p:cNvCxnSpPr>
              <a:stCxn id="138" idx="1"/>
              <a:endCxn id="136" idx="2"/>
            </p:cNvCxnSpPr>
            <p:nvPr/>
          </p:nvCxnSpPr>
          <p:spPr>
            <a:xfrm rot="10800000">
              <a:off x="4525200" y="1158480"/>
              <a:ext cx="594720" cy="1375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9" name="_s2054"/>
            <p:cNvCxnSpPr>
              <a:stCxn id="140" idx="1"/>
              <a:endCxn id="136" idx="2"/>
            </p:cNvCxnSpPr>
            <p:nvPr/>
          </p:nvCxnSpPr>
          <p:spPr>
            <a:xfrm rot="10800000">
              <a:off x="4525200" y="1158480"/>
              <a:ext cx="594720" cy="3027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_s2055"/>
            <p:cNvCxnSpPr>
              <a:stCxn id="142" idx="1"/>
              <a:endCxn id="136" idx="2"/>
            </p:cNvCxnSpPr>
            <p:nvPr/>
          </p:nvCxnSpPr>
          <p:spPr>
            <a:xfrm rot="10800000">
              <a:off x="4525200" y="1158480"/>
              <a:ext cx="594720" cy="46760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" name="_s2056"/>
            <p:cNvCxnSpPr>
              <a:stCxn id="144" idx="1"/>
              <a:endCxn id="136" idx="2"/>
            </p:cNvCxnSpPr>
            <p:nvPr/>
          </p:nvCxnSpPr>
          <p:spPr>
            <a:xfrm rot="10800000">
              <a:off x="4525200" y="1158480"/>
              <a:ext cx="594720" cy="2200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2057"/>
            <p:cNvCxnSpPr>
              <a:stCxn id="146" idx="1"/>
              <a:endCxn id="136" idx="2"/>
            </p:cNvCxnSpPr>
            <p:nvPr/>
          </p:nvCxnSpPr>
          <p:spPr>
            <a:xfrm rot="10800000">
              <a:off x="4525200" y="1158480"/>
              <a:ext cx="594720" cy="550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6" name="_s2058"/>
            <p:cNvSpPr/>
            <p:nvPr/>
          </p:nvSpPr>
          <p:spPr>
            <a:xfrm>
              <a:off x="2743200" y="60948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. Этап. 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Практическая часть</a:t>
              </a:r>
              <a:r>
                <a:rPr b="0" lang="ru-RU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5120280" y="143424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артикуляционного аппарата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_s2060"/>
            <p:cNvSpPr/>
            <p:nvPr/>
          </p:nvSpPr>
          <p:spPr>
            <a:xfrm>
              <a:off x="5120280" y="308448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Развитие речевого дыхания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5120280" y="555984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Организация передвижной библиотечки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_s2062"/>
            <p:cNvSpPr/>
            <p:nvPr/>
          </p:nvSpPr>
          <p:spPr>
            <a:xfrm>
              <a:off x="5120280" y="390960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Совершенствован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фонематического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восприятия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_s2063"/>
            <p:cNvSpPr/>
            <p:nvPr/>
          </p:nvSpPr>
          <p:spPr>
            <a:xfrm>
              <a:off x="5120280" y="225936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Формирован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правильного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звукопроизношения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_s2064"/>
            <p:cNvSpPr/>
            <p:nvPr/>
          </p:nvSpPr>
          <p:spPr>
            <a:xfrm>
              <a:off x="5120280" y="473472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интонационной выразительности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47" name="Picture 17" descr="H:\проект Ламановой\IMG_4054.jpg"/>
          <p:cNvPicPr/>
          <p:nvPr/>
        </p:nvPicPr>
        <p:blipFill>
          <a:blip r:embed="rId1"/>
          <a:stretch/>
        </p:blipFill>
        <p:spPr>
          <a:xfrm>
            <a:off x="0" y="971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H:\проект Ламановой\IMG_4051.jpg"/>
          <p:cNvPicPr/>
          <p:nvPr/>
        </p:nvPicPr>
        <p:blipFill>
          <a:blip r:embed="rId2"/>
          <a:stretch/>
        </p:blipFill>
        <p:spPr>
          <a:xfrm>
            <a:off x="457200" y="28195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H:\проект Ламановой\IMG_4037.jpg"/>
          <p:cNvPicPr/>
          <p:nvPr/>
        </p:nvPicPr>
        <p:blipFill>
          <a:blip r:embed="rId3"/>
          <a:stretch/>
        </p:blipFill>
        <p:spPr>
          <a:xfrm>
            <a:off x="1600200" y="45720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:\проект Ламановой\IMG_4042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:\проект Ламановой\IMG_4043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05:41:13Z</dcterms:created>
  <dc:creator>1</dc:creator>
  <dc:description/>
  <dc:language>en-US</dc:language>
  <cp:lastModifiedBy>131</cp:lastModifiedBy>
  <dcterms:modified xsi:type="dcterms:W3CDTF">2014-04-08T12:59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