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096-462E-45E5-A4C7-3683595E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063-EAB6-4FD9-AEF2-C76477C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594-A597-4871-A373-6137DFB0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59F-BB2B-4F00-B681-77ADEB85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E425-EE47-40E9-81F0-C7889ACD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A736-34E3-4120-BC0F-E380D6B0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6642-8908-4999-B317-770F07C7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3B3C-5745-4909-9D8C-23686606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0E66-8735-490B-8481-31BE58BC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90D2-5C34-433C-9B7C-1600D585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BD71-49CC-49B4-B02A-FE9E053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A32-D9CF-462B-9CC4-6C238702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5652-4F3B-47A4-BB28-635A6D6E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E8F8-EB48-41AE-98AA-41B85927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B7CB-9446-4DB2-BB12-84882F3D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6785-2302-47E7-A6DF-F2CF1B5C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F25A-145C-4D56-8D4D-44856A9E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748-B5AF-43C9-A45E-1B55F62C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843-8114-4964-9DD7-310ADF25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75E-B1AC-40B9-9CA8-D55E953B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1DE-D122-473E-8FDE-67F41C73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F14-F283-4492-9A1B-4A3D3087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340-20C7-4DF4-9710-8395C48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05D-E0EF-4928-A774-836389DA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0AE0-407D-4026-A733-1C5DB7C8AB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F571-95C5-4684-823F-851A8A619F1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роект по развитию речи «Учимся говорить правильно»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80880" y="2361960"/>
            <a:ext cx="8508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роки реализации: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ктябрь 2013г - апрель 2014г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частники проекта: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ети средней группы, родители, педагоги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азработала 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оспитатель МКДОУ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Детский сад № 31 «Аленушка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аманова Ольга Александр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:\проект Ламановой\IMG_4044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:\проект Ламановой\IMG_4045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Схема 4" descr=""/>
          <p:cNvPicPr/>
          <p:nvPr/>
        </p:nvPicPr>
        <p:blipFill>
          <a:blip r:embed="rId1"/>
          <a:stretch/>
        </p:blipFill>
        <p:spPr>
          <a:xfrm>
            <a:off x="3578400" y="426960"/>
            <a:ext cx="5419440" cy="444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:\проект Ламановой\IMG_4039.jpg"/>
          <p:cNvPicPr/>
          <p:nvPr/>
        </p:nvPicPr>
        <p:blipFill>
          <a:blip r:embed="rId2"/>
          <a:stretch/>
        </p:blipFill>
        <p:spPr>
          <a:xfrm>
            <a:off x="0" y="1752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H:\проект Ламановой\IMG_4047.jpg"/>
          <p:cNvPicPr/>
          <p:nvPr/>
        </p:nvPicPr>
        <p:blipFill>
          <a:blip r:embed="rId3"/>
          <a:stretch/>
        </p:blipFill>
        <p:spPr>
          <a:xfrm>
            <a:off x="1066680" y="4286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ИТОГ ПРОЕКТ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990720"/>
            <a:ext cx="86868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результате реализации проекта увеличилось количество детей, у которых звукопроизношение соответствует возрастной норме с 43% до 66%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-152280" y="2362320"/>
          <a:ext cx="45496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2362320"/>
                    <a:ext cx="4549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9"/>
          <p:cNvGraphicFramePr/>
          <p:nvPr/>
        </p:nvGraphicFramePr>
        <p:xfrm>
          <a:off x="4594320" y="2362320"/>
          <a:ext cx="454968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2362320"/>
                    <a:ext cx="4549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11"/>
          <p:cNvSpPr/>
          <p:nvPr/>
        </p:nvSpPr>
        <p:spPr>
          <a:xfrm>
            <a:off x="5410080" y="3581280"/>
            <a:ext cx="9907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1717"/>
                </a:solidFill>
                <a:latin typeface="Verdana"/>
                <a:ea typeface="Times New Roman"/>
              </a:rPr>
              <a:t>8 детей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6324480" y="4038480"/>
            <a:ext cx="91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1717"/>
                </a:solidFill>
                <a:latin typeface="Verdana"/>
                <a:ea typeface="Times New Roman"/>
              </a:rPr>
              <a:t>15 детей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600200" y="3657600"/>
            <a:ext cx="91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71717"/>
                </a:solidFill>
                <a:latin typeface="Verdana"/>
                <a:ea typeface="Times New Roman"/>
              </a:rPr>
              <a:t>10 детей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33520" y="4114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13 детей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TextBox 21"/>
          <p:cNvSpPr/>
          <p:nvPr/>
        </p:nvSpPr>
        <p:spPr>
          <a:xfrm>
            <a:off x="435240" y="510552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чало проек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TextBox 22"/>
          <p:cNvSpPr/>
          <p:nvPr/>
        </p:nvSpPr>
        <p:spPr>
          <a:xfrm>
            <a:off x="5235480" y="510552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онец проек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685800" y="619560"/>
            <a:ext cx="8001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Проведя  диагностику, заполнив экран по звукопроизношению вначале учебного года </a:t>
            </a:r>
            <a:r>
              <a:rPr b="1" lang="ru-RU" sz="28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столкнулась с такой проблем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: 10 моих воспитанников (43 %)  не выговаривают или заменяют на другой 1-2 звука.  6 детей (27%) не выговаривают или заменяют 3-4 звука и у 7 детей (30%)  очень невнятная речь, как будто у них «каша во рту»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Совместно с детьми и родителями на родительском собрании  было принято решение по созданию проекта «Учимся говорить правильно», направленного  на развитие звуковой культуры реч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2744640"/>
            <a:ext cx="815328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.Б. Эльконин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исал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429000" y="914400"/>
            <a:ext cx="5486400" cy="4724280"/>
          </a:xfrm>
          <a:prstGeom prst="cloudCallout">
            <a:avLst>
              <a:gd name="adj1" fmla="val -59634"/>
              <a:gd name="adj2" fmla="val 3807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Очевидно, что развитие связной речи у ребенка и тесно связанная с ним усвоение грамматического строя невозможны вне овладения звуковой системой языка»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Цель: Создание активной речевой среды для совершенствования звуковой культуры речи детей среднего возраст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Задачи:</a:t>
            </a:r>
            <a:r>
              <a:rPr b="0" i="1" lang="ru-RU" sz="2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) обогащать предметно-развивающую среду в группе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)способствовать развитию фонематического слуха, артикуляционного аппарат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) вырабатывать интонационную выразительность речи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) повышать компетентность родителей в вопросах речевого развития ребен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Предполагаемый проектный продукт: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Книга детских рассказов (высказываний) «Говорят дети»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H:\проект Ламановой\IMG_4046.jpg"/>
          <p:cNvPicPr/>
          <p:nvPr/>
        </p:nvPicPr>
        <p:blipFill>
          <a:blip r:embed="rId1"/>
          <a:stretch/>
        </p:blipFill>
        <p:spPr>
          <a:xfrm>
            <a:off x="1371600" y="1752480"/>
            <a:ext cx="6299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Organization Chart 5"/>
          <p:cNvGrpSpPr/>
          <p:nvPr/>
        </p:nvGrpSpPr>
        <p:grpSpPr>
          <a:xfrm>
            <a:off x="2895480" y="533520"/>
            <a:ext cx="6019200" cy="5028480"/>
            <a:chOff x="2895480" y="533520"/>
            <a:chExt cx="6019200" cy="5028480"/>
          </a:xfrm>
        </p:grpSpPr>
        <p:cxnSp>
          <p:nvCxnSpPr>
            <p:cNvPr id="125" name="_s1028"/>
            <p:cNvCxnSpPr>
              <a:stCxn id="126" idx="1"/>
              <a:endCxn id="127" idx="2"/>
            </p:cNvCxnSpPr>
            <p:nvPr/>
          </p:nvCxnSpPr>
          <p:spPr>
            <a:xfrm rot="10800000">
              <a:off x="4700520" y="1446840"/>
              <a:ext cx="602640" cy="36579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8" name="_s1029"/>
            <p:cNvCxnSpPr>
              <a:stCxn id="129" idx="1"/>
              <a:endCxn id="127" idx="2"/>
            </p:cNvCxnSpPr>
            <p:nvPr/>
          </p:nvCxnSpPr>
          <p:spPr>
            <a:xfrm rot="10800000">
              <a:off x="4700520" y="1446840"/>
              <a:ext cx="602640" cy="2286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0" name="_s1030"/>
            <p:cNvCxnSpPr>
              <a:stCxn id="131" idx="1"/>
              <a:endCxn id="127" idx="2"/>
            </p:cNvCxnSpPr>
            <p:nvPr/>
          </p:nvCxnSpPr>
          <p:spPr>
            <a:xfrm rot="10800000">
              <a:off x="4700520" y="1446840"/>
              <a:ext cx="602640" cy="914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7" name="_s1031"/>
            <p:cNvSpPr/>
            <p:nvPr/>
          </p:nvSpPr>
          <p:spPr>
            <a:xfrm>
              <a:off x="2895480" y="533520"/>
              <a:ext cx="3611520" cy="914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r>
                <a:rPr b="1" lang="ru-RU" sz="2000" spc="-1" strike="noStrike">
                  <a:solidFill>
                    <a:srgbClr val="ffff00"/>
                  </a:solidFill>
                  <a:latin typeface="Arial"/>
                </a:rPr>
                <a:t>. Подготовительный этап</a:t>
              </a:r>
              <a:r>
                <a:rPr b="0" lang="ru-RU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1" name="_s1032"/>
            <p:cNvSpPr/>
            <p:nvPr/>
          </p:nvSpPr>
          <p:spPr>
            <a:xfrm>
              <a:off x="5303160" y="1904760"/>
              <a:ext cx="3611520" cy="914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Оформление центра </a:t>
              </a: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речевого развития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5303160" y="3276360"/>
              <a:ext cx="3611520" cy="914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Работа с родителями </a:t>
              </a: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(анкетирование)</a:t>
              </a: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5303160" y="4647960"/>
              <a:ext cx="3611520" cy="9140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Экран звукопроизношения</a:t>
              </a:r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32" name="Picture 12" descr="H:\проект Ламановой\DSC_0200.jpg"/>
          <p:cNvPicPr/>
          <p:nvPr/>
        </p:nvPicPr>
        <p:blipFill>
          <a:blip r:embed="rId1"/>
          <a:stretch/>
        </p:blipFill>
        <p:spPr>
          <a:xfrm>
            <a:off x="152280" y="2133720"/>
            <a:ext cx="4496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Organization Chart 7"/>
          <p:cNvGrpSpPr/>
          <p:nvPr/>
        </p:nvGrpSpPr>
        <p:grpSpPr>
          <a:xfrm>
            <a:off x="2743200" y="609480"/>
            <a:ext cx="5942880" cy="5500080"/>
            <a:chOff x="2743200" y="609480"/>
            <a:chExt cx="5942880" cy="5500080"/>
          </a:xfrm>
        </p:grpSpPr>
        <p:cxnSp>
          <p:nvCxnSpPr>
            <p:cNvPr id="134" name="_s2052"/>
            <p:cNvCxnSpPr>
              <a:stCxn id="135" idx="1"/>
              <a:endCxn id="136" idx="2"/>
            </p:cNvCxnSpPr>
            <p:nvPr/>
          </p:nvCxnSpPr>
          <p:spPr>
            <a:xfrm rot="10800000">
              <a:off x="4525200" y="1158480"/>
              <a:ext cx="594720" cy="38509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7" name="_s2053"/>
            <p:cNvCxnSpPr>
              <a:stCxn id="138" idx="1"/>
              <a:endCxn id="136" idx="2"/>
            </p:cNvCxnSpPr>
            <p:nvPr/>
          </p:nvCxnSpPr>
          <p:spPr>
            <a:xfrm rot="10800000">
              <a:off x="4525200" y="1158480"/>
              <a:ext cx="594720" cy="1375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9" name="_s2054"/>
            <p:cNvCxnSpPr>
              <a:stCxn id="140" idx="1"/>
              <a:endCxn id="136" idx="2"/>
            </p:cNvCxnSpPr>
            <p:nvPr/>
          </p:nvCxnSpPr>
          <p:spPr>
            <a:xfrm rot="10800000">
              <a:off x="4525200" y="1158480"/>
              <a:ext cx="594720" cy="30276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1" name="_s2055"/>
            <p:cNvCxnSpPr>
              <a:stCxn id="142" idx="1"/>
              <a:endCxn id="136" idx="2"/>
            </p:cNvCxnSpPr>
            <p:nvPr/>
          </p:nvCxnSpPr>
          <p:spPr>
            <a:xfrm rot="10800000">
              <a:off x="4525200" y="1158480"/>
              <a:ext cx="594720" cy="46760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3" name="_s2056"/>
            <p:cNvCxnSpPr>
              <a:stCxn id="144" idx="1"/>
              <a:endCxn id="136" idx="2"/>
            </p:cNvCxnSpPr>
            <p:nvPr/>
          </p:nvCxnSpPr>
          <p:spPr>
            <a:xfrm rot="10800000">
              <a:off x="4525200" y="1158480"/>
              <a:ext cx="594720" cy="2200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5" name="_s2057"/>
            <p:cNvCxnSpPr>
              <a:stCxn id="146" idx="1"/>
              <a:endCxn id="136" idx="2"/>
            </p:cNvCxnSpPr>
            <p:nvPr/>
          </p:nvCxnSpPr>
          <p:spPr>
            <a:xfrm rot="10800000">
              <a:off x="4525200" y="1158480"/>
              <a:ext cx="594720" cy="550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36" name="_s2058"/>
            <p:cNvSpPr/>
            <p:nvPr/>
          </p:nvSpPr>
          <p:spPr>
            <a:xfrm>
              <a:off x="2743200" y="60948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. Этап. 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Практическая часть</a:t>
              </a:r>
              <a:r>
                <a:rPr b="0" lang="ru-RU" sz="1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_s2059"/>
            <p:cNvSpPr/>
            <p:nvPr/>
          </p:nvSpPr>
          <p:spPr>
            <a:xfrm>
              <a:off x="5120280" y="143424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Развитие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артикуляционного аппарата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_s2060"/>
            <p:cNvSpPr/>
            <p:nvPr/>
          </p:nvSpPr>
          <p:spPr>
            <a:xfrm>
              <a:off x="5120280" y="308448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Развитие речевого дыхания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5120280" y="555984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Организация передвижной библиотечки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_s2062"/>
            <p:cNvSpPr/>
            <p:nvPr/>
          </p:nvSpPr>
          <p:spPr>
            <a:xfrm>
              <a:off x="5120280" y="390960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Совершенствование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фонематического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восприятия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_s2063"/>
            <p:cNvSpPr/>
            <p:nvPr/>
          </p:nvSpPr>
          <p:spPr>
            <a:xfrm>
              <a:off x="5120280" y="225936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Формирование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правильного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звукопроизношения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_s2064"/>
            <p:cNvSpPr/>
            <p:nvPr/>
          </p:nvSpPr>
          <p:spPr>
            <a:xfrm>
              <a:off x="5120280" y="4734720"/>
              <a:ext cx="3565800" cy="5497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Развитие 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интонационной выразительности</a:t>
              </a:r>
              <a:endParaRPr b="0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47" name="Picture 17" descr="H:\проект Ламановой\IMG_4054.jpg"/>
          <p:cNvPicPr/>
          <p:nvPr/>
        </p:nvPicPr>
        <p:blipFill>
          <a:blip r:embed="rId1"/>
          <a:stretch/>
        </p:blipFill>
        <p:spPr>
          <a:xfrm>
            <a:off x="0" y="971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H:\проект Ламановой\IMG_4051.jpg"/>
          <p:cNvPicPr/>
          <p:nvPr/>
        </p:nvPicPr>
        <p:blipFill>
          <a:blip r:embed="rId2"/>
          <a:stretch/>
        </p:blipFill>
        <p:spPr>
          <a:xfrm>
            <a:off x="457200" y="28195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H:\проект Ламановой\IMG_4037.jpg"/>
          <p:cNvPicPr/>
          <p:nvPr/>
        </p:nvPicPr>
        <p:blipFill>
          <a:blip r:embed="rId3"/>
          <a:stretch/>
        </p:blipFill>
        <p:spPr>
          <a:xfrm>
            <a:off x="1600200" y="45720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:\проект Ламановой\IMG_4042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:\проект Ламановой\IMG_4043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9T05:41:13Z</dcterms:created>
  <dc:creator>1</dc:creator>
  <dc:description/>
  <dc:language>en-US</dc:language>
  <cp:lastModifiedBy>131</cp:lastModifiedBy>
  <dcterms:modified xsi:type="dcterms:W3CDTF">2014-04-08T12:59:2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