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851-C3BF-411C-81D9-B82AA851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2A5-C62E-47A4-A9F3-605D14E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07E-B49A-41DB-A0E4-050C740D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DE5-00BE-46BC-BA32-BABB033B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819-61B4-4A86-A9C5-779DA9F0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A75-1D77-4F94-805C-F34C904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687E-E48B-43DA-9113-D1B41AE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725B-5A96-488F-B0FA-4E4DE6C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0E2-EE50-4F58-9A02-109D8AA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1768-A1D1-455D-80BD-5A74023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B200-88A2-421D-92A6-EB691CF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294-0299-4ED7-BB53-1F6C7F4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10A-4266-4AE0-854B-C801DD7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60C-3F67-484A-AFB3-0F95C24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5F61-E700-4197-BB58-A95D9362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F915-75A5-46F9-A2C4-A7FE43C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273-CB67-4485-BDD1-E7D44BEF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46B7-F909-451F-8B84-AF23B328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78C8-AF27-46C4-9A3F-9829B54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4800-216D-4D07-BA61-2979694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32A1-B965-4455-B8F0-F5B719D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0848-34A6-4563-976B-8568D6DA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BFB-BEF5-4A68-904C-CDF39E9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134F-C71C-43B8-84A2-FDFBD952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15F8-6D40-4637-9DC8-5DFC055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656E-2F02-48E5-B407-D00740B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E1BD-CA12-48DD-95F7-4767E2F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B103-B8E4-4025-8BF6-3A0EB88B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1E10-77FD-4CD6-BFA7-34DAD81D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D706-88DD-44FD-B165-11460D52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320B-F42A-4319-BA85-A2CACA64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AD00-4F5A-460F-85B2-A81D1066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5E48-D514-46EF-A214-76FBFE86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3B-B352-4112-B442-0DDA788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D2D9-3C26-4390-97F4-6416457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E3C6-D8D1-4558-B75D-FC15DC2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BEBC-367B-4FB5-BCBE-A9110BA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70AB-B5AF-4C36-83AC-ACEEBAF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C801-0AB0-4E9F-9CBC-83E115D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986A-6832-44D8-A9D8-F80CE10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86AF-E92D-4D12-AB0F-94D034C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261E-E482-4F13-B53A-DB74E787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963A-FFEB-4F3C-AC6D-41A28C97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689-F71A-40DE-A88A-DF8C9178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7F3-65F6-4280-9E2A-78A6B917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607-E227-4720-8187-6F79B28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BBF-A3F3-4DD1-B1C9-71553F7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331-4899-43E7-9D7F-3C39891A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E67-60A2-4B5F-A971-F02DCBFE3E6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C3B-DECE-4248-96FD-29498C358A4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EBAA-DB22-4F1F-B4E6-7C35AE5A31F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5BC1-2DE4-49FB-95C2-A9C962D09B8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«СОЛНЦЕ , ВОЗДУХ И ВОДА – НАШИ ЛУЧШИЕ ДРУЗЬЯ!»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lide_2"/>
          <p:cNvPicPr/>
          <p:nvPr/>
        </p:nvPicPr>
        <p:blipFill>
          <a:blip r:embed="rId1"/>
          <a:stretch/>
        </p:blipFill>
        <p:spPr>
          <a:xfrm>
            <a:off x="395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0844927"/>
          <p:cNvPicPr/>
          <p:nvPr/>
        </p:nvPicPr>
        <p:blipFill>
          <a:blip r:embed="rId1"/>
          <a:stretch/>
        </p:blipFill>
        <p:spPr>
          <a:xfrm>
            <a:off x="324000" y="333360"/>
            <a:ext cx="84294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3440" y="42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ЧТО ТАКОЕ ЗАКАЛИВАНИ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77920" y="92520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Закаливание – это тренировка,  помогающая организму сопротивляться неблагоприятным погодным условиям (холоду, жаре, слякоти, сквознякам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6" name="Picture 5" descr="0002-002-Zakalivanie-eto"/>
          <p:cNvPicPr/>
          <p:nvPr/>
        </p:nvPicPr>
        <p:blipFill>
          <a:blip r:embed="rId1"/>
          <a:srcRect l="6685" t="5496" r="3543" b="0"/>
          <a:stretch/>
        </p:blipFill>
        <p:spPr>
          <a:xfrm>
            <a:off x="755640" y="2708280"/>
            <a:ext cx="676260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7680" y="172800"/>
            <a:ext cx="80773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56a95"/>
                </a:solidFill>
                <a:latin typeface="Century Gothic"/>
              </a:rPr>
              <a:t>ПЕРВОЕ ПРАВИЛО ЗАКАЛИВАНИЯ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6dbf4"/>
                </a:solidFill>
                <a:latin typeface="Century Gothic"/>
              </a:rPr>
              <a:t>Если начал закаляться, закаляйся каждый день!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9" name="Picture 5" descr="zakalivanie"/>
          <p:cNvPicPr/>
          <p:nvPr/>
        </p:nvPicPr>
        <p:blipFill>
          <a:blip r:embed="rId1"/>
          <a:stretch/>
        </p:blipFill>
        <p:spPr>
          <a:xfrm>
            <a:off x="2340000" y="2708280"/>
            <a:ext cx="388764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61560"/>
            <a:ext cx="655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entury Gothic"/>
              </a:rPr>
              <a:t>ВТОРОЕ ПРАВИЛО ЗАКАЛИВАНИЯ: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Закаляйся постепенно. Это для здоровья ценно!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2" name="Picture 5" descr="64745662_1285962094_88cc29ab70949750original"/>
          <p:cNvPicPr/>
          <p:nvPr/>
        </p:nvPicPr>
        <p:blipFill>
          <a:blip r:embed="rId1"/>
          <a:stretch/>
        </p:blipFill>
        <p:spPr>
          <a:xfrm>
            <a:off x="3492360" y="2637000"/>
            <a:ext cx="518184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691920"/>
            <a:ext cx="640404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Если закаляться - в радость,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м простуда – не подружка.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ы здоровье берегите.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Это, дети, не игрушка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4" name="Picture 5" descr="1"/>
          <p:cNvPicPr/>
          <p:nvPr/>
        </p:nvPicPr>
        <p:blipFill>
          <a:blip r:embed="rId1"/>
          <a:stretch/>
        </p:blipFill>
        <p:spPr>
          <a:xfrm>
            <a:off x="684360" y="2852640"/>
            <a:ext cx="77468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9640" y="802800"/>
            <a:ext cx="8353440" cy="31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Century Gothic"/>
              </a:rPr>
              <a:t>Желаем  крепкого      здоровья!</a:t>
            </a:r>
            <a:endParaRPr b="0" lang="en-US" sz="6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94040" y="907920"/>
            <a:ext cx="58672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d60093"/>
                </a:solidFill>
                <a:latin typeface="Century Gothic"/>
              </a:rPr>
              <a:t>»</a:t>
            </a:r>
            <a:r>
              <a:rPr b="0" i="1" lang="ru-RU" sz="2000" spc="-1" strike="noStrike">
                <a:solidFill>
                  <a:srgbClr val="0d2e4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5" name="Picture 4" descr="iesli_khochiesh_byt_zdorovym7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00720"/>
          </a:xfrm>
          <a:prstGeom prst="rect">
            <a:avLst/>
          </a:prstGeom>
          <a:ln w="0">
            <a:noFill/>
          </a:ln>
        </p:spPr>
      </p:pic>
      <p:pic>
        <p:nvPicPr>
          <p:cNvPr id="196" name="Если_хочешь_быть_здоров_закаляйся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0" y="5010120"/>
            <a:ext cx="6192720" cy="157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ЛНЕЧНЫЕ ВАНН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0560" y="119700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Утром при температуре воздуха не ниже +18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од влиянием солнца в организме образуется витамин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, необходимый для роста костей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Нельзя находится под солнцем более 30 минут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Не забудь надеть головной убор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Лучше загорать в движении, играя в подвижные игры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a0e1e0f1ab29"/>
          <p:cNvPicPr/>
          <p:nvPr/>
        </p:nvPicPr>
        <p:blipFill>
          <a:blip r:embed="rId1"/>
          <a:stretch/>
        </p:blipFill>
        <p:spPr>
          <a:xfrm>
            <a:off x="5219640" y="4292640"/>
            <a:ext cx="295272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20080804120002"/>
          <p:cNvPicPr/>
          <p:nvPr/>
        </p:nvPicPr>
        <p:blipFill>
          <a:blip r:embed="rId1"/>
          <a:stretch/>
        </p:blipFill>
        <p:spPr>
          <a:xfrm>
            <a:off x="179280" y="3500280"/>
            <a:ext cx="4032360" cy="267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4_1"/>
          <p:cNvPicPr/>
          <p:nvPr/>
        </p:nvPicPr>
        <p:blipFill>
          <a:blip r:embed="rId2"/>
          <a:stretch/>
        </p:blipFill>
        <p:spPr>
          <a:xfrm>
            <a:off x="4500720" y="441360"/>
            <a:ext cx="4470120" cy="611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 (1)"/>
          <p:cNvPicPr/>
          <p:nvPr/>
        </p:nvPicPr>
        <p:blipFill>
          <a:blip r:embed="rId3"/>
          <a:stretch/>
        </p:blipFill>
        <p:spPr>
          <a:xfrm>
            <a:off x="12600" y="0"/>
            <a:ext cx="367200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2279520"/>
            <a:ext cx="6193080" cy="15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КАЛИВАНИЕ ВОЗДУХО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a50e82"/>
                </a:solidFill>
                <a:latin typeface="Century Gothic"/>
              </a:rPr>
              <a:t>На прогулке в любое время года помни об одежде (по сезону) и удобной обуви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a50e82"/>
                </a:solidFill>
                <a:latin typeface="Century Gothic"/>
              </a:rPr>
              <a:t>Закаливание воздухом можно проводить в любую погоду, главное – не переохлаждаться!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7" name="Picture 4" descr="скачанные файлы"/>
          <p:cNvPicPr/>
          <p:nvPr/>
        </p:nvPicPr>
        <p:blipFill>
          <a:blip r:embed="rId3"/>
          <a:stretch/>
        </p:blipFill>
        <p:spPr>
          <a:xfrm>
            <a:off x="5724360" y="393372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images (2)"/>
          <p:cNvPicPr/>
          <p:nvPr/>
        </p:nvPicPr>
        <p:blipFill>
          <a:blip r:embed="rId1"/>
          <a:stretch/>
        </p:blipFill>
        <p:spPr>
          <a:xfrm>
            <a:off x="2473200" y="15840"/>
            <a:ext cx="4326120" cy="370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images (3)"/>
          <p:cNvPicPr/>
          <p:nvPr/>
        </p:nvPicPr>
        <p:blipFill>
          <a:blip r:embed="rId2"/>
          <a:stretch/>
        </p:blipFill>
        <p:spPr>
          <a:xfrm>
            <a:off x="395280" y="3443400"/>
            <a:ext cx="3394080" cy="3394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images (4)"/>
          <p:cNvPicPr/>
          <p:nvPr/>
        </p:nvPicPr>
        <p:blipFill>
          <a:blip r:embed="rId3"/>
          <a:stretch/>
        </p:blipFill>
        <p:spPr>
          <a:xfrm>
            <a:off x="4529160" y="3443400"/>
            <a:ext cx="45385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3" descr=""/>
          <p:cNvPicPr/>
          <p:nvPr/>
        </p:nvPicPr>
        <p:blipFill>
          <a:blip r:embed="rId2"/>
          <a:stretch/>
        </p:blipFill>
        <p:spPr>
          <a:xfrm>
            <a:off x="3633840" y="2060640"/>
            <a:ext cx="6192720" cy="157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0T12:39:48Z</dcterms:created>
  <dc:creator>masha</dc:creator>
  <dc:description/>
  <dc:language>en-US</dc:language>
  <cp:lastModifiedBy>strelka.eva@gmail.com</cp:lastModifiedBy>
  <dcterms:modified xsi:type="dcterms:W3CDTF">2018-07-15T19:11:40Z</dcterms:modified>
  <cp:revision>21</cp:revision>
  <dc:subject/>
  <dc:title>Презентация на тему:</dc:title>
</cp:coreProperties>
</file>