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62EC-C765-4D21-82C4-463385BE7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CBBB-D1F3-4C18-AFF1-BC3E1E7D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A7B8-8057-4A74-98DE-B1FD5D79F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565F-AEE7-4A3E-BE1A-7BC13EEF1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57EC-4F9B-4846-B0B3-A7A8DBC5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2AE0-3AD4-4A02-81E0-9A92D165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CC81-DD92-4ED7-839D-3EC4B092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991D-0D90-4D32-9644-C76B0E0B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807C-65F4-4442-A87E-62B90DD4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A2EE-19C2-4C2E-9790-F9CAB7D2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BD3E-86E0-4BE7-8A71-41D311E4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C467-92D4-4E50-A101-B05D10BA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FBFA-529C-42D1-B2BE-4F9A875B47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" TargetMode="External"/><Relationship Id="rId2" Type="http://schemas.openxmlformats.org/officeDocument/2006/relationships/hyperlink" Target="http://ru.wikipedia.org/wiki/&#1057;&#1072;&#1081;&#1090;" TargetMode="External"/><Relationship Id="rId3" Type="http://schemas.openxmlformats.org/officeDocument/2006/relationships/hyperlink" Target="http://ru.wikipedia.org/wiki/&#1057;&#1072;&#1081;&#1090;" TargetMode="External"/><Relationship Id="rId4" Type="http://schemas.openxmlformats.org/officeDocument/2006/relationships/hyperlink" Target="http://ru.wikipedia.org/wiki/&#1057;&#1072;&#1081;&#1090;" TargetMode="External"/><Relationship Id="rId5" Type="http://schemas.openxmlformats.org/officeDocument/2006/relationships/hyperlink" Target="http://ru.wikipedia.org/wiki/&#1057;&#1072;&#1081;&#1090;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91520" cy="647640"/>
          </a:xfrm>
          <a:prstGeom prst="rect">
            <a:avLst/>
          </a:prstGeom>
          <a:solidFill>
            <a:srgbClr val="a6f4f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Урок литературы в 6 кла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Тема уро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«Ф. М.  Достоевский.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нализ глав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«Связался со школьникам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из романа «Братья Карамазовы»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Легко ли читать Достоевског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елегко читать произведения  Достоевского, потому что  перед читателем со страниц его книг предстают мрачные картины жизни. Автор заставляет  нас вместе со своими  героями переживать, страдать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372360" y="5157720"/>
            <a:ext cx="143496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3026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ожет, сегодня не стоить читать книги Достоевского?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ачем он нужен нам, сегодняшним школьникам?</a:t>
            </a: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 этот вопрос вы ответите на заключительном уроке, когда прочитаем и разберём все глав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58560" y="6524280"/>
            <a:ext cx="878508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39640" y="5157720"/>
            <a:ext cx="2016360" cy="1141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003640" y="5013360"/>
            <a:ext cx="2232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Обмен впечатления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Какое впечатление осталось от прочитанных страниц фрагмента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«Связалс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со школьниками»?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Кто из героев привлёк ваше внимани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Какие чувства вызвало чтение главы? Смех или грус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380360" y="2492280"/>
            <a:ext cx="1290600" cy="987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667640" y="5661000"/>
            <a:ext cx="973080" cy="6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7343640" cy="561960"/>
          </a:xfrm>
          <a:prstGeom prst="rect">
            <a:avLst/>
          </a:prstGeom>
          <a:solidFill>
            <a:srgbClr val="63ebf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Лови ошибку”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421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Школьников,  которые кидали камнями в мальчика за канавкой,  было пя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альчик за канавкой стоял в шагах двадцати от групп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 росту мальчику за канавкой можно было дать лет одиннадц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альчики первыми начали кидать камни в того, который находился за канав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 мальчика за канавкой в кармане был один камен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«Ведь вы Карамазов, Карамазов»,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закричал хохоча мальчик за канав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740720" y="260280"/>
            <a:ext cx="93492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«Злой мальчишк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64000" y="1268280"/>
            <a:ext cx="54007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исывая схватку между мальчиками, автор одного из них называет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«злой мальчишка»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О ком из героев идёт реч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1464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82720"/>
          </a:xfrm>
          <a:prstGeom prst="rect">
            <a:avLst/>
          </a:prstGeom>
          <a:solidFill>
            <a:srgbClr val="a6f4f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Индивидуальные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713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Мини – сочинени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Каким я увидел мальчика за канавкой в главе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«Связался со школьниками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Выполняют 5 человек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84720" y="5084640"/>
            <a:ext cx="4390920" cy="1079640"/>
          </a:xfrm>
          <a:prstGeom prst="wedgeEllipseCallout">
            <a:avLst>
              <a:gd name="adj1" fmla="val 3722"/>
              <a:gd name="adj2" fmla="val 37796"/>
            </a:avLst>
          </a:prstGeom>
          <a:solidFill>
            <a:srgbClr val="a6f4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Время 15 – 17 мин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solidFill>
            <a:srgbClr val="c4f5f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Зад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779640" y="907920"/>
            <a:ext cx="51130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Если есть зло, то должно быть и добро.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Охарактеризуем шестерых мальчиков  с камням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х можно назвать добрыми?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Подтвердите свой ответ примерами из текс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33843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17320"/>
          </a:xfrm>
          <a:prstGeom prst="rect">
            <a:avLst/>
          </a:prstGeom>
          <a:solidFill>
            <a:srgbClr val="a6f4f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Arial"/>
              </a:rPr>
              <a:t>Проверь себя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вать добрыми мальчиков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ЛЬЗ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) они вшестером кидают камнями в одного человека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трусливые, держатся кучкой)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дразнят его, могут убить его, попадают камнями в грудь, голову, следовательно, они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жесток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мальчики  подталкивают  Алёшу спросить мальчика за канавкой про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«мочалку»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а слово это обижает его, т.е. хотят использовать Алёшу, чтобы сделать больно мальчику.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Это подлый поступ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) описывая группу мальчиков,  автор использует слова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закричали хохоча; злая перестрелка; загалдели: «Ага, струсил, убежал, мочалка!»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х поведение говорит о том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ни не только хотят обидеть мальчика за канавкой, но и провоцируют его на новую дра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64e5f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Составить СИНКВЕЙ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МАЛЬЧ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 прилагательн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дают описание признаков и свойств выбранного в синквейне предмета или объекта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3 глагол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описывают  характерные действия объекта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етвертая строк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фраза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из пяти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слов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которая выражает 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аше отношени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 описываемому предмету или объект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18440" cy="647640"/>
          </a:xfrm>
          <a:prstGeom prst="rect">
            <a:avLst/>
          </a:prstGeom>
          <a:solidFill>
            <a:srgbClr val="63ebf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Проверка синквей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4400" spc="-1" strike="noStrike">
                <a:solidFill>
                  <a:srgbClr val="9900ff"/>
                </a:solidFill>
                <a:latin typeface="Arial"/>
              </a:rPr>
              <a:t>Мальч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злобленные, безжалост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овещаются, кидают, провоцируют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жестокие школьники  избивают беззащитного Илюш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Обидч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a6f4f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Цели, задачи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7138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Цели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формировать представление о художественном мире Ф.М. Достоевского, где человек показан в напряженные, критические моменты жиз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крыть причины озлобленности детей, подвести обучающихся к осознанию разрушающей силы з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воспитывать чувство милосердия, сострадания, люб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ближнему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Задач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актуализировать  нравственные проблемы произведения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(сострадание другому человеку, милосердие, деятельная любовь к ближнему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родолжить работу по формированию  навыка характеристики геро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развивать аналитические и творческие способности, умения составлять кластер,  синквейн, характеристики  геро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тодические приемы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аналитическая беседа, групповая и индивидуальная работа, сопоставительный анализ образов, работа с фрагментами текста, составление кластера и синквейна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орудование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учебник-хрестоматия,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езентация к уроку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18440" cy="647640"/>
          </a:xfrm>
          <a:prstGeom prst="rect">
            <a:avLst/>
          </a:prstGeom>
          <a:solidFill>
            <a:srgbClr val="63ebf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Синквейн( 2 вариант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4800" spc="-1" strike="noStrike">
                <a:solidFill>
                  <a:srgbClr val="9900ff"/>
                </a:solidFill>
                <a:latin typeface="Arial"/>
              </a:rPr>
              <a:t>Мальчи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Обозлённые, труслив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идают, хохочут, обижаю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Трусливые дети делают больно Илюш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1714320"/>
          </a:xfrm>
          <a:prstGeom prst="rect">
            <a:avLst/>
          </a:prstGeom>
          <a:solidFill>
            <a:srgbClr val="a6f4f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Какие ассоциации возникают у вас в связи со словам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Шесть мальчико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Мальчик за канавко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Алёш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076720" y="4724280"/>
            <a:ext cx="143856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Выскажите своё мн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огласны ли вы со словами штабс-капитана  Снегирёва: 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«Дети в школах народ безжалостный: порознь ангелы Божии, а вместе…часто безжалостны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164360" y="2708280"/>
            <a:ext cx="158436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3960" y="274680"/>
            <a:ext cx="8229600" cy="1147680"/>
          </a:xfrm>
          <a:prstGeom prst="rect">
            <a:avLst/>
          </a:prstGeom>
          <a:solidFill>
            <a:srgbClr val="63ebf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Monotype Corsiva"/>
              </a:rPr>
              <a:t>«СВЯЗАЛСЯ СО ШКОЛЬНИКАМИ</a:t>
            </a:r>
            <a:r>
              <a:rPr b="1" lang="en-US" sz="4800" spc="-1" strike="noStrike">
                <a:solidFill>
                  <a:srgbClr val="ff0000"/>
                </a:solidFill>
                <a:latin typeface="Monotype Corsiva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C:\Users\Admin\Desktop\[LI7RK_13-01]_[IL_09]-k.jpg"/>
          <p:cNvPicPr/>
          <p:nvPr/>
        </p:nvPicPr>
        <p:blipFill>
          <a:blip r:embed="rId1"/>
          <a:stretch/>
        </p:blipFill>
        <p:spPr>
          <a:xfrm>
            <a:off x="539640" y="1700280"/>
            <a:ext cx="3672000" cy="4967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чему произошла перестрелка у канавк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чему никто из мальчиков не встал на защиту Илюш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63ebf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Проверь себя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. Почему произошла «перестрелка» у канавк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(Мальчики дразнили Илюшу мочалкой, потому что брат Алёши Карамазова Дмитрий вытащил из трактира за бороду отца Илюши, а школьники увидели это и стали дразнить Илюшу мочалкой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2. Почему никто из мальчиков не встал на защиту Илюш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льчики считают Илюшу подлец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Он сам первый начал!» «Он подлец, он давеча  в классе Красоткина перочинным ножиком пырнул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Мальчики ненавидят  Илюшу, ведут себя как безжалостные де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706320"/>
          </a:xfrm>
          <a:prstGeom prst="rect">
            <a:avLst/>
          </a:prstGeom>
          <a:solidFill>
            <a:srgbClr val="63ebf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"/>
              </a:rPr>
              <a:t>Бесе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19280" y="1196640"/>
            <a:ext cx="5545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ую роль отводит Достоевский своему главному герою Алексею Карамазов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Что вы знаете о нё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выступление ученицы, которая готовила индивидуальное задание к уроку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380360" y="333360"/>
            <a:ext cx="792000" cy="542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C:\Users\Admin\Desktop\img-chio08-209.jpg"/>
          <p:cNvPicPr/>
          <p:nvPr/>
        </p:nvPicPr>
        <p:blipFill>
          <a:blip r:embed="rId2"/>
          <a:stretch/>
        </p:blipFill>
        <p:spPr>
          <a:xfrm>
            <a:off x="324000" y="1413000"/>
            <a:ext cx="3024000" cy="2786040"/>
          </a:xfrm>
          <a:prstGeom prst="rect">
            <a:avLst/>
          </a:prstGeom>
          <a:ln w="9360">
            <a:solidFill>
              <a:srgbClr val="355d7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348000" y="549000"/>
            <a:ext cx="53388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Какова была реакция мальчика за канавкой на Алёшу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2654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Что можно сказать о мальчике за канавкой на основании его портрета и повед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3384720" cy="48974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708360" y="1700280"/>
            <a:ext cx="4913280" cy="825120"/>
          </a:xfrm>
          <a:prstGeom prst="rect">
            <a:avLst/>
          </a:prstGeom>
          <a:solidFill>
            <a:srgbClr val="a6f4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Работа в пара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27640" y="4724280"/>
            <a:ext cx="3816360" cy="649440"/>
          </a:xfrm>
          <a:prstGeom prst="cloudCallout">
            <a:avLst>
              <a:gd name="adj1" fmla="val 9981"/>
              <a:gd name="adj2" fmla="val 73962"/>
            </a:avLst>
          </a:prstGeom>
          <a:solidFill>
            <a:srgbClr val="63e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92360" y="2637000"/>
            <a:ext cx="5256360" cy="1944360"/>
          </a:xfrm>
          <a:prstGeom prst="rect">
            <a:avLst/>
          </a:prstGeom>
          <a:solidFill>
            <a:srgbClr val="f1f8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ставит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устный расск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олько на основа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еталей  портре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 поведения героя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43280" y="5734080"/>
            <a:ext cx="597672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(стр.201, 203, 204, 20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03280"/>
          </a:xfrm>
          <a:prstGeom prst="rect">
            <a:avLst/>
          </a:prstGeom>
          <a:solidFill>
            <a:srgbClr val="63ebf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Проверь  с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850752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бледненький, болезненны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 сверкавшими чёрными глазами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пустил камень ловко и энергетичес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9280" y="2276640"/>
            <a:ext cx="878544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 весь карман был полон камне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 С большими тёмными и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лобн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мотревшими глазам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«Одет в довольно старенькое и ветхое пальтишко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…ведёт себя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носчив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«спустил куражу»- перестал куражитьс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…опять злобно засверкав глазёнкам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икнул злобным и вызывающим взгляд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Монах в гарнитуровых штанах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524720" y="0"/>
            <a:ext cx="14000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44240"/>
          </a:xfrm>
          <a:prstGeom prst="rect">
            <a:avLst/>
          </a:prstGeom>
          <a:solidFill>
            <a:srgbClr val="c4f5f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Проверим с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252360" y="1341360"/>
            <a:ext cx="3058920" cy="4525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916360" y="620640"/>
            <a:ext cx="604836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льчик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з бедной семь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ет в старенькое пальтишко, из которого давно вырос. Заплатка на брюках, на правом сапоге дыр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дёт себя заносчив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мел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злоблённы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жестоки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( «он давеча в классе Красоткина перочинным ножом пырнул»)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укусил за палец Алёш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дражительный, грубый: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 Не приставайте!»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казал он Алёше. Ведёт себя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ызывающ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обозвал Алёшу монахом, пускает ему в спину булыжник, то есть нападает исподтишка,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овоцирует Алёш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а дра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Зад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Сформулируйте тему сегодняшнего урок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373960" cy="1152720"/>
          </a:xfrm>
          <a:prstGeom prst="rect">
            <a:avLst/>
          </a:prstGeom>
          <a:solidFill>
            <a:srgbClr val="64e5f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Задание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Составить класте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Мальчик за канав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17800" y="1606680"/>
            <a:ext cx="8711280" cy="4922640"/>
            <a:chOff x="217800" y="1606680"/>
            <a:chExt cx="8711280" cy="4922640"/>
          </a:xfrm>
        </p:grpSpPr>
        <p:sp>
          <p:nvSpPr>
            <p:cNvPr id="132" name="_s197659"/>
            <p:cNvSpPr/>
            <p:nvPr/>
          </p:nvSpPr>
          <p:spPr>
            <a:xfrm flipH="1" flipV="1">
              <a:off x="3054600" y="2758680"/>
              <a:ext cx="1092960" cy="9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97658"/>
            <p:cNvSpPr/>
            <p:nvPr/>
          </p:nvSpPr>
          <p:spPr>
            <a:xfrm>
              <a:off x="1834560" y="1931400"/>
              <a:ext cx="1578600" cy="899640"/>
            </a:xfrm>
            <a:prstGeom prst="ellipse">
              <a:avLst/>
            </a:prstGeom>
            <a:solidFill>
              <a:srgbClr val="64e5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97661"/>
            <p:cNvSpPr/>
            <p:nvPr/>
          </p:nvSpPr>
          <p:spPr>
            <a:xfrm flipH="1" flipV="1">
              <a:off x="2016000" y="3441240"/>
              <a:ext cx="1840320" cy="480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197660"/>
            <p:cNvSpPr/>
            <p:nvPr/>
          </p:nvSpPr>
          <p:spPr>
            <a:xfrm>
              <a:off x="505440" y="2806920"/>
              <a:ext cx="1578600" cy="899640"/>
            </a:xfrm>
            <a:prstGeom prst="ellipse">
              <a:avLst/>
            </a:prstGeom>
            <a:solidFill>
              <a:srgbClr val="64e5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97657"/>
            <p:cNvSpPr/>
            <p:nvPr/>
          </p:nvSpPr>
          <p:spPr>
            <a:xfrm flipH="1">
              <a:off x="1789920" y="4173480"/>
              <a:ext cx="2005200" cy="16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197656"/>
            <p:cNvSpPr/>
            <p:nvPr/>
          </p:nvSpPr>
          <p:spPr>
            <a:xfrm>
              <a:off x="217800" y="3952080"/>
              <a:ext cx="1577520" cy="899640"/>
            </a:xfrm>
            <a:prstGeom prst="ellipse">
              <a:avLst/>
            </a:prstGeom>
            <a:solidFill>
              <a:srgbClr val="64e5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97655"/>
            <p:cNvSpPr/>
            <p:nvPr/>
          </p:nvSpPr>
          <p:spPr>
            <a:xfrm flipH="1">
              <a:off x="2446560" y="4403880"/>
              <a:ext cx="1532880" cy="75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97654"/>
            <p:cNvSpPr/>
            <p:nvPr/>
          </p:nvSpPr>
          <p:spPr>
            <a:xfrm>
              <a:off x="1061640" y="5005080"/>
              <a:ext cx="1578600" cy="899640"/>
            </a:xfrm>
            <a:prstGeom prst="ellipse">
              <a:avLst/>
            </a:prstGeom>
            <a:solidFill>
              <a:srgbClr val="64e5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197653"/>
            <p:cNvSpPr/>
            <p:nvPr/>
          </p:nvSpPr>
          <p:spPr>
            <a:xfrm flipH="1">
              <a:off x="3778920" y="4539960"/>
              <a:ext cx="575640" cy="1106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97652"/>
            <p:cNvSpPr/>
            <p:nvPr/>
          </p:nvSpPr>
          <p:spPr>
            <a:xfrm>
              <a:off x="2769840" y="5630040"/>
              <a:ext cx="1578600" cy="899280"/>
            </a:xfrm>
            <a:prstGeom prst="ellipse">
              <a:avLst/>
            </a:prstGeom>
            <a:solidFill>
              <a:srgbClr val="64e5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97651"/>
            <p:cNvSpPr/>
            <p:nvPr/>
          </p:nvSpPr>
          <p:spPr>
            <a:xfrm>
              <a:off x="4798440" y="4538520"/>
              <a:ext cx="565560" cy="1107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97650"/>
            <p:cNvSpPr/>
            <p:nvPr/>
          </p:nvSpPr>
          <p:spPr>
            <a:xfrm>
              <a:off x="4801320" y="5630040"/>
              <a:ext cx="1578600" cy="899280"/>
            </a:xfrm>
            <a:prstGeom prst="ellipse">
              <a:avLst/>
            </a:prstGeom>
            <a:solidFill>
              <a:srgbClr val="64e5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197649"/>
            <p:cNvSpPr/>
            <p:nvPr/>
          </p:nvSpPr>
          <p:spPr>
            <a:xfrm>
              <a:off x="5170320" y="4399920"/>
              <a:ext cx="1526400" cy="75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97648"/>
            <p:cNvSpPr/>
            <p:nvPr/>
          </p:nvSpPr>
          <p:spPr>
            <a:xfrm>
              <a:off x="6508800" y="5002920"/>
              <a:ext cx="1578600" cy="899640"/>
            </a:xfrm>
            <a:prstGeom prst="ellipse">
              <a:avLst/>
            </a:prstGeom>
            <a:solidFill>
              <a:srgbClr val="64e5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197647"/>
            <p:cNvSpPr/>
            <p:nvPr/>
          </p:nvSpPr>
          <p:spPr>
            <a:xfrm>
              <a:off x="5351400" y="4169520"/>
              <a:ext cx="2005200" cy="167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197646"/>
            <p:cNvSpPr/>
            <p:nvPr/>
          </p:nvSpPr>
          <p:spPr>
            <a:xfrm>
              <a:off x="7350480" y="3949920"/>
              <a:ext cx="1578600" cy="899640"/>
            </a:xfrm>
            <a:prstGeom prst="ellipse">
              <a:avLst/>
            </a:prstGeom>
            <a:solidFill>
              <a:srgbClr val="64e5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197644"/>
            <p:cNvSpPr/>
            <p:nvPr/>
          </p:nvSpPr>
          <p:spPr>
            <a:xfrm flipV="1">
              <a:off x="5286960" y="3443400"/>
              <a:ext cx="1843200" cy="47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197643"/>
            <p:cNvSpPr/>
            <p:nvPr/>
          </p:nvSpPr>
          <p:spPr>
            <a:xfrm>
              <a:off x="7059240" y="2805120"/>
              <a:ext cx="1578600" cy="899640"/>
            </a:xfrm>
            <a:prstGeom prst="ellipse">
              <a:avLst/>
            </a:prstGeom>
            <a:solidFill>
              <a:srgbClr val="64e5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197642"/>
            <p:cNvSpPr/>
            <p:nvPr/>
          </p:nvSpPr>
          <p:spPr>
            <a:xfrm flipV="1">
              <a:off x="4995720" y="2760840"/>
              <a:ext cx="1096560" cy="96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197641"/>
            <p:cNvSpPr/>
            <p:nvPr/>
          </p:nvSpPr>
          <p:spPr>
            <a:xfrm>
              <a:off x="5729760" y="1931400"/>
              <a:ext cx="1578600" cy="899640"/>
            </a:xfrm>
            <a:prstGeom prst="ellipse">
              <a:avLst/>
            </a:prstGeom>
            <a:solidFill>
              <a:srgbClr val="64e5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197640"/>
            <p:cNvSpPr/>
            <p:nvPr/>
          </p:nvSpPr>
          <p:spPr>
            <a:xfrm flipV="1">
              <a:off x="4571640" y="2506320"/>
              <a:ext cx="0" cy="1154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197639"/>
            <p:cNvSpPr/>
            <p:nvPr/>
          </p:nvSpPr>
          <p:spPr>
            <a:xfrm>
              <a:off x="3782160" y="1606680"/>
              <a:ext cx="1578600" cy="899280"/>
            </a:xfrm>
            <a:prstGeom prst="ellipse">
              <a:avLst/>
            </a:prstGeom>
            <a:solidFill>
              <a:srgbClr val="64e5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197638"/>
            <p:cNvSpPr/>
            <p:nvPr/>
          </p:nvSpPr>
          <p:spPr>
            <a:xfrm>
              <a:off x="3782160" y="3660840"/>
              <a:ext cx="1578600" cy="899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Мальчик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за канавк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18440" cy="792000"/>
          </a:xfrm>
          <a:prstGeom prst="rect">
            <a:avLst/>
          </a:prstGeom>
          <a:solidFill>
            <a:srgbClr val="63ebf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ластер.</a:t>
            </a: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 Илюша Снегирёв</a:t>
            </a: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-926280" y="1473840"/>
            <a:ext cx="10796400" cy="5010480"/>
            <a:chOff x="-926280" y="1473840"/>
            <a:chExt cx="10796400" cy="5010480"/>
          </a:xfrm>
        </p:grpSpPr>
        <p:sp>
          <p:nvSpPr>
            <p:cNvPr id="158" name="_s196640"/>
            <p:cNvSpPr/>
            <p:nvPr/>
          </p:nvSpPr>
          <p:spPr>
            <a:xfrm flipH="1" flipV="1">
              <a:off x="2685960" y="2421720"/>
              <a:ext cx="1414080" cy="126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96639"/>
            <p:cNvSpPr/>
            <p:nvPr/>
          </p:nvSpPr>
          <p:spPr>
            <a:xfrm>
              <a:off x="1518840" y="1721520"/>
              <a:ext cx="1602000" cy="748440"/>
            </a:xfrm>
            <a:prstGeom prst="ellipse">
              <a:avLst/>
            </a:prstGeom>
            <a:solidFill>
              <a:srgbClr val="63e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Смелы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96614"/>
            <p:cNvSpPr/>
            <p:nvPr/>
          </p:nvSpPr>
          <p:spPr>
            <a:xfrm flipH="1" flipV="1">
              <a:off x="1309320" y="2990520"/>
              <a:ext cx="2508480" cy="81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196615"/>
            <p:cNvSpPr/>
            <p:nvPr/>
          </p:nvSpPr>
          <p:spPr>
            <a:xfrm>
              <a:off x="-139320" y="2407680"/>
              <a:ext cx="1602000" cy="748440"/>
            </a:xfrm>
            <a:prstGeom prst="ellipse">
              <a:avLst/>
            </a:prstGeom>
            <a:solidFill>
              <a:srgbClr val="63e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Лет деся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196616"/>
            <p:cNvSpPr/>
            <p:nvPr/>
          </p:nvSpPr>
          <p:spPr>
            <a:xfrm flipH="1" flipV="1">
              <a:off x="655200" y="3792240"/>
              <a:ext cx="3029760" cy="175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96617"/>
            <p:cNvSpPr/>
            <p:nvPr/>
          </p:nvSpPr>
          <p:spPr>
            <a:xfrm>
              <a:off x="-926280" y="3375720"/>
              <a:ext cx="1603080" cy="747720"/>
            </a:xfrm>
            <a:prstGeom prst="ellipse">
              <a:avLst/>
            </a:prstGeom>
            <a:solidFill>
              <a:srgbClr val="63e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Сверкающ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Чёр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глаз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96638"/>
            <p:cNvSpPr/>
            <p:nvPr/>
          </p:nvSpPr>
          <p:spPr>
            <a:xfrm flipH="1">
              <a:off x="877320" y="4143600"/>
              <a:ext cx="2855520" cy="50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96637"/>
            <p:cNvSpPr/>
            <p:nvPr/>
          </p:nvSpPr>
          <p:spPr>
            <a:xfrm>
              <a:off x="-660960" y="4403160"/>
              <a:ext cx="1602000" cy="747720"/>
            </a:xfrm>
            <a:prstGeom prst="ellipse">
              <a:avLst/>
            </a:prstGeom>
            <a:solidFill>
              <a:srgbClr val="63e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Провоцируе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на драку Алёшу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96618"/>
            <p:cNvSpPr/>
            <p:nvPr/>
          </p:nvSpPr>
          <p:spPr>
            <a:xfrm flipH="1">
              <a:off x="1920240" y="4289400"/>
              <a:ext cx="2030400" cy="106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196619"/>
            <p:cNvSpPr/>
            <p:nvPr/>
          </p:nvSpPr>
          <p:spPr>
            <a:xfrm>
              <a:off x="599760" y="5255280"/>
              <a:ext cx="1602000" cy="747720"/>
            </a:xfrm>
            <a:prstGeom prst="ellipse">
              <a:avLst/>
            </a:prstGeom>
            <a:solidFill>
              <a:srgbClr val="63e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Бледненьк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196620"/>
            <p:cNvSpPr/>
            <p:nvPr/>
          </p:nvSpPr>
          <p:spPr>
            <a:xfrm flipH="1">
              <a:off x="3548520" y="4371120"/>
              <a:ext cx="739440" cy="137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96621"/>
            <p:cNvSpPr/>
            <p:nvPr/>
          </p:nvSpPr>
          <p:spPr>
            <a:xfrm>
              <a:off x="2561760" y="5735880"/>
              <a:ext cx="1602000" cy="748440"/>
            </a:xfrm>
            <a:prstGeom prst="ellipse">
              <a:avLst/>
            </a:prstGeom>
            <a:solidFill>
              <a:srgbClr val="63e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Грубы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96622"/>
            <p:cNvSpPr/>
            <p:nvPr/>
          </p:nvSpPr>
          <p:spPr>
            <a:xfrm>
              <a:off x="4669200" y="4369320"/>
              <a:ext cx="717120" cy="138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96623"/>
            <p:cNvSpPr/>
            <p:nvPr/>
          </p:nvSpPr>
          <p:spPr>
            <a:xfrm>
              <a:off x="4779720" y="5735880"/>
              <a:ext cx="1603080" cy="748440"/>
            </a:xfrm>
            <a:prstGeom prst="ellipse">
              <a:avLst/>
            </a:prstGeom>
            <a:solidFill>
              <a:srgbClr val="63e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Болезненны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96624"/>
            <p:cNvSpPr/>
            <p:nvPr/>
          </p:nvSpPr>
          <p:spPr>
            <a:xfrm>
              <a:off x="5002560" y="4285080"/>
              <a:ext cx="2013120" cy="106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96625"/>
            <p:cNvSpPr/>
            <p:nvPr/>
          </p:nvSpPr>
          <p:spPr>
            <a:xfrm>
              <a:off x="6741360" y="5255280"/>
              <a:ext cx="1603080" cy="747720"/>
            </a:xfrm>
            <a:prstGeom prst="ellipse">
              <a:avLst/>
            </a:prstGeom>
            <a:solidFill>
              <a:srgbClr val="63e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Ведёт себ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вызывающ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96626"/>
            <p:cNvSpPr/>
            <p:nvPr/>
          </p:nvSpPr>
          <p:spPr>
            <a:xfrm>
              <a:off x="5215680" y="4137840"/>
              <a:ext cx="2842920" cy="50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196627"/>
            <p:cNvSpPr/>
            <p:nvPr/>
          </p:nvSpPr>
          <p:spPr>
            <a:xfrm>
              <a:off x="8002440" y="4403160"/>
              <a:ext cx="1603080" cy="747720"/>
            </a:xfrm>
            <a:prstGeom prst="ellipse">
              <a:avLst/>
            </a:prstGeom>
            <a:solidFill>
              <a:srgbClr val="63e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Раздраж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тельны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196628"/>
            <p:cNvSpPr/>
            <p:nvPr/>
          </p:nvSpPr>
          <p:spPr>
            <a:xfrm flipV="1">
              <a:off x="5258520" y="3792240"/>
              <a:ext cx="3022200" cy="16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196629"/>
            <p:cNvSpPr/>
            <p:nvPr/>
          </p:nvSpPr>
          <p:spPr>
            <a:xfrm>
              <a:off x="8268120" y="3375720"/>
              <a:ext cx="1602000" cy="747720"/>
            </a:xfrm>
            <a:prstGeom prst="ellipse">
              <a:avLst/>
            </a:prstGeom>
            <a:solidFill>
              <a:srgbClr val="63e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Жесток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196630"/>
            <p:cNvSpPr/>
            <p:nvPr/>
          </p:nvSpPr>
          <p:spPr>
            <a:xfrm flipV="1">
              <a:off x="5121720" y="2990520"/>
              <a:ext cx="2504520" cy="80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196631"/>
            <p:cNvSpPr/>
            <p:nvPr/>
          </p:nvSpPr>
          <p:spPr>
            <a:xfrm>
              <a:off x="7481160" y="2407680"/>
              <a:ext cx="1603080" cy="748440"/>
            </a:xfrm>
            <a:prstGeom prst="ellipse">
              <a:avLst/>
            </a:prstGeom>
            <a:solidFill>
              <a:srgbClr val="63e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Из бедно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емь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196632"/>
            <p:cNvSpPr/>
            <p:nvPr/>
          </p:nvSpPr>
          <p:spPr>
            <a:xfrm flipV="1">
              <a:off x="4835880" y="2423160"/>
              <a:ext cx="1414080" cy="125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196633"/>
            <p:cNvSpPr/>
            <p:nvPr/>
          </p:nvSpPr>
          <p:spPr>
            <a:xfrm>
              <a:off x="5822640" y="1721520"/>
              <a:ext cx="1603080" cy="748440"/>
            </a:xfrm>
            <a:prstGeom prst="ellipse">
              <a:avLst/>
            </a:prstGeom>
            <a:solidFill>
              <a:srgbClr val="63e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лохо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челове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196634"/>
            <p:cNvSpPr/>
            <p:nvPr/>
          </p:nvSpPr>
          <p:spPr>
            <a:xfrm flipV="1">
              <a:off x="4467600" y="2219760"/>
              <a:ext cx="0" cy="141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196635"/>
            <p:cNvSpPr/>
            <p:nvPr/>
          </p:nvSpPr>
          <p:spPr>
            <a:xfrm>
              <a:off x="3668760" y="1473840"/>
              <a:ext cx="1602000" cy="748440"/>
            </a:xfrm>
            <a:prstGeom prst="ellipse">
              <a:avLst/>
            </a:prstGeom>
            <a:solidFill>
              <a:srgbClr val="63e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Злобны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196636"/>
            <p:cNvSpPr/>
            <p:nvPr/>
          </p:nvSpPr>
          <p:spPr>
            <a:xfrm>
              <a:off x="3668760" y="3638880"/>
              <a:ext cx="1602000" cy="747720"/>
            </a:xfrm>
            <a:prstGeom prst="ellipse">
              <a:avLst/>
            </a:prstGeom>
            <a:solidFill>
              <a:srgbClr val="63e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Илюш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4e5f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Прогнозировани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916000" y="1600200"/>
            <a:ext cx="60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Спрогнозируйте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альнейшие действия мальчика за канавкой,  героя, который оказался в  сложной ситуац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29588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3026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           </a:t>
            </a: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Бесед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779640" y="1125000"/>
            <a:ext cx="51130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Есть ли добрый человек в этой главе? Или мы знакомимся только со злыми людьм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932360" y="5300640"/>
            <a:ext cx="3816360" cy="865080"/>
          </a:xfrm>
          <a:prstGeom prst="cloudCallout">
            <a:avLst>
              <a:gd name="adj1" fmla="val -46629"/>
              <a:gd name="adj2" fmla="val 679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92436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c4f5f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"/>
              </a:rPr>
              <a:t>Проверь себя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362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Добрым, неравнодушным человеком предстаёт Алёша Карамаз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) Он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защищае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мальчика за канавкой своим телом от камней, пытается остановить перестрел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) Он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не отвечает злом на зл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мальчик за канавкой обзывает его, кидает камнями, кусает за палец, но Алёша не мстит 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a6f4f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Пробле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563640" y="1600200"/>
            <a:ext cx="532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очему Алёша связалс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 мальчикам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309564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solidFill>
            <a:srgbClr val="63ebf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Алёша Карамаз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842920" y="1052280"/>
            <a:ext cx="60498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ёша не считает детей ангелами, любит их. Но не может равнодушно смотреть на зло, которое происходит на его глаз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н верит в Бога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готовится к монашест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спомните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Библи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учит нас подставить вторую щеку, когда нас ударили по первой. Говорит она и о  непротивлении злу насилием,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это 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показал нам Алёша: не ответил злом на зл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275904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C:\Users\Admin\Desktop\img-chio08-209.jpg"/>
          <p:cNvPicPr/>
          <p:nvPr/>
        </p:nvPicPr>
        <p:blipFill>
          <a:blip r:embed="rId1"/>
          <a:stretch/>
        </p:blipFill>
        <p:spPr>
          <a:xfrm>
            <a:off x="468360" y="1844640"/>
            <a:ext cx="3752640" cy="2354400"/>
          </a:xfrm>
          <a:prstGeom prst="rect">
            <a:avLst/>
          </a:prstGeom>
          <a:ln w="9360">
            <a:solidFill>
              <a:srgbClr val="355d7e"/>
            </a:solidFill>
            <a:miter/>
          </a:ln>
        </p:spPr>
      </p:pic>
      <p:sp>
        <p:nvSpPr>
          <p:cNvPr id="201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добряете или нет вы поступки Алёши Карамазова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его ожидал от Алёши мальчик за канавкой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то ему сказал Алёш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8"/>
          <p:cNvSpPr/>
          <p:nvPr/>
        </p:nvSpPr>
        <p:spPr>
          <a:xfrm>
            <a:off x="487080" y="4437000"/>
            <a:ext cx="4187160" cy="398880"/>
          </a:xfrm>
          <a:prstGeom prst="rect">
            <a:avLst/>
          </a:prstGeom>
          <a:solidFill>
            <a:srgbClr val="63e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И.Глазунов Алёша Карамаз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84360" y="189000"/>
            <a:ext cx="7559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вязался со школьниками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633240"/>
          </a:xfrm>
          <a:prstGeom prst="rect">
            <a:avLst/>
          </a:prstGeom>
          <a:solidFill>
            <a:srgbClr val="a6f4f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Проверь  себ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начала Алёша пытался усовестить мальчиков 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«Не стыдно ли, господа! Шестеро против одного, да вы убьёте его»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том выскочил навстречу летящим камням, чтобы загородить собой мальч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тем захотел узнать, за что мальчишки ненавидят мальчика за канав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шёл прочь, не ввязался в драку, а когда мальчик за канавкой оскорбил его, бросил в спину камнем, только воскликнул: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«Как вам не стыдно! Что я такого вам сделал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 ударил мальчика, когда тот прокусил ему палец, а только спросил: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«Ну а теперь скажите, что я вам сделал?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3ebf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Алёша Карамаз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аким предстаёт Алёша Карамазов перед читателе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C:\Users\Admin\Desktop\img-chio08-209.jpg"/>
          <p:cNvPicPr/>
          <p:nvPr/>
        </p:nvPicPr>
        <p:blipFill>
          <a:blip r:embed="rId1"/>
          <a:stretch/>
        </p:blipFill>
        <p:spPr>
          <a:xfrm>
            <a:off x="468360" y="1844640"/>
            <a:ext cx="3752640" cy="2354400"/>
          </a:xfrm>
          <a:prstGeom prst="rect">
            <a:avLst/>
          </a:prstGeom>
          <a:ln w="9360">
            <a:solidFill>
              <a:srgbClr val="355d7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69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Ф. М.  Достоевский </a:t>
            </a: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Анализ главы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«Связался со школьниками»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из романа «Братья Карамазовы»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Содержимое 3" descr="alchiki_b.jpg"/>
          <p:cNvPicPr/>
          <p:nvPr/>
        </p:nvPicPr>
        <p:blipFill>
          <a:blip r:embed="rId1"/>
          <a:stretch/>
        </p:blipFill>
        <p:spPr>
          <a:xfrm>
            <a:off x="250920" y="2708280"/>
            <a:ext cx="2857320" cy="3745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64000" y="2997360"/>
            <a:ext cx="511344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Запишите тему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3960" y="404640"/>
            <a:ext cx="8229600" cy="720720"/>
          </a:xfrm>
          <a:prstGeom prst="rect">
            <a:avLst/>
          </a:prstGeom>
          <a:solidFill>
            <a:srgbClr val="63ebf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ОБРАЗ АЛЁШИ КАРАМАЗ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560" y="1267920"/>
            <a:ext cx="41907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Добрый, неравнодуш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Смелый</a:t>
            </a: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Чут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Не поддаётся на провокац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779640" y="1267920"/>
            <a:ext cx="521172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Хочет понять, почему мальчики озлобились на Илюшу, пытается защитить ег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Загораживает Илюшу собой от летящих камн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ытается разговорить Илюшу, выяснить причину его агресс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На зло не отвечает зл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А почему мальчик за канавкой  заплакал, убегая от Алеши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38472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64e5f6"/>
          </a:solidFill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00cc"/>
                </a:solidFill>
                <a:latin typeface="Arial"/>
              </a:rPr>
              <a:t>Проверь себя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713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люша ждал зла, агрессии, ждал, что его снова будут бить и унижать. Но его ожидания не оправдались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он  заплакал от растерянности, неожиданности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Станет ли злой человек плакать, тем более при человеке, которому только что навредил?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(Нет, не станет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3ebf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V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.Финал размышлен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427280" y="1599840"/>
            <a:ext cx="42591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Обиженный или злой мальчик за канавкой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38472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64e5f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Проверь себя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640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альчик Илюша  не злой, он обиженный. </a:t>
            </a: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Люди и обстоятельства сделали его таким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нищета, непонимание окружающих, нежелание помоч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24720" cy="1065240"/>
          </a:xfrm>
          <a:prstGeom prst="rect">
            <a:avLst/>
          </a:prstGeom>
          <a:solidFill>
            <a:srgbClr val="a6f4f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Рефлексия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(самоанализ деятельности)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8713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«ФРАЗЕОЛОГИЗМ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«ПОСЛОВИЦА»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ерите фразеологизм или пословицу, которые  характеризуют вашу работу сегодня на уро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Шевелить мозг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Краем ух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Хлопать уш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a6f4f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Рефлек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785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«Пантомима»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окажите результаты своей рабо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уки вверх –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довольны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олова вниз –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не довольны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крыть лицо руками –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безразлично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6f4f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ценки за уро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олодцы!!! -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706320"/>
          </a:xfrm>
          <a:prstGeom prst="rect">
            <a:avLst/>
          </a:prstGeom>
          <a:solidFill>
            <a:srgbClr val="63ebf9"/>
          </a:solidFill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Рефлексия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егодня на уроке я научился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воей работой я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…( доволен или не совсем доволен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рок заставил задуматься о том,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не было интересно, потому чт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Я понял, что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63ebf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ff"/>
                </a:solidFill>
                <a:latin typeface="Arial"/>
              </a:rPr>
              <a:t>1.Перечитать главы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«Надрыв», «Коля Красоткин»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. Ответить на вопросы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(стр. 207 – 208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Подготовить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ереска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дного из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ЗВОЛНОВАВШИХ ЭПИЗ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Индивидуальное задание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«Каким предстаёт Илюша Снегирёв в главе «Надрыв?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готовя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282680"/>
          </a:xfrm>
          <a:prstGeom prst="rect">
            <a:avLst/>
          </a:prstGeom>
          <a:solidFill>
            <a:srgbClr val="a6f4f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нализ главы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«Связался со школьникам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7138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00cc"/>
                </a:solidFill>
                <a:uFillTx/>
                <a:latin typeface="Arial"/>
              </a:rPr>
              <a:t>1. Сформулируйте цели и задачи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66"/>
                </a:solidFill>
                <a:uFillTx/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1.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66"/>
                </a:solidFill>
                <a:uFillTx/>
                <a:latin typeface="Arial"/>
              </a:rPr>
              <a:t>         </a:t>
            </a:r>
            <a:r>
              <a:rPr b="1" lang="en-US" sz="3600" spc="-1" strike="noStrike" u="sng">
                <a:solidFill>
                  <a:srgbClr val="000066"/>
                </a:solidFill>
                <a:uFillTx/>
                <a:latin typeface="Arial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66"/>
                </a:solidFill>
                <a:uFillTx/>
                <a:latin typeface="Arial"/>
              </a:rPr>
              <a:t>         </a:t>
            </a:r>
            <a:r>
              <a:rPr b="1" lang="en-US" sz="3600" spc="-1" strike="noStrike" u="sng">
                <a:solidFill>
                  <a:srgbClr val="000066"/>
                </a:solidFill>
                <a:uFillTx/>
                <a:latin typeface="Arial"/>
              </a:rPr>
              <a:t>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66"/>
                </a:solidFill>
                <a:uFillTx/>
                <a:latin typeface="Arial"/>
              </a:rPr>
              <a:t>         </a:t>
            </a:r>
            <a:r>
              <a:rPr b="1" lang="en-US" sz="3600" spc="-1" strike="noStrike" u="sng">
                <a:solidFill>
                  <a:srgbClr val="000066"/>
                </a:solidFill>
                <a:uFillTx/>
                <a:latin typeface="Arial"/>
              </a:rPr>
              <a:t>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66"/>
                </a:solidFill>
                <a:uFillTx/>
                <a:latin typeface="Arial"/>
              </a:rPr>
              <a:t>_____5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Содержимое 3" descr="alchiki_b.jpg"/>
          <p:cNvPicPr/>
          <p:nvPr/>
        </p:nvPicPr>
        <p:blipFill>
          <a:blip r:embed="rId1"/>
          <a:stretch/>
        </p:blipFill>
        <p:spPr>
          <a:xfrm>
            <a:off x="5400720" y="2637000"/>
            <a:ext cx="30081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11280" y="404640"/>
            <a:ext cx="7416720" cy="351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chool-collection.edu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u.wikipedia.org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wiki/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Сай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.Ф. Курдюмова.  Литература. 7 класс. – М., Дрофа, 2017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ческие советы к учебник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7 класса. Пособие для учителя. Под ред. М.А.Снежневской. – М.,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4000" y="620640"/>
            <a:ext cx="8280360" cy="792360"/>
          </a:xfrm>
          <a:prstGeom prst="rect">
            <a:avLst/>
          </a:prstGeom>
          <a:solidFill>
            <a:srgbClr val="a6f4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Использованные материа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302680" cy="1440000"/>
          </a:xfrm>
          <a:prstGeom prst="rect">
            <a:avLst/>
          </a:prstGeom>
          <a:solidFill>
            <a:srgbClr val="a6f4f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Проблемы, которые необходимо реши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03280" y="1989000"/>
            <a:ext cx="548316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Почему Алёша связался с мальчикам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Мальчик за канавкой злой или обиженны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28810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703440"/>
          </a:xfrm>
          <a:prstGeom prst="rect">
            <a:avLst/>
          </a:prstGeom>
          <a:solidFill>
            <a:srgbClr val="64e5f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11640" y="1197000"/>
            <a:ext cx="468144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лово о писател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Ф.М. Достоевско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Содержимое 3" descr="20080603233421.jpg"/>
          <p:cNvPicPr/>
          <p:nvPr/>
        </p:nvPicPr>
        <p:blipFill>
          <a:blip r:embed="rId1"/>
          <a:stretch/>
        </p:blipFill>
        <p:spPr>
          <a:xfrm>
            <a:off x="250920" y="907920"/>
            <a:ext cx="3863880" cy="492300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5" descr=""/>
          <p:cNvPicPr/>
          <p:nvPr/>
        </p:nvPicPr>
        <p:blipFill>
          <a:blip r:embed="rId2"/>
          <a:stretch/>
        </p:blipFill>
        <p:spPr>
          <a:xfrm>
            <a:off x="611280" y="6093000"/>
            <a:ext cx="374472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7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Содержимое 4" descr="alchiki_b.jpg"/>
          <p:cNvPicPr/>
          <p:nvPr/>
        </p:nvPicPr>
        <p:blipFill>
          <a:blip r:embed="rId1"/>
          <a:stretch/>
        </p:blipFill>
        <p:spPr>
          <a:xfrm>
            <a:off x="3011400" y="1600200"/>
            <a:ext cx="312120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Содержимое 3" descr="bd00384_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5" descr="v_movies_1699_14525.jpg"/>
          <p:cNvPicPr/>
          <p:nvPr/>
        </p:nvPicPr>
        <p:blipFill>
          <a:blip r:embed="rId3"/>
          <a:stretch/>
        </p:blipFill>
        <p:spPr>
          <a:xfrm>
            <a:off x="3214800" y="0"/>
            <a:ext cx="2595600" cy="42181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6" descr="oz138017.jpg"/>
          <p:cNvPicPr/>
          <p:nvPr/>
        </p:nvPicPr>
        <p:blipFill>
          <a:blip r:embed="rId4"/>
          <a:stretch/>
        </p:blipFill>
        <p:spPr>
          <a:xfrm>
            <a:off x="5986440" y="1143000"/>
            <a:ext cx="3157560" cy="45007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7" descr="00156530_cover.jpg"/>
          <p:cNvPicPr/>
          <p:nvPr/>
        </p:nvPicPr>
        <p:blipFill>
          <a:blip r:embed="rId5"/>
          <a:stretch/>
        </p:blipFill>
        <p:spPr>
          <a:xfrm>
            <a:off x="0" y="1285920"/>
            <a:ext cx="292896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55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4000" y="475920"/>
            <a:ext cx="8640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Ф.М. Достоевског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считают самым грустным писателем. И это не случайно.  Писатель прожил тяжёлую жизнь: он  рано потерял мать, тяжело было ему учиться в Главном инженерном училище, за участие в политической борьбе был заключён под арест и приговорён к смертной казни, которую потом отменили и заменили ссылк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стоевский написал книги, в которых стал защитником всех униженных и оскорблённых. Они заставляют читателей сочувствовать чужой беде.  В этом мы убедимся, когда прочитаем фрагменты из романа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«Братья Карамазовы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15:08:15Z</dcterms:created>
  <dc:creator>админ</dc:creator>
  <dc:description/>
  <dc:language>en-US</dc:language>
  <cp:lastModifiedBy>админ</cp:lastModifiedBy>
  <dcterms:modified xsi:type="dcterms:W3CDTF">2018-07-15T18:41:21Z</dcterms:modified>
  <cp:revision>144</cp:revision>
  <dc:subject/>
  <dc:title>Фёдор Михайлович Достоевский «Мальчики»</dc:title>
</cp:coreProperties>
</file>