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D2D-9FD9-43AB-AA37-1DD868CA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B89-1C8B-42C3-A15E-CFA2E9C9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111-09E7-475B-A592-0090CB21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77E-B5D5-49EB-A0A6-264B3D5B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5E4-110B-45A8-8C1D-3644D84B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D19-47AE-42FC-8727-3051A610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70E-9C2D-4A84-BAB3-3602660D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91D-B112-4BDA-810F-40C10770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2CC-0C1B-4596-8DB7-38972D52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65C-B13E-4341-AD06-75AAA4F0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F02-8B47-4795-BA77-2F0BCE7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883-DCD2-4757-A860-98E8B21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7A81-83E0-47F8-A866-6AEE3F366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ru.wikipedia.org/wiki/&#1057;&#1072;&#1081;&#1090;" TargetMode="External"/><Relationship Id="rId3" Type="http://schemas.openxmlformats.org/officeDocument/2006/relationships/hyperlink" Target="http://ru.wikipedia.org/wiki/&#1057;&#1072;&#1081;&#1090;" TargetMode="External"/><Relationship Id="rId4" Type="http://schemas.openxmlformats.org/officeDocument/2006/relationships/hyperlink" Target="http://ru.wikipedia.org/wiki/&#1057;&#1072;&#1081;&#1090;" TargetMode="External"/><Relationship Id="rId5" Type="http://schemas.openxmlformats.org/officeDocument/2006/relationships/hyperlink" Target="http://ru.wikipedia.org/wiki/&#1057;&#1072;&#1081;&#1090;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64764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Урок литературы 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Ф. М.  Достоевский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ализ гла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Связался со школьник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из романа «Братья Карамазовы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Легко ли читать Достоевск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легко читать произведения  Достоевского, потому что  перед читателем со страниц его книг предстают мрачные картины жизни. Автор заставляет  нас вместе со своими  героями переживать, страдать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72360" y="5157720"/>
            <a:ext cx="14349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3026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жет, сегодня не стоить читать книги Достоевского?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чем он нужен нам, сегодняшним школьникам?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этот вопрос вы ответите на заключительном уроке, когда прочитаем и разберём все гла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560" y="6524280"/>
            <a:ext cx="87850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5157720"/>
            <a:ext cx="2016360" cy="1141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03640" y="5013360"/>
            <a:ext cx="2232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бмен впечатлен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акое впечатление осталось от прочитанных страниц фрагмента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«Связал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о школьниками»?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то из героев привлёк ваше вним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акие чувства вызвало чтение главы? Смех или гру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80360" y="2492280"/>
            <a:ext cx="1290600" cy="987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67640" y="5661000"/>
            <a:ext cx="97308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343640" cy="56196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ови ошибку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кольников,  которые кидали камнями в мальчика за канавкой,  было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льчик за канавкой стоял в шагах двадцати от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росту мальчику за канавкой можно было дать лет одиннадц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льчики первыми начали кидать камни в того, который находился за канав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мальчика за канавкой в кармане был один кам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Ведь вы Карамазов, Карамазов»,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акричал хохоча мальчик за канав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9349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«Злой мальчиш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64000" y="1268280"/>
            <a:ext cx="5400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исывая схватку между мальчиками, автор одного из них называет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«злой мальчишка»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 ком из героев идё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146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Мини – сочин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Каким я увидел мальчика за канавкой в главе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«Связался со школьникам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ыполняют 5 челове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5084640"/>
            <a:ext cx="4390920" cy="1079640"/>
          </a:xfrm>
          <a:prstGeom prst="wedgeEllipseCallout">
            <a:avLst>
              <a:gd name="adj1" fmla="val 3722"/>
              <a:gd name="adj2" fmla="val 37796"/>
            </a:avLst>
          </a:prstGeom>
          <a:solidFill>
            <a:srgbClr val="a6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ремя 15 – 17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c4f5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79640" y="907920"/>
            <a:ext cx="511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сли есть зло, то должно быть и добро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характеризуем шестерых мальчиков  с камня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х можно назвать добрыми?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дтвердите свой ответ примерами из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1732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Проверь себ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вать добрыми мальчико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они вшестером кидают камнями в одного человек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трусливые, держатся кучкой)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разнят его, могут убить его, попадают камнями в грудь, голову, следовательно, он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жесток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мальчики  подталкивают  Алёшу спросить мальчика за канавкой пр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мочалку»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а слово это обижает его, т.е. хотят использовать Алёшу, чтобы сделать больно мальчику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Это подлый поступ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описывая группу мальчиков,  автор использует слов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ричали хохоча; злая перестрелка; загалдели: «Ага, струсил, убежал, мочалка!»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х поведение говорит о том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не только хотят обидеть мальчика за канавкой, но и провоцируют его на новую др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оставить 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А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прилагатель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дают описание признаков и свойств выбранного в синквейне предмета или объект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глаго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описывают  характерные действия объект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етвертая стро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раза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з пят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лов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оторая выражает 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аше отнош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описываемому предмету или объек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64764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оверка синквей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Мальч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злобленные, безжалост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вещаются, кидают, провоцирую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естокие школьники  избивают беззащитного Илю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Обид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ли, задач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ли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представление о художественном мире Ф.М. Достоевского, где человек показан в напряженные, критические моменты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ть причины озлобленности детей, подвести обучающихся к осознанию разрушающей силы з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оспитывать чувство милосердия, сострадания,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ближнем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изировать  нравственные проблемы произведени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сострадание другому человеку, милосердие, деятельная любовь к ближнем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одолжить работу по формированию  навыка характеристики геро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вивать аналитические и творческие способности, умения составлять кластер,  синквейн, характеристики 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одические приемы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налитическая беседа, групповая и индивидуальная работа, сопоставительный анализ образов, работа с фрагментами текста, составление кластера и синквейн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рудова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чебник-хрестоматия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зентация к уроку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64764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инквейн( 2 вариант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Мальч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бозлённые, труслив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идают, хохочут, обиж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русливые дети делают больно Илюш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71432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акие ассоциации возникают у вас в связи со слов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Шесть мальч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ьчик за канавк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лёш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4724280"/>
            <a:ext cx="14385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Выскажите своё м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гласны ли вы со словами штабс-капитана  Снегирёва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«Дети в школах народ безжалостный: порознь ангелы Божии, а вместе…часто безжалостны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64360" y="2708280"/>
            <a:ext cx="1584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3960" y="274680"/>
            <a:ext cx="8229600" cy="114768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СВЯЗАЛСЯ СО ШКОЛЬНИКАМИ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Admin\Desktop\[LI7RK_13-01]_[IL_09]-k.jpg"/>
          <p:cNvPicPr/>
          <p:nvPr/>
        </p:nvPicPr>
        <p:blipFill>
          <a:blip r:embed="rId1"/>
          <a:stretch/>
        </p:blipFill>
        <p:spPr>
          <a:xfrm>
            <a:off x="539640" y="1700280"/>
            <a:ext cx="3672000" cy="49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чему произошла перестрелка у канав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чему никто из мальчиков не встал на защиту Илю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роверь себ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Почему произошла «перестрелка» у канав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Мальчики дразнили Илюшу мочалкой, потому что брат Алёши Карамазова Дмитрий вытащил из трактира за бороду отца Илюши, а школьники увидели это и стали дразнить Илюшу мочалко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Почему никто из мальчиков не встал на защиту Илюш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ьчики считают Илюшу подле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Он сам первый начал!» «Он подлец, он давеча  в классе Красоткина перочинным ножиком пырну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альчики ненавидят  Илюшу, ведут себя как безжалостные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Бес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545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ую роль отводит Достоевский своему главному герою Алексею Карамазо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Что вы знаете о нё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выступление ученицы, которая готовила индивидуальное задание к уроку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792000" cy="54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Admin\Desktop\img-chio08-209.jpg"/>
          <p:cNvPicPr/>
          <p:nvPr/>
        </p:nvPicPr>
        <p:blipFill>
          <a:blip r:embed="rId2"/>
          <a:stretch/>
        </p:blipFill>
        <p:spPr>
          <a:xfrm>
            <a:off x="324000" y="1413000"/>
            <a:ext cx="3024000" cy="2786040"/>
          </a:xfrm>
          <a:prstGeom prst="rect">
            <a:avLst/>
          </a:prstGeom>
          <a:ln w="9360">
            <a:solidFill>
              <a:srgbClr val="355d7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48000" y="549000"/>
            <a:ext cx="5338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ова была реакция мальчика за канавкой на Алёш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54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Что можно сказать о мальчике за канавкой на основании его портрета и пове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3384720" cy="4897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08360" y="1700280"/>
            <a:ext cx="4913280" cy="82512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Работа в пар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4724280"/>
            <a:ext cx="3816360" cy="649440"/>
          </a:xfrm>
          <a:prstGeom prst="cloudCallout">
            <a:avLst>
              <a:gd name="adj1" fmla="val 9981"/>
              <a:gd name="adj2" fmla="val 73962"/>
            </a:avLst>
          </a:prstGeom>
          <a:solidFill>
            <a:srgbClr val="63e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637000"/>
            <a:ext cx="5256360" cy="1944360"/>
          </a:xfrm>
          <a:prstGeom prst="rect">
            <a:avLst/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и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стный расс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лько на основ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талей  портр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поведения героя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5734080"/>
            <a:ext cx="5976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(стр.201, 203, 204, 2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оверь 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507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ледненький, болезненны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 сверкавшими чёрными глазами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устил камень ловко и энергетичес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2276640"/>
            <a:ext cx="87854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весь карман был полон камн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С большими тёмными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лоб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отревшими глаз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«Одет в довольно старенькое и ветхое пальтишк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…ведёт себ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носчи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«спустил куражу»- перестал куражить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…опять злобно засверкав глазён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кнул злобным и вызывающим взгля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Монах в гарнитуровых штанах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400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44240"/>
          </a:xfrm>
          <a:prstGeom prst="rect">
            <a:avLst/>
          </a:prstGeom>
          <a:solidFill>
            <a:srgbClr val="c4f5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оверим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3058920" cy="452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620640"/>
            <a:ext cx="604836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ьч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бедной семь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ет в старенькое пальтишко, из которого давно вырос. Заплатка на брюках, на правом сапоге ды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дёт себя заносчив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ел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злоблён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жесто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 «он давеча в классе Красоткина перочинным ножом пырнул»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кусил за палец Алё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ражительный, грубый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 Не приставайте!»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казал он Алёше. Ведёт себ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зывающ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бозвал Алёшу монахом, пускает ему в спину булыжник, то есть нападает исподтишка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воцирует Алёш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др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Сформулируйте тему сегодняшнего уро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73960" cy="115272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ние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оставить клас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альчик за канав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7800" y="1606680"/>
            <a:ext cx="8711280" cy="4922640"/>
            <a:chOff x="217800" y="1606680"/>
            <a:chExt cx="8711280" cy="4922640"/>
          </a:xfrm>
        </p:grpSpPr>
        <p:sp>
          <p:nvSpPr>
            <p:cNvPr id="132" name="_s197659"/>
            <p:cNvSpPr/>
            <p:nvPr/>
          </p:nvSpPr>
          <p:spPr>
            <a:xfrm flipH="1" flipV="1">
              <a:off x="3054600" y="2758680"/>
              <a:ext cx="1092960" cy="9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97658"/>
            <p:cNvSpPr/>
            <p:nvPr/>
          </p:nvSpPr>
          <p:spPr>
            <a:xfrm>
              <a:off x="1834560" y="193140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97661"/>
            <p:cNvSpPr/>
            <p:nvPr/>
          </p:nvSpPr>
          <p:spPr>
            <a:xfrm flipH="1" flipV="1">
              <a:off x="2016000" y="3441240"/>
              <a:ext cx="1840320" cy="48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97660"/>
            <p:cNvSpPr/>
            <p:nvPr/>
          </p:nvSpPr>
          <p:spPr>
            <a:xfrm>
              <a:off x="505440" y="280692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97657"/>
            <p:cNvSpPr/>
            <p:nvPr/>
          </p:nvSpPr>
          <p:spPr>
            <a:xfrm flipH="1">
              <a:off x="1789920" y="4173480"/>
              <a:ext cx="2005200" cy="16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97656"/>
            <p:cNvSpPr/>
            <p:nvPr/>
          </p:nvSpPr>
          <p:spPr>
            <a:xfrm>
              <a:off x="217800" y="3952080"/>
              <a:ext cx="157752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97655"/>
            <p:cNvSpPr/>
            <p:nvPr/>
          </p:nvSpPr>
          <p:spPr>
            <a:xfrm flipH="1">
              <a:off x="2446560" y="4403880"/>
              <a:ext cx="1532880" cy="75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97654"/>
            <p:cNvSpPr/>
            <p:nvPr/>
          </p:nvSpPr>
          <p:spPr>
            <a:xfrm>
              <a:off x="1061640" y="500508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97653"/>
            <p:cNvSpPr/>
            <p:nvPr/>
          </p:nvSpPr>
          <p:spPr>
            <a:xfrm flipH="1">
              <a:off x="3778920" y="4539960"/>
              <a:ext cx="575640" cy="11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97652"/>
            <p:cNvSpPr/>
            <p:nvPr/>
          </p:nvSpPr>
          <p:spPr>
            <a:xfrm>
              <a:off x="2769840" y="5630040"/>
              <a:ext cx="1578600" cy="89928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97651"/>
            <p:cNvSpPr/>
            <p:nvPr/>
          </p:nvSpPr>
          <p:spPr>
            <a:xfrm>
              <a:off x="4798440" y="4538520"/>
              <a:ext cx="565560" cy="11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97650"/>
            <p:cNvSpPr/>
            <p:nvPr/>
          </p:nvSpPr>
          <p:spPr>
            <a:xfrm>
              <a:off x="4801320" y="5630040"/>
              <a:ext cx="1578600" cy="89928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97649"/>
            <p:cNvSpPr/>
            <p:nvPr/>
          </p:nvSpPr>
          <p:spPr>
            <a:xfrm>
              <a:off x="5170320" y="4399920"/>
              <a:ext cx="1526400" cy="75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97648"/>
            <p:cNvSpPr/>
            <p:nvPr/>
          </p:nvSpPr>
          <p:spPr>
            <a:xfrm>
              <a:off x="6508800" y="500292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97647"/>
            <p:cNvSpPr/>
            <p:nvPr/>
          </p:nvSpPr>
          <p:spPr>
            <a:xfrm>
              <a:off x="5351400" y="4169520"/>
              <a:ext cx="2005200" cy="16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97646"/>
            <p:cNvSpPr/>
            <p:nvPr/>
          </p:nvSpPr>
          <p:spPr>
            <a:xfrm>
              <a:off x="7350480" y="394992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97644"/>
            <p:cNvSpPr/>
            <p:nvPr/>
          </p:nvSpPr>
          <p:spPr>
            <a:xfrm flipV="1">
              <a:off x="5286960" y="3443400"/>
              <a:ext cx="1843200" cy="47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97643"/>
            <p:cNvSpPr/>
            <p:nvPr/>
          </p:nvSpPr>
          <p:spPr>
            <a:xfrm>
              <a:off x="7059240" y="280512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97642"/>
            <p:cNvSpPr/>
            <p:nvPr/>
          </p:nvSpPr>
          <p:spPr>
            <a:xfrm flipV="1">
              <a:off x="4995720" y="2760840"/>
              <a:ext cx="1096560" cy="96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97641"/>
            <p:cNvSpPr/>
            <p:nvPr/>
          </p:nvSpPr>
          <p:spPr>
            <a:xfrm>
              <a:off x="5729760" y="193140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97640"/>
            <p:cNvSpPr/>
            <p:nvPr/>
          </p:nvSpPr>
          <p:spPr>
            <a:xfrm flipV="1">
              <a:off x="4571640" y="2506320"/>
              <a:ext cx="0" cy="11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97639"/>
            <p:cNvSpPr/>
            <p:nvPr/>
          </p:nvSpPr>
          <p:spPr>
            <a:xfrm>
              <a:off x="3782160" y="1606680"/>
              <a:ext cx="1578600" cy="89928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97638"/>
            <p:cNvSpPr/>
            <p:nvPr/>
          </p:nvSpPr>
          <p:spPr>
            <a:xfrm>
              <a:off x="3782160" y="3660840"/>
              <a:ext cx="1578600" cy="89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альчи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 канавк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79200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астер.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 Илюша Снегирёв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-926280" y="1473840"/>
            <a:ext cx="10796400" cy="5010480"/>
            <a:chOff x="-926280" y="1473840"/>
            <a:chExt cx="10796400" cy="5010480"/>
          </a:xfrm>
        </p:grpSpPr>
        <p:sp>
          <p:nvSpPr>
            <p:cNvPr id="158" name="_s196640"/>
            <p:cNvSpPr/>
            <p:nvPr/>
          </p:nvSpPr>
          <p:spPr>
            <a:xfrm flipH="1" flipV="1">
              <a:off x="2685960" y="2421720"/>
              <a:ext cx="1414080" cy="126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96639"/>
            <p:cNvSpPr/>
            <p:nvPr/>
          </p:nvSpPr>
          <p:spPr>
            <a:xfrm>
              <a:off x="1518840" y="1721520"/>
              <a:ext cx="160200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мел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96614"/>
            <p:cNvSpPr/>
            <p:nvPr/>
          </p:nvSpPr>
          <p:spPr>
            <a:xfrm flipH="1" flipV="1">
              <a:off x="1309320" y="2990520"/>
              <a:ext cx="250848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96615"/>
            <p:cNvSpPr/>
            <p:nvPr/>
          </p:nvSpPr>
          <p:spPr>
            <a:xfrm>
              <a:off x="-139320" y="2407680"/>
              <a:ext cx="160200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ет деся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96616"/>
            <p:cNvSpPr/>
            <p:nvPr/>
          </p:nvSpPr>
          <p:spPr>
            <a:xfrm flipH="1" flipV="1">
              <a:off x="655200" y="3792240"/>
              <a:ext cx="3029760" cy="17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96617"/>
            <p:cNvSpPr/>
            <p:nvPr/>
          </p:nvSpPr>
          <p:spPr>
            <a:xfrm>
              <a:off x="-926280" y="3375720"/>
              <a:ext cx="160308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веркающ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Чё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л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96638"/>
            <p:cNvSpPr/>
            <p:nvPr/>
          </p:nvSpPr>
          <p:spPr>
            <a:xfrm flipH="1">
              <a:off x="877320" y="4143600"/>
              <a:ext cx="2855520" cy="50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96637"/>
            <p:cNvSpPr/>
            <p:nvPr/>
          </p:nvSpPr>
          <p:spPr>
            <a:xfrm>
              <a:off x="-660960" y="4403160"/>
              <a:ext cx="160200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овоциру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а драку Алёш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96618"/>
            <p:cNvSpPr/>
            <p:nvPr/>
          </p:nvSpPr>
          <p:spPr>
            <a:xfrm flipH="1">
              <a:off x="1920240" y="4289400"/>
              <a:ext cx="2030400" cy="10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96619"/>
            <p:cNvSpPr/>
            <p:nvPr/>
          </p:nvSpPr>
          <p:spPr>
            <a:xfrm>
              <a:off x="599760" y="5255280"/>
              <a:ext cx="160200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леднень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96620"/>
            <p:cNvSpPr/>
            <p:nvPr/>
          </p:nvSpPr>
          <p:spPr>
            <a:xfrm flipH="1">
              <a:off x="3548520" y="4371120"/>
              <a:ext cx="739440" cy="137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96621"/>
            <p:cNvSpPr/>
            <p:nvPr/>
          </p:nvSpPr>
          <p:spPr>
            <a:xfrm>
              <a:off x="2561760" y="5735880"/>
              <a:ext cx="160200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уб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96622"/>
            <p:cNvSpPr/>
            <p:nvPr/>
          </p:nvSpPr>
          <p:spPr>
            <a:xfrm>
              <a:off x="4669200" y="4369320"/>
              <a:ext cx="717120" cy="13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96623"/>
            <p:cNvSpPr/>
            <p:nvPr/>
          </p:nvSpPr>
          <p:spPr>
            <a:xfrm>
              <a:off x="4779720" y="5735880"/>
              <a:ext cx="160308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олезнен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96624"/>
            <p:cNvSpPr/>
            <p:nvPr/>
          </p:nvSpPr>
          <p:spPr>
            <a:xfrm>
              <a:off x="5002560" y="4285080"/>
              <a:ext cx="2013120" cy="10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96625"/>
            <p:cNvSpPr/>
            <p:nvPr/>
          </p:nvSpPr>
          <p:spPr>
            <a:xfrm>
              <a:off x="6741360" y="5255280"/>
              <a:ext cx="160308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едёт себ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ызывающ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96626"/>
            <p:cNvSpPr/>
            <p:nvPr/>
          </p:nvSpPr>
          <p:spPr>
            <a:xfrm>
              <a:off x="5215680" y="4137840"/>
              <a:ext cx="2842920" cy="50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96627"/>
            <p:cNvSpPr/>
            <p:nvPr/>
          </p:nvSpPr>
          <p:spPr>
            <a:xfrm>
              <a:off x="8002440" y="4403160"/>
              <a:ext cx="160308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здраж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ель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96628"/>
            <p:cNvSpPr/>
            <p:nvPr/>
          </p:nvSpPr>
          <p:spPr>
            <a:xfrm flipV="1">
              <a:off x="5258520" y="3792240"/>
              <a:ext cx="3022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96629"/>
            <p:cNvSpPr/>
            <p:nvPr/>
          </p:nvSpPr>
          <p:spPr>
            <a:xfrm>
              <a:off x="8268120" y="3375720"/>
              <a:ext cx="160200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Жесто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96630"/>
            <p:cNvSpPr/>
            <p:nvPr/>
          </p:nvSpPr>
          <p:spPr>
            <a:xfrm flipV="1">
              <a:off x="5121720" y="2990520"/>
              <a:ext cx="2504520" cy="80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96631"/>
            <p:cNvSpPr/>
            <p:nvPr/>
          </p:nvSpPr>
          <p:spPr>
            <a:xfrm>
              <a:off x="7481160" y="2407680"/>
              <a:ext cx="160308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з бед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мь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96632"/>
            <p:cNvSpPr/>
            <p:nvPr/>
          </p:nvSpPr>
          <p:spPr>
            <a:xfrm flipV="1">
              <a:off x="4835880" y="2423160"/>
              <a:ext cx="1414080" cy="125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96633"/>
            <p:cNvSpPr/>
            <p:nvPr/>
          </p:nvSpPr>
          <p:spPr>
            <a:xfrm>
              <a:off x="5822640" y="1721520"/>
              <a:ext cx="160308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лох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96634"/>
            <p:cNvSpPr/>
            <p:nvPr/>
          </p:nvSpPr>
          <p:spPr>
            <a:xfrm flipV="1">
              <a:off x="4467600" y="2219760"/>
              <a:ext cx="0" cy="14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96635"/>
            <p:cNvSpPr/>
            <p:nvPr/>
          </p:nvSpPr>
          <p:spPr>
            <a:xfrm>
              <a:off x="3668760" y="1473840"/>
              <a:ext cx="160200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лоб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96636"/>
            <p:cNvSpPr/>
            <p:nvPr/>
          </p:nvSpPr>
          <p:spPr>
            <a:xfrm>
              <a:off x="3668760" y="3638880"/>
              <a:ext cx="160200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Илю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огнозиров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Спрогнозируйте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льнейшие действия мальчика за канавкой,  героя, который оказался в  сложной ситу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958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Бесе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779640" y="1125000"/>
            <a:ext cx="5113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Есть ли добрый человек в этой главе? Или мы знакомимся только со злыми людь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5300640"/>
            <a:ext cx="3816360" cy="865080"/>
          </a:xfrm>
          <a:prstGeom prst="cloudCallout">
            <a:avLst>
              <a:gd name="adj1" fmla="val -46629"/>
              <a:gd name="adj2" fmla="val 67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4f5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Проверь себ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Добрым, неравнодушным человеком предстаёт Алёша Карамаз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Он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ащища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мальчика за канавкой своим телом от камней, пытается остановить перестре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Он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 отвечает злом на зл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мальчик за канавкой обзывает его, кидает камнями, кусает за палец, но Алёша не мстит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6364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чему Алёша связал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 мальчика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0956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лёша Карамаз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42920" y="1052280"/>
            <a:ext cx="6049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ёша не считает детей ангелами, любит их. Но не может равнодушно смотреть на зло, которое происходит на его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 верит в Бога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отовится к монаше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помните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ибл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учит нас подставить вторую щеку, когда нас ударили по первой. Говорит она и о  непротивлении злу насилием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это 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казал нам Алёша: не ответил злом на з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27590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Admin\Desktop\img-chio08-209.jpg"/>
          <p:cNvPicPr/>
          <p:nvPr/>
        </p:nvPicPr>
        <p:blipFill>
          <a:blip r:embed="rId1"/>
          <a:stretch/>
        </p:blipFill>
        <p:spPr>
          <a:xfrm>
            <a:off x="468360" y="1844640"/>
            <a:ext cx="3752640" cy="2354400"/>
          </a:xfrm>
          <a:prstGeom prst="rect">
            <a:avLst/>
          </a:prstGeom>
          <a:ln w="9360">
            <a:solidFill>
              <a:srgbClr val="355d7e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обряете или нет вы поступки Алёши Карамазо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го ожидал от Алёши мальчик за канавко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ему сказал Алё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87080" y="4437000"/>
            <a:ext cx="4187160" cy="39888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И.Глазунов Алёша Карам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4360" y="189000"/>
            <a:ext cx="755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язался со школьниками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оверь 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ачала Алёша пытался усовестить мальчиков 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«Не стыдно ли, господа! Шестеро против одного, да вы убьёте его»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ом выскочил навстречу летящим камням, чтобы загородить собой маль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ем захотел узнать, за что мальчишки ненавидят мальчика за канав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шёл прочь, не ввязался в драку, а когда мальчик за канавкой оскорбил его, бросил в спину камнем, только воскликнул: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Как вам не стыдно! Что я такого вам сдела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ударил мальчика, когда тот прокусил ему палец, а только спросил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Ну а теперь скажите, что я вам сделал?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лёша Карамаз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им предстаёт Алёша Карамазов перед читател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Admin\Desktop\img-chio08-209.jpg"/>
          <p:cNvPicPr/>
          <p:nvPr/>
        </p:nvPicPr>
        <p:blipFill>
          <a:blip r:embed="rId1"/>
          <a:stretch/>
        </p:blipFill>
        <p:spPr>
          <a:xfrm>
            <a:off x="468360" y="1844640"/>
            <a:ext cx="3752640" cy="2354400"/>
          </a:xfrm>
          <a:prstGeom prst="rect">
            <a:avLst/>
          </a:prstGeom>
          <a:ln w="9360">
            <a:solidFill>
              <a:srgbClr val="355d7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. М.  Достоевский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нализ главы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Связался со школьниками»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 романа «Братья Карамазовы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3" descr="alchiki_b.jpg"/>
          <p:cNvPicPr/>
          <p:nvPr/>
        </p:nvPicPr>
        <p:blipFill>
          <a:blip r:embed="rId1"/>
          <a:stretch/>
        </p:blipFill>
        <p:spPr>
          <a:xfrm>
            <a:off x="250920" y="2708280"/>
            <a:ext cx="2857320" cy="374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000" y="2997360"/>
            <a:ext cx="511344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апишите т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3960" y="404640"/>
            <a:ext cx="8229600" cy="72072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БРАЗ АЛЁШИ КАРАМАЗ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267920"/>
            <a:ext cx="41907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Добрый, неравнодуш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мелый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Чут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Не поддаётся на провок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79640" y="1267920"/>
            <a:ext cx="5211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Хочет понять, почему мальчики озлобились на Илюшу, пытается защитить е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гораживает Илюшу собой от летящих кам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ытается разговорить Илюшу, выяснить причину его агре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зло не отвечает зл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А почему мальчик за канавкой  заплакал, убегая от Алеш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38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4e5f6"/>
          </a:solidFill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cc"/>
                </a:solidFill>
                <a:latin typeface="Arial"/>
              </a:rPr>
              <a:t>Проверь себ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люша ждал зла, агрессии, ждал, что его снова будут бить и унижать. Но его ожидания не оправдались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н  заплакал от растерянности, неожиданност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Станет ли злой человек плакать, тем более при человеке, которому только что навредил?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Нет, не станет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.Финал размышл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биженный или злой мальчик за канав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38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Проверь себ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льчик Илюша  не злой, он обиженный.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Люди и обстоятельства сделали его таким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ищета, непонимание окружающих, нежелание помоч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06524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флексия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самоанализ деятельности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ФРАЗЕОЛОГИЗМ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ПОСЛОВИЦА»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фразеологизм или пословицу, которые  характеризуют вашу работу сегодн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Шевелить мозг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Краем 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Хлопать уш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«Пантомима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кажите результаты своей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уки вверх –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овольн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лова вниз –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е довольн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крыть лицо руками –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безразличн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ценки за у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лодцы!!! -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solidFill>
            <a:srgbClr val="63ebf9"/>
          </a:solidFill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флексия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 я научи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оей работой я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…( доволен или не совсем доволе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рок заставил задуматься о том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не было интересно, потому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 понял, ч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1.Перечитать главы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Надрыв», «Коля Красоткин»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. Ответить на вопросы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(стр. 207 – 208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дготов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еска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дного из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ЗВОЛНОВАВШИХ ЭПИЗ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ндивидуальное задание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«Каким предстаёт Илюша Снегирёв в главе «Надрыв?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отовя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28268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нализ главы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Связался со школьник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1. Сформулируйте цели и задач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.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_____5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alchiki_b.jpg"/>
          <p:cNvPicPr/>
          <p:nvPr/>
        </p:nvPicPr>
        <p:blipFill>
          <a:blip r:embed="rId1"/>
          <a:stretch/>
        </p:blipFill>
        <p:spPr>
          <a:xfrm>
            <a:off x="5400720" y="2637000"/>
            <a:ext cx="3008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1280" y="404640"/>
            <a:ext cx="7416720" cy="35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.wikipedia.org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wiki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Ф. Курдюмова.  Литература. 7 класс. – М., Дрофа, 2017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ческие советы к учебни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7 класса. Пособие для учителя. Под ред. М.А.Снежневской. – М.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620640"/>
            <a:ext cx="8280360" cy="792360"/>
          </a:xfrm>
          <a:prstGeom prst="rect">
            <a:avLst/>
          </a:prstGeom>
          <a:solidFill>
            <a:srgbClr val="a6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пользован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302680" cy="144000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роблемы, которые необходимо реш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03280" y="1989000"/>
            <a:ext cx="54831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Почему Алёша связался с мальчик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Мальчик за канавкой злой или обижен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881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1640" y="1197000"/>
            <a:ext cx="4681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лово о писател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Ф.М. Достоевс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20080603233421.jpg"/>
          <p:cNvPicPr/>
          <p:nvPr/>
        </p:nvPicPr>
        <p:blipFill>
          <a:blip r:embed="rId1"/>
          <a:stretch/>
        </p:blipFill>
        <p:spPr>
          <a:xfrm>
            <a:off x="250920" y="907920"/>
            <a:ext cx="3863880" cy="4923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7447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4" descr="alchiki_b.jpg"/>
          <p:cNvPicPr/>
          <p:nvPr/>
        </p:nvPicPr>
        <p:blipFill>
          <a:blip r:embed="rId1"/>
          <a:stretch/>
        </p:blipFill>
        <p:spPr>
          <a:xfrm>
            <a:off x="3011400" y="1600200"/>
            <a:ext cx="31212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3" descr="bd00384_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v_movies_1699_14525.jpg"/>
          <p:cNvPicPr/>
          <p:nvPr/>
        </p:nvPicPr>
        <p:blipFill>
          <a:blip r:embed="rId3"/>
          <a:stretch/>
        </p:blipFill>
        <p:spPr>
          <a:xfrm>
            <a:off x="3214800" y="0"/>
            <a:ext cx="2595600" cy="421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oz138017.jpg"/>
          <p:cNvPicPr/>
          <p:nvPr/>
        </p:nvPicPr>
        <p:blipFill>
          <a:blip r:embed="rId4"/>
          <a:stretch/>
        </p:blipFill>
        <p:spPr>
          <a:xfrm>
            <a:off x="5986440" y="1143000"/>
            <a:ext cx="3157560" cy="4500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00156530_cover.jpg"/>
          <p:cNvPicPr/>
          <p:nvPr/>
        </p:nvPicPr>
        <p:blipFill>
          <a:blip r:embed="rId5"/>
          <a:stretch/>
        </p:blipFill>
        <p:spPr>
          <a:xfrm>
            <a:off x="0" y="1285920"/>
            <a:ext cx="2928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М. Достоевск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читают самым грустным писателем. И это не случайно.  Писатель прожил тяжёлую жизнь: он  рано потерял мать, тяжело было ему учиться в Главном инженерном училище, за участие в политической борьбе был заключён под арест и приговорён к смертной казни, которую потом отменили и заменили ссыл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стоевский написал книги, в которых стал защитником всех униженных и оскорблённых. Они заставляют читателей сочувствовать чужой беде.  В этом мы убедимся, когда прочитаем фрагменты из роман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Братья Карамазов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5:08:15Z</dcterms:created>
  <dc:creator>админ</dc:creator>
  <dc:description/>
  <dc:language>en-US</dc:language>
  <cp:lastModifiedBy>админ</cp:lastModifiedBy>
  <dcterms:modified xsi:type="dcterms:W3CDTF">2018-07-15T18:41:21Z</dcterms:modified>
  <cp:revision>144</cp:revision>
  <dc:subject/>
  <dc:title>Фёдор Михайлович Достоевский «Мальчики»</dc:title>
</cp:coreProperties>
</file>