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2B6B-ACC5-4170-92D1-007F516916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A91F8-9244-4BFA-9F1D-44C7F33CCB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AA6E-7107-4988-89D3-9B854916D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C5B1-39DA-4D5F-AE28-992372BB8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A406B-1D98-47F6-BB9A-8C8B1A1D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E18A-3552-498F-BF93-76FEF31A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693D-4CA4-4178-9362-3BAAF3F1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1875-66B3-4265-BD93-9A3E149F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667-97FA-498A-BE57-A4A6499A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1D81-7642-4E14-845B-6D7D886E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1884-21C3-4CC7-BA69-DD3028F51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C23A-173C-4324-9C56-D6F4088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19C2-06EC-47C1-A311-D93B6877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61CA-43C6-4653-8A6C-64B69FDA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153B-9FD0-43D8-A03F-188F3DDF16C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Балаковская Атомная Электростанц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Выполнила работу учени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3А класса МАОУ СОШ №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уликова По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72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7"/>
          <p:cNvSpPr txBox="1"/>
          <p:nvPr/>
        </p:nvSpPr>
        <p:spPr>
          <a:xfrm>
            <a:off x="1116000" y="189000"/>
            <a:ext cx="712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Балаковская Атомная Электростан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51" name="Picture 9" descr="Файл:BalakovoNPP3.jpg"/>
          <p:cNvPicPr/>
          <p:nvPr/>
        </p:nvPicPr>
        <p:blipFill>
          <a:blip r:embed="rId1"/>
          <a:stretch/>
        </p:blipFill>
        <p:spPr>
          <a:xfrm>
            <a:off x="826920" y="1197000"/>
            <a:ext cx="7456680" cy="4968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10"/>
          <p:cNvSpPr/>
          <p:nvPr/>
        </p:nvSpPr>
        <p:spPr>
          <a:xfrm>
            <a:off x="5871960" y="6308640"/>
            <a:ext cx="30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ружена: в 1985-1993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105520" y="-360"/>
            <a:ext cx="40384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алако́вская АЭ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 — атомная электрическая станция, расположенная в 8 км от города Балаково Саратовской области, на левом берегу Саратовского водохранилища. Является крупнейшей АЭС в России по выработке электроэнергии — более 30 млрд кВт·ч ежегодно, что обеспечивает четверть производства электроэнергии в Приволжском федеральном округе и составляет пятую часть выработки всех АЭС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Балаковская атомная станция"/>
          <p:cNvPicPr/>
          <p:nvPr/>
        </p:nvPicPr>
        <p:blipFill>
          <a:blip r:embed="rId1"/>
          <a:stretch/>
        </p:blipFill>
        <p:spPr>
          <a:xfrm>
            <a:off x="684360" y="0"/>
            <a:ext cx="4174920" cy="277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big3757"/>
          <p:cNvPicPr/>
          <p:nvPr/>
        </p:nvPicPr>
        <p:blipFill>
          <a:blip r:embed="rId2"/>
          <a:stretch/>
        </p:blipFill>
        <p:spPr>
          <a:xfrm>
            <a:off x="0" y="2997360"/>
            <a:ext cx="5435640" cy="35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3429000"/>
            <a:ext cx="526716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Вид на энергоблоки со стороны блочных насосных стан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big3752"/>
          <p:cNvPicPr/>
          <p:nvPr/>
        </p:nvPicPr>
        <p:blipFill>
          <a:blip r:embed="rId1"/>
          <a:stretch/>
        </p:blipFill>
        <p:spPr>
          <a:xfrm>
            <a:off x="179280" y="46080"/>
            <a:ext cx="5184720" cy="32400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6"/>
          <p:cNvSpPr/>
          <p:nvPr/>
        </p:nvSpPr>
        <p:spPr>
          <a:xfrm>
            <a:off x="250920" y="3573360"/>
            <a:ext cx="8893080" cy="30243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ая АЭС обеспечивает четверть производства электроэнер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иволжском федеральном округе и пятую часть выработки все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томных станций страны. Ее электроэнергией надежно обеспечиваю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требители Поволжья (76% поставляемой ею электроэнергии), Центра (13%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ала (8%) и Сибири (3%). Электроэнергия Балаковской АЭС - сам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шевая среди всех АЭС и тепловых электростанций Рос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использования установленной мощности (КИУМ)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алаковской АЭС составляет более 80 проце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386028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Центр обработки отходов Балаковской АЭС - уникальный объект российской атомной энергети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big3755"/>
          <p:cNvPicPr/>
          <p:nvPr/>
        </p:nvPicPr>
        <p:blipFill>
          <a:blip r:embed="rId1"/>
          <a:stretch/>
        </p:blipFill>
        <p:spPr>
          <a:xfrm>
            <a:off x="0" y="189000"/>
            <a:ext cx="5299200" cy="3311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big3753"/>
          <p:cNvPicPr/>
          <p:nvPr/>
        </p:nvPicPr>
        <p:blipFill>
          <a:blip r:embed="rId2"/>
          <a:stretch/>
        </p:blipFill>
        <p:spPr>
          <a:xfrm>
            <a:off x="4427640" y="3500280"/>
            <a:ext cx="4508280" cy="332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7"/>
          <p:cNvSpPr/>
          <p:nvPr/>
        </p:nvSpPr>
        <p:spPr>
          <a:xfrm>
            <a:off x="5435640" y="1916280"/>
            <a:ext cx="3397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Административно-бытовой корпус №1 Балаковской АЭ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8"/>
          <p:cNvSpPr/>
          <p:nvPr/>
        </p:nvSpPr>
        <p:spPr>
          <a:xfrm>
            <a:off x="7812000" y="2924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9"/>
          <p:cNvSpPr/>
          <p:nvPr/>
        </p:nvSpPr>
        <p:spPr>
          <a:xfrm flipV="1">
            <a:off x="250920" y="335736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35280" y="4005360"/>
            <a:ext cx="6919920" cy="26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ую часть своей истории Балаковская АЭС сотрудничает со множеством зарубежных партнёров, международная деятельность осуществляется в рамках международных программ ядерной безопасности и программ международного научно-технического сотрудничества, в которые входят международный обмен опытом, участие в конференциях и семинарах по приобретению положительного опыта в вопросах повышения надёжности, безопасности и эффективности работы станции, обучение персонала и другие сферы дея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9" descr="Файл:BalakovoNPP head2.jpg"/>
          <p:cNvPicPr/>
          <p:nvPr/>
        </p:nvPicPr>
        <p:blipFill>
          <a:blip r:embed="rId1"/>
          <a:stretch/>
        </p:blipFill>
        <p:spPr>
          <a:xfrm>
            <a:off x="0" y="0"/>
            <a:ext cx="6769080" cy="3895560"/>
          </a:xfrm>
          <a:prstGeom prst="rect">
            <a:avLst/>
          </a:prstGeom>
          <a:ln w="0">
            <a:noFill/>
          </a:ln>
        </p:spPr>
      </p:pic>
      <p:sp>
        <p:nvSpPr>
          <p:cNvPr id="67" name="WordArt 10"/>
          <p:cNvSpPr txBox="1"/>
          <p:nvPr/>
        </p:nvSpPr>
        <p:spPr>
          <a:xfrm>
            <a:off x="3132000" y="189000"/>
            <a:ext cx="561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Международное сотрудничеств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2852280"/>
            <a:ext cx="5940360" cy="4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Лебеди на водоеме-охладителе Балаковской АЭС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big3754"/>
          <p:cNvPicPr/>
          <p:nvPr/>
        </p:nvPicPr>
        <p:blipFill>
          <a:blip r:embed="rId1"/>
          <a:stretch/>
        </p:blipFill>
        <p:spPr>
          <a:xfrm>
            <a:off x="2195640" y="0"/>
            <a:ext cx="4724280" cy="2952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ig3758"/>
          <p:cNvPicPr/>
          <p:nvPr/>
        </p:nvPicPr>
        <p:blipFill>
          <a:blip r:embed="rId2"/>
          <a:stretch/>
        </p:blipFill>
        <p:spPr>
          <a:xfrm>
            <a:off x="441972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9"/>
          <p:cNvSpPr/>
          <p:nvPr/>
        </p:nvSpPr>
        <p:spPr>
          <a:xfrm>
            <a:off x="4211640" y="35002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Учебно-тренировочный центр БАЭ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big3751"/>
          <p:cNvPicPr/>
          <p:nvPr/>
        </p:nvPicPr>
        <p:blipFill>
          <a:blip r:embed="rId3"/>
          <a:stretch/>
        </p:blipFill>
        <p:spPr>
          <a:xfrm>
            <a:off x="0" y="3905280"/>
            <a:ext cx="4724280" cy="2952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398880" y="3645000"/>
            <a:ext cx="294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рызгальные бассей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2"/>
          <p:cNvSpPr/>
          <p:nvPr/>
        </p:nvSpPr>
        <p:spPr>
          <a:xfrm flipV="1">
            <a:off x="1332000" y="2852280"/>
            <a:ext cx="86364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8748720" y="3645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4"/>
          <p:cNvSpPr/>
          <p:nvPr/>
        </p:nvSpPr>
        <p:spPr>
          <a:xfrm>
            <a:off x="3564000" y="378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78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алаковская АЭС является признанным лидером атомной энергетики России, она неоднократно удостаивалась звания «Лучшая АЭС России» (по итогам работы в 1995, 1999, 2000, 2003, 2005 и 2006 гг.). В 2003г. Балаковская АЭС стала победителем конкурса «Предприятие высокой культуры производства и организации труда». Станция также является победителем II (2001 г.), IV (2004 г.), V (2005 г.) и VI (2006 г.) Всероссийских конкурсов «Российская организация высокой социальной эффективности». С 2002г. Балаковская атомная станция имеет статус филиала концерна «Росэнергоатом» Федерального агентства (до марта 2004 г. – Министерства РФ) по атомной энерг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6"/>
          <p:cNvSpPr txBox="1"/>
          <p:nvPr/>
        </p:nvSpPr>
        <p:spPr>
          <a:xfrm>
            <a:off x="1835280" y="260280"/>
            <a:ext cx="57610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Monotype Corsiva"/>
              </a:rPr>
              <a:t>Признанный  лидер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Monotype Corsiva"/>
              <a:ea typeface="Monotype Corsiva"/>
            </a:endParaRPr>
          </a:p>
        </p:txBody>
      </p:sp>
      <p:pic>
        <p:nvPicPr>
          <p:cNvPr id="79" name="Picture 7" descr="Файл:BalakovoNPP1.jpg"/>
          <p:cNvPicPr/>
          <p:nvPr/>
        </p:nvPicPr>
        <p:blipFill>
          <a:blip r:embed="rId1"/>
          <a:stretch/>
        </p:blipFill>
        <p:spPr>
          <a:xfrm>
            <a:off x="4211640" y="1628640"/>
            <a:ext cx="4932360" cy="44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лаковская АЭС – крупнейший в России производитель электроэнергии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Файл:Balakovo NPP night.jpg"/>
          <p:cNvPicPr/>
          <p:nvPr/>
        </p:nvPicPr>
        <p:blipFill>
          <a:blip r:embed="rId1"/>
          <a:stretch/>
        </p:blipFill>
        <p:spPr>
          <a:xfrm>
            <a:off x="971640" y="1413000"/>
            <a:ext cx="7619760" cy="48196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14:18:58Z</dcterms:created>
  <dc:creator>Фарида</dc:creator>
  <dc:description/>
  <dc:language>en-US</dc:language>
  <cp:lastModifiedBy>Андрей</cp:lastModifiedBy>
  <dcterms:modified xsi:type="dcterms:W3CDTF">2018-04-12T17:19:01Z</dcterms:modified>
  <cp:revision>7</cp:revision>
  <dc:subject/>
  <dc:title>Слайд 1</dc:title>
</cp:coreProperties>
</file>