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6C03-3D7B-473F-818A-859333CA56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A184-201B-41C0-B650-20B5AD746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257E-A93E-4688-A216-02ADA12E4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1055-6277-460C-BF5B-9FE6DF94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059-4031-43DA-B4F0-3E3BC8ADB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6611-4DAD-4BD7-B289-7C7994A1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42F7-602D-45F9-9148-8A5A42C9B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1403-818D-44B5-8F3C-5C99C645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2608-DC39-4179-A686-3B0E29F8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4E5B-AFC5-44FF-A4C7-9682A964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46E3-CDFB-48BA-BE97-427CA4CB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B4D6-F0C5-4B06-A5C8-E15216C7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D564-6738-4B3F-BDDC-CBBDE050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AD8-4431-488D-8A92-A6CF353B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50F4D-C609-4649-B827-1D1DE58F54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Балаковская Атомная Электростанц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полнила работу уче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А класса МАОУ СОШ №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уликова П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7"/>
          <p:cNvSpPr txBox="1"/>
          <p:nvPr/>
        </p:nvSpPr>
        <p:spPr>
          <a:xfrm>
            <a:off x="1116000" y="189000"/>
            <a:ext cx="71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Балаковская Атомная Электроста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51" name="Picture 9" descr="Файл:BalakovoNPP3.jpg"/>
          <p:cNvPicPr/>
          <p:nvPr/>
        </p:nvPicPr>
        <p:blipFill>
          <a:blip r:embed="rId1"/>
          <a:stretch/>
        </p:blipFill>
        <p:spPr>
          <a:xfrm>
            <a:off x="826920" y="1197000"/>
            <a:ext cx="7456680" cy="4968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5871960" y="630864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ружена: в 1985-1993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05520" y="-36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ако́вская АЭ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 атомная электрическая станция, расположенная в 8 км от города Балаково Саратовской области, на левом берегу Саратовского водохранилища. Является крупнейшей АЭС в России по выработке электроэнергии — более 30 млрд кВт·ч ежегодно, что обеспечивает четверть производства электроэнергии в Приволжском федеральном округе и составляет пятую часть выработки всех АЭС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Балаковская атомная станция"/>
          <p:cNvPicPr/>
          <p:nvPr/>
        </p:nvPicPr>
        <p:blipFill>
          <a:blip r:embed="rId1"/>
          <a:stretch/>
        </p:blipFill>
        <p:spPr>
          <a:xfrm>
            <a:off x="684360" y="0"/>
            <a:ext cx="4174920" cy="277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big3757"/>
          <p:cNvPicPr/>
          <p:nvPr/>
        </p:nvPicPr>
        <p:blipFill>
          <a:blip r:embed="rId2"/>
          <a:stretch/>
        </p:blipFill>
        <p:spPr>
          <a:xfrm>
            <a:off x="0" y="2997360"/>
            <a:ext cx="5435640" cy="35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429000"/>
            <a:ext cx="52671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д на энергоблоки со стороны блочных насосных стан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ig3752"/>
          <p:cNvPicPr/>
          <p:nvPr/>
        </p:nvPicPr>
        <p:blipFill>
          <a:blip r:embed="rId1"/>
          <a:stretch/>
        </p:blipFill>
        <p:spPr>
          <a:xfrm>
            <a:off x="179280" y="46080"/>
            <a:ext cx="5184720" cy="3240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/>
          <p:cNvSpPr/>
          <p:nvPr/>
        </p:nvSpPr>
        <p:spPr>
          <a:xfrm>
            <a:off x="250920" y="3573360"/>
            <a:ext cx="8893080" cy="302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ковская АЭС обеспечивает четверть производства электроэне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волжском федеральном округе и пятую часть выработки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ных станций страны. Ее электроэнергией надежно обеспеч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ители Поволжья (76% поставляемой ею электроэнергии), Центра (13%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ла (8%) и Сибири (3%). Электроэнергия Балаковской АЭС - са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шевая среди всех АЭС и тепловых электростанций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эффициент использования установленной мощности (КИУМ)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ковской АЭС составляет более 80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86028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нтр обработки отходов Балаковской АЭС - уникальный объект российской атомной энерге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big3755"/>
          <p:cNvPicPr/>
          <p:nvPr/>
        </p:nvPicPr>
        <p:blipFill>
          <a:blip r:embed="rId1"/>
          <a:stretch/>
        </p:blipFill>
        <p:spPr>
          <a:xfrm>
            <a:off x="0" y="189000"/>
            <a:ext cx="5299200" cy="331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big3753"/>
          <p:cNvPicPr/>
          <p:nvPr/>
        </p:nvPicPr>
        <p:blipFill>
          <a:blip r:embed="rId2"/>
          <a:stretch/>
        </p:blipFill>
        <p:spPr>
          <a:xfrm>
            <a:off x="4427640" y="3500280"/>
            <a:ext cx="4508280" cy="3326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5435640" y="1916280"/>
            <a:ext cx="339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дминистративно-бытовой корпус №1 Балаковской АЭ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781200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V="1">
            <a:off x="250920" y="33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835280" y="4005360"/>
            <a:ext cx="6919920" cy="26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ую часть своей истории Балаковская АЭС сотрудничает со множеством зарубежных партнёров, международная деятельность осуществляется в рамках международных программ ядерной безопасности и программ международного научно-технического сотрудничества, в которые входят международный обмен опытом, участие в конференциях и семинарах по приобретению положительного опыта в вопросах повышения надёжности, безопасности и эффективности работы станции, обучение персонала и другие сферы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Файл:BalakovoNPP head2.jpg"/>
          <p:cNvPicPr/>
          <p:nvPr/>
        </p:nvPicPr>
        <p:blipFill>
          <a:blip r:embed="rId1"/>
          <a:stretch/>
        </p:blipFill>
        <p:spPr>
          <a:xfrm>
            <a:off x="0" y="0"/>
            <a:ext cx="6769080" cy="3895560"/>
          </a:xfrm>
          <a:prstGeom prst="rect">
            <a:avLst/>
          </a:prstGeom>
          <a:ln w="0">
            <a:noFill/>
          </a:ln>
        </p:spPr>
      </p:pic>
      <p:sp>
        <p:nvSpPr>
          <p:cNvPr id="67" name="WordArt 10"/>
          <p:cNvSpPr txBox="1"/>
          <p:nvPr/>
        </p:nvSpPr>
        <p:spPr>
          <a:xfrm>
            <a:off x="3132000" y="18900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еждународное сотруднич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2852280"/>
            <a:ext cx="594036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ебеди на водоеме-охладителе Балаковской АЭ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ig3754"/>
          <p:cNvPicPr/>
          <p:nvPr/>
        </p:nvPicPr>
        <p:blipFill>
          <a:blip r:embed="rId1"/>
          <a:stretch/>
        </p:blipFill>
        <p:spPr>
          <a:xfrm>
            <a:off x="2195640" y="0"/>
            <a:ext cx="472428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ig3758"/>
          <p:cNvPicPr/>
          <p:nvPr/>
        </p:nvPicPr>
        <p:blipFill>
          <a:blip r:embed="rId2"/>
          <a:stretch/>
        </p:blipFill>
        <p:spPr>
          <a:xfrm>
            <a:off x="4419720" y="3905280"/>
            <a:ext cx="472428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4211640" y="350028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бно-тренировочный центр БА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big3751"/>
          <p:cNvPicPr/>
          <p:nvPr/>
        </p:nvPicPr>
        <p:blipFill>
          <a:blip r:embed="rId3"/>
          <a:stretch/>
        </p:blipFill>
        <p:spPr>
          <a:xfrm>
            <a:off x="0" y="3905280"/>
            <a:ext cx="4724280" cy="2952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1"/>
          <p:cNvSpPr/>
          <p:nvPr/>
        </p:nvSpPr>
        <p:spPr>
          <a:xfrm>
            <a:off x="398880" y="364500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ызгальные бассе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V="1">
            <a:off x="1332000" y="2852280"/>
            <a:ext cx="863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874872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3564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лаковская АЭС является признанным лидером атомной энергетики России, она неоднократно удостаивалась звания «Лучшая АЭС России» (по итогам работы в 1995, 1999, 2000, 2003, 2005 и 2006 гг.). В 2003г. Балаковская АЭС стала победителем конкурса «Предприятие высокой культуры производства и организации труда». Станция также является победителем II (2001 г.), IV (2004 г.), V (2005 г.) и VI (2006 г.) Всероссийских конкурсов «Российская организация высокой социальной эффективности». С 2002г. Балаковская атомная станция имеет статус филиала концерна «Росэнергоатом» Федерального агентства (до марта 2004 г. – Министерства РФ) по атомной энерг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1835280" y="260280"/>
            <a:ext cx="576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Признанный  лид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79" name="Picture 7" descr="Файл:BalakovoNPP1.jpg"/>
          <p:cNvPicPr/>
          <p:nvPr/>
        </p:nvPicPr>
        <p:blipFill>
          <a:blip r:embed="rId1"/>
          <a:stretch/>
        </p:blipFill>
        <p:spPr>
          <a:xfrm>
            <a:off x="4211640" y="1628640"/>
            <a:ext cx="4932360" cy="44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лаковская АЭС – крупнейший в России производитель электроэнерг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Файл:Balakovo NPP night.jpg"/>
          <p:cNvPicPr/>
          <p:nvPr/>
        </p:nvPicPr>
        <p:blipFill>
          <a:blip r:embed="rId1"/>
          <a:stretch/>
        </p:blipFill>
        <p:spPr>
          <a:xfrm>
            <a:off x="971640" y="1413000"/>
            <a:ext cx="7619760" cy="481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4:18:58Z</dcterms:created>
  <dc:creator>Фарида</dc:creator>
  <dc:description/>
  <dc:language>en-US</dc:language>
  <cp:lastModifiedBy>Андрей</cp:lastModifiedBy>
  <dcterms:modified xsi:type="dcterms:W3CDTF">2018-04-12T17:19:01Z</dcterms:modified>
  <cp:revision>7</cp:revision>
  <dc:subject/>
  <dc:title>Слайд 1</dc:title>
</cp:coreProperties>
</file>